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12471-4D13-4986-9A87-22CD1949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76401-B102-4C72-9108-55CFD016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AA136-2845-4352-B0B9-E71BF819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11184-0667-435A-84AC-7EC619C0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8308-22D4-40A0-8DAE-7AB48E8F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7DAF-B5A1-4C04-AE8D-0CDAAB4E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E436-129E-4E9F-9407-B163F899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8AF0-1383-47CF-BD9C-EEA32A25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288F-5924-4C0A-B8CE-0D5936A4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88C3-0C3C-47E8-BC4A-6DD54917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CC1A-8B36-4331-8A6F-73652B30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0162B-C1C2-44EC-A340-DE66DDC3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9CF2-964E-4759-B5C4-908CE869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9B7C-7571-4E3F-8ED5-9DC4FCD8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2D51-64AE-4006-BCBC-1FF7026D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E2ED-72A4-4EE9-91F2-3BBFE965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AC9E-B469-49C0-9DD6-75339166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027E0-373D-42C2-AAA9-A2E41537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28A91-4961-49D0-A0E3-519D1429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28BC6-8B67-48DA-834C-815CE9E1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4BC3D-EB2E-405A-9ECE-0D1F25EF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68639-8C9F-4201-AAED-AB52E29F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88605-D15A-4F61-8E29-06B52CBE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2317E-74B2-4B3D-838C-281721AD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6AFB-4810-40F6-A5B0-3198EFCDFC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A915-9043-4AD3-B6A3-F4EFF2953E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索契冬奥会设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本次冬奥会耗费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10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亿美元，折合人民币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000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亿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00720" y="2127240"/>
            <a:ext cx="4038480" cy="23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冬奥会窗帘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我们可以看到这是一个充满独特（屌丝）气息的，窗帘，奥运村里到处都是这样的设计，彰显着运动和艺术的完美结合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冬奥会伙食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我们可以看到这里的伙食全部都是豆类，运动员吃了之后人体会产生大量尾气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59280" y="1557360"/>
            <a:ext cx="3673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对速滑这样的项目大有助益啊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518508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冬奥会的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你们看冬奥会房间里的水是这样子的，这是新鲜的格瓦斯啊，不仅可口耐寒还有一股奇怪的骚味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2951280" cy="2373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076720" y="4070520"/>
            <a:ext cx="292896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说不定格瓦斯就是从这里引渡过去的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3294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冬奥会基友马桶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这次最备受瞩目的就是这个基友马桶了，为什么会在一个厕所放两个马桶呢，其实你们不懂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64000" y="1844640"/>
            <a:ext cx="2592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其实人家索契人很讲究，一个是可回收，一个是不可回收嘛。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46083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呵呵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有运动员表示旁边有一个同伴完全拉不出来，扯淡，像这样只会单干不会团队的人怎么拿冠军嘛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62640" y="1801800"/>
            <a:ext cx="2409840" cy="1781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257800" y="4170240"/>
            <a:ext cx="28195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5T05:35:52Z</dcterms:created>
  <dc:creator>微软系统</dc:creator>
  <dc:description/>
  <dc:language>en-US</dc:language>
  <cp:lastModifiedBy>微软系统</cp:lastModifiedBy>
  <dcterms:modified xsi:type="dcterms:W3CDTF">2015-08-03T03:33:40Z</dcterms:modified>
  <cp:revision>6</cp:revision>
  <dc:subject/>
  <dc:title>索契冬奥会设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