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A20-2244-40A8-BA65-D4711FB9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2C4-A038-49EC-9755-9CAB7047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359-3F31-4F3C-A890-A6AAB090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408-5AF2-496E-BCDC-F657A32E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B01-8E1E-4893-ACA0-06B8E8E9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BE8-5CBD-4273-8BCE-A30D3C93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2CB-5750-4CD1-AC62-9EFDBA7B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2A4-FD38-49AC-B757-1FA44EC5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E34-1F9C-4BDC-B525-A61683E5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E74-CEFC-4381-8803-7C9905C8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D67-8A49-4C54-ABDE-FA427BA4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37C-3264-4D37-BFF4-53C31778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066A-0457-42A0-9B8E-9212A7C9E4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557040" y="714240"/>
            <a:ext cx="8200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6853320" y="785880"/>
            <a:ext cx="144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88"/>
          <p:cNvGrpSpPr/>
          <p:nvPr/>
        </p:nvGrpSpPr>
        <p:grpSpPr>
          <a:xfrm>
            <a:off x="714240" y="2500200"/>
            <a:ext cx="7696440" cy="1227240"/>
            <a:chOff x="714240" y="2500200"/>
            <a:chExt cx="7696440" cy="1227240"/>
          </a:xfrm>
        </p:grpSpPr>
        <p:sp>
          <p:nvSpPr>
            <p:cNvPr id="45" name="任意多边形 9"/>
            <p:cNvSpPr/>
            <p:nvPr/>
          </p:nvSpPr>
          <p:spPr>
            <a:xfrm flipV="1">
              <a:off x="714240" y="2513520"/>
              <a:ext cx="1860480" cy="590760"/>
            </a:xfrm>
            <a:custGeom>
              <a:avLst/>
              <a:gdLst/>
              <a:ahLst/>
              <a:rect l="l" t="t" r="r" b="b"/>
              <a:pathLst>
                <a:path w="3789039" h="1200155">
                  <a:moveTo>
                    <a:pt x="1007049" y="0"/>
                  </a:moveTo>
                  <a:lnTo>
                    <a:pt x="3188962" y="0"/>
                  </a:lnTo>
                  <a:lnTo>
                    <a:pt x="3789039" y="600078"/>
                  </a:lnTo>
                  <a:lnTo>
                    <a:pt x="3188962" y="1200155"/>
                  </a:lnTo>
                  <a:lnTo>
                    <a:pt x="0" y="1200155"/>
                  </a:lnTo>
                  <a:close/>
                </a:path>
              </a:pathLst>
            </a:custGeom>
            <a:solidFill>
              <a:srgbClr val="bda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组合 14" descr=""/>
            <p:cNvPicPr/>
            <p:nvPr/>
          </p:nvPicPr>
          <p:blipFill>
            <a:blip r:embed="rId2"/>
            <a:stretch/>
          </p:blipFill>
          <p:spPr>
            <a:xfrm>
              <a:off x="792000" y="2572200"/>
              <a:ext cx="1499400" cy="4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任意多边形 39"/>
            <p:cNvSpPr/>
            <p:nvPr/>
          </p:nvSpPr>
          <p:spPr>
            <a:xfrm flipV="1">
              <a:off x="2693880" y="2500200"/>
              <a:ext cx="1860480" cy="588960"/>
            </a:xfrm>
            <a:custGeom>
              <a:avLst/>
              <a:gdLst/>
              <a:ahLst/>
              <a:rect l="l" t="t" r="r" b="b"/>
              <a:pathLst>
                <a:path w="3789039" h="1200155">
                  <a:moveTo>
                    <a:pt x="1007049" y="0"/>
                  </a:moveTo>
                  <a:lnTo>
                    <a:pt x="3188962" y="0"/>
                  </a:lnTo>
                  <a:lnTo>
                    <a:pt x="3789039" y="600078"/>
                  </a:lnTo>
                  <a:lnTo>
                    <a:pt x="3188962" y="1200155"/>
                  </a:lnTo>
                  <a:lnTo>
                    <a:pt x="0" y="1200155"/>
                  </a:lnTo>
                  <a:close/>
                </a:path>
              </a:pathLst>
            </a:custGeom>
            <a:solidFill>
              <a:srgbClr val="da6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40"/>
            <p:cNvSpPr/>
            <p:nvPr/>
          </p:nvSpPr>
          <p:spPr>
            <a:xfrm flipH="1">
              <a:off x="2778120" y="2570040"/>
              <a:ext cx="14875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41"/>
            <p:cNvSpPr/>
            <p:nvPr/>
          </p:nvSpPr>
          <p:spPr>
            <a:xfrm flipH="1">
              <a:off x="3152160" y="3017880"/>
              <a:ext cx="11127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79"/>
            <p:cNvSpPr/>
            <p:nvPr/>
          </p:nvSpPr>
          <p:spPr>
            <a:xfrm flipH="1">
              <a:off x="5003280" y="3727440"/>
              <a:ext cx="11127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80"/>
            <p:cNvSpPr/>
            <p:nvPr/>
          </p:nvSpPr>
          <p:spPr>
            <a:xfrm flipV="1">
              <a:off x="4570560" y="2530080"/>
              <a:ext cx="1860480" cy="588960"/>
            </a:xfrm>
            <a:custGeom>
              <a:avLst/>
              <a:gdLst/>
              <a:ahLst/>
              <a:rect l="l" t="t" r="r" b="b"/>
              <a:pathLst>
                <a:path w="3789039" h="1200155">
                  <a:moveTo>
                    <a:pt x="1007049" y="0"/>
                  </a:moveTo>
                  <a:lnTo>
                    <a:pt x="3188962" y="0"/>
                  </a:lnTo>
                  <a:lnTo>
                    <a:pt x="3789039" y="600078"/>
                  </a:lnTo>
                  <a:lnTo>
                    <a:pt x="3188962" y="1200155"/>
                  </a:lnTo>
                  <a:lnTo>
                    <a:pt x="0" y="1200155"/>
                  </a:lnTo>
                  <a:close/>
                </a:path>
              </a:pathLst>
            </a:custGeom>
            <a:solidFill>
              <a:srgbClr val="bda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组合 14" descr=""/>
            <p:cNvPicPr/>
            <p:nvPr/>
          </p:nvPicPr>
          <p:blipFill>
            <a:blip r:embed="rId3"/>
            <a:stretch/>
          </p:blipFill>
          <p:spPr>
            <a:xfrm>
              <a:off x="4651200" y="2590560"/>
              <a:ext cx="1499400" cy="4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任意多边形 84"/>
            <p:cNvSpPr/>
            <p:nvPr/>
          </p:nvSpPr>
          <p:spPr>
            <a:xfrm flipV="1">
              <a:off x="6550200" y="2513520"/>
              <a:ext cx="1860480" cy="590760"/>
            </a:xfrm>
            <a:custGeom>
              <a:avLst/>
              <a:gdLst/>
              <a:ahLst/>
              <a:rect l="l" t="t" r="r" b="b"/>
              <a:pathLst>
                <a:path w="3789039" h="1200155">
                  <a:moveTo>
                    <a:pt x="1007049" y="0"/>
                  </a:moveTo>
                  <a:lnTo>
                    <a:pt x="3188962" y="0"/>
                  </a:lnTo>
                  <a:lnTo>
                    <a:pt x="3789039" y="600078"/>
                  </a:lnTo>
                  <a:lnTo>
                    <a:pt x="3188962" y="1200155"/>
                  </a:lnTo>
                  <a:lnTo>
                    <a:pt x="0" y="1200155"/>
                  </a:lnTo>
                  <a:close/>
                </a:path>
              </a:pathLst>
            </a:custGeom>
            <a:solidFill>
              <a:srgbClr val="da6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接连接符 85"/>
            <p:cNvSpPr/>
            <p:nvPr/>
          </p:nvSpPr>
          <p:spPr>
            <a:xfrm flipH="1">
              <a:off x="6635520" y="2585880"/>
              <a:ext cx="14857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86"/>
            <p:cNvSpPr/>
            <p:nvPr/>
          </p:nvSpPr>
          <p:spPr>
            <a:xfrm flipH="1">
              <a:off x="7008480" y="3033720"/>
              <a:ext cx="11127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5069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32119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70696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1140120" y="263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6926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5"/>
          <p:cNvSpPr/>
          <p:nvPr/>
        </p:nvSpPr>
        <p:spPr>
          <a:xfrm>
            <a:off x="13546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组合 33" descr=""/>
          <p:cNvPicPr/>
          <p:nvPr/>
        </p:nvPicPr>
        <p:blipFill>
          <a:blip r:embed="rId1"/>
          <a:stretch/>
        </p:blipFill>
        <p:spPr>
          <a:xfrm>
            <a:off x="480960" y="1865160"/>
            <a:ext cx="8255160" cy="3090960"/>
          </a:xfrm>
          <a:prstGeom prst="rect">
            <a:avLst/>
          </a:prstGeom>
          <a:ln w="0">
            <a:noFill/>
          </a:ln>
        </p:spPr>
      </p:pic>
      <p:sp>
        <p:nvSpPr>
          <p:cNvPr id="74" name="椭圆 17"/>
          <p:cNvSpPr/>
          <p:nvPr/>
        </p:nvSpPr>
        <p:spPr>
          <a:xfrm>
            <a:off x="5999040" y="1798560"/>
            <a:ext cx="1043280" cy="1042920"/>
          </a:xfrm>
          <a:prstGeom prst="ellipse">
            <a:avLst/>
          </a:prstGeom>
          <a:solidFill>
            <a:srgbClr val="bda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8"/>
          <p:cNvSpPr/>
          <p:nvPr/>
        </p:nvSpPr>
        <p:spPr>
          <a:xfrm>
            <a:off x="3317760" y="1785960"/>
            <a:ext cx="1044720" cy="1042920"/>
          </a:xfrm>
          <a:prstGeom prst="ellipse">
            <a:avLst/>
          </a:prstGeom>
          <a:solidFill>
            <a:srgbClr val="bda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9"/>
          <p:cNvSpPr/>
          <p:nvPr/>
        </p:nvSpPr>
        <p:spPr>
          <a:xfrm>
            <a:off x="660240" y="1806480"/>
            <a:ext cx="1043280" cy="1042920"/>
          </a:xfrm>
          <a:prstGeom prst="ellipse">
            <a:avLst/>
          </a:prstGeom>
          <a:solidFill>
            <a:srgbClr val="bda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23"/>
          <p:cNvGrpSpPr/>
          <p:nvPr/>
        </p:nvGrpSpPr>
        <p:grpSpPr>
          <a:xfrm>
            <a:off x="571680" y="2124000"/>
            <a:ext cx="8001000" cy="2733840"/>
            <a:chOff x="571680" y="2124000"/>
            <a:chExt cx="8001000" cy="2733840"/>
          </a:xfrm>
        </p:grpSpPr>
        <p:grpSp>
          <p:nvGrpSpPr>
            <p:cNvPr id="83" name="组合 15"/>
            <p:cNvGrpSpPr/>
            <p:nvPr/>
          </p:nvGrpSpPr>
          <p:grpSpPr>
            <a:xfrm>
              <a:off x="571680" y="2124000"/>
              <a:ext cx="3849480" cy="2733840"/>
              <a:chOff x="571680" y="2124000"/>
              <a:chExt cx="3849480" cy="2733840"/>
            </a:xfrm>
          </p:grpSpPr>
          <p:sp>
            <p:nvSpPr>
              <p:cNvPr id="84" name="圆角矩形 6"/>
              <p:cNvSpPr/>
              <p:nvPr/>
            </p:nvSpPr>
            <p:spPr>
              <a:xfrm>
                <a:off x="571680" y="2458800"/>
                <a:ext cx="1785960" cy="2399040"/>
              </a:xfrm>
              <a:custGeom>
                <a:avLst/>
                <a:gdLst>
                  <a:gd name="textAreaLeft" fmla="*/ 87120 w 1785960"/>
                  <a:gd name="textAreaRight" fmla="*/ 1698840 w 1785960"/>
                  <a:gd name="textAreaTop" fmla="*/ 87120 h 2399040"/>
                  <a:gd name="textAreaBottom" fmla="*/ 2311920 h 2399040"/>
                </a:gdLst>
                <a:ahLst/>
                <a:rect l="textAreaLeft" t="textAreaTop" r="textAreaRight" b="textAreaBottom"/>
                <a:pathLst>
                  <a:path w="21600" h="29013">
                    <a:moveTo>
                      <a:pt x="3600" y="0"/>
                    </a:moveTo>
                    <a:arcTo wR="3600" hR="3600" stAng="16200000" swAng="-5400000"/>
                    <a:lnTo>
                      <a:pt x="0" y="25413"/>
                    </a:lnTo>
                    <a:arcTo wR="3600" hR="3600" stAng="10800000" swAng="-5400000"/>
                    <a:lnTo>
                      <a:pt x="18000" y="290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a6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圆角矩形 7"/>
              <p:cNvSpPr/>
              <p:nvPr/>
            </p:nvSpPr>
            <p:spPr>
              <a:xfrm>
                <a:off x="795240" y="2124000"/>
                <a:ext cx="1338120" cy="382320"/>
              </a:xfrm>
              <a:prstGeom prst="roundRect">
                <a:avLst>
                  <a:gd name="adj" fmla="val 16667"/>
                </a:avLst>
              </a:prstGeom>
              <a:solidFill>
                <a:srgbClr val="da6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圆角矩形 8"/>
              <p:cNvSpPr/>
              <p:nvPr/>
            </p:nvSpPr>
            <p:spPr>
              <a:xfrm>
                <a:off x="2635200" y="2458800"/>
                <a:ext cx="1785960" cy="2399040"/>
              </a:xfrm>
              <a:custGeom>
                <a:avLst/>
                <a:gdLst>
                  <a:gd name="textAreaLeft" fmla="*/ 87120 w 1785960"/>
                  <a:gd name="textAreaRight" fmla="*/ 1698840 w 1785960"/>
                  <a:gd name="textAreaTop" fmla="*/ 87120 h 2399040"/>
                  <a:gd name="textAreaBottom" fmla="*/ 2311920 h 2399040"/>
                </a:gdLst>
                <a:ahLst/>
                <a:rect l="textAreaLeft" t="textAreaTop" r="textAreaRight" b="textAreaBottom"/>
                <a:pathLst>
                  <a:path w="21600" h="29013">
                    <a:moveTo>
                      <a:pt x="3600" y="0"/>
                    </a:moveTo>
                    <a:arcTo wR="3600" hR="3600" stAng="16200000" swAng="-5400000"/>
                    <a:lnTo>
                      <a:pt x="0" y="25413"/>
                    </a:lnTo>
                    <a:arcTo wR="3600" hR="3600" stAng="10800000" swAng="-5400000"/>
                    <a:lnTo>
                      <a:pt x="18000" y="290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da6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圆角矩形 9"/>
              <p:cNvSpPr/>
              <p:nvPr/>
            </p:nvSpPr>
            <p:spPr>
              <a:xfrm>
                <a:off x="2859120" y="2124000"/>
                <a:ext cx="1338120" cy="382320"/>
              </a:xfrm>
              <a:prstGeom prst="roundRect">
                <a:avLst>
                  <a:gd name="adj" fmla="val 16667"/>
                </a:avLst>
              </a:prstGeom>
              <a:solidFill>
                <a:srgbClr val="bda6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矩形 12"/>
              <p:cNvSpPr/>
              <p:nvPr/>
            </p:nvSpPr>
            <p:spPr>
              <a:xfrm>
                <a:off x="961560" y="36860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矩形 14"/>
              <p:cNvSpPr/>
              <p:nvPr/>
            </p:nvSpPr>
            <p:spPr>
              <a:xfrm>
                <a:off x="2970360" y="35744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组合 16"/>
            <p:cNvGrpSpPr/>
            <p:nvPr/>
          </p:nvGrpSpPr>
          <p:grpSpPr>
            <a:xfrm>
              <a:off x="4723200" y="2124000"/>
              <a:ext cx="3849480" cy="2733840"/>
              <a:chOff x="4723200" y="2124000"/>
              <a:chExt cx="3849480" cy="2733840"/>
            </a:xfrm>
          </p:grpSpPr>
          <p:sp>
            <p:nvSpPr>
              <p:cNvPr id="91" name="圆角矩形 17"/>
              <p:cNvSpPr/>
              <p:nvPr/>
            </p:nvSpPr>
            <p:spPr>
              <a:xfrm>
                <a:off x="4723200" y="2458800"/>
                <a:ext cx="1785960" cy="2399040"/>
              </a:xfrm>
              <a:custGeom>
                <a:avLst/>
                <a:gdLst>
                  <a:gd name="textAreaLeft" fmla="*/ 87120 w 1785960"/>
                  <a:gd name="textAreaRight" fmla="*/ 1698840 w 1785960"/>
                  <a:gd name="textAreaTop" fmla="*/ 87120 h 2399040"/>
                  <a:gd name="textAreaBottom" fmla="*/ 2311920 h 2399040"/>
                </a:gdLst>
                <a:ahLst/>
                <a:rect l="textAreaLeft" t="textAreaTop" r="textAreaRight" b="textAreaBottom"/>
                <a:pathLst>
                  <a:path w="21600" h="29013">
                    <a:moveTo>
                      <a:pt x="3600" y="0"/>
                    </a:moveTo>
                    <a:arcTo wR="3600" hR="3600" stAng="16200000" swAng="-5400000"/>
                    <a:lnTo>
                      <a:pt x="0" y="25413"/>
                    </a:lnTo>
                    <a:arcTo wR="3600" hR="3600" stAng="10800000" swAng="-5400000"/>
                    <a:lnTo>
                      <a:pt x="18000" y="290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a6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圆角矩形 18"/>
              <p:cNvSpPr/>
              <p:nvPr/>
            </p:nvSpPr>
            <p:spPr>
              <a:xfrm>
                <a:off x="4946760" y="2124000"/>
                <a:ext cx="1338120" cy="382320"/>
              </a:xfrm>
              <a:prstGeom prst="roundRect">
                <a:avLst>
                  <a:gd name="adj" fmla="val 16667"/>
                </a:avLst>
              </a:prstGeom>
              <a:solidFill>
                <a:srgbClr val="da6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圆角矩形 19"/>
              <p:cNvSpPr/>
              <p:nvPr/>
            </p:nvSpPr>
            <p:spPr>
              <a:xfrm>
                <a:off x="6786720" y="2458800"/>
                <a:ext cx="1785960" cy="2399040"/>
              </a:xfrm>
              <a:custGeom>
                <a:avLst/>
                <a:gdLst>
                  <a:gd name="textAreaLeft" fmla="*/ 87120 w 1785960"/>
                  <a:gd name="textAreaRight" fmla="*/ 1698840 w 1785960"/>
                  <a:gd name="textAreaTop" fmla="*/ 87120 h 2399040"/>
                  <a:gd name="textAreaBottom" fmla="*/ 2311920 h 2399040"/>
                </a:gdLst>
                <a:ahLst/>
                <a:rect l="textAreaLeft" t="textAreaTop" r="textAreaRight" b="textAreaBottom"/>
                <a:pathLst>
                  <a:path w="21600" h="29013">
                    <a:moveTo>
                      <a:pt x="3600" y="0"/>
                    </a:moveTo>
                    <a:arcTo wR="3600" hR="3600" stAng="16200000" swAng="-5400000"/>
                    <a:lnTo>
                      <a:pt x="0" y="25413"/>
                    </a:lnTo>
                    <a:arcTo wR="3600" hR="3600" stAng="10800000" swAng="-5400000"/>
                    <a:lnTo>
                      <a:pt x="18000" y="290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da6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圆角矩形 20"/>
              <p:cNvSpPr/>
              <p:nvPr/>
            </p:nvSpPr>
            <p:spPr>
              <a:xfrm>
                <a:off x="7010640" y="2124000"/>
                <a:ext cx="1338120" cy="382320"/>
              </a:xfrm>
              <a:prstGeom prst="roundRect">
                <a:avLst>
                  <a:gd name="adj" fmla="val 16667"/>
                </a:avLst>
              </a:prstGeom>
              <a:solidFill>
                <a:srgbClr val="bda6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21"/>
              <p:cNvSpPr/>
              <p:nvPr/>
            </p:nvSpPr>
            <p:spPr>
              <a:xfrm>
                <a:off x="5113440" y="368640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22"/>
              <p:cNvSpPr/>
              <p:nvPr/>
            </p:nvSpPr>
            <p:spPr>
              <a:xfrm>
                <a:off x="7121880" y="357480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​​ 3"/>
          <p:cNvSpPr/>
          <p:nvPr/>
        </p:nvSpPr>
        <p:spPr>
          <a:xfrm>
            <a:off x="2982960" y="1571760"/>
            <a:ext cx="3527280" cy="3528720"/>
          </a:xfrm>
          <a:prstGeom prst="ellipse">
            <a:avLst/>
          </a:prstGeom>
          <a:solidFill>
            <a:srgbClr val="da616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椭圆​​ 4"/>
          <p:cNvGrpSpPr/>
          <p:nvPr/>
        </p:nvGrpSpPr>
        <p:grpSpPr>
          <a:xfrm>
            <a:off x="3402000" y="1981080"/>
            <a:ext cx="2712960" cy="2713320"/>
            <a:chOff x="3402000" y="1981080"/>
            <a:chExt cx="2712960" cy="2713320"/>
          </a:xfrm>
        </p:grpSpPr>
        <p:pic>
          <p:nvPicPr>
            <p:cNvPr id="104" name="椭圆​​ 4" descr=""/>
            <p:cNvPicPr/>
            <p:nvPr/>
          </p:nvPicPr>
          <p:blipFill>
            <a:blip r:embed="rId1"/>
            <a:stretch/>
          </p:blipFill>
          <p:spPr>
            <a:xfrm>
              <a:off x="3402000" y="1981080"/>
              <a:ext cx="271296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813120" y="2389320"/>
              <a:ext cx="1892520" cy="18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椭圆​​ 6"/>
          <p:cNvSpPr/>
          <p:nvPr/>
        </p:nvSpPr>
        <p:spPr>
          <a:xfrm>
            <a:off x="2614680" y="3564000"/>
            <a:ext cx="1536480" cy="1536480"/>
          </a:xfrm>
          <a:prstGeom prst="ellipse">
            <a:avLst/>
          </a:prstGeom>
          <a:solidFill>
            <a:srgbClr val="bda6a3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​​ 8"/>
          <p:cNvSpPr/>
          <p:nvPr/>
        </p:nvSpPr>
        <p:spPr>
          <a:xfrm>
            <a:off x="5251320" y="3564000"/>
            <a:ext cx="1535400" cy="1536480"/>
          </a:xfrm>
          <a:prstGeom prst="ellipse">
            <a:avLst/>
          </a:prstGeom>
          <a:solidFill>
            <a:srgbClr val="bda6a3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4"/>
          <p:cNvSpPr/>
          <p:nvPr/>
        </p:nvSpPr>
        <p:spPr>
          <a:xfrm>
            <a:off x="2926080" y="413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​​ 7"/>
          <p:cNvSpPr/>
          <p:nvPr/>
        </p:nvSpPr>
        <p:spPr>
          <a:xfrm>
            <a:off x="3978360" y="1214280"/>
            <a:ext cx="1536480" cy="1535400"/>
          </a:xfrm>
          <a:prstGeom prst="ellipse">
            <a:avLst/>
          </a:prstGeom>
          <a:solidFill>
            <a:srgbClr val="bda6a3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42836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手杖形箭头 6"/>
          <p:cNvSpPr/>
          <p:nvPr/>
        </p:nvSpPr>
        <p:spPr>
          <a:xfrm>
            <a:off x="857160" y="1714680"/>
            <a:ext cx="2214720" cy="1571400"/>
          </a:xfrm>
          <a:custGeom>
            <a:avLst/>
            <a:gdLst/>
            <a:ahLst/>
            <a:rect l="l" t="t" r="r" b="b"/>
            <a:pathLst>
              <a:path w="2214563" h="1571625">
                <a:moveTo>
                  <a:pt x="0" y="1571625"/>
                </a:moveTo>
                <a:lnTo>
                  <a:pt x="0" y="687586"/>
                </a:lnTo>
                <a:lnTo>
                  <a:pt x="0" y="687586"/>
                </a:lnTo>
                <a:arcTo wR="687586" hR="687586" stAng="-10799995" swAng="5400000"/>
                <a:lnTo>
                  <a:pt x="1455649" y="0"/>
                </a:lnTo>
                <a:lnTo>
                  <a:pt x="1455649" y="0"/>
                </a:lnTo>
                <a:arcTo wR="687586" hR="687586" stAng="-5399995" swAng="5400000"/>
                <a:lnTo>
                  <a:pt x="2143235" y="1178719"/>
                </a:lnTo>
                <a:lnTo>
                  <a:pt x="2214563" y="1178719"/>
                </a:lnTo>
                <a:lnTo>
                  <a:pt x="1821657" y="1178719"/>
                </a:lnTo>
                <a:lnTo>
                  <a:pt x="1428751" y="1178719"/>
                </a:lnTo>
                <a:lnTo>
                  <a:pt x="1500079" y="1178719"/>
                </a:lnTo>
                <a:lnTo>
                  <a:pt x="1500079" y="687586"/>
                </a:lnTo>
                <a:lnTo>
                  <a:pt x="1500079" y="687586"/>
                </a:lnTo>
                <a:arcTo wR="44430" hR="44430" stAng="0" swAng="-5400000"/>
                <a:lnTo>
                  <a:pt x="687586" y="643156"/>
                </a:lnTo>
                <a:lnTo>
                  <a:pt x="687586" y="643156"/>
                </a:lnTo>
                <a:arcTo wR="44430" hR="44430" stAng="-5400000" swAng="-5400000"/>
                <a:lnTo>
                  <a:pt x="643156" y="1571625"/>
                </a:lnTo>
                <a:close/>
              </a:path>
            </a:pathLst>
          </a:custGeom>
          <a:solidFill>
            <a:srgbClr val="bda6a3"/>
          </a:solidFill>
          <a:ln w="25560">
            <a:solidFill>
              <a:srgbClr val="bda6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手杖形箭头 7"/>
          <p:cNvSpPr/>
          <p:nvPr/>
        </p:nvSpPr>
        <p:spPr>
          <a:xfrm flipH="1" flipV="1">
            <a:off x="784800" y="3000240"/>
            <a:ext cx="2214360" cy="1571760"/>
          </a:xfrm>
          <a:custGeom>
            <a:avLst/>
            <a:gdLst/>
            <a:ahLst/>
            <a:rect l="l" t="t" r="r" b="b"/>
            <a:pathLst>
              <a:path w="2214562" h="1571625">
                <a:moveTo>
                  <a:pt x="0" y="1571625"/>
                </a:moveTo>
                <a:lnTo>
                  <a:pt x="0" y="687586"/>
                </a:lnTo>
                <a:lnTo>
                  <a:pt x="0" y="687586"/>
                </a:lnTo>
                <a:arcTo wR="687586" hR="687586" stAng="-10799995" swAng="5400000"/>
                <a:lnTo>
                  <a:pt x="1455648" y="0"/>
                </a:lnTo>
                <a:lnTo>
                  <a:pt x="1455648" y="0"/>
                </a:lnTo>
                <a:arcTo wR="687586" hR="687586" stAng="-5399995" swAng="5400000"/>
                <a:lnTo>
                  <a:pt x="2143234" y="1178719"/>
                </a:lnTo>
                <a:lnTo>
                  <a:pt x="2214562" y="1178719"/>
                </a:lnTo>
                <a:lnTo>
                  <a:pt x="1821656" y="1178719"/>
                </a:lnTo>
                <a:lnTo>
                  <a:pt x="1428750" y="1178719"/>
                </a:lnTo>
                <a:lnTo>
                  <a:pt x="1500078" y="1178719"/>
                </a:lnTo>
                <a:lnTo>
                  <a:pt x="1500078" y="687586"/>
                </a:lnTo>
                <a:lnTo>
                  <a:pt x="1500078" y="687586"/>
                </a:lnTo>
                <a:arcTo wR="44430" hR="44430" stAng="0" swAng="-5400000"/>
                <a:lnTo>
                  <a:pt x="687586" y="643156"/>
                </a:lnTo>
                <a:lnTo>
                  <a:pt x="687586" y="643156"/>
                </a:lnTo>
                <a:arcTo wR="44430" hR="44430" stAng="-5400000" swAng="-5400000"/>
                <a:lnTo>
                  <a:pt x="643156" y="1571625"/>
                </a:lnTo>
                <a:close/>
              </a:path>
            </a:pathLst>
          </a:custGeom>
          <a:solidFill>
            <a:srgbClr val="da6165"/>
          </a:solidFill>
          <a:ln w="25560">
            <a:solidFill>
              <a:srgbClr val="da61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手杖形箭头 8"/>
          <p:cNvSpPr/>
          <p:nvPr/>
        </p:nvSpPr>
        <p:spPr>
          <a:xfrm>
            <a:off x="6143760" y="1785960"/>
            <a:ext cx="2214360" cy="1571760"/>
          </a:xfrm>
          <a:custGeom>
            <a:avLst/>
            <a:gdLst/>
            <a:ahLst/>
            <a:rect l="l" t="t" r="r" b="b"/>
            <a:pathLst>
              <a:path w="2214563" h="1571625">
                <a:moveTo>
                  <a:pt x="0" y="1571625"/>
                </a:moveTo>
                <a:lnTo>
                  <a:pt x="0" y="687586"/>
                </a:lnTo>
                <a:lnTo>
                  <a:pt x="0" y="687586"/>
                </a:lnTo>
                <a:arcTo wR="687586" hR="687586" stAng="-10799995" swAng="5400000"/>
                <a:lnTo>
                  <a:pt x="1455649" y="0"/>
                </a:lnTo>
                <a:lnTo>
                  <a:pt x="1455649" y="0"/>
                </a:lnTo>
                <a:arcTo wR="687586" hR="687586" stAng="-5399995" swAng="5400000"/>
                <a:lnTo>
                  <a:pt x="2143235" y="1178719"/>
                </a:lnTo>
                <a:lnTo>
                  <a:pt x="2214563" y="1178719"/>
                </a:lnTo>
                <a:lnTo>
                  <a:pt x="1821657" y="1178719"/>
                </a:lnTo>
                <a:lnTo>
                  <a:pt x="1428751" y="1178719"/>
                </a:lnTo>
                <a:lnTo>
                  <a:pt x="1500079" y="1178719"/>
                </a:lnTo>
                <a:lnTo>
                  <a:pt x="1500079" y="687586"/>
                </a:lnTo>
                <a:lnTo>
                  <a:pt x="1500079" y="687586"/>
                </a:lnTo>
                <a:arcTo wR="44430" hR="44430" stAng="0" swAng="-5400000"/>
                <a:lnTo>
                  <a:pt x="687586" y="643156"/>
                </a:lnTo>
                <a:lnTo>
                  <a:pt x="687586" y="643156"/>
                </a:lnTo>
                <a:arcTo wR="44430" hR="44430" stAng="-5400000" swAng="-5400000"/>
                <a:lnTo>
                  <a:pt x="643156" y="1571625"/>
                </a:lnTo>
                <a:close/>
              </a:path>
            </a:pathLst>
          </a:custGeom>
          <a:solidFill>
            <a:srgbClr val="bda6a3"/>
          </a:solidFill>
          <a:ln w="25560">
            <a:solidFill>
              <a:srgbClr val="bda6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手杖形箭头 9"/>
          <p:cNvSpPr/>
          <p:nvPr/>
        </p:nvSpPr>
        <p:spPr>
          <a:xfrm flipH="1" flipV="1">
            <a:off x="6072120" y="3071160"/>
            <a:ext cx="2214720" cy="1571400"/>
          </a:xfrm>
          <a:custGeom>
            <a:avLst/>
            <a:gdLst/>
            <a:ahLst/>
            <a:rect l="l" t="t" r="r" b="b"/>
            <a:pathLst>
              <a:path w="2214562" h="1571625">
                <a:moveTo>
                  <a:pt x="0" y="1571625"/>
                </a:moveTo>
                <a:lnTo>
                  <a:pt x="0" y="687586"/>
                </a:lnTo>
                <a:lnTo>
                  <a:pt x="0" y="687586"/>
                </a:lnTo>
                <a:arcTo wR="687586" hR="687586" stAng="-10799995" swAng="5400000"/>
                <a:lnTo>
                  <a:pt x="1455648" y="0"/>
                </a:lnTo>
                <a:lnTo>
                  <a:pt x="1455648" y="0"/>
                </a:lnTo>
                <a:arcTo wR="687586" hR="687586" stAng="-5399995" swAng="5400000"/>
                <a:lnTo>
                  <a:pt x="2143234" y="1178719"/>
                </a:lnTo>
                <a:lnTo>
                  <a:pt x="2214562" y="1178719"/>
                </a:lnTo>
                <a:lnTo>
                  <a:pt x="1821656" y="1178719"/>
                </a:lnTo>
                <a:lnTo>
                  <a:pt x="1428750" y="1178719"/>
                </a:lnTo>
                <a:lnTo>
                  <a:pt x="1500078" y="1178719"/>
                </a:lnTo>
                <a:lnTo>
                  <a:pt x="1500078" y="687586"/>
                </a:lnTo>
                <a:lnTo>
                  <a:pt x="1500078" y="687586"/>
                </a:lnTo>
                <a:arcTo wR="44430" hR="44430" stAng="0" swAng="-5400000"/>
                <a:lnTo>
                  <a:pt x="687586" y="643156"/>
                </a:lnTo>
                <a:lnTo>
                  <a:pt x="687586" y="643156"/>
                </a:lnTo>
                <a:arcTo wR="44430" hR="44430" stAng="-5400000" swAng="-5400000"/>
                <a:lnTo>
                  <a:pt x="643156" y="1571625"/>
                </a:lnTo>
                <a:close/>
              </a:path>
            </a:pathLst>
          </a:custGeom>
          <a:solidFill>
            <a:srgbClr val="da6165"/>
          </a:solidFill>
          <a:ln w="25560">
            <a:solidFill>
              <a:srgbClr val="da61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手杖形箭头 10"/>
          <p:cNvSpPr/>
          <p:nvPr/>
        </p:nvSpPr>
        <p:spPr>
          <a:xfrm flipV="1">
            <a:off x="3500280" y="3143160"/>
            <a:ext cx="2214720" cy="1571760"/>
          </a:xfrm>
          <a:custGeom>
            <a:avLst/>
            <a:gdLst/>
            <a:ahLst/>
            <a:rect l="l" t="t" r="r" b="b"/>
            <a:pathLst>
              <a:path w="2214562" h="1571625">
                <a:moveTo>
                  <a:pt x="0" y="1571625"/>
                </a:moveTo>
                <a:lnTo>
                  <a:pt x="0" y="687586"/>
                </a:lnTo>
                <a:lnTo>
                  <a:pt x="0" y="687586"/>
                </a:lnTo>
                <a:arcTo wR="687586" hR="687586" stAng="-10799995" swAng="5400000"/>
                <a:lnTo>
                  <a:pt x="1455648" y="0"/>
                </a:lnTo>
                <a:lnTo>
                  <a:pt x="1455648" y="0"/>
                </a:lnTo>
                <a:arcTo wR="687586" hR="687586" stAng="-5399995" swAng="5400000"/>
                <a:lnTo>
                  <a:pt x="2143234" y="1178719"/>
                </a:lnTo>
                <a:lnTo>
                  <a:pt x="2214562" y="1178719"/>
                </a:lnTo>
                <a:lnTo>
                  <a:pt x="1821656" y="1178719"/>
                </a:lnTo>
                <a:lnTo>
                  <a:pt x="1428750" y="1178719"/>
                </a:lnTo>
                <a:lnTo>
                  <a:pt x="1500078" y="1178719"/>
                </a:lnTo>
                <a:lnTo>
                  <a:pt x="1500078" y="687586"/>
                </a:lnTo>
                <a:lnTo>
                  <a:pt x="1500078" y="687586"/>
                </a:lnTo>
                <a:arcTo wR="44430" hR="44430" stAng="0" swAng="-5400000"/>
                <a:lnTo>
                  <a:pt x="687586" y="643156"/>
                </a:lnTo>
                <a:lnTo>
                  <a:pt x="687586" y="643156"/>
                </a:lnTo>
                <a:arcTo wR="44430" hR="44430" stAng="-5400000" swAng="-5400000"/>
                <a:lnTo>
                  <a:pt x="643156" y="1571625"/>
                </a:lnTo>
                <a:close/>
              </a:path>
            </a:pathLst>
          </a:custGeom>
          <a:solidFill>
            <a:srgbClr val="bda6a3"/>
          </a:solidFill>
          <a:ln w="25560">
            <a:solidFill>
              <a:srgbClr val="bda6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手杖形箭头 11"/>
          <p:cNvSpPr/>
          <p:nvPr/>
        </p:nvSpPr>
        <p:spPr>
          <a:xfrm flipH="1">
            <a:off x="3429000" y="1785960"/>
            <a:ext cx="2214720" cy="1571760"/>
          </a:xfrm>
          <a:custGeom>
            <a:avLst/>
            <a:gdLst/>
            <a:ahLst/>
            <a:rect l="l" t="t" r="r" b="b"/>
            <a:pathLst>
              <a:path w="2214563" h="1571625">
                <a:moveTo>
                  <a:pt x="0" y="1571625"/>
                </a:moveTo>
                <a:lnTo>
                  <a:pt x="0" y="687586"/>
                </a:lnTo>
                <a:lnTo>
                  <a:pt x="0" y="687586"/>
                </a:lnTo>
                <a:arcTo wR="687586" hR="687586" stAng="-10799995" swAng="5400000"/>
                <a:lnTo>
                  <a:pt x="1455649" y="0"/>
                </a:lnTo>
                <a:lnTo>
                  <a:pt x="1455649" y="0"/>
                </a:lnTo>
                <a:arcTo wR="687586" hR="687586" stAng="-5399995" swAng="5400000"/>
                <a:lnTo>
                  <a:pt x="2143235" y="1178719"/>
                </a:lnTo>
                <a:lnTo>
                  <a:pt x="2214563" y="1178719"/>
                </a:lnTo>
                <a:lnTo>
                  <a:pt x="1821657" y="1178719"/>
                </a:lnTo>
                <a:lnTo>
                  <a:pt x="1428751" y="1178719"/>
                </a:lnTo>
                <a:lnTo>
                  <a:pt x="1500079" y="1178719"/>
                </a:lnTo>
                <a:lnTo>
                  <a:pt x="1500079" y="687586"/>
                </a:lnTo>
                <a:lnTo>
                  <a:pt x="1500079" y="687586"/>
                </a:lnTo>
                <a:arcTo wR="44430" hR="44430" stAng="0" swAng="-5400000"/>
                <a:lnTo>
                  <a:pt x="687586" y="643156"/>
                </a:lnTo>
                <a:lnTo>
                  <a:pt x="687586" y="643156"/>
                </a:lnTo>
                <a:arcTo wR="44430" hR="44430" stAng="-5400000" swAng="-5400000"/>
                <a:lnTo>
                  <a:pt x="643156" y="1571625"/>
                </a:lnTo>
                <a:close/>
              </a:path>
            </a:pathLst>
          </a:custGeom>
          <a:solidFill>
            <a:srgbClr val="da6165"/>
          </a:solidFill>
          <a:ln w="25560">
            <a:solidFill>
              <a:srgbClr val="da61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1354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6712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4140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六边形 6"/>
          <p:cNvSpPr/>
          <p:nvPr/>
        </p:nvSpPr>
        <p:spPr>
          <a:xfrm flipH="1">
            <a:off x="6000120" y="1357200"/>
            <a:ext cx="2428920" cy="2143080"/>
          </a:xfrm>
          <a:prstGeom prst="hexagon">
            <a:avLst>
              <a:gd name="adj" fmla="val 9151"/>
              <a:gd name="vf" fmla="val 115470"/>
            </a:avLst>
          </a:prstGeom>
          <a:solidFill>
            <a:srgbClr val="bda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六边形 7"/>
          <p:cNvSpPr/>
          <p:nvPr/>
        </p:nvSpPr>
        <p:spPr>
          <a:xfrm>
            <a:off x="928800" y="1357200"/>
            <a:ext cx="2428920" cy="2143080"/>
          </a:xfrm>
          <a:prstGeom prst="hexagon">
            <a:avLst>
              <a:gd name="adj" fmla="val 9151"/>
              <a:gd name="vf" fmla="val 115470"/>
            </a:avLst>
          </a:prstGeom>
          <a:solidFill>
            <a:srgbClr val="bda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六边形 8"/>
          <p:cNvSpPr/>
          <p:nvPr/>
        </p:nvSpPr>
        <p:spPr>
          <a:xfrm>
            <a:off x="3429000" y="1357200"/>
            <a:ext cx="2428920" cy="2143080"/>
          </a:xfrm>
          <a:prstGeom prst="hexagon">
            <a:avLst>
              <a:gd name="adj" fmla="val 9151"/>
              <a:gd name="vf" fmla="val 115470"/>
            </a:avLst>
          </a:prstGeom>
          <a:solidFill>
            <a:srgbClr val="da61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67125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4"/>
          <p:cNvSpPr/>
          <p:nvPr/>
        </p:nvSpPr>
        <p:spPr>
          <a:xfrm>
            <a:off x="3997800" y="2273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5"/>
          <p:cNvSpPr/>
          <p:nvPr/>
        </p:nvSpPr>
        <p:spPr>
          <a:xfrm>
            <a:off x="1568880" y="220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六边形 12"/>
          <p:cNvSpPr/>
          <p:nvPr/>
        </p:nvSpPr>
        <p:spPr>
          <a:xfrm flipH="1">
            <a:off x="6000120" y="3571920"/>
            <a:ext cx="2428920" cy="2143080"/>
          </a:xfrm>
          <a:prstGeom prst="hexagon">
            <a:avLst>
              <a:gd name="adj" fmla="val 9151"/>
              <a:gd name="vf" fmla="val 115470"/>
            </a:avLst>
          </a:prstGeom>
          <a:solidFill>
            <a:srgbClr val="da61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六边形 13"/>
          <p:cNvSpPr/>
          <p:nvPr/>
        </p:nvSpPr>
        <p:spPr>
          <a:xfrm>
            <a:off x="928800" y="3571920"/>
            <a:ext cx="2428920" cy="2143080"/>
          </a:xfrm>
          <a:prstGeom prst="hexagon">
            <a:avLst>
              <a:gd name="adj" fmla="val 9151"/>
              <a:gd name="vf" fmla="val 115470"/>
            </a:avLst>
          </a:prstGeom>
          <a:solidFill>
            <a:srgbClr val="da61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六边形 14"/>
          <p:cNvSpPr/>
          <p:nvPr/>
        </p:nvSpPr>
        <p:spPr>
          <a:xfrm>
            <a:off x="3429000" y="3571920"/>
            <a:ext cx="2428920" cy="2143080"/>
          </a:xfrm>
          <a:prstGeom prst="hexagon">
            <a:avLst>
              <a:gd name="adj" fmla="val 9151"/>
              <a:gd name="vf" fmla="val 115470"/>
            </a:avLst>
          </a:prstGeom>
          <a:solidFill>
            <a:srgbClr val="bda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6712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3997800" y="448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1568880" y="4416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8T02:50:47Z</dcterms:modified>
  <cp:revision>288</cp:revision>
  <dc:subject/>
  <dc:title>幻灯片 1</dc:title>
</cp:coreProperties>
</file>