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1.gif" ContentType="image/gif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2F1-C7F0-45A2-B095-7A88B173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6A2-44F7-4701-8E96-6B62406C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216-E57B-4616-A63B-827E3434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FBF-2DB5-414B-AF6A-BC376560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4BA4-09E3-403C-AF41-75DA9AD6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DCFD-1301-4274-94E6-25F9FA15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D60A-A560-4A61-BBDD-9DFD24F2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820B-7EB7-4C7B-A771-6C748505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DE21-C10A-4730-B17B-4B0CDD7B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2231-27F4-4E69-B80F-50E848C6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BE4F-3AAD-4120-870D-7D3E016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D71-7814-4E3D-A8C1-C6F92172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FAC2-A679-4746-A9D1-741C224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8FF5-A62D-452F-9D01-0B12081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A877-37D4-4AEF-A8EA-FF192AAB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BF4B-D2B0-49CF-A1BE-06E5692B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7894-ED32-469C-99C2-BC1733F8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900-73E3-4BD3-BA24-3845E6C8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25D-3263-4112-8A03-D6EDDFD0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6C2-116F-4894-8092-89EE25AF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729-72B9-478A-AAB6-AE6AB86A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DB9-3228-4A5C-9250-08F6EF1E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920-039B-49C9-84CD-43E96E8C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DD0-8AA3-43A7-8653-5F62FD8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D6CF-D58E-4246-BF62-7B6649AEC72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20A-D079-4A47-A1BE-4C6535D58510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84360" y="1268280"/>
            <a:ext cx="63356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逝者已去 生者珍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876920"/>
            <a:ext cx="51814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楷体_GB2312"/>
              </a:rPr>
              <a:t>、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主动出击，把握生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离乡在外的人，更需要打理好财富，拥有全面的保障。把生的保障送给他们，把机会留给自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离乡在外的人，如果觉得累了，不妨给自已一个成功的机会。跟我们一起经营我们的事业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抓住影响力中心，做家族生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67640" y="5157720"/>
            <a:ext cx="100800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快速做批发销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邀约准客户，召开个人专场的产品说明会，利用公司的技术力量快速促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把准增员邀约到公司创业说明会，利用现有的增员方案及基本法利益和各方的力量促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940360" y="5950080"/>
            <a:ext cx="1079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华文隶书"/>
              </a:rPr>
              <a:t>万一网制作收集整理，未经授权请勿转载转发，违者必究</a:t>
            </a:r>
            <a:endParaRPr b="0" lang="en-US" sz="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979640" y="2565360"/>
            <a:ext cx="56880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解客户之“危”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“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机”会留自己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5950080"/>
            <a:ext cx="1079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华文隶书"/>
              </a:rPr>
              <a:t>万一网制作收集整理，未经授权请勿转载转发，违者必究</a:t>
            </a:r>
            <a:endParaRPr b="0" lang="en-US" sz="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</a:rPr>
              <a:t>大纲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清明节的由来与习俗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清明节的经营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943600"/>
            <a:ext cx="1079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华文隶书"/>
              </a:rPr>
              <a:t>万一网制作收集整理，未经授权请勿转载转发，违者必究</a:t>
            </a:r>
            <a:endParaRPr b="0" lang="en-US" sz="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62400" y="765000"/>
            <a:ext cx="553068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清明是我国的二十四节气之一。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岁时百问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说法：“万物生长此时，皆清洁而明净。故谓之清明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清明一到，气温升高，雨量增多，正是春耕春种的大好时节。故有“清明前后，点瓜种豆”、“植树造林，莫过清明”的农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每年的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至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之间，正是春光明媚草木吐绿的时节，并开展一系列体育活动的的习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5943600"/>
            <a:ext cx="1079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华文隶书"/>
              </a:rPr>
              <a:t>万一网制作收集整理，未经授权请勿转载转发，违者必究</a:t>
            </a:r>
            <a:endParaRPr b="0" lang="en-US" sz="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830920" y="404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华文隶书"/>
              </a:rPr>
              <a:t>清明节的习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1052640"/>
            <a:ext cx="396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华文隶书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清明节的习俗是丰富有趣的，除了讲究禁火、扫墓，还有踏青、荡秋千、蹴鞠、打马球、插柳等一系列风俗体育活动。相传这是因为清明节要寒食禁火，为了防止寒食冷餐伤身，所以大家来参加一些体育活动，以锻炼身体。因此，这个节日中既有祭扫新坟生别死离的悲酸泪，又有踏青游玩的欢笑声，是一个富有特色的节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27280" y="549360"/>
            <a:ext cx="2095560" cy="180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9280" y="549360"/>
            <a:ext cx="2089080" cy="169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700360" y="450864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1908360" cy="1700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627280" y="256536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79280" y="2349360"/>
            <a:ext cx="1944720" cy="213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0360" y="5950080"/>
            <a:ext cx="1079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华文隶书"/>
              </a:rPr>
              <a:t>万一网制作收集整理，未经授权请勿转载转发，违者必究</a:t>
            </a:r>
            <a:endParaRPr b="0" lang="en-US" sz="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0" t="0" r="54" b="46"/>
          <a:stretch/>
        </p:blipFill>
        <p:spPr>
          <a:xfrm>
            <a:off x="684360" y="549360"/>
            <a:ext cx="7921440" cy="5832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340000" y="5157720"/>
            <a:ext cx="633564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华文隶书"/>
                <a:ea typeface="华文隶书"/>
              </a:rPr>
              <a:t>        </a:t>
            </a:r>
            <a:r>
              <a:rPr b="1" lang="zh-CN" sz="2000" spc="-1" strike="noStrike">
                <a:solidFill>
                  <a:srgbClr val="007a77"/>
                </a:solidFill>
                <a:latin typeface="华文新魏"/>
                <a:ea typeface="华文新魏"/>
              </a:rPr>
              <a:t>唐代诗人杜牧的诗</a:t>
            </a:r>
            <a:r>
              <a:rPr b="1" lang="en-US" sz="20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2000" spc="-1" strike="noStrike">
                <a:solidFill>
                  <a:srgbClr val="007a77"/>
                </a:solidFill>
                <a:latin typeface="华文新魏"/>
                <a:ea typeface="华文新魏"/>
              </a:rPr>
              <a:t>清明</a:t>
            </a:r>
            <a:r>
              <a:rPr b="1" lang="en-US" sz="20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r>
              <a:rPr b="1" lang="zh-CN" sz="20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写出了清明节的特殊气氛。 直到今天，清明节祭拜祖先，悼念已逝的亲人的习俗仍很盛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7280" y="2276640"/>
            <a:ext cx="6985080" cy="1676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又是一年一度清明节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今年清明有何不同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5950080"/>
            <a:ext cx="1079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华文隶书"/>
              </a:rPr>
              <a:t>万一网制作收集整理，未经授权请勿转载转发，违者必究</a:t>
            </a:r>
            <a:endParaRPr b="0" lang="en-US" sz="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40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难忘的事件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55640" y="3716280"/>
            <a:ext cx="345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物价上涨很给力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50920" y="981000"/>
            <a:ext cx="4321440" cy="4968720"/>
            <a:chOff x="2050920" y="981000"/>
            <a:chExt cx="4321440" cy="496872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2050920" y="2890800"/>
              <a:ext cx="4321440" cy="30589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2050920" y="981000"/>
              <a:ext cx="4321440" cy="19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 txBox="1"/>
          <p:nvPr/>
        </p:nvSpPr>
        <p:spPr>
          <a:xfrm>
            <a:off x="2916360" y="458136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财富在缩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2627280" y="1197000"/>
            <a:ext cx="5754600" cy="518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276720" y="3213000"/>
            <a:ext cx="345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日本千年一遇地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132000" y="1628640"/>
            <a:ext cx="5639040" cy="4896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427640" y="342900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双汇瘦肉精事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137440" cy="10083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华文新魏"/>
                <a:ea typeface="华文新魏"/>
              </a:rPr>
              <a:t>我 们生活在“危机”中！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5950080"/>
            <a:ext cx="1079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华文隶书"/>
              </a:rPr>
              <a:t>万一网制作收集整理，未经授权请勿转载转发，违者必究</a:t>
            </a:r>
            <a:endParaRPr b="0" lang="en-US" sz="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假日经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8756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祭念已去的亲人，把满怀的思念送给遥远的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野外踏青，找寻那失去已久的绿色，回归大自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还有呢？还有就是做好节日经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-46" b="49"/>
          <a:stretch/>
        </p:blipFill>
        <p:spPr>
          <a:xfrm>
            <a:off x="395280" y="4221000"/>
            <a:ext cx="8353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rcRect l="0" t="0" r="0" b="-82"/>
          <a:stretch/>
        </p:blipFill>
        <p:spPr>
          <a:xfrm>
            <a:off x="3708360" y="4292640"/>
            <a:ext cx="4762440" cy="2065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每年的清明，是国家的法定休假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一天，游子带着成功的喜悦或是失意的惆怅归家，与家人团聚，缅怀先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一天，是我们平常难得一见的亲朋好友相聚的好时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一天，我们有了更多的共同话题：谈谈我们身边的“危机”，谋划解决“危机”的方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950080"/>
            <a:ext cx="1079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华文隶书"/>
              </a:rPr>
              <a:t>万一网制作收集整理，未经授权请勿转载转发，违者必究</a:t>
            </a:r>
            <a:endParaRPr b="0" lang="en-US" sz="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3:32:46Z</dcterms:created>
  <dc:creator>zhongqiang</dc:creator>
  <dc:description/>
  <dc:language>en-US</dc:language>
  <cp:lastModifiedBy>微软中国</cp:lastModifiedBy>
  <dcterms:modified xsi:type="dcterms:W3CDTF">2015-08-23T02:14:25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  <property fmtid="{D5CDD505-2E9C-101B-9397-08002B2CF9AE}" pid="3" name="NXTAG2">
    <vt:lpwstr>000800100c000000000001023720</vt:lpwstr>
  </property>
</Properties>
</file>