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062-4971-4773-90D1-CAA25F9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5AF-15B0-48F5-8EA9-133DA70F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4FD-CBD4-4101-B10A-F9F47703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6C8-0A7A-4C2A-8F50-5AC93234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AB89-7A22-4FB6-BD0F-A77F37D7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3002-AC47-4094-AB49-F36BD06E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B0E-5015-42CC-85C2-26D7546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8B9-00A4-4CFF-A4F9-85549D3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7FA-7BBF-451E-B16D-D914F9E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52A-1DFE-4D94-8401-D06C925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015A-1286-4B7B-A78C-32FF2B2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746-8C34-4ED0-8C4F-C21BBB37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DE71-8054-4BE5-9657-1A6B86F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B7A1-E0E7-4638-8606-E0985EC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6DF5-C651-4500-9BC2-8A579E9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D56A-ABF9-4F47-9903-9A514BF0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1B4C-A6F6-4BBB-BFA6-5C9CB2AE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1B9-9B39-473A-A35B-38C9456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57C-B6AC-4E75-B1D1-3D470267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2C2-1AAF-4441-92A8-2CB73E30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A78-CC1A-4C2F-AFD2-21601F43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6DB-35A6-4EA7-836E-CE7461F8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35B-6EDB-444E-9C3E-06C5F30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4A0-ABF4-43E3-9BBE-3788B5AD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C57-8008-4D78-BDD2-AC8CACAC93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B2AA-B39C-4512-9CFD-723218ABC8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4876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43680" y="2057400"/>
            <a:ext cx="4000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2520" y="2590920"/>
            <a:ext cx="4876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35816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90920" y="5181480"/>
            <a:ext cx="40003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7:02:39Z</dcterms:created>
  <dc:creator>keke</dc:creator>
  <dc:description/>
  <dc:language>en-US</dc:language>
  <cp:lastModifiedBy>keke</cp:lastModifiedBy>
  <dcterms:modified xsi:type="dcterms:W3CDTF">2015-07-02T09:54:59Z</dcterms:modified>
  <cp:revision>1</cp:revision>
  <dc:subject/>
  <dc:title>站长站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