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chimes.wav" ContentType="audio/x-wav"/>
  <Override PartName="/ppt/media/image6.jpeg" ContentType="image/jpeg"/>
  <Override PartName="/ppt/media/image11.jpeg" ContentType="image/jpeg"/>
  <Override PartName="/ppt/media/image3.jpeg" ContentType="image/jpeg"/>
  <Override PartName="/ppt/media/image4.jpeg" ContentType="image/jpeg"/>
  <Override PartName="/ppt/media/image7.jpeg" ContentType="image/jpeg"/>
  <Override PartName="/ppt/media/image8.jpeg" ContentType="image/jpeg"/>
  <Override PartName="/ppt/media/image9.jpeg" ContentType="image/jpeg"/>
  <Override PartName="/ppt/media/image10.jpeg" ContentType="image/jpeg"/>
  <Override PartName="/ppt/media/image1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D875B-D0A5-4A72-B10D-83882C127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F153D-B8D7-44A9-9A08-B2E707DD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C9DB6-D866-4F08-9E34-7B607D1B20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405E02-D717-4224-854E-F27857E83A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CFD12-1E1F-4E20-83BD-7464A2767A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1B766-122D-46B3-BB2F-A8FFFFB025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A5FD0D-E116-46F3-ADF5-9266E7680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1B04C6-E19D-40DA-9C47-057051D4C5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51E4DF-A002-44B1-BDD1-C470A90D25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FA494C-8519-4857-A144-FBBCA6684F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42B7B4-47F6-4C1C-8522-8388FA8DBF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BE51E7-47DF-46EC-9F84-FED52663AB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8595D-7955-48D4-86FB-D62FF74C0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40A7AA-A185-49EB-A2B2-3F86DE80B1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F8206C-DA93-401D-9760-7CA32B6EE2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CC1C82-C0C5-4371-A71D-430F12902F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929175-9F5E-470F-B927-E07157DEE1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581A8D-903F-4231-B5F7-0382918DD1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6D4F75-9572-47CF-9EA2-5F7E2EF0BF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EF4850-ADD4-437C-A235-5741479BB5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4EEF57-EC8D-48FE-81DE-DA0FF60CB8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F324BC-70A4-410E-8536-53836AA931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C338B4-54F5-48B5-A2B0-D4F9AC8ACD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06481-68AF-4C20-B85A-48A7F115F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F4E334-AA16-4170-AAAD-AF6D69CFB3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6518F4-4C21-461A-BAC6-BDB14182CE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26A7EB-9997-438D-816F-D27241C39B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9C3F1D-EF6E-4CBF-B0DF-197D66FD07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963B32-BE4B-45D8-BAD5-8DF1B9C77C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F92784-4D66-4E93-A086-6CD4970464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8E953C-3170-49A2-AD34-548363005B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779161-6F5A-4132-9307-72DFE6EEE7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020592-0FAF-4CAE-87B2-822015642A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842167-01B2-4DC5-965F-56368A07B9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C8288-45D8-4902-8B93-B10936AB0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479E8F-C50C-4F2D-B5F0-780363C376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3A1822-B034-4EFB-8EF6-8C29F9D9F0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C44DF8-D97C-48BF-ABE2-E44E7505C9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D439C-DAD1-4480-9153-C6506438E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17638-03B2-44C1-8AB3-100B9A538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BDE83-4EF8-4ACE-8866-E4992376A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B9ED8-FBEA-4D62-9D7A-DBF3EC5EF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77A70-EC2C-4035-944B-2660D4102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8DFAD-1E94-4F56-A538-1D03D56E5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199AF-E892-4568-862F-392FFFB53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06797-88BA-4CC8-A3EC-3C5536C18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23438-6524-4BFA-9157-6CC78417E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4E5F8-F5D1-4D7A-81A0-7E874C1F5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1617B-52E2-4233-AD7E-91650EDD8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8B67A-886C-4648-8FD8-0185DC99E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DB4FD5-211B-4714-A580-556359027A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9BA50-27DF-4C1D-823B-2C9E3F9D5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BFE62-69B4-4BE7-BB1A-E872F42D8E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9DCC80-D3E7-4C51-B8B8-13812CAA4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9680F-3814-482B-9D59-4CCE39B6B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193A0-84C2-4928-9060-2F11BD99E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79924-DECA-4BC1-99ED-ED1C1EF59B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C343F-3516-4642-B9CC-B9F2FC83F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3C331-2A29-4884-B25D-3995E9084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E77A3-612E-41E3-9C33-526BF73AE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01C23-A58B-4F8F-A433-A18688E27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34D817-4C75-4A9E-98A2-B16D6F866A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99C60D-BA16-4BE3-AF6D-201C5C88D6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2E09E8-D887-436B-8A5D-83FA8C919C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EE68D-CC39-4593-BA56-AA0824D2C6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06AA8-ACE8-45AF-92A7-99503CD8DF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F8E46-976A-42A1-B0FE-5A00F4D85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0851D-D61F-43E5-8EAC-FC33D6326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5B53D3-BAE8-4214-B4B7-E628CDF2B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E3B64F-D698-4D99-9AB3-A824AE5375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1E203-E699-4299-B9DA-FC295ABC6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632E0-99A2-4EF7-8E79-9F20FA80B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2284A-2E15-4F55-81FD-5D90CE90C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6FA9FA-CC67-45B0-A773-72B199B5F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0BF137-59BF-43AB-A15B-726098E5A4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FF26D3-9800-4891-A00B-8959030A9C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CE69B0-6E1A-4313-AD6C-F391E0AAAA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8AAF1-5670-40BD-9124-AC2EEA815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1470E7-ADAD-4DF7-AE90-0E48D2798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4D7A24-1CF6-49B5-9496-537C74532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0EF0EF-B515-4812-81E8-B4CBFE7F93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6CEE6-119A-4E84-8460-CB69FEE94A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406728-F1E4-4C3E-B5EF-8C69B3FCD5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C43AC-4A44-4744-9F2F-0A8FCC7280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039955-6617-4393-B339-96325961F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FEAB6-B7D1-4DE9-A2EF-D85D1590F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3FB445-DFBA-4BF4-B1A0-04A1E7D8C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D81B61-669D-467B-B952-4E284C90CA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7BD07-7E2C-46F1-AA90-B0565178C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C7AC07-9172-492C-87F9-0DCDD1DA00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3EFC02-3633-4E04-B6EE-37BA6C4ECF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7588E-A184-470E-9EC0-14E8A3C8E7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546DF-D953-4CC9-8B40-0CC22F099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54FCC-CF58-4CEC-80B1-1899CCE1B2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E1D7B4-1F0B-422F-9BD3-5283670B6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0C7CE-8C66-4061-8119-C9F7C630A0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CCE7C-FEC5-45E0-BD63-0703FB989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01253D-A5CB-4979-B055-253F52EFA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7EE14-6ACC-4AD8-A1BB-4BFD8A714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4F497-02ED-4588-AA25-9D6649C09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09C359-547F-4522-9991-C5A70F128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E3FEE5-49EA-475C-8A97-607951A822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7C0DBB-A118-4512-BE8F-5C57CEAAC5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D0BB18-0A04-4451-86F4-AEBCA9F19D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B7ADB3-117D-4C36-B0C6-33A90C3FE9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503D13-25FF-491E-B51A-FB0B404AC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887840-F7E3-4A49-A183-0EBCB651DF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1FBC0C-C751-42D2-852F-EF42F7597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50D629-597A-492D-8C7A-597D9F8AED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A14C0D-3A10-4E13-8F7B-2320771F2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1A97-B238-4D6B-AB77-89776DD92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B64B6-1FA4-4FBA-8DDD-D24E8902FC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0C0F4E-761D-4455-822F-27E16E886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0CF92-6570-43EB-BA20-99C9FF0CA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0B6CE6-D2D0-4B00-A01F-50021BE92A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771DCD-4810-4A7D-877F-AC00E82078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8C23AB-D3D9-43C9-9454-6E2F565F50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BE12AA-C3DA-4732-BEE6-95FE40E916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6441F-1A43-4DC7-9AA9-71F505BA98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288438-2B0A-4EE9-BB9A-3855C11AFA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7ECA33-DB05-4711-911A-97EABB351A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BFC9-5414-4212-B4B8-604723F1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65C08-8197-4FA4-B74B-8FDCA9BFAE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4DF1E7-3840-4CB2-9AC6-E982F8A937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35CD81-8F37-4636-A3CF-F9F57F6CDA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2DCF5-F407-4D2D-83A2-5A029EE712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7675EC-F084-4B65-B112-95DBC931AE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056590-6318-4E20-B4D8-6F0BD50739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77BCFA-6A4F-45D6-B34F-30E7BC24FC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B8A624-834D-45CD-9AEA-897335E0FA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CDC07D-8ABB-4641-BCEA-F3C4A45831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D90A09-4357-49DD-84CA-1334A47769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E56B-EB08-4169-B462-60D4E85E6F37}"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EA6D-B397-49C4-98AD-49914B71445D}"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3"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8"/>
          <p:cNvSpPr/>
          <p:nvPr/>
        </p:nvSpPr>
        <p:spPr>
          <a:xfrm>
            <a:off x="457200" y="1411200"/>
            <a:ext cx="8229600" cy="17640"/>
          </a:xfrm>
          <a:prstGeom prst="rect">
            <a:avLst/>
          </a:prstGeom>
          <a:gradFill rotWithShape="0">
            <a:gsLst>
              <a:gs pos="0">
                <a:srgbClr val="dcd9cc">
                  <a:alpha val="20000"/>
                </a:srgbClr>
              </a:gs>
              <a:gs pos="100000">
                <a:srgbClr val="dcd9cc">
                  <a:alpha val="50196"/>
                </a:srgbClr>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32E4-4919-4DB8-AF43-78A3798C4AEE}"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0C3F-FBB4-40CF-86AF-33C150895249}"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1"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0334-2BCE-4C69-8438-DF67518B7726}"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442"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8C04-407B-476F-8667-F461266B882C}"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20000"/>
                </a:srgbClr>
              </a:gs>
              <a:gs pos="100000">
                <a:srgbClr val="dcd9cc">
                  <a:alpha val="50196"/>
                </a:srgbClr>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2AE1-6F89-4319-8D80-4FBC4EDF57E0}"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5AF2-2E8D-4B67-ACC5-6B62AB6FF261}"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20000"/>
                </a:srgbClr>
              </a:gs>
              <a:gs pos="100000">
                <a:srgbClr val="dcd9cc">
                  <a:alpha val="50196"/>
                </a:srgbClr>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7015-1BD0-402F-A372-8D3DF175436B}"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3EAF-790A-463A-B513-BC6D081C3346}"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20000"/>
                </a:srgbClr>
              </a:gs>
              <a:gs pos="100000">
                <a:srgbClr val="dcd9cc">
                  <a:alpha val="50196"/>
                </a:srgbClr>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CBA9-AA2D-40B0-8D30-95AF6BC50350}"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B888-2E79-4EA4-8935-752C76C41714}"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20000"/>
                </a:srgbClr>
              </a:gs>
              <a:gs pos="100000">
                <a:srgbClr val="dcd9cc">
                  <a:alpha val="50196"/>
                </a:srgbClr>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B6F8-FE02-432B-9DC0-E4016142D87F}"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4A09-21D9-4FC5-8D2F-0327739D52E9}"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20000"/>
                </a:srgbClr>
              </a:gs>
              <a:gs pos="100000">
                <a:srgbClr val="dcd9cc">
                  <a:alpha val="50196"/>
                </a:srgbClr>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3079-0862-43ED-8D37-34C4CCDB437C}"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308F-3220-4E64-91BB-D6C59E80DDA4}"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7"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867A-8ECB-40AF-B77A-2235911A5BFE}"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268"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866B-BEB3-4CA8-9353-CE52BDF45F41}"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6"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8"/>
          <p:cNvSpPr/>
          <p:nvPr/>
        </p:nvSpPr>
        <p:spPr>
          <a:xfrm>
            <a:off x="2786040" y="1054080"/>
            <a:ext cx="5904000" cy="17640"/>
          </a:xfrm>
          <a:prstGeom prst="rect">
            <a:avLst/>
          </a:prstGeom>
          <a:gradFill rotWithShape="0">
            <a:gsLst>
              <a:gs pos="0">
                <a:srgbClr val="dcd9cc">
                  <a:alpha val="20000"/>
                </a:srgbClr>
              </a:gs>
              <a:gs pos="100000">
                <a:srgbClr val="dcd9cc">
                  <a:alpha val="50196"/>
                </a:srgbClr>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D977-D538-4768-B382-E75789EC0AD4}"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3C87-E34C-4694-8ECD-79E4A5A8DB2F}"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50196"/>
                </a:srgbClr>
              </a:gs>
              <a:gs pos="100000">
                <a:srgbClr val="918415">
                  <a:alpha val="4000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4"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90BE-4E41-4991-AD9E-842110FAF667}" type="datetime">
              <a:rPr b="0" lang="zh-CN" sz="1100" spc="-1" strike="noStrike">
                <a:solidFill>
                  <a:srgbClr val="636363"/>
                </a:solidFill>
                <a:latin typeface="Times New Roman"/>
              </a:rPr>
              <a:t>26/7/29</a:t>
            </a:fld>
            <a:endParaRPr b="0" lang="en-US" sz="1100" spc="-1" strike="noStrike">
              <a:solidFill>
                <a:srgbClr val="000000"/>
              </a:solidFill>
              <a:latin typeface="Times New Roman"/>
            </a:endParaRPr>
          </a:p>
        </p:txBody>
      </p:sp>
      <p:sp>
        <p:nvSpPr>
          <p:cNvPr id="355"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4073-FEC6-4F5E-91D5-48E6D4E4D594}" type="slidenum">
              <a:rPr b="0" lang="zh-CN"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11280" y="263700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2f2f2f"/>
                </a:solidFill>
                <a:latin typeface="Franklin Gothic Medium"/>
              </a:rPr>
              <a:t>泰山</a:t>
            </a:r>
            <a:br>
              <a:rPr sz="7200"/>
            </a:br>
            <a:r>
              <a:rPr b="0" lang="en-US" sz="7200" spc="-1" strike="noStrike">
                <a:solidFill>
                  <a:srgbClr val="2f2f2f"/>
                </a:solidFill>
                <a:latin typeface="Franklin Gothic Medium"/>
              </a:rPr>
              <a:t>Mount Tai</a:t>
            </a:r>
            <a:r>
              <a:rPr b="0" lang="zh-CN" sz="3600" spc="-1" strike="noStrike">
                <a:solidFill>
                  <a:srgbClr val="2f2f2f"/>
                </a:solidFill>
                <a:latin typeface="Franklin Gothic Medium"/>
              </a:rPr>
              <a:t> </a:t>
            </a:r>
            <a:endParaRPr b="0" lang="en-US" sz="3600" spc="-1" strike="noStrike">
              <a:solidFill>
                <a:srgbClr val="2f2f2f"/>
              </a:solidFill>
              <a:latin typeface="Franklin Gothic Medium"/>
            </a:endParaRPr>
          </a:p>
        </p:txBody>
      </p:sp>
      <p:sp>
        <p:nvSpPr>
          <p:cNvPr id="481" name=""/>
          <p:cNvSpPr txBox="1"/>
          <p:nvPr/>
        </p:nvSpPr>
        <p:spPr>
          <a:xfrm>
            <a:off x="468360" y="2060280"/>
            <a:ext cx="8229600" cy="42260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transition>
    <p:wheel spokes="3"/>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476280"/>
            <a:ext cx="8229600" cy="72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方正舒体"/>
                <a:ea typeface="方正舒体"/>
              </a:rPr>
              <a:t>Sky Street(</a:t>
            </a:r>
            <a:r>
              <a:rPr b="0" lang="zh-CN" sz="4000" spc="-1" strike="noStrike">
                <a:solidFill>
                  <a:srgbClr val="ff0000"/>
                </a:solidFill>
                <a:latin typeface="华文行楷"/>
                <a:ea typeface="华文行楷"/>
              </a:rPr>
              <a:t>天街</a:t>
            </a:r>
            <a:r>
              <a:rPr b="0" lang="zh-CN" sz="4000" spc="-1" strike="noStrike">
                <a:solidFill>
                  <a:srgbClr val="ff0000"/>
                </a:solidFill>
                <a:latin typeface="方正舒体"/>
                <a:ea typeface="方正舒体"/>
              </a:rPr>
              <a:t>)</a:t>
            </a:r>
            <a:endParaRPr b="0" lang="en-US" sz="4000" spc="-1" strike="noStrike">
              <a:solidFill>
                <a:srgbClr val="2f2f2f"/>
              </a:solidFill>
              <a:latin typeface="Franklin Gothic Medium"/>
            </a:endParaRPr>
          </a:p>
        </p:txBody>
      </p:sp>
    </p:spTree>
  </p:cSld>
  <p:transition>
    <p:wheel spokes="3"/>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1988640"/>
            <a:ext cx="9144000" cy="55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f2f2f"/>
                </a:solidFill>
                <a:latin typeface="Franklin Gothic Medium"/>
              </a:rPr>
              <a:t>Thank You</a:t>
            </a:r>
            <a:endParaRPr b="0" lang="en-US" sz="9600" spc="-1" strike="noStrike">
              <a:solidFill>
                <a:srgbClr val="2f2f2f"/>
              </a:solidFill>
              <a:latin typeface="Franklin Gothic Medium"/>
            </a:endParaRPr>
          </a:p>
        </p:txBody>
      </p:sp>
      <p:sp>
        <p:nvSpPr>
          <p:cNvPr id="501" name="PlaceHolder 2"/>
          <p:cNvSpPr>
            <a:spLocks noGrp="1"/>
          </p:cNvSpPr>
          <p:nvPr>
            <p:ph type="subTitle"/>
          </p:nvPr>
        </p:nvSpPr>
        <p:spPr>
          <a:xfrm>
            <a:off x="285840" y="765000"/>
            <a:ext cx="8501040" cy="5664240"/>
          </a:xfrm>
          <a:prstGeom prst="rect">
            <a:avLst/>
          </a:prstGeom>
          <a:noFill/>
          <a:ln w="0">
            <a:noFill/>
          </a:ln>
        </p:spPr>
        <p:txBody>
          <a:bodyPr lIns="90000" rIns="90000" tIns="46800" bIns="46800" anchor="t">
            <a:no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transition>
    <p:wheel spokes="3"/>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舒体"/>
                <a:ea typeface="方正舒体"/>
              </a:rPr>
              <a:t>Mount Tai  Locates  in  the  middle  of  Shandong Province </a:t>
            </a:r>
            <a:r>
              <a:rPr b="1" lang="zh-CN" sz="3200" spc="-1" strike="noStrike">
                <a:solidFill>
                  <a:srgbClr val="000000"/>
                </a:solidFill>
                <a:latin typeface="方正舒体"/>
                <a:ea typeface="方正舒体"/>
              </a:rPr>
              <a:t>.Mount Tai locates in the middle part of Shandong province spanning two cities (Tai’an city and Jinan city) with total area of 426 square kilometers.</a:t>
            </a:r>
            <a:endParaRPr b="0" lang="en-US" sz="3200" spc="-1" strike="noStrike">
              <a:solidFill>
                <a:srgbClr val="000000"/>
              </a:solidFill>
              <a:latin typeface="Franklin Gothic Book"/>
            </a:endParaRPr>
          </a:p>
        </p:txBody>
      </p:sp>
    </p:spTree>
  </p:cSld>
  <p:transition>
    <p:wheel spokes="3"/>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矩形 5"/>
          <p:cNvSpPr/>
          <p:nvPr/>
        </p:nvSpPr>
        <p:spPr>
          <a:xfrm>
            <a:off x="250920" y="0"/>
            <a:ext cx="8281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6"/>
          <p:cNvSpPr/>
          <p:nvPr/>
        </p:nvSpPr>
        <p:spPr>
          <a:xfrm>
            <a:off x="684360" y="6165720"/>
            <a:ext cx="727236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3"/>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53800" y="0"/>
            <a:ext cx="8567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2f2f2f"/>
              </a:solidFill>
              <a:latin typeface="Franklin Gothic Medium"/>
            </a:endParaRPr>
          </a:p>
        </p:txBody>
      </p:sp>
      <p:sp>
        <p:nvSpPr>
          <p:cNvPr id="486" name="矩形 5"/>
          <p:cNvSpPr/>
          <p:nvPr/>
        </p:nvSpPr>
        <p:spPr>
          <a:xfrm>
            <a:off x="971640" y="262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is the God of Mount Tai who is </a:t>
            </a:r>
            <a:r>
              <a:rPr b="1" lang="zh-CN" sz="1800" spc="-1" strike="noStrike">
                <a:solidFill>
                  <a:srgbClr val="000000"/>
                </a:solidFill>
                <a:latin typeface="Arial"/>
              </a:rPr>
              <a:t>also called Dongyue Emperor</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heel spokes="3"/>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68360" y="-360"/>
            <a:ext cx="8229600" cy="476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Dai temple</a:t>
            </a:r>
            <a:r>
              <a:rPr b="0" lang="zh-CN" sz="2400" spc="-1" strike="noStrike">
                <a:solidFill>
                  <a:srgbClr val="ff0000"/>
                </a:solidFill>
                <a:latin typeface="方正舒体"/>
                <a:ea typeface="方正舒体"/>
              </a:rPr>
              <a:t>（</a:t>
            </a:r>
            <a:r>
              <a:rPr b="0" lang="zh-CN" sz="2400" spc="-1" strike="noStrike">
                <a:solidFill>
                  <a:srgbClr val="ff0000"/>
                </a:solidFill>
                <a:latin typeface="华文行楷"/>
                <a:ea typeface="华文行楷"/>
              </a:rPr>
              <a:t>岱庙）</a:t>
            </a:r>
            <a:endParaRPr b="0" lang="en-US" sz="2400" spc="-1" strike="noStrike">
              <a:solidFill>
                <a:srgbClr val="2f2f2f"/>
              </a:solidFill>
              <a:latin typeface="Franklin Gothic Medium"/>
            </a:endParaRPr>
          </a:p>
        </p:txBody>
      </p:sp>
      <p:pic>
        <p:nvPicPr>
          <p:cNvPr id="488" name="内容占位符 6" descr=""/>
          <p:cNvPicPr/>
          <p:nvPr/>
        </p:nvPicPr>
        <p:blipFill>
          <a:blip r:embed="rId2"/>
          <a:stretch/>
        </p:blipFill>
        <p:spPr>
          <a:xfrm>
            <a:off x="468360" y="549360"/>
            <a:ext cx="8280360" cy="4897440"/>
          </a:xfrm>
          <a:prstGeom prst="rect">
            <a:avLst/>
          </a:prstGeom>
          <a:ln w="0">
            <a:noFill/>
          </a:ln>
        </p:spPr>
      </p:pic>
      <p:sp>
        <p:nvSpPr>
          <p:cNvPr id="489" name="TextBox 7"/>
          <p:cNvSpPr/>
          <p:nvPr/>
        </p:nvSpPr>
        <p:spPr>
          <a:xfrm>
            <a:off x="1908000" y="260280"/>
            <a:ext cx="4500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Box 9"/>
          <p:cNvSpPr/>
          <p:nvPr/>
        </p:nvSpPr>
        <p:spPr>
          <a:xfrm>
            <a:off x="0" y="5229360"/>
            <a:ext cx="8858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方正舒体"/>
                <a:ea typeface="方正舒体"/>
              </a:rPr>
              <a:t>   </a:t>
            </a:r>
            <a:r>
              <a:rPr b="1" lang="en-US" sz="1800" spc="-1" strike="noStrike">
                <a:solidFill>
                  <a:srgbClr val="000000"/>
                </a:solidFill>
                <a:latin typeface="Arial"/>
              </a:rPr>
              <a:t>This is Dai temple.It locates in the south of Mount Tai  and center of Tai’an City, also called Dongyue (mountain in the east) temple,which is a place for enshrining "God of Mount Tai," and also the place for ancient emperors to live and hold worship ceremonies when they came to Mount Thai to hold  mountain worship Feng Shan. </a:t>
            </a:r>
            <a:endParaRPr b="0" lang="en-US" sz="1800" spc="-1" strike="noStrike">
              <a:solidFill>
                <a:srgbClr val="000000"/>
              </a:solidFill>
              <a:latin typeface="Arial"/>
            </a:endParaRPr>
          </a:p>
        </p:txBody>
      </p:sp>
    </p:spTree>
  </p:cSld>
  <p:transition>
    <p:wheel spokes="3"/>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Franklin Gothic Medium"/>
              </a:rPr>
              <a:t>Tianwaicun</a:t>
            </a:r>
            <a:r>
              <a:rPr b="1" lang="zh-CN" sz="4400" spc="-1" strike="noStrike">
                <a:solidFill>
                  <a:srgbClr val="002060"/>
                </a:solidFill>
                <a:latin typeface="Franklin Gothic Medium"/>
              </a:rPr>
              <a:t>（</a:t>
            </a:r>
            <a:r>
              <a:rPr b="1" lang="zh-CN" sz="3600" spc="-1" strike="noStrike">
                <a:solidFill>
                  <a:srgbClr val="002060"/>
                </a:solidFill>
                <a:latin typeface="华文行楷"/>
                <a:ea typeface="华文行楷"/>
              </a:rPr>
              <a:t>天外村</a:t>
            </a:r>
            <a:r>
              <a:rPr b="1" lang="zh-CN" sz="4400" spc="-1" strike="noStrike">
                <a:solidFill>
                  <a:srgbClr val="002060"/>
                </a:solidFill>
                <a:latin typeface="Franklin Gothic Medium"/>
              </a:rPr>
              <a:t>）</a:t>
            </a:r>
            <a:endParaRPr b="0" lang="en-US" sz="4400" spc="-1" strike="noStrike">
              <a:solidFill>
                <a:srgbClr val="2f2f2f"/>
              </a:solidFill>
              <a:latin typeface="Franklin Gothic Medium"/>
            </a:endParaRPr>
          </a:p>
        </p:txBody>
      </p:sp>
    </p:spTree>
  </p:cSld>
  <p:transition>
    <p:wheel spokes="3"/>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0" y="0"/>
            <a:ext cx="9144000" cy="619200"/>
          </a:xfrm>
          <a:prstGeom prst="rect">
            <a:avLst/>
          </a:prstGeom>
          <a:solidFill>
            <a:srgbClr val="7030a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d5d5"/>
                </a:solidFill>
                <a:latin typeface="Franklin Gothic Medium"/>
              </a:rPr>
              <a:t>Mount Tai</a:t>
            </a:r>
            <a:r>
              <a:rPr b="1" lang="zh-CN" sz="2800" spc="-1" strike="noStrike">
                <a:solidFill>
                  <a:srgbClr val="00d5d5"/>
                </a:solidFill>
                <a:latin typeface="Franklin Gothic Medium"/>
              </a:rPr>
              <a:t> </a:t>
            </a:r>
            <a:r>
              <a:rPr b="1" lang="en-US" sz="2800" spc="-1" strike="noStrike">
                <a:solidFill>
                  <a:srgbClr val="00d5d5"/>
                </a:solidFill>
                <a:latin typeface="Franklin Gothic Medium"/>
              </a:rPr>
              <a:t>E</a:t>
            </a:r>
            <a:r>
              <a:rPr b="1" lang="zh-CN" sz="2800" spc="-1" strike="noStrike">
                <a:solidFill>
                  <a:srgbClr val="00d5d5"/>
                </a:solidFill>
                <a:latin typeface="Franklin Gothic Medium"/>
              </a:rPr>
              <a:t>ighteen</a:t>
            </a:r>
            <a:r>
              <a:rPr b="1" lang="zh-CN" sz="2800" spc="-1" strike="noStrike">
                <a:solidFill>
                  <a:srgbClr val="00d5d5"/>
                </a:solidFill>
                <a:latin typeface="Franklin Gothic Medium"/>
              </a:rPr>
              <a:t>（</a:t>
            </a:r>
            <a:r>
              <a:rPr b="1" lang="zh-CN" sz="2800" spc="-1" strike="noStrike">
                <a:solidFill>
                  <a:srgbClr val="00d5d5"/>
                </a:solidFill>
                <a:latin typeface="华文行楷"/>
                <a:ea typeface="华文行楷"/>
              </a:rPr>
              <a:t>泰山十八盘</a:t>
            </a:r>
            <a:r>
              <a:rPr b="1" lang="zh-CN" sz="2800" spc="-1" strike="noStrike">
                <a:solidFill>
                  <a:srgbClr val="00d5d5"/>
                </a:solidFill>
                <a:latin typeface="Franklin Gothic Medium"/>
              </a:rPr>
              <a:t>）</a:t>
            </a:r>
            <a:endParaRPr b="0" lang="en-US" sz="2800" spc="-1" strike="noStrike">
              <a:solidFill>
                <a:srgbClr val="2f2f2f"/>
              </a:solidFill>
              <a:latin typeface="Franklin Gothic Medium"/>
            </a:endParaRPr>
          </a:p>
        </p:txBody>
      </p:sp>
      <p:pic>
        <p:nvPicPr>
          <p:cNvPr id="493" name="内容占位符 3" descr=""/>
          <p:cNvPicPr/>
          <p:nvPr/>
        </p:nvPicPr>
        <p:blipFill>
          <a:blip r:embed="rId2"/>
          <a:stretch/>
        </p:blipFill>
        <p:spPr>
          <a:xfrm>
            <a:off x="0" y="622440"/>
            <a:ext cx="9147240" cy="6237000"/>
          </a:xfrm>
          <a:prstGeom prst="rect">
            <a:avLst/>
          </a:prstGeom>
          <a:ln w="0">
            <a:noFill/>
          </a:ln>
        </p:spPr>
      </p:pic>
    </p:spTree>
  </p:cSld>
  <p:transition>
    <p:wheel spokes="3"/>
    <p:sndAc>
      <p:stSnd>
        <p:snd r:embed="rId3"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矩形 4"/>
          <p:cNvSpPr/>
          <p:nvPr/>
        </p:nvSpPr>
        <p:spPr>
          <a:xfrm>
            <a:off x="0" y="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方正舒体"/>
                <a:ea typeface="方正舒体"/>
              </a:rPr>
              <a:t>Nantianmen</a:t>
            </a:r>
            <a:r>
              <a:rPr b="0" lang="zh-CN" sz="2800" spc="-1" strike="noStrike">
                <a:solidFill>
                  <a:srgbClr val="ff0000"/>
                </a:solidFill>
                <a:latin typeface="方正舒体"/>
                <a:ea typeface="方正舒体"/>
              </a:rPr>
              <a:t>（</a:t>
            </a:r>
            <a:r>
              <a:rPr b="0" lang="zh-CN" sz="2800" spc="-1" strike="noStrike">
                <a:solidFill>
                  <a:srgbClr val="ff0000"/>
                </a:solidFill>
                <a:latin typeface="华文行楷"/>
                <a:ea typeface="华文行楷"/>
              </a:rPr>
              <a:t>南天门）</a:t>
            </a:r>
            <a:endParaRPr b="0" lang="en-US" sz="2800" spc="-1" strike="noStrike">
              <a:solidFill>
                <a:srgbClr val="000000"/>
              </a:solidFill>
              <a:latin typeface="Arial"/>
            </a:endParaRPr>
          </a:p>
        </p:txBody>
      </p:sp>
    </p:spTree>
  </p:cSld>
  <p:transition>
    <p:wheel spokes="3"/>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13840" y="285840"/>
            <a:ext cx="6257880" cy="129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方正舒体"/>
              <a:ea typeface="方正舒体"/>
            </a:endParaRPr>
          </a:p>
        </p:txBody>
      </p:sp>
      <p:pic>
        <p:nvPicPr>
          <p:cNvPr id="496" name="内容占位符 3" descr=""/>
          <p:cNvPicPr/>
          <p:nvPr/>
        </p:nvPicPr>
        <p:blipFill>
          <a:blip r:embed="rId2"/>
          <a:stretch/>
        </p:blipFill>
        <p:spPr>
          <a:xfrm>
            <a:off x="0" y="0"/>
            <a:ext cx="9144000" cy="6858000"/>
          </a:xfrm>
          <a:prstGeom prst="rect">
            <a:avLst/>
          </a:prstGeom>
          <a:ln w="0">
            <a:noFill/>
          </a:ln>
        </p:spPr>
      </p:pic>
      <p:sp>
        <p:nvSpPr>
          <p:cNvPr id="497" name="TextBox 4"/>
          <p:cNvSpPr/>
          <p:nvPr/>
        </p:nvSpPr>
        <p:spPr>
          <a:xfrm>
            <a:off x="1285920" y="5716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5"/>
          <p:cNvSpPr/>
          <p:nvPr/>
        </p:nvSpPr>
        <p:spPr>
          <a:xfrm>
            <a:off x="571680" y="785880"/>
            <a:ext cx="52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方正舒体"/>
                <a:ea typeface="方正舒体"/>
              </a:rPr>
              <a:t> </a:t>
            </a:r>
            <a:r>
              <a:rPr b="0" lang="en-US" sz="4000" spc="-1" strike="noStrike">
                <a:solidFill>
                  <a:srgbClr val="ff0000"/>
                </a:solidFill>
                <a:latin typeface="Times New Roman"/>
                <a:ea typeface="华文行楷"/>
              </a:rPr>
              <a:t>Sister pine</a:t>
            </a:r>
            <a:r>
              <a:rPr b="0" lang="en-US" sz="4000" spc="-1" strike="noStrike">
                <a:solidFill>
                  <a:srgbClr val="ff0000"/>
                </a:solidFill>
                <a:latin typeface="华文行楷"/>
                <a:ea typeface="华文行楷"/>
              </a:rPr>
              <a:t>(</a:t>
            </a:r>
            <a:r>
              <a:rPr b="0" lang="zh-CN" sz="4000" spc="-1" strike="noStrike">
                <a:solidFill>
                  <a:srgbClr val="ff0000"/>
                </a:solidFill>
                <a:latin typeface="华文行楷"/>
                <a:ea typeface="华文行楷"/>
              </a:rPr>
              <a:t>姊妹松</a:t>
            </a:r>
            <a:r>
              <a:rPr b="0" lang="en-US" sz="4000" spc="-1" strike="noStrike">
                <a:solidFill>
                  <a:srgbClr val="ff0000"/>
                </a:solidFill>
                <a:latin typeface="华文行楷"/>
                <a:ea typeface="华文行楷"/>
              </a:rPr>
              <a:t>)</a:t>
            </a:r>
            <a:endParaRPr b="0" lang="en-US" sz="4000" spc="-1" strike="noStrike">
              <a:solidFill>
                <a:srgbClr val="000000"/>
              </a:solidFill>
              <a:latin typeface="Arial"/>
            </a:endParaRPr>
          </a:p>
        </p:txBody>
      </p:sp>
    </p:spTree>
  </p:cSld>
  <p:transition>
    <p:wheel spokes="3"/>
    <p:sndAc>
      <p:stSnd>
        <p:snd r:embed="rId3"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0T13:44:22Z</dcterms:created>
  <dc:creator>Administrator</dc:creator>
  <dc:description/>
  <dc:language>en-US</dc:language>
  <cp:lastModifiedBy>dell</cp:lastModifiedBy>
  <dcterms:modified xsi:type="dcterms:W3CDTF">2015-10-09T08:37:05Z</dcterms:modified>
  <cp:revision>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