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BD6-0E08-432F-A1EE-8B54D8B0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876-0E80-401E-994A-9203071E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ACE-5C6A-423B-9F7A-EBA16454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490-33E5-4E71-8047-0FB52272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3ED-02A4-40E4-8F93-6861A7AC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46A-D31B-4C0A-8433-8AE19F77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D1E-D5BD-44FC-96EE-1E26B93E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3D5-953B-4F3C-93C1-816FE859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0A0-75FE-408C-9930-A0C69EBC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2E39-B550-4624-8BED-BE4CF041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10E-52F2-4037-9CE3-BEE3F2D5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299-EE7D-4347-91C5-7D47E877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EC47-3D6D-4610-883E-5A4A55BEB9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143240"/>
            <a:ext cx="48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28960" y="51307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357720" y="19162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640680" y="284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711960" y="370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3071880" y="3714840"/>
            <a:ext cx="56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4357800" y="3786120"/>
            <a:ext cx="42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 flipH="1">
            <a:off x="1714680" y="3714840"/>
            <a:ext cx="42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121176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"/>
          <p:cNvSpPr/>
          <p:nvPr/>
        </p:nvSpPr>
        <p:spPr>
          <a:xfrm>
            <a:off x="68551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50695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28356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51408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4854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47120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4854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"/>
          <p:cNvSpPr/>
          <p:nvPr/>
        </p:nvSpPr>
        <p:spPr>
          <a:xfrm>
            <a:off x="1711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"/>
          <p:cNvSpPr/>
          <p:nvPr/>
        </p:nvSpPr>
        <p:spPr>
          <a:xfrm>
            <a:off x="4283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"/>
          <p:cNvSpPr/>
          <p:nvPr/>
        </p:nvSpPr>
        <p:spPr>
          <a:xfrm>
            <a:off x="6642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6-26T08:01:2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