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9.png" ContentType="image/png"/>
  <Override PartName="/ppt/media/image6.gif" ContentType="image/gif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19.gif" ContentType="image/gif"/>
  <Override PartName="/ppt/media/image1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chimes.wav" ContentType="audio/x-wav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0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4E4B-0C94-4B52-A4FC-83A6E6B63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757A-C45F-4634-8BF1-EAAB4D3C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2BAE-3F8A-47BB-9FD1-A9FA991B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C5D0-A1AC-43FD-9827-18D25217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1A19-0E86-4553-BAC0-5D2AC937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5ACB-3988-42C1-9DE0-E6535DC2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7DF4-580B-4568-B021-EF54CDF3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B8BB-9DF8-491F-8C3D-0769E445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315E-8BD5-4A63-A3E5-4B49236D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55F2-D8FE-4805-81AD-87E36DD1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DC49-04DD-49D5-A27B-6B904748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8E68-4C40-4940-AF63-F03B038D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3846-3AC6-4075-B4AD-365FF382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F0CA-AA46-4032-9B08-F8AF4237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CAD9-D357-499D-9032-58E84EE7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2D31-9C5E-49CE-AF92-4F8D07D3F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E734-3B6C-4698-9EEE-F9AE1D22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7DE3-69E3-4B34-8863-20ED7B0C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1E07-E60C-4155-A6B0-64CEFD2A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571D-7BC9-439B-A5E3-FCA8590B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E339-A05F-4E50-ABA1-463DE35B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53DF-CACE-4CC9-9049-654D458E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8621-9BAC-4906-BC38-B59B918F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AD79-E88D-422D-925B-8A8F12F2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CFB6-5613-4898-AE08-DD7C7BEF4905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0766-5A81-4BED-B361-E3F51BD4B0F8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886200" y="457200"/>
            <a:ext cx="236232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华文新魏"/>
              </a:rPr>
              <a:t>完璧归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80060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762120" y="0"/>
            <a:ext cx="7848360" cy="3276720"/>
            <a:chOff x="762120" y="0"/>
            <a:chExt cx="7848360" cy="3276720"/>
          </a:xfrm>
        </p:grpSpPr>
        <p:sp>
          <p:nvSpPr>
            <p:cNvPr id="127" name=""/>
            <p:cNvSpPr/>
            <p:nvPr/>
          </p:nvSpPr>
          <p:spPr>
            <a:xfrm>
              <a:off x="762120" y="0"/>
              <a:ext cx="7848360" cy="2438280"/>
            </a:xfrm>
            <a:prstGeom prst="cloudCallout">
              <a:avLst>
                <a:gd name="adj1" fmla="val -13856"/>
                <a:gd name="adj2" fmla="val 100976"/>
              </a:avLst>
            </a:prstGeom>
            <a:solidFill>
              <a:srgbClr val="ffffff"/>
            </a:solidFill>
            <a:ln w="9360">
              <a:solidFill>
                <a:srgbClr val="f8da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57800" y="2895480"/>
              <a:ext cx="1371600" cy="381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8da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90720" y="304920"/>
              <a:ext cx="73152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0000"/>
                  </a:solidFill>
                  <a:latin typeface="Times New Roman"/>
                </a:rPr>
                <a:t>              </a:t>
              </a:r>
              <a:r>
                <a:rPr b="1" lang="zh-CN" sz="2000" spc="-1" strike="noStrike">
                  <a:solidFill>
                    <a:srgbClr val="cc0000"/>
                  </a:solidFill>
                  <a:latin typeface="Times New Roman"/>
                </a:rPr>
                <a:t>唐雎曰：“此庸夫之怒也，非士之怒也。夫专诸之刺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0000"/>
                  </a:solidFill>
                  <a:latin typeface="Times New Roman"/>
                </a:rPr>
                <a:t>       </a:t>
              </a:r>
              <a:r>
                <a:rPr b="1" lang="zh-CN" sz="2000" spc="-1" strike="noStrike">
                  <a:solidFill>
                    <a:srgbClr val="cc0000"/>
                  </a:solidFill>
                  <a:latin typeface="Times New Roman"/>
                </a:rPr>
                <a:t>王僚也，彗星袭月；聂政之刺韩傀也，白虹贯日；要离之刺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0000"/>
                  </a:solidFill>
                  <a:latin typeface="Times New Roman"/>
                </a:rPr>
                <a:t>   </a:t>
              </a:r>
              <a:r>
                <a:rPr b="1" lang="zh-CN" sz="2000" spc="-1" strike="noStrike">
                  <a:solidFill>
                    <a:srgbClr val="cc0000"/>
                  </a:solidFill>
                  <a:latin typeface="Times New Roman"/>
                </a:rPr>
                <a:t>庆忌也，仓鹰击于殿上。此三子者，皆布衣之士也，怀怒未发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0000"/>
                  </a:solidFill>
                  <a:latin typeface="Times New Roman"/>
                </a:rPr>
                <a:t>  </a:t>
              </a:r>
              <a:r>
                <a:rPr b="1" lang="zh-CN" sz="2000" spc="-1" strike="noStrike">
                  <a:solidFill>
                    <a:srgbClr val="cc0000"/>
                  </a:solidFill>
                  <a:latin typeface="Times New Roman"/>
                </a:rPr>
                <a:t>休祲降于天，与臣而将四矣。若士必怒，伏尸二人，流血五步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1" lang="zh-CN" sz="2000" spc="-1" strike="noStrike">
                  <a:solidFill>
                    <a:srgbClr val="cc0000"/>
                  </a:solidFill>
                  <a:latin typeface="Times New Roman"/>
                </a:rPr>
                <a:t>天下缟素，今日是也。”挺剑而起。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8350200" y="3352680"/>
            <a:ext cx="793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562720" y="5009760"/>
            <a:ext cx="32004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8da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秦王色挠，长跪而谢之曰：“先生坐！何至于此！寡人谕矣：夫韩、魏灭亡，而安陵以五十里之地存者，徒以有先生也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62120" y="3049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读一读，写一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55640" y="1295280"/>
            <a:ext cx="8388360" cy="4650480"/>
            <a:chOff x="755640" y="1295280"/>
            <a:chExt cx="8388360" cy="4650480"/>
          </a:xfrm>
        </p:grpSpPr>
        <p:sp>
          <p:nvSpPr>
            <p:cNvPr id="135" name=""/>
            <p:cNvSpPr/>
            <p:nvPr/>
          </p:nvSpPr>
          <p:spPr>
            <a:xfrm>
              <a:off x="755640" y="1295280"/>
              <a:ext cx="7920000" cy="37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唐</a:t>
              </a:r>
              <a:r>
                <a:rPr b="1" lang="zh-CN" sz="4400" spc="-1" strike="noStrike">
                  <a:solidFill>
                    <a:srgbClr val="ff0000"/>
                  </a:solidFill>
                  <a:latin typeface="Arial"/>
                </a:rPr>
                <a:t>雎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1" lang="zh-CN" sz="4400" spc="-1" strike="noStrike">
                  <a:solidFill>
                    <a:srgbClr val="ff0000"/>
                  </a:solidFill>
                  <a:latin typeface="Arial"/>
                </a:rPr>
                <a:t>怫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然      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韩</a:t>
              </a:r>
              <a:r>
                <a:rPr b="1" lang="zh-CN" sz="4400" spc="-1" strike="noStrike">
                  <a:solidFill>
                    <a:srgbClr val="ff0000"/>
                  </a:solidFill>
                  <a:latin typeface="Arial"/>
                </a:rPr>
                <a:t>傀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                免冠徒</a:t>
              </a:r>
              <a:r>
                <a:rPr b="1" lang="zh-CN" sz="4400" spc="-1" strike="noStrike">
                  <a:solidFill>
                    <a:srgbClr val="ff0000"/>
                  </a:solidFill>
                  <a:latin typeface="Arial"/>
                </a:rPr>
                <a:t>跣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Arial"/>
                </a:rPr>
                <a:t>缟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素                </a:t>
              </a:r>
              <a:r>
                <a:rPr b="1" lang="zh-CN" sz="4400" spc="-1" strike="noStrike">
                  <a:solidFill>
                    <a:srgbClr val="ff0000"/>
                  </a:solidFill>
                  <a:latin typeface="Arial"/>
                </a:rPr>
                <a:t>庸</a:t>
              </a:r>
              <a:r>
                <a:rPr b="1" lang="zh-CN" sz="4400" spc="-1" strike="noStrike">
                  <a:solidFill>
                    <a:srgbClr val="cc0000"/>
                  </a:solidFill>
                  <a:latin typeface="Arial"/>
                </a:rPr>
                <a:t>夫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色</a:t>
              </a:r>
              <a:r>
                <a:rPr b="1" lang="zh-CN" sz="4400" spc="-1" strike="noStrike">
                  <a:solidFill>
                    <a:srgbClr val="ff0000"/>
                  </a:solidFill>
                  <a:latin typeface="Arial"/>
                </a:rPr>
                <a:t>挠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                以头</a:t>
              </a:r>
              <a:r>
                <a:rPr b="1" lang="zh-CN" sz="4400" spc="-1" strike="noStrike">
                  <a:solidFill>
                    <a:srgbClr val="ff0000"/>
                  </a:solidFill>
                  <a:latin typeface="Arial"/>
                </a:rPr>
                <a:t>抢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地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33720" y="1295280"/>
              <a:ext cx="6551640" cy="44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Ū                         fú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uī                         xiă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ă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           </a:t>
              </a:r>
              <a:r>
                <a:rPr b="1" lang="zh-CN" sz="4400" spc="-1" strike="noStrike">
                  <a:solidFill>
                    <a:srgbClr val="cc0000"/>
                  </a:solidFill>
                  <a:latin typeface="Arial"/>
                  <a:ea typeface="Arial"/>
                </a:rPr>
                <a:t>     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yōng fú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o                        qiāng   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2120" y="5181480"/>
              <a:ext cx="8381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宋体"/>
                </a:rPr>
                <a:t>休</a:t>
              </a:r>
              <a:r>
                <a:rPr b="1" lang="zh-CN" sz="4400" spc="-1" strike="noStrike">
                  <a:solidFill>
                    <a:srgbClr val="cc0000"/>
                  </a:solidFill>
                  <a:latin typeface="宋体"/>
                </a:rPr>
                <a:t>祲</a:t>
              </a:r>
              <a:r>
                <a:rPr b="1" lang="zh-CN" sz="4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j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ì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</a:t>
              </a: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</a:t>
              </a: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</a:rPr>
                <a:t>寡人</a:t>
              </a:r>
              <a:r>
                <a:rPr b="1" lang="zh-CN" sz="4400" spc="-1" strike="noStrike">
                  <a:solidFill>
                    <a:srgbClr val="cc0000"/>
                  </a:solidFill>
                  <a:latin typeface="宋体"/>
                </a:rPr>
                <a:t>谕 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y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ù</a:t>
              </a: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8640" y="1371600"/>
            <a:ext cx="853308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、用自己的话创造性地复述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、故事的人物有哪些？主要人物是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、故事的主要矛盾是什么？最后的结果 是怎样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2890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整体感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2637000"/>
            <a:ext cx="787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故事中人物有秦始皇、安陵君、唐雎。主要人物是唐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4497480"/>
            <a:ext cx="7923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故事的主要矛盾是对安陵的拥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故事的结局是秦始皇放弃了吞并安陵的打算，唐雎没有辜负出使之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62120" y="152280"/>
            <a:ext cx="350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隶书"/>
                <a:ea typeface="隶书"/>
              </a:rPr>
              <a:t>思路结构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1522440"/>
            <a:ext cx="1295280" cy="52056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Ａ（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1370160"/>
            <a:ext cx="2362320" cy="520560"/>
          </a:xfrm>
          <a:prstGeom prst="rect">
            <a:avLst/>
          </a:prstGeom>
          <a:noFill/>
          <a:ln w="9360">
            <a:solidFill>
              <a:srgbClr val="f8da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交代唐雎出使秦国的原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1241280"/>
            <a:ext cx="3962520" cy="4597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秦王企图吞并安陵遭到拒绝，秦王不悦，表明安陵危在旦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3048120"/>
            <a:ext cx="1295640" cy="52056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Ｂ（２、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2895480"/>
            <a:ext cx="2362320" cy="520560"/>
          </a:xfrm>
          <a:prstGeom prst="rect">
            <a:avLst/>
          </a:prstGeom>
          <a:noFill/>
          <a:ln w="9360">
            <a:solidFill>
              <a:srgbClr val="f8da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唐雎使秦，与秦王进行针锋相对的斗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5491080"/>
            <a:ext cx="1447920" cy="52056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Ｃ（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5094360"/>
            <a:ext cx="2361960" cy="520560"/>
          </a:xfrm>
          <a:prstGeom prst="rect">
            <a:avLst/>
          </a:prstGeom>
          <a:noFill/>
          <a:ln w="9360">
            <a:solidFill>
              <a:srgbClr val="f8da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写秦王被唐雎折服，唐雎取得胜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5203800"/>
            <a:ext cx="3962160" cy="8254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写“秦王色挠，长跪而谢之”及他所明白的道理，反衬唐雎出使胜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19720" y="2590920"/>
            <a:ext cx="3962160" cy="4597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写唐雎坚决抵制秦王的骗局，表现维护国土的严正立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19720" y="3892680"/>
            <a:ext cx="3962160" cy="8254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写唐雎以“士之怒”反击秦王的“天子之怒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095680" y="2895480"/>
            <a:ext cx="911880" cy="175284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发展与高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470800" y="1295280"/>
            <a:ext cx="546120" cy="106704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开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470800" y="5181480"/>
            <a:ext cx="546120" cy="106704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结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332000" y="2133720"/>
            <a:ext cx="18000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7417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隶书"/>
              </a:rPr>
              <a:t>揣摩神态动作，用句式说话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7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读       ，我看到一个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的秦王。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读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，我看到一个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的唐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775440" y="1255680"/>
            <a:ext cx="668520" cy="4613400"/>
            <a:chOff x="775440" y="1255680"/>
            <a:chExt cx="668520" cy="4613400"/>
          </a:xfrm>
        </p:grpSpPr>
        <p:sp>
          <p:nvSpPr>
            <p:cNvPr id="162" name=""/>
            <p:cNvSpPr/>
            <p:nvPr/>
          </p:nvSpPr>
          <p:spPr>
            <a:xfrm>
              <a:off x="775440" y="125568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开端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5440" y="29113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发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5440" y="42084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高潮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5440" y="528768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532240" y="549360"/>
            <a:ext cx="139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阴险狡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盛气凌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80000" y="609480"/>
            <a:ext cx="221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头脑清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不卑不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1557360"/>
            <a:ext cx="1225440" cy="216000"/>
          </a:xfrm>
          <a:prstGeom prst="leftRightArrow">
            <a:avLst>
              <a:gd name="adj1" fmla="val 50000"/>
              <a:gd name="adj2" fmla="val 11294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59880" y="2743200"/>
            <a:ext cx="139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从容镇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据理力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54120" y="259092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恩威并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67280" y="3213000"/>
            <a:ext cx="1225440" cy="216000"/>
          </a:xfrm>
          <a:prstGeom prst="leftRightArrow">
            <a:avLst>
              <a:gd name="adj1" fmla="val 50000"/>
              <a:gd name="adj2" fmla="val 11294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77800" y="38862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骄横狂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不可一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59880" y="3933720"/>
            <a:ext cx="139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不畏强暴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勇于献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32360" y="4280040"/>
            <a:ext cx="1225440" cy="215640"/>
          </a:xfrm>
          <a:prstGeom prst="leftRightArrow">
            <a:avLst>
              <a:gd name="adj1" fmla="val 50000"/>
              <a:gd name="adj2" fmla="val 11313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050920" y="5013360"/>
            <a:ext cx="221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前倨后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外强中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51640" y="5013360"/>
            <a:ext cx="221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有胆有识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坚强无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08320" y="5423040"/>
            <a:ext cx="1225800" cy="215640"/>
          </a:xfrm>
          <a:prstGeom prst="leftRightArrow">
            <a:avLst>
              <a:gd name="adj1" fmla="val 50000"/>
              <a:gd name="adj2" fmla="val 11316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4111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秦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380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安陵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2362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秦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43600" y="2286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唐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1571760" y="990720"/>
            <a:ext cx="5597640" cy="534960"/>
            <a:chOff x="1571760" y="990720"/>
            <a:chExt cx="5597640" cy="534960"/>
          </a:xfrm>
        </p:grpSpPr>
        <p:sp>
          <p:nvSpPr>
            <p:cNvPr id="183" name=""/>
            <p:cNvSpPr/>
            <p:nvPr/>
          </p:nvSpPr>
          <p:spPr>
            <a:xfrm>
              <a:off x="1571760" y="990720"/>
              <a:ext cx="1295640" cy="520560"/>
            </a:xfrm>
            <a:prstGeom prst="rect">
              <a:avLst/>
            </a:prstGeom>
            <a:noFill/>
            <a:ln w="9360">
              <a:solidFill>
                <a:srgbClr val="00cc00"/>
              </a:solidFill>
              <a:miter/>
            </a:ln>
            <a:effectLst>
              <a:outerShdw dist="17819" dir="2700000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66"/>
                  </a:solidFill>
                  <a:latin typeface="宋体"/>
                </a:rPr>
                <a:t>秦　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48600" y="1005120"/>
              <a:ext cx="820800" cy="520560"/>
            </a:xfrm>
            <a:prstGeom prst="rect">
              <a:avLst/>
            </a:prstGeom>
            <a:noFill/>
            <a:ln w="9360">
              <a:solidFill>
                <a:srgbClr val="00cc0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安陵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457200" y="2817720"/>
            <a:ext cx="2362320" cy="94716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以五百里易安陵，安陵君其许寡人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4557600"/>
            <a:ext cx="2028960" cy="52056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秦王不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1995480"/>
            <a:ext cx="2438280" cy="52056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使人谓、寡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1995480"/>
            <a:ext cx="1067040" cy="52056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轻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71800" y="2970360"/>
            <a:ext cx="1676520" cy="94716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利诱之，盛气凌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914400"/>
            <a:ext cx="0" cy="5943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743200"/>
            <a:ext cx="91440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343400"/>
            <a:ext cx="91440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5486400"/>
            <a:ext cx="91440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914400"/>
            <a:ext cx="0" cy="5943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0" y="914400"/>
            <a:ext cx="0" cy="5943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5638680"/>
            <a:ext cx="3429000" cy="52056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先设骗局，以强凌弱，以大欺小，首开祸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4500720"/>
            <a:ext cx="1066680" cy="52056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骄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研读第一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6781680"/>
            <a:ext cx="91440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1787400"/>
            <a:ext cx="2438280" cy="947160"/>
          </a:xfrm>
          <a:prstGeom prst="rect">
            <a:avLst/>
          </a:prstGeom>
          <a:noFill/>
          <a:ln w="9360">
            <a:solidFill>
              <a:srgbClr val="f8da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大王加惠，以大易小，甚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96080" y="1711440"/>
            <a:ext cx="914400" cy="94716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言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婉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2971800"/>
            <a:ext cx="2438640" cy="520560"/>
          </a:xfrm>
          <a:prstGeom prst="rect">
            <a:avLst/>
          </a:prstGeom>
          <a:noFill/>
          <a:ln w="9360">
            <a:solidFill>
              <a:srgbClr val="f8da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受地于王，愿终守之弗敢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2884320"/>
            <a:ext cx="1295280" cy="94716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陈理为据，无容置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4120" y="5673600"/>
            <a:ext cx="3429000" cy="947160"/>
          </a:xfrm>
          <a:prstGeom prst="rect">
            <a:avLst/>
          </a:prstGeom>
          <a:noFill/>
          <a:ln w="9360">
            <a:solidFill>
              <a:srgbClr val="f8da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婉辞坚拒，有理有利有节，不失明君风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05520" y="4724280"/>
            <a:ext cx="2361960" cy="520560"/>
          </a:xfrm>
          <a:prstGeom prst="rect">
            <a:avLst/>
          </a:prstGeom>
          <a:noFill/>
          <a:ln w="9360">
            <a:solidFill>
              <a:srgbClr val="f8da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使唐雎使于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20120" y="4724280"/>
            <a:ext cx="1143000" cy="52056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果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80880" y="763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研读课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28760" y="914400"/>
            <a:ext cx="1143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秦 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14960" y="838080"/>
            <a:ext cx="1581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唐 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200400"/>
            <a:ext cx="91440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48320" y="914400"/>
            <a:ext cx="0" cy="5943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914400"/>
            <a:ext cx="0" cy="5943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5257800"/>
            <a:ext cx="91440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0" y="914400"/>
            <a:ext cx="0" cy="5943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914400"/>
            <a:ext cx="0" cy="5943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" y="1523880"/>
            <a:ext cx="546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第一回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-362520" y="3429000"/>
            <a:ext cx="91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第二回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-362520" y="5257800"/>
            <a:ext cx="91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第三回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1447920"/>
            <a:ext cx="0" cy="54100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1447920"/>
            <a:ext cx="0" cy="54100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09480" y="1523880"/>
            <a:ext cx="2742840" cy="785880"/>
            <a:chOff x="609480" y="1523880"/>
            <a:chExt cx="2742840" cy="785880"/>
          </a:xfrm>
        </p:grpSpPr>
        <p:sp>
          <p:nvSpPr>
            <p:cNvPr id="227" name=""/>
            <p:cNvSpPr/>
            <p:nvPr/>
          </p:nvSpPr>
          <p:spPr>
            <a:xfrm>
              <a:off x="609480" y="1523880"/>
              <a:ext cx="26546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3300"/>
                  </a:solidFill>
                  <a:latin typeface="Arial"/>
                </a:rPr>
                <a:t>不听寡人，何也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7680" y="1905120"/>
              <a:ext cx="26546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3300"/>
                  </a:solidFill>
                  <a:latin typeface="Arial"/>
                </a:rPr>
                <a:t>逆、轻寡人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609480" y="2209680"/>
            <a:ext cx="30481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为长者不错意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2666880"/>
            <a:ext cx="30481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且秦灭韩亡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657600" y="1523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质问、施恩加惠、威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否，非若是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18288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受地先王而守之，千里不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876920" y="2666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岂直五百里哉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54380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胸有成竹、洞若观火、立场严正、断然拒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3276720"/>
            <a:ext cx="30481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怫然怒：天子之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3657600"/>
            <a:ext cx="243828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天子之怒：伏尸百万，流血千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4390920"/>
            <a:ext cx="274320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布衣之怒：免冠徒跣，以头抢地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24280" y="32004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闻布衣之怒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3352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怒气冲冲、武力恫吓、逼其屈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8320" y="3581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士之怒伏尸一人，流血五步，天下缟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24280" y="4343400"/>
            <a:ext cx="2895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三子，与臣将四，挺剑而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320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沉着冷静、毫不示弱、奋力反击、以史为证、以死相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" y="5451480"/>
            <a:ext cx="2743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色挠，长跪而谢：先生坐！安陵存徒以有先生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5410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色厉内荏、前倨后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81480" y="5564160"/>
            <a:ext cx="198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折服秦王，取得胜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438280" y="15228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唐雎与秦王斗争的三个回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57913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不辱使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04920" y="4572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从这个故事可以看出秦王和唐雎各是什么样的人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743200" y="19810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宋体"/>
              </a:rPr>
              <a:t>一个贪得无厌、阴险狡诈，骄横狂暴、外强中干，色厉内荏的封建统治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66880" y="4280040"/>
            <a:ext cx="6019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一个从容镇定，有胆有识，具有凛然正气，不畏强暴的谋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rcRect l="7918" t="4523" r="10355" b="11996"/>
          <a:stretch/>
        </p:blipFill>
        <p:spPr>
          <a:xfrm>
            <a:off x="609480" y="1828800"/>
            <a:ext cx="1295640" cy="20574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rcRect l="2365" t="6526" r="61892" b="10833"/>
          <a:stretch/>
        </p:blipFill>
        <p:spPr>
          <a:xfrm>
            <a:off x="609480" y="4191120"/>
            <a:ext cx="1301760" cy="2057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90720" y="5562720"/>
            <a:ext cx="26668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8da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华文新魏"/>
              </a:rPr>
              <a:t>图穷匕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54160" y="2362320"/>
            <a:ext cx="78984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e4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风萧萧兮易水寒，壮士一去兮不复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990720" y="1523880"/>
            <a:ext cx="7162560" cy="77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面对一心要吞并天下的强秦，唐雎，这位安陵小国的使者，从容镇定，不畏强暴，拼死一搏，使安陵国避过了一劫。唐雎确实不辱使命。我们要学习他为真理正义而斗争的凛然正气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42440" y="3985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隶书"/>
                <a:ea typeface="隶书"/>
              </a:rPr>
              <a:t>小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258920" y="1052640"/>
            <a:ext cx="6049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304920"/>
            <a:ext cx="608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探究：如何刻画人物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62120" y="158436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、通过人物的语言、神态、动作来刻画人物形象，其中最突出的是语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38080" y="41752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、通过对比来刻画人物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258920" y="1052640"/>
            <a:ext cx="6049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2286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通过对比来刻画人物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14600" y="160020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先倨后恭：使人谓——不悦——怫然怒——色挠长跪而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38280" y="4051440"/>
            <a:ext cx="6019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先恭后倨：临危出使——沉着应对——针锋相对——挺剑而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rcRect l="7918" t="4523" r="10355" b="11996"/>
          <a:stretch/>
        </p:blipFill>
        <p:spPr>
          <a:xfrm>
            <a:off x="609480" y="1447920"/>
            <a:ext cx="1295640" cy="20574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rcRect l="2365" t="6526" r="61892" b="10833"/>
          <a:stretch/>
        </p:blipFill>
        <p:spPr>
          <a:xfrm>
            <a:off x="609480" y="4038480"/>
            <a:ext cx="1301760" cy="20574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514600" y="25909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虎狼之国的国君：盛气凌人，质问威胁——色挠内荏、外强中干的纸老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5105520"/>
            <a:ext cx="6477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宋体"/>
              </a:rPr>
              <a:t>弱小之邦的使臣：从容镇定，据理力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d60093"/>
                </a:solidFill>
                <a:latin typeface="宋体"/>
              </a:rPr>
              <a:t>临危不惧、机智勇敢的伏虎英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043080" y="123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91120" y="-76320"/>
            <a:ext cx="3352680" cy="1676520"/>
          </a:xfrm>
          <a:prstGeom prst="cloudCallout">
            <a:avLst>
              <a:gd name="adj1" fmla="val -61222"/>
              <a:gd name="adj2" fmla="val 98296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402360" y="2133720"/>
            <a:ext cx="1155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唐雎的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说话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81480" y="2514600"/>
            <a:ext cx="22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言之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81480" y="3505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言之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105520" y="43434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言之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952880" y="2819520"/>
            <a:ext cx="228600" cy="1981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13320" y="181080"/>
            <a:ext cx="242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大王尝闻布衣之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乎……此庸夫之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也……伏尸二人流血五步，天下缟素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43800" y="29718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道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551720" y="434340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威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391520" y="2666880"/>
            <a:ext cx="152280" cy="106704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rcRect l="2365" t="6526" r="61892" b="10833"/>
          <a:stretch/>
        </p:blipFill>
        <p:spPr>
          <a:xfrm>
            <a:off x="609480" y="990720"/>
            <a:ext cx="2895840" cy="47242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733920" y="5442120"/>
            <a:ext cx="49528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8da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他善于抓住对方的弱点，从“道义”和“威力”两个方面，针锋相对，据理力争，从而震慑对方，不辱使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shikishi_m566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914400" y="2286000"/>
            <a:ext cx="7772400" cy="164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说话技巧在人际交往，尤其是在重要的外交关系中，起着举足轻重的作用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要有意识地锻炼自己的说话能力，培养自己的说话技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45840" y="1447920"/>
            <a:ext cx="68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懂得一个道理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62120" y="45720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华文新魏"/>
              </a:rPr>
              <a:t>启示一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419720" y="2362320"/>
            <a:ext cx="4038480" cy="3809880"/>
          </a:xfrm>
          <a:prstGeom prst="verticalScroll">
            <a:avLst>
              <a:gd name="adj" fmla="val 18208"/>
            </a:avLst>
          </a:prstGeom>
          <a:solidFill>
            <a:srgbClr val="c58bf9"/>
          </a:solidFill>
          <a:ln w="9360">
            <a:solidFill>
              <a:srgbClr val="f8da44"/>
            </a:solidFill>
            <a:miter/>
          </a:ln>
          <a:effectLst>
            <a:outerShdw dist="107932" dir="2700000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19800" y="9907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c0039"/>
                </a:solidFill>
                <a:latin typeface="Times New Roman"/>
                <a:ea typeface="黑体"/>
              </a:rPr>
              <a:t>影响说话内容和语气、语调的因素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2971800" cy="38862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889600" y="3352680"/>
            <a:ext cx="115596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人物身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人物地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说话场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说话对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447920" y="556272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《圣经》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句话说得合宜，就如金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果在银网子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934720" y="933480"/>
            <a:ext cx="428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你知道哪些关于说话能力和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巧的名言警句？试列举一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433520" y="2286000"/>
            <a:ext cx="547560" cy="5475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1405080" y="31240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1371600" y="441972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1371600" y="556272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5"/>
          <a:stretch/>
        </p:blipFill>
        <p:spPr>
          <a:xfrm rot="727200">
            <a:off x="499680" y="736560"/>
            <a:ext cx="1254240" cy="12193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2193840" y="2254320"/>
            <a:ext cx="618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荀子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能言之，身能行之，国宝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27240" y="3124080"/>
            <a:ext cx="19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刘勰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人之辩胜于九鼎之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寸之舌强于百万之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200480" y="4343400"/>
            <a:ext cx="20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西方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界的三大战略武器：口才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元、电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shikishi_m566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369520" y="1752480"/>
            <a:ext cx="68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培养一种能力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447920" y="3505320"/>
            <a:ext cx="18396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4360" y="2701800"/>
            <a:ext cx="80643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要能够在我们以后的写作过程中，充分运用个性化的人物语言来凸现人物的性格特点，提高我们的写作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62120" y="45720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华文新魏"/>
              </a:rPr>
              <a:t>启示二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066680" y="185904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0000"/>
                </a:solidFill>
                <a:latin typeface="Arial"/>
                <a:ea typeface="华文新魏"/>
              </a:rPr>
              <a:t>语言积累与训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80880" y="304920"/>
            <a:ext cx="6934320" cy="579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重点掌握以下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易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其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加惠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弗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说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因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错意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59600" y="11430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交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165560" y="18730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句中表希望的语气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399480" y="25909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给予恩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69600" y="3319560"/>
            <a:ext cx="1277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华文细黑"/>
              </a:rPr>
              <a:t>fú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）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581920" y="4037040"/>
            <a:ext cx="3554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华文细黑"/>
              </a:rPr>
              <a:t>yuè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）通“悦”，高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635920" y="47242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于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88000" y="5454720"/>
            <a:ext cx="1448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注意，放在心上。错，通“措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shikishi_m566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73320" y="27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42280" y="896760"/>
            <a:ext cx="325908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黑体"/>
                <a:ea typeface="黑体"/>
              </a:rPr>
              <a:t>唐雎不    使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 rot="5400000">
            <a:off x="4457520" y="874440"/>
            <a:ext cx="1143000" cy="106704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5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94" name=""/>
          <p:cNvSpPr/>
          <p:nvPr/>
        </p:nvSpPr>
        <p:spPr>
          <a:xfrm>
            <a:off x="3203640" y="2418840"/>
            <a:ext cx="25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《战国策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380880"/>
            <a:ext cx="2895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广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逆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轻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与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岂直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怫然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公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布衣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638440" y="5335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扩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597040" y="11430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违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62120" y="18288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轻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53440" y="2590920"/>
            <a:ext cx="1500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语气助词，相当于“吗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79760" y="32767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难道只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619080" y="3960720"/>
            <a:ext cx="1277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华文细黑"/>
              </a:rPr>
              <a:t>fú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）盛怒的样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15840" y="4648320"/>
            <a:ext cx="396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相当于“先生”，古代对人的尊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95640" y="53020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平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80880" y="533520"/>
            <a:ext cx="2667240" cy="60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免冠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徒跣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抢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庸夫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士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休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祲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缟素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27480" y="6858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摘掉帽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97080" y="14479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光着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60680" y="22096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40200" y="29718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平庸无能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862520" y="36576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这里指有才能有胆识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438280" y="4419720"/>
            <a:ext cx="5410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吉凶的征兆。休，吉祥。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祲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，不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22600" y="58672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白色的丝织品，这里指穿丧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762120" y="1324080"/>
            <a:ext cx="2666880" cy="34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色挠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谢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谕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徒以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824360" y="1600200"/>
            <a:ext cx="625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变了脸色。挠，屈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95640" y="23623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道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681720" y="3244680"/>
            <a:ext cx="61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明白、懂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746240" y="4114800"/>
            <a:ext cx="625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只因为。徒，只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6270480"/>
            <a:ext cx="1981080" cy="587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802800" y="765000"/>
            <a:ext cx="7883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其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安陵君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其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许寡人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因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安陵君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使唐雎使于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错意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故不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错意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轻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寡人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免冠徒跣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亦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免冠徒跣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以头抢地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谢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长跪而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谢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之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休祲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休祲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降于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徒以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徒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有先生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550800" y="898560"/>
            <a:ext cx="4630680" cy="59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仓鹰击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殿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受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先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广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使唐雎使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虽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受地于先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秦王怫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635800" y="838080"/>
            <a:ext cx="5184720" cy="61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c0039"/>
                </a:solidFill>
                <a:latin typeface="Arial"/>
              </a:rPr>
              <a:t>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c0039"/>
                </a:solidFill>
                <a:latin typeface="Arial"/>
              </a:rPr>
              <a:t>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c0039"/>
                </a:solidFill>
                <a:latin typeface="Arial"/>
              </a:rPr>
              <a:t>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c0039"/>
                </a:solidFill>
                <a:latin typeface="Arial"/>
              </a:rPr>
              <a:t>到、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c0039"/>
                </a:solidFill>
                <a:latin typeface="Arial"/>
              </a:rPr>
              <a:t>这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c0039"/>
                </a:solidFill>
                <a:latin typeface="Arial"/>
              </a:rPr>
              <a:t>…</a:t>
            </a:r>
            <a:r>
              <a:rPr b="1" lang="zh-CN" sz="4000" spc="-1" strike="noStrike">
                <a:solidFill>
                  <a:srgbClr val="8c0039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8c0039"/>
                </a:solidFill>
                <a:latin typeface="Arial"/>
              </a:rPr>
              <a:t>的样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22860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、一词多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990720" y="99072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秦王使人谓安陵君曰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安陵君因使唐雎使于秦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秦王不说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请说之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高可二黍许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安陵君其许寡人（       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8360" y="1752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836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88360" y="50292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961960" y="121932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510600" y="205740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出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615120" y="281952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高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234240" y="37018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347360" y="4572000"/>
            <a:ext cx="637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多一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15320" y="54100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听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62120" y="13716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62120" y="304812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38080" y="47242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457200" y="6858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解释下列句子中“以”字的用法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7200" y="1981080"/>
            <a:ext cx="7848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⑴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以大易小。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⑵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徒以有先生也。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⑶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以君为长者。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⑷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而君以五十里之地存者。（    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80880" y="198108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910400" y="27874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因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361760" y="365760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724080" y="441972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28600" y="3808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、指出下面句中的通假字，并写出它的本字和解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0880" y="1905120"/>
            <a:ext cx="73915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⑴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秦王不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⑵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以君为长者，故不错意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⑶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仓鹰击于殿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206080" y="2666880"/>
            <a:ext cx="2183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说通“悦”，高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282400" y="4267080"/>
            <a:ext cx="2183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错通“措”，注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750320" y="5943600"/>
            <a:ext cx="1412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仓通“苍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295280" y="1398600"/>
            <a:ext cx="6121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安陵君不听寡人，何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也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而君逆寡人也，轻寡人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岂直五百里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哉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大王尝闻布衣之怒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以头抢地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耳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与臣而将四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矣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泯然众人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矣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2193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、揣摩下列语气词的用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1476000" y="1258560"/>
            <a:ext cx="6264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安陵君其许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寡人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受地于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先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公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亦尝闻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天子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之怒乎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臣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未尝闻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大王尝闻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布衣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之怒乎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非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士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之怒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愿借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子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杀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2193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、揣摩下列特殊称呼的含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62120" y="96372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战国时代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国别体史书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。原有《国事》《国策》《短长》等不同名号，共有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3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篇。西汉成帝时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刘向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根据战国末年的纵横家著作整理编辑而成。记事上起前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45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，下迄前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209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年，载录了战国时期各国政治、军事、外交各方面的历史，着重记录了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谋臣的策略和言论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。雄辩的论说，铺张的叙事，尖刻的讽刺，耐人寻味的幽默，构成了独特的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语言风格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。它标志着我国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古代散文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发展到一个新的高度，给后世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散文和辞赋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的创作以重大影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12060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隶书"/>
              </a:rPr>
              <a:t> 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隶书"/>
              </a:rPr>
              <a:t>《战国策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57200" y="304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6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、翻译下面的文言句子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57200" y="1143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⑴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布衣之怒，亦免冠徒跣，以头抢地尔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" y="1905120"/>
            <a:ext cx="8839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平民发怒时，也不过是摘了帽子，光着脚，把头往地上撞罢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3520" y="304812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⑵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而君逆寡人者，轻寡人与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920" y="3809880"/>
            <a:ext cx="8381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但是他却违背我的意愿，是瞧不起我的实力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48769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⑶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秦王色挠，长跪而谢之曰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28600" y="5486400"/>
            <a:ext cx="8686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秦王吓得变了脸色，跪直身子向唐雎道歉说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04920" y="0"/>
            <a:ext cx="8839080" cy="64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）安陵君其许寡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）虽然，受地于先王，愿终守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）以君为长者，故不错意也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7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）请广于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8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）秦王怫然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9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）大王尝闻布衣之怒乎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10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）流血五步，天下缟素，今日是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1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）秦 王色挠，长跪而谢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539640" y="974880"/>
            <a:ext cx="76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秦王派人对安陵君说：“我打算用五百里的土地换取安陵，希望安陵君能答应我！”安陵君说：“承蒙大王给予好处，拿大块土地来换取小的，那很好；虽然这样，可我从先人手里继承了这块土地，愿意始终守住它，不敢拿它交换。”秦王不高兴，安陵君因而派唐雎出使秦国。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" y="334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课文翻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95280" y="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秦王对唐雎说：“我用五百里的土地来换取安陵，安陵君却不听从我，为什么呢？再说，秦国灭掉了韩国和魏国，而安陵君凭着五十里的地方能保存下来，是因为安陵君是个年高德劭的人，所以我不想打他的主意。如今我拿十倍的土地（来交换安陵），扩大他的领土，可安陵君却违抗我，（这）岂不是小看我吗？”唐雎答道：“不，不是像您说的这样！安陵君从先王那里继承了上地，并且守住它，即使拿一千里土地来，也不敢交换，何况（您）只拿来五百里呢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0" y="0"/>
            <a:ext cx="9144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秦王勃然大怒，对唐雎说：“你听说过天子发怒吗？”唐雎回答道：“小臣没有听说过。”秦王说：“天子一发怒，将会有百万人死亡，血流千里。”唐雎说：“大王曾听说过平民发怒吗？”秦王说：“平民发怒，不过是摘掉帽子，光着脚走，拿脑袋撞地罢了。”唐雎说：“这是庸人发怒的样子。志土发怒可不是这样。专诸刺杀吴王僚的时候。彗星的尾扫过月亮；聂政刺杀韩傀的时候，有一道白光直冲太阳；要离刺杀庆忌的时候，苍鹰扑到宫殿上。这三个人，都是平民中的有志之士，他们胸怀愤怒还没有发作的时候，天上就降下了征兆，加上我，就有四个人了。如果志士真的发了怒，将会有两具尸体倒下，血流五步，天下的人都将穿上白色孝服——今天的情况就是这样。”（说罢）拔出宝剑站了起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16120" y="221760"/>
            <a:ext cx="6045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2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Arial"/>
                <a:ea typeface="隶书"/>
              </a:rPr>
              <a:t>复习目标：</a:t>
            </a:r>
            <a:endParaRPr b="0" lang="en-US" sz="6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Arial"/>
              </a:rPr>
              <a:t>一、积累古汉语词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Arial"/>
              </a:rPr>
              <a:t>二、分析人物形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Arial"/>
              </a:rPr>
              <a:t>三、体会说话技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228600" y="0"/>
            <a:ext cx="8915400" cy="6477120"/>
            <a:chOff x="228600" y="0"/>
            <a:chExt cx="8915400" cy="6477120"/>
          </a:xfrm>
        </p:grpSpPr>
        <p:sp>
          <p:nvSpPr>
            <p:cNvPr id="104" name=""/>
            <p:cNvSpPr/>
            <p:nvPr/>
          </p:nvSpPr>
          <p:spPr>
            <a:xfrm>
              <a:off x="4495680" y="247680"/>
              <a:ext cx="1981440" cy="15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8da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zh-CN" sz="2400" spc="-1" strike="noStrike">
                  <a:solidFill>
                    <a:srgbClr val="000066"/>
                  </a:solidFill>
                  <a:latin typeface="Times New Roman"/>
                </a:rPr>
                <a:t>秦王使人谓安陵君曰：“寡人欲以五百里之地易安陵，安陵君其许寡人！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8600" y="4514760"/>
              <a:ext cx="50292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8da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安陵君曰：“大王加惠，以大易小，甚善；虽然，受地于先王，愿终守之，弗敢易！”秦王不说。安陵君因使唐雎使于秦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457200" y="0"/>
              <a:ext cx="8686800" cy="6477120"/>
              <a:chOff x="457200" y="0"/>
              <a:chExt cx="8686800" cy="6477120"/>
            </a:xfrm>
          </p:grpSpPr>
          <p:pic>
            <p:nvPicPr>
              <p:cNvPr id="10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" y="0"/>
                <a:ext cx="2895480" cy="396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>
                <a:off x="3004920" y="1905120"/>
                <a:ext cx="1033560" cy="1295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c0000"/>
                    </a:solidFill>
                    <a:latin typeface="Arial"/>
                    <a:ea typeface="隶书"/>
                  </a:rPr>
                  <a:t>安陵君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5443560" y="990720"/>
                <a:ext cx="3700440" cy="5486400"/>
                <a:chOff x="5443560" y="990720"/>
                <a:chExt cx="3700440" cy="5486400"/>
              </a:xfrm>
            </p:grpSpPr>
            <p:pic>
              <p:nvPicPr>
                <p:cNvPr id="11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324480" y="990720"/>
                  <a:ext cx="2819520" cy="548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" name=""/>
                <p:cNvSpPr/>
                <p:nvPr/>
              </p:nvSpPr>
              <p:spPr>
                <a:xfrm>
                  <a:off x="5443560" y="3200400"/>
                  <a:ext cx="1033560" cy="1295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Arial"/>
                      <a:ea typeface="隶书"/>
                    </a:rPr>
                    <a:t>秦嬴政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1752480" y="-380880"/>
            <a:ext cx="11353680" cy="723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1523880" y="5029200"/>
            <a:ext cx="3124440" cy="1295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97180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371600" y="0"/>
            <a:ext cx="7315200" cy="6098040"/>
            <a:chOff x="1371600" y="0"/>
            <a:chExt cx="7315200" cy="6098040"/>
          </a:xfrm>
        </p:grpSpPr>
        <p:grpSp>
          <p:nvGrpSpPr>
            <p:cNvPr id="116" name=""/>
            <p:cNvGrpSpPr/>
            <p:nvPr/>
          </p:nvGrpSpPr>
          <p:grpSpPr>
            <a:xfrm>
              <a:off x="3124080" y="0"/>
              <a:ext cx="5562720" cy="3200400"/>
              <a:chOff x="3124080" y="0"/>
              <a:chExt cx="5562720" cy="3200400"/>
            </a:xfrm>
          </p:grpSpPr>
          <p:sp>
            <p:nvSpPr>
              <p:cNvPr id="117" name=""/>
              <p:cNvSpPr/>
              <p:nvPr/>
            </p:nvSpPr>
            <p:spPr>
              <a:xfrm>
                <a:off x="3124080" y="0"/>
                <a:ext cx="5562720" cy="3200400"/>
              </a:xfrm>
              <a:prstGeom prst="cloudCallout">
                <a:avLst>
                  <a:gd name="adj1" fmla="val 58134"/>
                  <a:gd name="adj2" fmla="val -1833"/>
                </a:avLst>
              </a:prstGeom>
              <a:solidFill>
                <a:srgbClr val="ffffff"/>
              </a:solidFill>
              <a:ln w="9360">
                <a:solidFill>
                  <a:srgbClr val="f8da44"/>
                </a:solidFill>
                <a:miter/>
              </a:ln>
              <a:effectLst>
                <a:outerShdw dist="107932" dir="2700000" blurRad="0" rotWithShape="0">
                  <a:srgbClr val="66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Times New Roman"/>
                  </a:rPr>
                  <a:t>  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505320" y="380880"/>
                <a:ext cx="4952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00"/>
                    </a:solidFill>
                    <a:latin typeface="Times New Roman"/>
                  </a:rPr>
                  <a:t>        </a:t>
                </a:r>
                <a:r>
                  <a:rPr b="1" lang="zh-CN" sz="2400" spc="-1" strike="noStrike">
                    <a:solidFill>
                      <a:srgbClr val="000066"/>
                    </a:solidFill>
                    <a:latin typeface="Times New Roman"/>
                  </a:rPr>
                  <a:t>秦王谓唐雎曰：“寡人以五百里之地易安陵，安陵君不听寡人，何也？且秦灭韩亡魏，而君以五十里之地存者，以君为长者，故不错意也。今吾以十倍之地，请广于君，而君逆寡人者，轻寡人与？”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371600" y="4724280"/>
              <a:ext cx="396252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8da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Arial"/>
                </a:rPr>
                <a:t>唐雎对曰：“否，非若是也。安陵君受地于先王而守之，虽千里不敢易也，岂直五百里哉？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152280" y="76320"/>
            <a:ext cx="6629400" cy="3047760"/>
            <a:chOff x="152280" y="76320"/>
            <a:chExt cx="6629400" cy="3047760"/>
          </a:xfrm>
        </p:grpSpPr>
        <p:sp>
          <p:nvSpPr>
            <p:cNvPr id="122" name=""/>
            <p:cNvSpPr/>
            <p:nvPr/>
          </p:nvSpPr>
          <p:spPr>
            <a:xfrm>
              <a:off x="152280" y="76320"/>
              <a:ext cx="6629400" cy="2057400"/>
            </a:xfrm>
            <a:prstGeom prst="cloudCallout">
              <a:avLst>
                <a:gd name="adj1" fmla="val 32925"/>
                <a:gd name="adj2" fmla="val 137810"/>
              </a:avLst>
            </a:prstGeom>
            <a:solidFill>
              <a:srgbClr val="ffffff"/>
            </a:solidFill>
            <a:ln w="9360">
              <a:solidFill>
                <a:srgbClr val="f8da44"/>
              </a:solidFill>
              <a:miter/>
            </a:ln>
            <a:effectLst>
              <a:outerShdw dist="107932" dir="2700000" blurRad="0" rotWithShape="0">
                <a:srgbClr val="66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120" y="212760"/>
              <a:ext cx="5410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0000"/>
                  </a:solidFill>
                  <a:latin typeface="Times New Roman"/>
                </a:rPr>
                <a:t>        </a:t>
              </a:r>
              <a:r>
                <a:rPr b="1" lang="zh-CN" sz="2000" spc="-1" strike="noStrike">
                  <a:solidFill>
                    <a:srgbClr val="000066"/>
                  </a:solidFill>
                  <a:latin typeface="Times New Roman"/>
                </a:rPr>
                <a:t>秦王怫然怒，谓唐雎曰：“公亦尝闻天子之怒乎？”</a:t>
              </a:r>
              <a:r>
                <a:rPr b="1" lang="zh-CN" sz="2000" spc="-1" strike="noStrike">
                  <a:solidFill>
                    <a:srgbClr val="cc0000"/>
                  </a:solidFill>
                  <a:latin typeface="Times New Roman"/>
                </a:rPr>
                <a:t>唐雎对曰：“臣未尝闻也。”</a:t>
              </a:r>
              <a:r>
                <a:rPr b="1" lang="zh-CN" sz="2000" spc="-1" strike="noStrike">
                  <a:solidFill>
                    <a:srgbClr val="000066"/>
                  </a:solidFill>
                  <a:latin typeface="Times New Roman"/>
                </a:rPr>
                <a:t>秦王曰：“天子之怒，伏尸百万，流血千里。”</a:t>
              </a:r>
              <a:r>
                <a:rPr b="1" lang="zh-CN" sz="2000" spc="-1" strike="noStrike">
                  <a:solidFill>
                    <a:srgbClr val="cc0000"/>
                  </a:solidFill>
                  <a:latin typeface="Times New Roman"/>
                </a:rPr>
                <a:t>唐雎曰：“大王尝闻布衣之怒乎？”秦王曰：“布衣之怒，亦免冠徒跣，以头抢地尔。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43400" y="2743200"/>
              <a:ext cx="91440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8da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07:46:56Z</dcterms:created>
  <dc:creator>jianfeix007</dc:creator>
  <dc:description/>
  <dc:language>en-US</dc:language>
  <cp:lastModifiedBy>微软用户</cp:lastModifiedBy>
  <dcterms:modified xsi:type="dcterms:W3CDTF">2014-09-10T02:41:43Z</dcterms:modified>
  <cp:revision>84</cp:revision>
  <dc:subject/>
  <dc:title>幻灯片 1</dc:title>
</cp:coreProperties>
</file>