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FAFA-BD87-41F9-8D54-EC10763C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582-1C43-4CF8-86F2-F8AC4C74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100E-9097-497B-99CF-86741FA9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673F-EBA4-45D1-B7C1-BECD8D52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2DEC-CB37-47A1-A9CC-4E66EF5B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D2BC-4157-48B5-B60F-5DC4F420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4123-5052-4547-A791-96CEE36C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E5A6-750C-4B86-8954-23F8731E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9D1D-E405-4BF0-BDB7-EEC11657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350B-F862-4CEC-8B79-F25E018A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74B9-036E-4572-BC31-D2F5991D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1A8-AD7D-41CB-A4D0-545CF0EF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BF4F-29B5-4A4C-93DA-103573F9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8684-A369-41C0-8A4F-9EAD3860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AC70-52C2-428A-A380-56C9D7EB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4368-24AF-427C-A5E0-48D6E519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C6C4-6FDE-4CEA-9458-D4F9959F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DED-50D8-494C-8B6B-9858267F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32B-CFA8-4EC5-9871-5CFC755C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0AAE-ED9C-430B-A43C-FE00283E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5237-0C10-4F05-8AC3-E05886B1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639-D9CC-4E77-BAEE-93DD3C36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07F-A42D-412B-916E-9170572F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ED1B-2FCC-4EF3-B630-E3762788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FA79-430A-4961-94A0-619175317AB0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ACD9-48FF-4F42-BB78-F109CB140AB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角三角形 3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39d">
                  <a:alpha val="1176"/>
                </a:srgbClr>
              </a:gs>
              <a:gs pos="100000">
                <a:srgbClr val="fff39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直接连接符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2DA0-E774-4949-9896-E9E4F346FC5C}" type="datetime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500D-E94F-4127-AF72-04BECBCD68D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灯片编号占位符 3"/>
          <p:cNvSpPr/>
          <p:nvPr/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18C4-6715-480C-ACBC-59EE662D1AE8}" type="slidenum">
              <a:rPr b="0" lang="zh-CN" sz="1300" spc="-1" strike="noStrike">
                <a:solidFill>
                  <a:srgbClr val="ffffff"/>
                </a:solidFill>
                <a:latin typeface="Century Gothic"/>
                <a:ea typeface="幼圆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矩形 8" descr=""/>
          <p:cNvPicPr/>
          <p:nvPr/>
        </p:nvPicPr>
        <p:blipFill>
          <a:blip r:embed="rId1"/>
          <a:stretch/>
        </p:blipFill>
        <p:spPr>
          <a:xfrm>
            <a:off x="-835200" y="-60480"/>
            <a:ext cx="7967880" cy="37116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5" descr="8721569_231645210110_2.png"/>
          <p:cNvPicPr/>
          <p:nvPr/>
        </p:nvPicPr>
        <p:blipFill>
          <a:blip r:embed="rId2"/>
          <a:stretch/>
        </p:blipFill>
        <p:spPr>
          <a:xfrm>
            <a:off x="5867280" y="874800"/>
            <a:ext cx="3384720" cy="47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Users\user\AppData\Roaming\Tencent\Users\513739081\QQ\WinTemp\RichOle\8Z{E}S587850OG`6J0)}ZYD.jpg"/>
          <p:cNvPicPr/>
          <p:nvPr/>
        </p:nvPicPr>
        <p:blipFill>
          <a:blip r:embed="rId1"/>
          <a:stretch/>
        </p:blipFill>
        <p:spPr>
          <a:xfrm>
            <a:off x="0" y="0"/>
            <a:ext cx="6286680" cy="3435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" descr="C:\Users\user\AppData\Roaming\Tencent\Users\513739081\QQ\WinTemp\RichOle\6WLBG%%`[_`OW7{Q44P9SGG.jpg"/>
          <p:cNvPicPr/>
          <p:nvPr/>
        </p:nvPicPr>
        <p:blipFill>
          <a:blip r:embed="rId2"/>
          <a:stretch/>
        </p:blipFill>
        <p:spPr>
          <a:xfrm>
            <a:off x="0" y="3497400"/>
            <a:ext cx="5786280" cy="33606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7"/>
          <p:cNvSpPr/>
          <p:nvPr/>
        </p:nvSpPr>
        <p:spPr>
          <a:xfrm>
            <a:off x="6357960" y="928800"/>
            <a:ext cx="2571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ing growth in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arch volume in Google as well as in the repor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6012000" y="5942160"/>
            <a:ext cx="27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http://www.google.com/trends/?q=taoba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Rectangle 4" descr=""/>
          <p:cNvPicPr/>
          <p:nvPr/>
        </p:nvPicPr>
        <p:blipFill>
          <a:blip r:embed="rId3"/>
          <a:stretch/>
        </p:blipFill>
        <p:spPr>
          <a:xfrm>
            <a:off x="5956200" y="4091040"/>
            <a:ext cx="31021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  <a:ea typeface="幼圆"/>
              </a:rPr>
              <a:t>Information density</a:t>
            </a: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pic>
        <p:nvPicPr>
          <p:cNvPr id="132" name="Picture 1" descr="C:\Users\user\AppData\Roaming\Tencent\Users\513739081\QQ\WinTemp\RichOle\37EVTUD5LZ33%@L2XOW5AC9.jpg"/>
          <p:cNvPicPr/>
          <p:nvPr/>
        </p:nvPicPr>
        <p:blipFill>
          <a:blip r:embed="rId1"/>
          <a:stretch/>
        </p:blipFill>
        <p:spPr>
          <a:xfrm>
            <a:off x="4214880" y="2071800"/>
            <a:ext cx="4676760" cy="13572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14200" y="1857240"/>
            <a:ext cx="4143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Vast increase in information densit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mou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a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ushroom Str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m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2" descr="C:\Users\user\AppData\Roaming\Tencent\Users\513739081\QQ\WinTemp\RichOle\XNN[IB{6XVQ[A}D0OY%4G]C.jpg"/>
          <p:cNvPicPr/>
          <p:nvPr/>
        </p:nvPicPr>
        <p:blipFill>
          <a:blip r:embed="rId2"/>
          <a:stretch/>
        </p:blipFill>
        <p:spPr>
          <a:xfrm>
            <a:off x="4143240" y="4429080"/>
            <a:ext cx="4783320" cy="1214640"/>
          </a:xfrm>
          <a:prstGeom prst="rect">
            <a:avLst/>
          </a:prstGeom>
          <a:ln w="0">
            <a:noFill/>
          </a:ln>
        </p:spPr>
      </p:pic>
      <p:pic>
        <p:nvPicPr>
          <p:cNvPr id="135" name="内容占位符 4" descr="未命名.jpg"/>
          <p:cNvPicPr/>
          <p:nvPr/>
        </p:nvPicPr>
        <p:blipFill>
          <a:blip r:embed="rId3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  <a:ea typeface="幼圆"/>
              </a:rPr>
              <a:t>Advantages – information density</a:t>
            </a: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Customers can get a lot of information in Taoba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Can  quickly determine if a product is good or defect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Increase the quality and selling amount of produ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内容占位符 4" descr="未命名.jpg"/>
          <p:cNvPicPr/>
          <p:nvPr/>
        </p:nvPicPr>
        <p:blipFill>
          <a:blip r:embed="rId1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79640" y="1886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  <a:ea typeface="幼圆"/>
              </a:rPr>
              <a:t>Benefits – information density</a:t>
            </a: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pic>
        <p:nvPicPr>
          <p:cNvPr id="140" name="Content Placeholder 5" descr="5A27D173-FDB7-4CC5-9001-B879A935F4A2.jpg"/>
          <p:cNvPicPr/>
          <p:nvPr/>
        </p:nvPicPr>
        <p:blipFill>
          <a:blip r:embed="rId1"/>
          <a:srcRect l="0" t="8072" r="0" b="8072"/>
          <a:stretch/>
        </p:blipFill>
        <p:spPr>
          <a:xfrm>
            <a:off x="179280" y="1916280"/>
            <a:ext cx="4114800" cy="25495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333360" y="6093000"/>
            <a:ext cx="672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http://www.techweb.com.cn/news/2009-01-20/385096.s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4427640" y="1773360"/>
            <a:ext cx="41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wn a large share of mar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big amount of tr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er efficiency of d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内容占位符 4" descr="未命名.jpg"/>
          <p:cNvPicPr/>
          <p:nvPr/>
        </p:nvPicPr>
        <p:blipFill>
          <a:blip r:embed="rId2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  <a:ea typeface="幼圆"/>
              </a:rPr>
              <a:t>Universal Standard</a:t>
            </a: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Modules for setting up online marketplaces is the same for all sellers – easy for new sellers to enter and lower entrance co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Design cost is also lower because of the build-in model of Taobao and can be easy modified to meet customer’s nee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More seller will choose Taobao as the platform of doing busines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内容占位符 4" descr="未命名.jpg"/>
          <p:cNvPicPr/>
          <p:nvPr/>
        </p:nvPicPr>
        <p:blipFill>
          <a:blip r:embed="rId1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  <a:ea typeface="幼圆"/>
              </a:rPr>
              <a:t>Universal Standard</a:t>
            </a: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Modules for searching, scanning and purchasing the goods is the same for all shops opened in Taoba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Easier to find desired goods and more convenient to buy thing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More Internet Users will use Taobao to purchase things onl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内容占位符 4" descr="未命名.jpg"/>
          <p:cNvPicPr/>
          <p:nvPr/>
        </p:nvPicPr>
        <p:blipFill>
          <a:blip r:embed="rId1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  <a:ea typeface="幼圆"/>
              </a:rPr>
              <a:t>Universal Standard</a:t>
            </a: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Innovate its products with core business unchang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Introduction of new features “group purchase” and T-m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In conclus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Larger customer ba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Increase in prof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内容占位符 4" descr="未命名.jpg"/>
          <p:cNvPicPr/>
          <p:nvPr/>
        </p:nvPicPr>
        <p:blipFill>
          <a:blip r:embed="rId1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  <a:ea typeface="幼圆"/>
              </a:rPr>
              <a:t>Interactivity</a:t>
            </a: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Interaction between seller and custom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Customization of goods enab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Interaction between customers helps customers to better identify the quality of the produ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Frequent information exchange with limited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内容占位符 4" descr="未命名.jpg"/>
          <p:cNvPicPr/>
          <p:nvPr/>
        </p:nvPicPr>
        <p:blipFill>
          <a:blip r:embed="rId1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内容占位符 3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46612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  <a:ea typeface="幼圆"/>
              </a:rPr>
              <a:t>Interactivity</a:t>
            </a: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ALIWANGWANG” for general users and sell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The instant messenger provided by Taoba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Built-in with the whole system of Taoba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Enable detail and informal communi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Long-term seller-customer relationsh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内容占位符 4" descr="未命名.jpg"/>
          <p:cNvPicPr/>
          <p:nvPr/>
        </p:nvPicPr>
        <p:blipFill>
          <a:blip r:embed="rId1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标题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89" name="灯片编号占位符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3C1F-116B-4109-A87F-05B7173022B9}" type="slidenum">
              <a:rPr b="0" lang="zh-CN" sz="1200" spc="-1" strike="noStrike">
                <a:solidFill>
                  <a:srgbClr val="ffffff"/>
                </a:solidFill>
                <a:latin typeface="Century Gothic"/>
                <a:ea typeface="幼圆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611280" y="1700280"/>
            <a:ext cx="727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560" y="1628640"/>
            <a:ext cx="11233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Founded by Alibaba Group in 200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Chinese website for online shopp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Undisputed market leader in Chi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Giant of retail platform in As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Facilitates B2C and C2C reta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Consumers from Mainland China, HK, Macau, Taiw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In June 2011, Alibaba CEO Ma Yun revealed tha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Taobao would be split into 3 different companie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eTao (shopping searches), Tmall (a B2C platform)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and Taobao Marketplace(a C2C platform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内容占位符 4" descr="未命名.jpg"/>
          <p:cNvPicPr/>
          <p:nvPr/>
        </p:nvPicPr>
        <p:blipFill>
          <a:blip r:embed="rId2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  <a:ea typeface="幼圆"/>
              </a:rPr>
              <a:t>Interactivity</a:t>
            </a: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Low communication cost with high efficiency in customization and information scree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More Customer Welf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Larger Customer Ba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Higher Prof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内容占位符 4" descr="未命名.jpg"/>
          <p:cNvPicPr/>
          <p:nvPr/>
        </p:nvPicPr>
        <p:blipFill>
          <a:blip r:embed="rId1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  <a:ea typeface="幼圆"/>
              </a:rPr>
              <a:t>The problems Taobao faces</a:t>
            </a: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1. logistic issue (common for B2C &amp; C2C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Logistics is the fundamental guarantee to realize e-commer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Although e-commerce rises up in China, logistics could not respond relatively at the same spe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Source: http://ieeexplore.ieee.org/stamp/stamp.jsp?tp=&amp;arnumber=553212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内容占位符 4" descr="未命名.jpg"/>
          <p:cNvPicPr/>
          <p:nvPr/>
        </p:nvPicPr>
        <p:blipFill>
          <a:blip r:embed="rId1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  <a:ea typeface="幼圆"/>
              </a:rPr>
              <a:t>The problems Taobao faces</a:t>
            </a: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1. logistics issue (cont.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nadequate logistics infrastructure in Chi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e.g. may take longer time to get access to small cities– may limit market reac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nefficient and unprofessional delive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e.g.  Goods broken during delivery– consumers’ complain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        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Serious block during prime period (golden week, 11.11) – consumers dissatisfaction!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431640" y="6078600"/>
            <a:ext cx="87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http://www.chinadaily.com.cn/china/201203/16/content_14845509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QQ截图未命名"/>
          <p:cNvPicPr/>
          <p:nvPr/>
        </p:nvPicPr>
        <p:blipFill>
          <a:blip r:embed="rId1"/>
          <a:stretch/>
        </p:blipFill>
        <p:spPr>
          <a:xfrm>
            <a:off x="5148360" y="1197000"/>
            <a:ext cx="3995640" cy="2631960"/>
          </a:xfrm>
          <a:prstGeom prst="rect">
            <a:avLst/>
          </a:prstGeom>
          <a:ln w="0">
            <a:noFill/>
          </a:ln>
        </p:spPr>
      </p:pic>
      <p:pic>
        <p:nvPicPr>
          <p:cNvPr id="170" name="内容占位符 4" descr="未命名.jpg"/>
          <p:cNvPicPr/>
          <p:nvPr/>
        </p:nvPicPr>
        <p:blipFill>
          <a:blip r:embed="rId2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  <a:ea typeface="幼圆"/>
              </a:rPr>
              <a:t>The problems Taobao faces</a:t>
            </a: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1. logistics issue (cont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Since Taobao does not have its own distribution chann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Bargaining power from logistics companies– may push up the price of goods sold on Taoba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Lose control of servic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内容占位符 4" descr="未命名.jpg"/>
          <p:cNvPicPr/>
          <p:nvPr/>
        </p:nvPicPr>
        <p:blipFill>
          <a:blip r:embed="rId1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  <a:ea typeface="幼圆"/>
              </a:rPr>
              <a:t>The problems Taobao faces</a:t>
            </a: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47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2. Credibility of online vendors (especially for C2C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e.g. Rating and so-called discounts may be misleading; large amount of goods disappointing consum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\"/>
          <p:cNvPicPr/>
          <p:nvPr/>
        </p:nvPicPr>
        <p:blipFill>
          <a:blip r:embed="rId1"/>
          <a:stretch/>
        </p:blipFill>
        <p:spPr>
          <a:xfrm>
            <a:off x="5003640" y="1052640"/>
            <a:ext cx="4356360" cy="424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539640" y="5877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http://news.itxinwen.com/internet/inland/2012/0315/399872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7740720" y="2060640"/>
            <a:ext cx="71892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内容占位符 4" descr="未命名.jpg"/>
          <p:cNvPicPr/>
          <p:nvPr/>
        </p:nvPicPr>
        <p:blipFill>
          <a:blip r:embed="rId2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  <a:ea typeface="幼圆"/>
              </a:rPr>
              <a:t>The problems Taobao faces</a:t>
            </a: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2. Credibility of online vendors _especially for C2C  (cont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Possible reasons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The nature of E-commerce: lack of touch and feel; higher risk in customers’ percep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Large amount of online shops– hard to ensure a high level of cred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内容占位符 4" descr="未命名.jpg"/>
          <p:cNvPicPr/>
          <p:nvPr/>
        </p:nvPicPr>
        <p:blipFill>
          <a:blip r:embed="rId1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53_950_08f8922596bfb01"/>
          <p:cNvPicPr/>
          <p:nvPr/>
        </p:nvPicPr>
        <p:blipFill>
          <a:blip r:embed="rId1"/>
          <a:stretch/>
        </p:blipFill>
        <p:spPr>
          <a:xfrm>
            <a:off x="0" y="3284640"/>
            <a:ext cx="5238720" cy="31352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  <a:ea typeface="幼圆"/>
              </a:rPr>
              <a:t>The problems Taobao faces</a:t>
            </a: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3. Conflict between online shops and Taobao_ especially for B2C in Taobao m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e.g. “Anti-Taobao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39640" y="649116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http://www.chinanews.com/it/2011/10-15/3391242.s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1318843248"/>
          <p:cNvPicPr/>
          <p:nvPr/>
        </p:nvPicPr>
        <p:blipFill>
          <a:blip r:embed="rId2"/>
          <a:stretch/>
        </p:blipFill>
        <p:spPr>
          <a:xfrm>
            <a:off x="5580000" y="2781360"/>
            <a:ext cx="2857680" cy="1895400"/>
          </a:xfrm>
          <a:prstGeom prst="rect">
            <a:avLst/>
          </a:prstGeom>
          <a:ln w="0">
            <a:noFill/>
          </a:ln>
        </p:spPr>
      </p:pic>
      <p:sp>
        <p:nvSpPr>
          <p:cNvPr id="188" name="Oval 7"/>
          <p:cNvSpPr/>
          <p:nvPr/>
        </p:nvSpPr>
        <p:spPr>
          <a:xfrm>
            <a:off x="250920" y="3213000"/>
            <a:ext cx="338436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3780000" y="3357720"/>
            <a:ext cx="2663640" cy="50472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内容占位符 4" descr="未命名.jpg"/>
          <p:cNvPicPr/>
          <p:nvPr/>
        </p:nvPicPr>
        <p:blipFill>
          <a:blip r:embed="rId3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  <a:ea typeface="幼圆"/>
              </a:rPr>
              <a:t>The problems Taobao faces</a:t>
            </a: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3. Conflict between online shops and Taobao_ especially for B2C in Taobao m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Possible reas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Improve service quality and credibility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-- How to deal with those middle and small sized shop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内容占位符 4" descr="未命名.jpg"/>
          <p:cNvPicPr/>
          <p:nvPr/>
        </p:nvPicPr>
        <p:blipFill>
          <a:blip r:embed="rId1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標題 1" descr=""/>
          <p:cNvPicPr/>
          <p:nvPr/>
        </p:nvPicPr>
        <p:blipFill>
          <a:blip r:embed="rId1"/>
          <a:stretch/>
        </p:blipFill>
        <p:spPr>
          <a:xfrm>
            <a:off x="90792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395280" y="141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e863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Logistic Iss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A.  Set up a logistic credit rating system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* base on the consumers’ satisfacti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fe8637"/>
              </a:buClr>
              <a:buSzPct val="8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Monitor the performances of the logistic compan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投影片編號版面配置區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C9F9-2C9B-4A02-9759-1B2EEF9DF7F4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内容占位符 4" descr="未命名.jpg"/>
          <p:cNvPicPr/>
          <p:nvPr/>
        </p:nvPicPr>
        <p:blipFill>
          <a:blip r:embed="rId2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  <p:sp>
        <p:nvSpPr>
          <p:cNvPr id="198" name="矩形 5"/>
          <p:cNvSpPr/>
          <p:nvPr/>
        </p:nvSpPr>
        <p:spPr>
          <a:xfrm>
            <a:off x="324000" y="580536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http://en.wikipedia.org/wiki/Credit_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標題 1" descr=""/>
          <p:cNvPicPr/>
          <p:nvPr/>
        </p:nvPicPr>
        <p:blipFill>
          <a:blip r:embed="rId1"/>
          <a:stretch/>
        </p:blipFill>
        <p:spPr>
          <a:xfrm>
            <a:off x="90792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395280" y="141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1. Logistic Iss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3160" indent="-378720">
              <a:spcBef>
                <a:spcPts val="75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B. Integrate the logistic syst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* Centre management and control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Taobao can collect all the goods to a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large store and transport them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3160" indent="-3787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Reduce the sellers’ operation co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3160" indent="-37872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投影片編號版面配置區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7B21-792A-4943-BCE1-956DD3D8BE1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内容占位符 4" descr="未命名.jpg"/>
          <p:cNvPicPr/>
          <p:nvPr/>
        </p:nvPicPr>
        <p:blipFill>
          <a:blip r:embed="rId2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  <p:sp>
        <p:nvSpPr>
          <p:cNvPr id="203" name="矩形 5"/>
          <p:cNvSpPr/>
          <p:nvPr/>
        </p:nvSpPr>
        <p:spPr>
          <a:xfrm>
            <a:off x="324000" y="616572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http://wenku.baidu.com/view/d8c7c95077232f60ddcca1b5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标题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40760" cy="1407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IT Infrastruc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Database Management Syst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Customer Commun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Security Syst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…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1500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  <a:ea typeface="幼圆"/>
              </a:rPr>
              <a:t>E-Commer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EF2D-F1A9-41B0-8DA7-E737C8CC07A8}" type="slidenum">
              <a:rPr b="0" lang="zh-CN" sz="1200" spc="-1" strike="noStrike">
                <a:solidFill>
                  <a:srgbClr val="ffffff"/>
                </a:solidFill>
                <a:latin typeface="Century Gothic"/>
                <a:ea typeface="幼圆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内容占位符 4" descr="未命名.jpg"/>
          <p:cNvPicPr/>
          <p:nvPr/>
        </p:nvPicPr>
        <p:blipFill>
          <a:blip r:embed="rId2"/>
          <a:stretch/>
        </p:blipFill>
        <p:spPr>
          <a:xfrm>
            <a:off x="0" y="-2700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標題 1" descr=""/>
          <p:cNvPicPr/>
          <p:nvPr/>
        </p:nvPicPr>
        <p:blipFill>
          <a:blip r:embed="rId1"/>
          <a:stretch/>
        </p:blipFill>
        <p:spPr>
          <a:xfrm>
            <a:off x="90792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324000" y="1413000"/>
            <a:ext cx="8820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宋体"/>
              </a:rPr>
              <a:t>2. Credibility of online vendors -especially for C2C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Return the unsatisfied goods within a period of time without any extra co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Rely on the feedback mechanism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* Heavy penalty for selling faked go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投影片編號版面配置區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6164-33BA-4B0F-9C55-D2E3D85CE09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内容占位符 4" descr="未命名.jpg"/>
          <p:cNvPicPr/>
          <p:nvPr/>
        </p:nvPicPr>
        <p:blipFill>
          <a:blip r:embed="rId2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標題 1" descr=""/>
          <p:cNvPicPr/>
          <p:nvPr/>
        </p:nvPicPr>
        <p:blipFill>
          <a:blip r:embed="rId1"/>
          <a:stretch/>
        </p:blipFill>
        <p:spPr>
          <a:xfrm>
            <a:off x="90792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42560" y="1341360"/>
            <a:ext cx="9001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宋体"/>
              </a:rPr>
              <a:t>. Conflict between online shops and Taobao-especially for B2C in Taobao mal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38840" indent="-374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8840" indent="-374760">
              <a:spcBef>
                <a:spcPts val="75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The third party should involve (e.g. SAIC)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8840" indent="-3747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*negotiate to both partie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8840" indent="-3747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*enact or modify the related rules and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8840" indent="-3747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regulations on E-commerce in Chi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8840" indent="-3747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38840" indent="-37476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投影片編號版面配置區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E1A5-7AC0-43CB-AC64-90F328B01F8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内容占位符 4" descr="未命名.jpg"/>
          <p:cNvPicPr/>
          <p:nvPr/>
        </p:nvPicPr>
        <p:blipFill>
          <a:blip r:embed="rId2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  <p:sp>
        <p:nvSpPr>
          <p:cNvPr id="212" name="矩形 5"/>
          <p:cNvSpPr/>
          <p:nvPr/>
        </p:nvSpPr>
        <p:spPr>
          <a:xfrm>
            <a:off x="324000" y="580536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http://www.wlyxjd.com/tao/newinfo.asp?classid=33&amp;id=38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標題 1" descr=""/>
          <p:cNvPicPr/>
          <p:nvPr/>
        </p:nvPicPr>
        <p:blipFill>
          <a:blip r:embed="rId1"/>
          <a:stretch/>
        </p:blipFill>
        <p:spPr>
          <a:xfrm>
            <a:off x="90792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179280" y="1413000"/>
            <a:ext cx="8964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.Conflict between online shops and Taobao-especially for B2C in Taobao m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ather than raising the operation cost for th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eller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* Increase credibility and qualit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+improve credit rating syst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+encouragement - refund part of the annu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fee for the technic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投影片編號版面配置區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90E7-6E20-4DD8-8F6D-084A406F33E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内容占位符 4" descr="未命名.jpg"/>
          <p:cNvPicPr/>
          <p:nvPr/>
        </p:nvPicPr>
        <p:blipFill>
          <a:blip r:embed="rId2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  <p:sp>
        <p:nvSpPr>
          <p:cNvPr id="217" name="矩形 5"/>
          <p:cNvSpPr/>
          <p:nvPr/>
        </p:nvSpPr>
        <p:spPr>
          <a:xfrm>
            <a:off x="324000" y="595008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http://it.people.com.cn/BIG5/15857669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標題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468360" y="1700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0200" indent="-29052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Introduction- Market leader in Chi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0200" indent="-29052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Features of E-Commerce in Taoba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0200" indent="-290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*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Ubiquity *Information Densit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0200" indent="-290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* Universal Standard *Interactivity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 Bring many advanta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0200" indent="-29052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The problems Taobao fa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0200" indent="-29052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The suggested solutions related to thos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0200" indent="-290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problem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0200" indent="-2905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0200" indent="-290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0200" indent="-290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新細明體"/>
              </a:rPr>
              <a:t>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投影片編號版面配置區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3A41-106E-4071-909C-12165F1EEAB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内容占位符 4" descr="未命名.jpg"/>
          <p:cNvPicPr/>
          <p:nvPr/>
        </p:nvPicPr>
        <p:blipFill>
          <a:blip r:embed="rId2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ff965c"/>
              </a:solidFill>
              <a:latin typeface="Century Gothic"/>
              <a:ea typeface="幼圆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686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Referenc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Jin, Z.  (2010). </a:t>
            </a:r>
            <a:r>
              <a:rPr b="0" i="1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Online group buying to be regulated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. Retrieved March 25, 2012 from: http://www.chinadaily.com.cn/china/2012-03/16/content_14845509.ht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新細明體"/>
              </a:rPr>
              <a:t>Kenneth C. Laudon,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宋体"/>
              </a:rPr>
              <a:t>&amp;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新細明體"/>
              </a:rPr>
              <a:t>Jane P. Laudon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宋体"/>
              </a:rPr>
              <a:t>,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新細明體"/>
              </a:rPr>
              <a:t> (2011), 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  <a:ea typeface="新細明體"/>
              </a:rPr>
              <a:t>Management Information System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Sino  (2011). </a:t>
            </a:r>
            <a:r>
              <a:rPr b="0" i="1" lang="zh-CN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商务部就淘宝商城事件表态：矛盾化解待转机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. Retrieved March 25, 2012 from http://finance.sina.com.cn/g/20111016/163710629703.shtm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Wikipedia(2012)Taobao,Retrived March 27,from http://en.wikipedia.org/wiki/Taoba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Xu, Y. &amp; Yue, P. X. (2010). </a:t>
            </a:r>
            <a:r>
              <a:rPr b="0" i="1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Online consumer-to-consumer market in China - A study of Taobao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. Retrieved March 27, 2012 from http://ieeexplore.ieee.org/stamp/stamp.jsp?tp=&amp;arnumber=553212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Yang, X. L. (2010). </a:t>
            </a:r>
            <a:r>
              <a:rPr b="0" i="1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Research on the Problems and Countermeasures of C2C Credit Evaluation System - A Case of Taobao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. Retrieved March 27, 2012 from http://wenku.baidu.com/view/0bb985170b4e767f5acfcef3.htm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Zhong Tian (2011). </a:t>
            </a:r>
            <a:r>
              <a:rPr b="0" lang="zh-CN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淘宝商城线下广告营销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. Retrieved March 29, 2012 from http://www.asiaoutdoor.net/pub/show_detail.jsp?id=804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Zhang, W. (2011). </a:t>
            </a:r>
            <a:r>
              <a:rPr b="0" lang="zh-CN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淘宝网物流配送问题研究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. In </a:t>
            </a:r>
            <a:r>
              <a:rPr b="0" i="1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Work &amp; Study Abroad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. Retrieved March 29, 2012 from http://www.doc88.com/p-951290546059.htm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易观国际：淘宝网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2008</a:t>
            </a:r>
            <a:r>
              <a:rPr b="0" lang="zh-CN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年市场份额达到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86% (2009). Retrieved March 29, 2012 from http://www.techweb.com.cn/news/2009-01-20/385096.s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中国电子商务研究中心 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(2012). </a:t>
            </a:r>
            <a:r>
              <a:rPr b="0" i="1" lang="zh-CN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诚信缺失是网购投诉根源 淘宝和京东投诉最多 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. Retrieved March 26, 2012 from http://news.itxinwen.com/internet/inland/2012/0315/399872.htm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中国新闻网 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(2011). </a:t>
            </a:r>
            <a:r>
              <a:rPr b="0" i="1" lang="zh-CN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淘宝商城称围攻事件可能是多方利益集团纠结所致 </a:t>
            </a: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幼圆"/>
              </a:rPr>
              <a:t>. Retrieved March 26, 2012 from http://www.chinanews.com/it/2011/10-15/3391242.shtm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标题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Taobao Marketpla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Tm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eTa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Alip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AliWangWa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Happy Taoba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Oth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灯片编号占位符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79A3-A115-479B-A047-DF81D42D102E}" type="slidenum">
              <a:rPr b="0" lang="zh-CN" sz="1200" spc="-1" strike="noStrike">
                <a:solidFill>
                  <a:srgbClr val="ffffff"/>
                </a:solidFill>
                <a:latin typeface="Century Gothic"/>
                <a:ea typeface="幼圆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内容占位符 4" descr="未命名.jpg"/>
          <p:cNvPicPr/>
          <p:nvPr/>
        </p:nvPicPr>
        <p:blipFill>
          <a:blip r:embed="rId2"/>
          <a:stretch/>
        </p:blipFill>
        <p:spPr>
          <a:xfrm>
            <a:off x="0" y="-27000"/>
            <a:ext cx="1763640" cy="13064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8" descr="2749_b.jpg"/>
          <p:cNvPicPr/>
          <p:nvPr/>
        </p:nvPicPr>
        <p:blipFill>
          <a:blip r:embed="rId3"/>
          <a:stretch/>
        </p:blipFill>
        <p:spPr>
          <a:xfrm>
            <a:off x="5076720" y="1484280"/>
            <a:ext cx="1855800" cy="18572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0" descr="kh0n_zfb.jpg"/>
          <p:cNvPicPr/>
          <p:nvPr/>
        </p:nvPicPr>
        <p:blipFill>
          <a:blip r:embed="rId4"/>
          <a:stretch/>
        </p:blipFill>
        <p:spPr>
          <a:xfrm>
            <a:off x="6638760" y="4941720"/>
            <a:ext cx="2325960" cy="15782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1" descr="01300000167299128987984521347.jpg"/>
          <p:cNvPicPr/>
          <p:nvPr/>
        </p:nvPicPr>
        <p:blipFill>
          <a:blip r:embed="rId5"/>
          <a:stretch/>
        </p:blipFill>
        <p:spPr>
          <a:xfrm>
            <a:off x="5076720" y="3500280"/>
            <a:ext cx="1936800" cy="124776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2" descr="1004121350565292.jpg"/>
          <p:cNvPicPr/>
          <p:nvPr/>
        </p:nvPicPr>
        <p:blipFill>
          <a:blip r:embed="rId6"/>
          <a:stretch/>
        </p:blipFill>
        <p:spPr>
          <a:xfrm>
            <a:off x="3909960" y="4869000"/>
            <a:ext cx="2606760" cy="17636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4" descr="2211050.jpg"/>
          <p:cNvPicPr/>
          <p:nvPr/>
        </p:nvPicPr>
        <p:blipFill>
          <a:blip r:embed="rId7"/>
          <a:stretch/>
        </p:blipFill>
        <p:spPr>
          <a:xfrm>
            <a:off x="7236000" y="1413000"/>
            <a:ext cx="1712880" cy="34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标题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699760" cy="1407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Ubiqu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Global re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Universal standar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Richn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Interactiv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Information dens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Personalization/Customiz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Social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灯片编号占位符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709A-12FA-4148-8E2C-EB9BFE024B01}" type="slidenum">
              <a:rPr b="0" lang="zh-CN" sz="1200" spc="-1" strike="noStrike">
                <a:solidFill>
                  <a:srgbClr val="ffffff"/>
                </a:solidFill>
                <a:latin typeface="Century Gothic"/>
                <a:ea typeface="幼圆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内容占位符 4" descr="未命名.jpg"/>
          <p:cNvPicPr/>
          <p:nvPr/>
        </p:nvPicPr>
        <p:blipFill>
          <a:blip r:embed="rId2"/>
          <a:stretch/>
        </p:blipFill>
        <p:spPr>
          <a:xfrm>
            <a:off x="0" y="-2700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  <a:ea typeface="幼圆"/>
              </a:rPr>
              <a:t>   </a:t>
            </a:r>
            <a:r>
              <a:rPr b="0" lang="en-US" sz="4200" spc="-1" strike="noStrike">
                <a:solidFill>
                  <a:srgbClr val="ff965c"/>
                </a:solidFill>
                <a:latin typeface="Century Gothic"/>
                <a:ea typeface="幼圆"/>
              </a:rPr>
              <a:t>Features of e-commerce in Taobao</a:t>
            </a: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Ubiqu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nternet/Web technology available everywhere:  work, home, etc., and any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Information dens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Vast increases in information density – the total amount and quality of information available to all market participa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内容占位符 4" descr="未命名.jpg"/>
          <p:cNvPicPr/>
          <p:nvPr/>
        </p:nvPicPr>
        <p:blipFill>
          <a:blip r:embed="rId1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  <a:ea typeface="幼圆"/>
              </a:rPr>
              <a:t>Ubiquity </a:t>
            </a: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067280" y="1341360"/>
            <a:ext cx="4572000" cy="35006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214200" y="1571760"/>
            <a:ext cx="3929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romo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cro blo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nren st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b porta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DM (Email Direct Marke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" descr="C:\Users\user\AppData\Roaming\Tencent\Users\513739081\QQ\WinTemp\RichOle\M$Q3J}556`J$6VF%EUPJ_43.jpg"/>
          <p:cNvPicPr/>
          <p:nvPr/>
        </p:nvPicPr>
        <p:blipFill>
          <a:blip r:embed="rId2"/>
          <a:stretch/>
        </p:blipFill>
        <p:spPr>
          <a:xfrm>
            <a:off x="4067280" y="5013360"/>
            <a:ext cx="4572000" cy="1514520"/>
          </a:xfrm>
          <a:prstGeom prst="rect">
            <a:avLst/>
          </a:prstGeom>
          <a:ln w="0">
            <a:noFill/>
          </a:ln>
        </p:spPr>
      </p:pic>
      <p:pic>
        <p:nvPicPr>
          <p:cNvPr id="117" name="内容占位符 4" descr="未命名.jpg"/>
          <p:cNvPicPr/>
          <p:nvPr/>
        </p:nvPicPr>
        <p:blipFill>
          <a:blip r:embed="rId3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  <a:ea typeface="幼圆"/>
              </a:rPr>
              <a:t>Ubiquity</a:t>
            </a: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pic>
        <p:nvPicPr>
          <p:cNvPr id="119" name="Picture 1" descr="C:\Users\user\AppData\Roaming\Tencent\Users\513739081\QQ\WinTemp\RichOle\4M35PYJR4A5~2J39YQ()TJM.jpg"/>
          <p:cNvPicPr/>
          <p:nvPr/>
        </p:nvPicPr>
        <p:blipFill>
          <a:blip r:embed="rId1"/>
          <a:stretch/>
        </p:blipFill>
        <p:spPr>
          <a:xfrm>
            <a:off x="3348000" y="2349360"/>
            <a:ext cx="5567400" cy="32101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324000" y="1413000"/>
            <a:ext cx="3643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 large number of advertisement outside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Undergrou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Vid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us shel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1051920" y="6237360"/>
            <a:ext cx="64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http://www.asiaoutdoor.net/pub/show_detail.jsp?id=80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内容占位符 4" descr="未命名.jpg"/>
          <p:cNvPicPr/>
          <p:nvPr/>
        </p:nvPicPr>
        <p:blipFill>
          <a:blip r:embed="rId2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640" y="25992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  <a:ea typeface="幼圆"/>
              </a:rPr>
              <a:t>Advantages – Ubiquity</a:t>
            </a:r>
            <a:endParaRPr b="0" lang="en-US" sz="4200" spc="-1" strike="noStrike">
              <a:solidFill>
                <a:srgbClr val="ff965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Customers and potential customers can get the up-to-date news and inform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Understand more about the products and sellers</a:t>
            </a:r>
            <a:r>
              <a:rPr b="0" lang="zh-CN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as well as suppli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To be known by more and more peo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Use different kinds of promotion like ED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内容占位符 4" descr="未命名.jpg"/>
          <p:cNvPicPr/>
          <p:nvPr/>
        </p:nvPicPr>
        <p:blipFill>
          <a:blip r:embed="rId1"/>
          <a:stretch/>
        </p:blipFill>
        <p:spPr>
          <a:xfrm>
            <a:off x="0" y="0"/>
            <a:ext cx="176364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6:57:43Z</dcterms:created>
  <dc:creator>hp</dc:creator>
  <dc:description/>
  <dc:language>en-US</dc:language>
  <cp:lastModifiedBy>User</cp:lastModifiedBy>
  <dcterms:modified xsi:type="dcterms:W3CDTF">2012-11-14T01:51:36Z</dcterms:modified>
  <cp:revision>222</cp:revision>
  <dc:subject/>
  <dc:title>幻灯片 1</dc:title>
</cp:coreProperties>
</file>