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LASER.WAV" ContentType="audio/x-wav"/>
  <Override PartName="/ppt/media/image11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16.jpeg" ContentType="image/jpeg"/>
  <Override PartName="/ppt/media/image21.jpeg" ContentType="image/jpeg"/>
  <Override PartName="/ppt/media/camera.wav" ContentType="audio/x-wav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308-EDEF-4D53-B129-192CFA0E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024-360C-4856-9FF9-D4BA2CFF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D82-195A-4BF3-8401-817BCDE0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A3C-6F3E-42A5-AAC3-C654A70B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06B-A42D-4C35-A3EB-80B7016A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B01C-32A8-48E1-BE70-DBEF0696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628-933D-4699-B273-8EAEEC37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932-E9F3-4780-9015-0C27B521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8E4-CB86-453A-8328-17DC8969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2DD-0FD8-4C8F-A13A-C2EAC55F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71D-1790-44F4-9BA7-1A17101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C1F-2570-48CA-B84D-141D8EA3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A0B-88F3-49CB-9E44-AAE26AB75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.xml"/><Relationship Id="rId4" Type="http://schemas.openxmlformats.org/officeDocument/2006/relationships/image" Target="../media/image19.gif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20.xml"/><Relationship Id="rId7" Type="http://schemas.openxmlformats.org/officeDocument/2006/relationships/slide" Target="slide18.xml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" Target="slide18.xml"/><Relationship Id="rId4" Type="http://schemas.openxmlformats.org/officeDocument/2006/relationships/image" Target="../media/image19.gif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52280" y="2521080"/>
            <a:ext cx="4572000" cy="363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84520" y="6278400"/>
            <a:ext cx="15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铁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-152280"/>
            <a:ext cx="63914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第</a:t>
            </a:r>
            <a:r>
              <a:rPr b="1" lang="en-US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8</a:t>
            </a:r>
            <a:r>
              <a:rPr b="1" lang="zh-CN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课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8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80"/>
                </a:solidFill>
                <a:latin typeface="隶书"/>
              </a:rPr>
              <a:t>铁器牛耕引发的社会变革</a:t>
            </a:r>
            <a:endParaRPr b="1" lang="en-US" sz="4400" spc="1" strike="noStrike">
              <a:ln w="9360">
                <a:solidFill>
                  <a:srgbClr val="00ff00"/>
                </a:solidFill>
                <a:miter/>
              </a:ln>
              <a:solidFill>
                <a:srgbClr val="008080"/>
              </a:solidFill>
              <a:latin typeface="隶书"/>
              <a:ea typeface="隶书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2498" t="2382" r="2656" b="0"/>
          <a:stretch/>
        </p:blipFill>
        <p:spPr>
          <a:xfrm>
            <a:off x="4724280" y="24382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5880" y="6278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牛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5335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4495680"/>
            <a:ext cx="7391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铁器和牛耕的推广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高生产效率，极大促进农业生产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2362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铁农具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362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始于春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3048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牛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124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始于战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66880"/>
            <a:ext cx="8384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8380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523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木制、石制工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828800"/>
            <a:ext cx="8380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西周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3809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用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828800"/>
            <a:ext cx="8380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1523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千耦其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438280"/>
            <a:ext cx="761760" cy="1219320"/>
          </a:xfrm>
          <a:custGeom>
            <a:avLst/>
            <a:gdLst>
              <a:gd name="textAreaLeft" fmla="*/ 0 w 761760"/>
              <a:gd name="textAreaRight" fmla="*/ 275040 w 76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27432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个体农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模块一     从千耦其耘到个体农耕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原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耕种的土地，现在只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就足够了，余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我该让他们做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533520"/>
            <a:ext cx="5562720" cy="2743200"/>
            <a:chOff x="0" y="533520"/>
            <a:chExt cx="5562720" cy="2743200"/>
          </a:xfrm>
        </p:grpSpPr>
        <p:sp>
          <p:nvSpPr>
            <p:cNvPr id="108" name=""/>
            <p:cNvSpPr/>
            <p:nvPr/>
          </p:nvSpPr>
          <p:spPr>
            <a:xfrm>
              <a:off x="0" y="533520"/>
              <a:ext cx="5562720" cy="27432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640" y="685800"/>
              <a:ext cx="5181480" cy="20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一个奴隶主的烦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我是一个奴隶主，受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亩地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役使奴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， 纳贡上千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铁器牛耕初推广，正是好时候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大家帮我想一想，如何更享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5410080" y="304920"/>
            <a:ext cx="3505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隶书"/>
              </a:rPr>
              <a:t>排忧解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2819520"/>
            <a:ext cx="152388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公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76520"/>
            <a:ext cx="761760" cy="990360"/>
          </a:xfrm>
          <a:prstGeom prst="downArrow">
            <a:avLst>
              <a:gd name="adj1" fmla="val 50000"/>
              <a:gd name="adj2" fmla="val 32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3048120"/>
            <a:ext cx="12193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2133720"/>
            <a:ext cx="609840" cy="76176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09480"/>
            <a:ext cx="33526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强制性驭使奴隶集体耕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685800"/>
            <a:ext cx="35812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土地出租给农民，收取地租。自愿性的个体耕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4343400"/>
            <a:ext cx="137160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则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324480" y="3733920"/>
            <a:ext cx="457200" cy="68580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4419720"/>
            <a:ext cx="160020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则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3657600"/>
            <a:ext cx="609480" cy="762120"/>
          </a:xfrm>
          <a:prstGeom prst="line">
            <a:avLst/>
          </a:prstGeom>
          <a:ln w="139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181480"/>
            <a:ext cx="13716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奴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715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6172200"/>
            <a:ext cx="152388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农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5257800"/>
            <a:ext cx="2743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明的奴隶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5791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172200"/>
            <a:ext cx="19047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封建地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809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消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838080"/>
            <a:ext cx="459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78680" y="609480"/>
            <a:ext cx="1155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剥削方式改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200400"/>
            <a:ext cx="1904760" cy="228600"/>
          </a:xfrm>
          <a:prstGeom prst="rightArrow">
            <a:avLst>
              <a:gd name="adj1" fmla="val 50000"/>
              <a:gd name="adj2" fmla="val 20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486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54680" y="5051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租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733920" y="5638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7320" y="558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租种土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095880"/>
            <a:ext cx="2438640" cy="762120"/>
          </a:xfrm>
          <a:prstGeom prst="leftRightArrow">
            <a:avLst>
              <a:gd name="adj1" fmla="val 50000"/>
              <a:gd name="adj2" fmla="val 637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封建生产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2898720" cy="464796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3" action="ppaction://hlinksldjump"/>
          </p:cNvPr>
          <p:cNvSpPr/>
          <p:nvPr/>
        </p:nvSpPr>
        <p:spPr>
          <a:xfrm>
            <a:off x="2438280" y="4800600"/>
            <a:ext cx="1219320" cy="212760"/>
          </a:xfrm>
          <a:prstGeom prst="rightArrow">
            <a:avLst>
              <a:gd name="adj1" fmla="val 49426"/>
              <a:gd name="adj2" fmla="val 3524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228600"/>
            <a:ext cx="6705360" cy="3844440"/>
            <a:chOff x="0" y="228600"/>
            <a:chExt cx="6705360" cy="3844440"/>
          </a:xfrm>
        </p:grpSpPr>
        <p:sp>
          <p:nvSpPr>
            <p:cNvPr id="140" name=""/>
            <p:cNvSpPr/>
            <p:nvPr/>
          </p:nvSpPr>
          <p:spPr>
            <a:xfrm>
              <a:off x="0" y="228600"/>
              <a:ext cx="6705360" cy="384444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960" y="441720"/>
              <a:ext cx="6246000" cy="27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奴隶主的烦恼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是一个奴隶主，受封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亩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开垦荒地许多处， 收租也无数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但——普天之下皆王土，私田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惩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谁把制度改一改，保护我财富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3809880" y="4191120"/>
            <a:ext cx="1524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合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4343400"/>
            <a:ext cx="15242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非法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010280" y="2362320"/>
            <a:ext cx="9144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邹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4724280"/>
            <a:ext cx="99072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吴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3276720"/>
            <a:ext cx="83808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李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4267080"/>
            <a:ext cx="114300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申不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3276720"/>
            <a:ext cx="83808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商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ffff00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竞相改革的时代风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目的：为了争霸中处于有利地位和不被别国吞并，各国竞相进行封建制度的改革，已达到富国强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57200"/>
            <a:ext cx="83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商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380880"/>
            <a:ext cx="838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  <a:ea typeface="华文行楷"/>
              </a:rPr>
              <a:t>秦孝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264360" y="0"/>
            <a:ext cx="287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治世不一道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变国不法古</a:t>
            </a:r>
            <a:r>
              <a:rPr b="1" lang="zh-CN" sz="4000" spc="-1" strike="noStrike">
                <a:solidFill>
                  <a:srgbClr val="3333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20080" y="60390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647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模块二          商鞅变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905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60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人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8559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1905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公元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35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560680"/>
            <a:ext cx="43434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 action="ppaction://hlinksldjump"/>
              </a:rPr>
              <a:t>商鞅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 action="ppaction://hlinksldjump"/>
              </a:rPr>
              <a:t>(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 action="ppaction://hlinksldjump"/>
              </a:rPr>
              <a:t>在秦孝公支持下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 action="ppaction://hlinksldjump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6" action="ppaction://hlinksldjump"/>
          </p:cNvPr>
          <p:cNvSpPr/>
          <p:nvPr/>
        </p:nvSpPr>
        <p:spPr>
          <a:xfrm>
            <a:off x="228600" y="2682720"/>
            <a:ext cx="378000" cy="378000"/>
          </a:xfrm>
          <a:custGeom>
            <a:avLst/>
            <a:gdLst>
              <a:gd name="textAreaLeft" fmla="*/ 86040 w 378000"/>
              <a:gd name="textAreaRight" fmla="*/ 291960 w 378000"/>
              <a:gd name="textAreaTop" fmla="*/ 86040 h 378000"/>
              <a:gd name="textAreaBottom" fmla="*/ 291960 h 37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7" action="ppaction://hlinksldjump"/>
          </p:cNvPr>
          <p:cNvSpPr/>
          <p:nvPr/>
        </p:nvSpPr>
        <p:spPr>
          <a:xfrm>
            <a:off x="228600" y="3978360"/>
            <a:ext cx="378000" cy="377640"/>
          </a:xfrm>
          <a:custGeom>
            <a:avLst/>
            <a:gdLst>
              <a:gd name="textAreaLeft" fmla="*/ 86040 w 378000"/>
              <a:gd name="textAreaRight" fmla="*/ 291960 w 378000"/>
              <a:gd name="textAreaTop" fmla="*/ 86040 h 377640"/>
              <a:gd name="textAreaBottom" fmla="*/ 291600 h 37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216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目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32162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富国强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46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0292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作用：秦国富强起来，国力大增，为以后兼并六国打下了坚实的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5410080"/>
            <a:ext cx="4648320" cy="703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确立了封建统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447920"/>
            <a:ext cx="525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编制户口，加强刑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奖励生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奖励军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承认土地私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推行县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统一度量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057400" y="914400"/>
            <a:ext cx="6324480" cy="2514600"/>
            <a:chOff x="2057400" y="914400"/>
            <a:chExt cx="6324480" cy="2514600"/>
          </a:xfrm>
        </p:grpSpPr>
        <p:sp>
          <p:nvSpPr>
            <p:cNvPr id="173" name=""/>
            <p:cNvSpPr/>
            <p:nvPr/>
          </p:nvSpPr>
          <p:spPr>
            <a:xfrm>
              <a:off x="2057400" y="914400"/>
              <a:ext cx="6324480" cy="2514600"/>
            </a:xfrm>
            <a:prstGeom prst="cloudCallout">
              <a:avLst>
                <a:gd name="adj1" fmla="val -66564"/>
                <a:gd name="adj2" fmla="val 71064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f6fc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1542960"/>
              <a:ext cx="5790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在秦孝公死后，商鞅就被处死了，那么变法是成功了还是失败了？为什么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-1447920" y="3962520"/>
            <a:ext cx="102110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启示：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  </a:t>
            </a: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任何变法都不是一帆风顺的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04920"/>
            <a:ext cx="8077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学法指导：判定一场改革成败的标准，在于其目的是否达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838080"/>
            <a:ext cx="8748720" cy="44211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Verdana"/>
                <a:ea typeface="隶书"/>
              </a:rPr>
              <a:t>一、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知识与能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．了解春秋战国时期铁器牛耕的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用，在生产上是巨大的历史进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大大促进了社会经济的发展和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变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．掌握商鞅变法的内容和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304920" y="228600"/>
            <a:ext cx="8076960" cy="4114800"/>
            <a:chOff x="304920" y="228600"/>
            <a:chExt cx="8076960" cy="4114800"/>
          </a:xfrm>
        </p:grpSpPr>
        <p:sp>
          <p:nvSpPr>
            <p:cNvPr id="178" name=""/>
            <p:cNvSpPr/>
            <p:nvPr/>
          </p:nvSpPr>
          <p:spPr>
            <a:xfrm>
              <a:off x="1828800" y="228600"/>
              <a:ext cx="5041440" cy="2376360"/>
            </a:xfrm>
            <a:prstGeom prst="wedgeRectCallout">
              <a:avLst>
                <a:gd name="adj1" fmla="val -50064"/>
                <a:gd name="adj2" fmla="val 9475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160" y="609480"/>
              <a:ext cx="7273800" cy="3733920"/>
            </a:xfrm>
            <a:prstGeom prst="cloudCallout">
              <a:avLst>
                <a:gd name="adj1" fmla="val -43759"/>
                <a:gd name="adj2" fmla="val 8418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920" y="533160"/>
              <a:ext cx="8076960" cy="1905120"/>
            </a:xfrm>
            <a:prstGeom prst="cloudCallout">
              <a:avLst>
                <a:gd name="adj1" fmla="val -28657"/>
                <a:gd name="adj2" fmla="val 105416"/>
              </a:avLst>
            </a:prstGeom>
            <a:solidFill>
              <a:srgbClr val="33cc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1218960"/>
              <a:ext cx="693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商鞅虽死，秦法未败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,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原因何在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920" y="533160"/>
              <a:ext cx="8076960" cy="1905120"/>
            </a:xfrm>
            <a:prstGeom prst="cloudCallout">
              <a:avLst>
                <a:gd name="adj1" fmla="val -28657"/>
                <a:gd name="adj2" fmla="val 105416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b7ecec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3000" y="1218960"/>
              <a:ext cx="69336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商鞅虽死，秦法未败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,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原因何在？从商鞅身上我们学到什么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28600" y="35053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-方正超大字符集"/>
              </a:rPr>
              <a:t>秦孝公支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3505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-方正超大字符集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-方正超大字符集"/>
              </a:rPr>
              <a:t>百姓信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41148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宋体-方正超大字符集"/>
              </a:rPr>
              <a:t>根本原因：改革的措施符合时代的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505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-方正超大字符集"/>
              </a:rPr>
              <a:t>商鞅坚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4952880"/>
            <a:ext cx="73915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有顺应历史潮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具有改革创新、献身精神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才能实现自身的价值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673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79800" y="1143000"/>
            <a:ext cx="464508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商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了建立秦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变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法的信心，故意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南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放了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条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高的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头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发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“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头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抬到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可得五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有人真的把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抬到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门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商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真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把五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金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赏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給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20480" y="-58680"/>
            <a:ext cx="2192400" cy="1099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99"/>
                </a:solidFill>
                <a:latin typeface="Times New Roman"/>
                <a:ea typeface="隶书"/>
              </a:rPr>
              <a:t>立木取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65760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00" y="478440"/>
            <a:ext cx="667800" cy="619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华文新魏"/>
              </a:rPr>
              <a:t>你知道有关商鞅的故事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762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结：商鞅变法后有哪些地方与以前不一样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2362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统治阶级： 奴隶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32004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政治制度： 分封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0384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土地所有制：公有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4343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2362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地主阶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2004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县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4038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私有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8280" y="2438280"/>
            <a:ext cx="1399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c3399"/>
                </a:solidFill>
                <a:latin typeface="Times New Roman"/>
              </a:rPr>
              <a:t>封建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26668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8245440" y="6453360"/>
            <a:ext cx="719280" cy="288720"/>
          </a:xfrm>
          <a:prstGeom prst="rightArrow">
            <a:avLst>
              <a:gd name="adj1" fmla="val 49426"/>
              <a:gd name="adj2" fmla="val 1532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0880" y="1746360"/>
            <a:ext cx="85694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生产工具是生产力发展水平的重要标志，下图中的铁农具最早出现的时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西周时期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商朝时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春秋时期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秦汉时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3809880"/>
            <a:ext cx="649080" cy="576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2362320" cy="170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1746360"/>
            <a:ext cx="856944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商鞅变法成功的主要原因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秦孝公的支持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百姓的欢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个人才能卓越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符合历史发展的潮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3352680"/>
            <a:ext cx="649440" cy="576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1746360"/>
            <a:ext cx="8569440" cy="21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商鞅变法后秦国农民想要获得爵位的最好途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努力耕种  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在战争中建立军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努力开垦荒地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经商发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3048120"/>
            <a:ext cx="649080" cy="57600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1746360"/>
            <a:ext cx="856944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商鞅变法的内容中，能反映中央集权思想的措施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承认土地私有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奖励生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奖励军功    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推行县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3733920"/>
            <a:ext cx="649440" cy="57600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422280" y="1700280"/>
            <a:ext cx="856944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商鞅变法的措施中对下列哪几种人有奖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①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书读得好的人    ②农业生产搞得好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③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仗打得好的人    ④生意做得好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①②    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②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①②③       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②③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4038480"/>
            <a:ext cx="649440" cy="576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1746360"/>
            <a:ext cx="777240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战国时期，封建制度确立，其根本原因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战争频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诸侯争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百家争鸣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13131d"/>
                </a:solidFill>
                <a:latin typeface="黑体"/>
                <a:ea typeface="黑体"/>
              </a:rPr>
              <a:t>、社会生产力发展，铁制农具的广泛使用    和牛耕的推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4724280"/>
            <a:ext cx="649440" cy="576360"/>
          </a:xfrm>
          <a:prstGeom prst="smileyFace">
            <a:avLst>
              <a:gd name="adj" fmla="val 9282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资料跟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本——商鞅变法的具体内容与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838080"/>
            <a:ext cx="87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过程与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．学生通过劳动体验，比较石制农具与铁制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具的性能，理解铁器得到推广的原因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．学生通过角色扮演了解商鞅变法的背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通过看书思考、小组讨论、全班交流、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制作，让学生掌握、分析商鞅变法的内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培养分析归纳的能力以及协作学习的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学生就“商鞅变法是成功还是失败了”进行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论，对商鞅变法进行评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9144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情感态度和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在学习商鞅变法的内容和作用过程中，培养改革意识和创新精神，学会从顺应历史潮流、推动社会进步的角度去认识人生的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980640"/>
            <a:ext cx="86425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教学重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商鞅变法的内容和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教学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何评价商鞅变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1295280"/>
          <a:ext cx="9144000" cy="5843880"/>
        </p:xfrm>
        <a:graphic>
          <a:graphicData uri="http://schemas.openxmlformats.org/drawingml/2006/table">
            <a:tbl>
              <a:tblPr/>
              <a:tblGrid>
                <a:gridCol w="5867280"/>
                <a:gridCol w="327672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5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 txBox="1"/>
          <p:nvPr/>
        </p:nvSpPr>
        <p:spPr>
          <a:xfrm>
            <a:off x="1523880" y="304920"/>
            <a:ext cx="6019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人类生产工具不断进步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2952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制作材料与代表性生产工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很少用于农业生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12193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优点与缺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5080" y="2133720"/>
            <a:ext cx="26989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廉价，硬度不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不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809880"/>
            <a:ext cx="3581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铜珍贵，质地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青铜虽硬但易脆、易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715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蕴藏丰富，开采方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质地坚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209680" cy="1568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4191120" cy="1806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3657600"/>
            <a:ext cx="3048120" cy="1771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0" y="5715000"/>
            <a:ext cx="441972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648320" y="1295280"/>
          <a:ext cx="1218960" cy="5867640"/>
        </p:xfrm>
        <a:graphic>
          <a:graphicData uri="http://schemas.openxmlformats.org/drawingml/2006/table">
            <a:tbl>
              <a:tblPr/>
              <a:tblGrid>
                <a:gridCol w="121896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7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原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社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98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夏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西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春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春秋战国时期的农具有什么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商鞅变法的内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273708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140360" y="260280"/>
            <a:ext cx="2244600" cy="302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164360" y="260280"/>
            <a:ext cx="168444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38080" y="4076640"/>
            <a:ext cx="7020000" cy="278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石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31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铜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05320"/>
            <a:ext cx="7902720" cy="1447560"/>
          </a:xfrm>
          <a:prstGeom prst="cloudCallout">
            <a:avLst>
              <a:gd name="adj1" fmla="val -43611"/>
              <a:gd name="adj2" fmla="val 10120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7339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如果给你一块实验田，让你亲手耕作，你会选择哪种工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07280" y="6107040"/>
            <a:ext cx="936720" cy="7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593640" y="1407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26920" y="3213000"/>
            <a:ext cx="78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62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828800" y="531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828800" y="5999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86200" y="11430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牛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北京人背鹿相"/>
          <p:cNvPicPr/>
          <p:nvPr/>
        </p:nvPicPr>
        <p:blipFill>
          <a:blip r:embed="rId2"/>
          <a:stretch/>
        </p:blipFill>
        <p:spPr>
          <a:xfrm>
            <a:off x="0" y="1676520"/>
            <a:ext cx="2162160" cy="4578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304920" y="114300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04920" y="45720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你选用哪种动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666880" y="1143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畜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1676520" y="1371600"/>
            <a:ext cx="8380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5334120" y="1371600"/>
            <a:ext cx="6858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6248520" y="1219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农耕技术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66960" y="2252520"/>
            <a:ext cx="5234040" cy="34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 </dc:description>
  <cp:keywords/>
  <dc:language>en-US</dc:language>
  <cp:lastModifiedBy>微软用户</cp:lastModifiedBy>
  <dcterms:modified xsi:type="dcterms:W3CDTF">2013-10-21T04:40:24Z</dcterms:modified>
  <cp:revision>2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