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B8A-A755-4EBD-8946-CFCDEA64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4C2-DB66-4F24-9E17-C0299A54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286-70D2-42E5-AD66-6EE19521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230-D7D7-45CB-9D25-2381DB70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0EF-7AC3-466F-8F43-4A924AB1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BA8-354E-4187-AC51-5ACE32A3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C81-2C7F-4900-A262-6CB29949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366-6DE6-4B6A-98E1-CDC4F1B1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707-840D-4222-BA71-E95C05D8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F44-4DD5-4821-8B87-6D04D42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D1E-638B-43BA-AEFC-CE9576A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2DC-CDD4-4DC4-A678-BF63EFC6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1DA9-E68D-46B7-AFAE-F13D4EA88C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71880" y="1357200"/>
            <a:ext cx="16426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464480" y="4463280"/>
            <a:ext cx="13993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684160" y="857160"/>
            <a:ext cx="667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4296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854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068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6283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78612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426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6212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8364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37700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357200" y="3857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854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7838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94860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426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12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640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783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21T06:42:11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