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6E81-ACE6-42D0-A640-9EE3145FC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8B85-96FA-410D-BF7A-EA7AA7AF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2687-98F2-4BC8-8829-DC7BAF5B7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9DA9-3DBC-4AA6-933F-9DC10B57C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263C-7217-4EE5-8388-9F102A71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5B07-8656-4CD7-AF18-F9E1EE4C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29E7-8EE6-4B40-9806-1D764628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73F6-41E0-4337-AD2E-06179332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DEC3-BF7D-4500-9C74-C85CB9A4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FF8B-76B4-45B1-BED0-5020EF5F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F84A-7CB3-4C3C-85FB-747DA301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1DBB-E7A2-41CD-B3FA-E5C1233B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B5CB-D1FB-4EA8-B942-601251706D7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8" descr="04.png"/>
          <p:cNvPicPr/>
          <p:nvPr/>
        </p:nvPicPr>
        <p:blipFill>
          <a:blip r:embed="rId1"/>
          <a:stretch/>
        </p:blipFill>
        <p:spPr>
          <a:xfrm>
            <a:off x="2244600" y="0"/>
            <a:ext cx="5340600" cy="4235400"/>
          </a:xfrm>
          <a:prstGeom prst="rect">
            <a:avLst/>
          </a:prstGeom>
          <a:ln w="0">
            <a:noFill/>
          </a:ln>
        </p:spPr>
      </p:pic>
      <p:sp>
        <p:nvSpPr>
          <p:cNvPr id="42" name="矩形 16"/>
          <p:cNvSpPr/>
          <p:nvPr/>
        </p:nvSpPr>
        <p:spPr>
          <a:xfrm>
            <a:off x="0" y="6572160"/>
            <a:ext cx="4643280" cy="285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9"/>
          <p:cNvSpPr/>
          <p:nvPr/>
        </p:nvSpPr>
        <p:spPr>
          <a:xfrm>
            <a:off x="2381400" y="4357800"/>
            <a:ext cx="59292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小动作让你拥有超人般的记忆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9286920" y="214200"/>
            <a:ext cx="619200" cy="360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88E3-9E27-4237-8E97-8A49DC3B7F8E}" type="slidenum">
              <a:rPr b="1" lang="zh-CN" sz="1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8136000" y="214200"/>
            <a:ext cx="1073160" cy="360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de-DE" sz="1800" spc="-1" strike="noStrike">
                <a:solidFill>
                  <a:srgbClr val="ffffff"/>
                </a:solidFill>
                <a:latin typeface="Arial Black"/>
              </a:rPr>
              <a:t>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23"/>
          <p:cNvSpPr/>
          <p:nvPr/>
        </p:nvSpPr>
        <p:spPr>
          <a:xfrm>
            <a:off x="4721400" y="6572160"/>
            <a:ext cx="5184720" cy="285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17"/>
          <p:cNvSpPr/>
          <p:nvPr/>
        </p:nvSpPr>
        <p:spPr>
          <a:xfrm>
            <a:off x="0" y="6500880"/>
            <a:ext cx="3017880" cy="357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8"/>
          <p:cNvSpPr/>
          <p:nvPr/>
        </p:nvSpPr>
        <p:spPr>
          <a:xfrm>
            <a:off x="3095640" y="6500880"/>
            <a:ext cx="6810480" cy="357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8" descr="04.png"/>
          <p:cNvPicPr/>
          <p:nvPr/>
        </p:nvPicPr>
        <p:blipFill>
          <a:blip r:embed="rId1"/>
          <a:stretch/>
        </p:blipFill>
        <p:spPr>
          <a:xfrm>
            <a:off x="77760" y="0"/>
            <a:ext cx="3102120" cy="3286080"/>
          </a:xfrm>
          <a:prstGeom prst="rect">
            <a:avLst/>
          </a:prstGeom>
          <a:ln w="0">
            <a:noFill/>
          </a:ln>
        </p:spPr>
      </p:pic>
      <p:sp>
        <p:nvSpPr>
          <p:cNvPr id="50" name="TextBox 7"/>
          <p:cNvSpPr/>
          <p:nvPr/>
        </p:nvSpPr>
        <p:spPr>
          <a:xfrm>
            <a:off x="2452680" y="3286080"/>
            <a:ext cx="4357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当桌上满是食物时就闭上眼睛吃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经常用手指分辨硬币（或象棋子也不错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1"/>
          <p:cNvSpPr/>
          <p:nvPr/>
        </p:nvSpPr>
        <p:spPr>
          <a:xfrm>
            <a:off x="8772480" y="4000680"/>
            <a:ext cx="185760" cy="52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9286920" y="214200"/>
            <a:ext cx="619200" cy="360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1CD1-B49C-4687-A8D8-90F9EEECF72A}" type="slidenum">
              <a:rPr b="1" lang="zh-CN" sz="1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8136000" y="214200"/>
            <a:ext cx="1073160" cy="360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de-DE" sz="1800" spc="-1" strike="noStrike">
                <a:solidFill>
                  <a:srgbClr val="ffffff"/>
                </a:solidFill>
                <a:latin typeface="Arial Black"/>
              </a:rPr>
              <a:t>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16"/>
          <p:cNvSpPr/>
          <p:nvPr/>
        </p:nvSpPr>
        <p:spPr>
          <a:xfrm>
            <a:off x="0" y="6500880"/>
            <a:ext cx="3946680" cy="357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3"/>
          <p:cNvSpPr/>
          <p:nvPr/>
        </p:nvSpPr>
        <p:spPr>
          <a:xfrm rot="20998200">
            <a:off x="6230520" y="2571840"/>
            <a:ext cx="184320" cy="52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18" descr="04.png"/>
          <p:cNvPicPr/>
          <p:nvPr/>
        </p:nvPicPr>
        <p:blipFill>
          <a:blip r:embed="rId1"/>
          <a:stretch/>
        </p:blipFill>
        <p:spPr>
          <a:xfrm>
            <a:off x="541440" y="0"/>
            <a:ext cx="3636720" cy="3078000"/>
          </a:xfrm>
          <a:prstGeom prst="rect">
            <a:avLst/>
          </a:prstGeom>
          <a:ln w="0">
            <a:noFill/>
          </a:ln>
        </p:spPr>
      </p:pic>
      <p:sp>
        <p:nvSpPr>
          <p:cNvPr id="57" name="矩形 19"/>
          <p:cNvSpPr/>
          <p:nvPr/>
        </p:nvSpPr>
        <p:spPr>
          <a:xfrm>
            <a:off x="4024440" y="6500880"/>
            <a:ext cx="5881680" cy="357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9286920" y="214200"/>
            <a:ext cx="619200" cy="360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4C86-DA80-41DB-8A7F-6B64E0FDD5EC}" type="slidenum">
              <a:rPr b="1" lang="zh-CN" sz="1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8136000" y="214200"/>
            <a:ext cx="1073160" cy="360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de-DE" sz="1800" spc="-1" strike="noStrike">
                <a:solidFill>
                  <a:srgbClr val="ffffff"/>
                </a:solidFill>
                <a:latin typeface="Arial Black"/>
              </a:rPr>
              <a:t>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3"/>
          <p:cNvSpPr/>
          <p:nvPr/>
        </p:nvSpPr>
        <p:spPr>
          <a:xfrm rot="21243000">
            <a:off x="1679040" y="3795840"/>
            <a:ext cx="4332600" cy="52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4"/>
          <p:cNvSpPr/>
          <p:nvPr/>
        </p:nvSpPr>
        <p:spPr>
          <a:xfrm>
            <a:off x="3166920" y="335772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戴上耳机上下楼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到餐馆点没吃过的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放开嗓子大声朗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16"/>
          <p:cNvSpPr/>
          <p:nvPr/>
        </p:nvSpPr>
        <p:spPr>
          <a:xfrm>
            <a:off x="0" y="6500880"/>
            <a:ext cx="3559320" cy="357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3"/>
          <p:cNvSpPr/>
          <p:nvPr/>
        </p:nvSpPr>
        <p:spPr>
          <a:xfrm>
            <a:off x="6524640" y="571680"/>
            <a:ext cx="615960" cy="9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5"/>
          <p:cNvSpPr/>
          <p:nvPr/>
        </p:nvSpPr>
        <p:spPr>
          <a:xfrm>
            <a:off x="3940560" y="5429160"/>
            <a:ext cx="738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18" descr="04.png"/>
          <p:cNvPicPr/>
          <p:nvPr/>
        </p:nvPicPr>
        <p:blipFill>
          <a:blip r:embed="rId1"/>
          <a:stretch/>
        </p:blipFill>
        <p:spPr>
          <a:xfrm>
            <a:off x="231840" y="0"/>
            <a:ext cx="3560760" cy="3000240"/>
          </a:xfrm>
          <a:prstGeom prst="rect">
            <a:avLst/>
          </a:prstGeom>
          <a:ln w="0">
            <a:noFill/>
          </a:ln>
        </p:spPr>
      </p:pic>
      <p:sp>
        <p:nvSpPr>
          <p:cNvPr id="66" name="矩形 19"/>
          <p:cNvSpPr/>
          <p:nvPr/>
        </p:nvSpPr>
        <p:spPr>
          <a:xfrm>
            <a:off x="3637080" y="6500880"/>
            <a:ext cx="6269040" cy="357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9286920" y="214200"/>
            <a:ext cx="619200" cy="360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D7FC-8B30-4C18-A35D-677C696D2A3E}" type="slidenum">
              <a:rPr b="1" lang="zh-CN" sz="1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8136000" y="214200"/>
            <a:ext cx="1073160" cy="360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de-DE" sz="1800" spc="-1" strike="noStrike">
                <a:solidFill>
                  <a:srgbClr val="ffffff"/>
                </a:solidFill>
                <a:latin typeface="Arial Black"/>
              </a:rPr>
              <a:t>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3"/>
          <p:cNvSpPr/>
          <p:nvPr/>
        </p:nvSpPr>
        <p:spPr>
          <a:xfrm>
            <a:off x="3422160" y="3143160"/>
            <a:ext cx="22071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左手拿咖啡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听不同类型的歌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每天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23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前睡觉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.  5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起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16"/>
          <p:cNvSpPr/>
          <p:nvPr/>
        </p:nvSpPr>
        <p:spPr>
          <a:xfrm>
            <a:off x="0" y="6500880"/>
            <a:ext cx="4875120" cy="357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3"/>
          <p:cNvSpPr/>
          <p:nvPr/>
        </p:nvSpPr>
        <p:spPr>
          <a:xfrm>
            <a:off x="1452600" y="3714840"/>
            <a:ext cx="61596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5"/>
          <p:cNvSpPr/>
          <p:nvPr/>
        </p:nvSpPr>
        <p:spPr>
          <a:xfrm rot="524400">
            <a:off x="5195520" y="965160"/>
            <a:ext cx="459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18" descr="04.png"/>
          <p:cNvPicPr/>
          <p:nvPr/>
        </p:nvPicPr>
        <p:blipFill>
          <a:blip r:embed="rId1"/>
          <a:stretch/>
        </p:blipFill>
        <p:spPr>
          <a:xfrm>
            <a:off x="77760" y="0"/>
            <a:ext cx="3619440" cy="3500280"/>
          </a:xfrm>
          <a:prstGeom prst="rect">
            <a:avLst/>
          </a:prstGeom>
          <a:ln w="0">
            <a:noFill/>
          </a:ln>
        </p:spPr>
      </p:pic>
      <p:sp>
        <p:nvSpPr>
          <p:cNvPr id="74" name="矩形 19"/>
          <p:cNvSpPr/>
          <p:nvPr/>
        </p:nvSpPr>
        <p:spPr>
          <a:xfrm>
            <a:off x="5030640" y="6500880"/>
            <a:ext cx="4875480" cy="357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9286920" y="214200"/>
            <a:ext cx="619200" cy="360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AE6D-12E0-4506-8D6C-0CB5450F5ECA}" type="slidenum">
              <a:rPr b="1" lang="zh-CN" sz="1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8136000" y="214200"/>
            <a:ext cx="1073160" cy="360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de-DE" sz="1800" spc="-1" strike="noStrike">
                <a:solidFill>
                  <a:srgbClr val="ffffff"/>
                </a:solidFill>
                <a:latin typeface="Arial Black"/>
              </a:rPr>
              <a:t>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4"/>
          <p:cNvSpPr/>
          <p:nvPr/>
        </p:nvSpPr>
        <p:spPr>
          <a:xfrm>
            <a:off x="3258360" y="3575160"/>
            <a:ext cx="1278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吃早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每天吃点甜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陌生的地方散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16"/>
          <p:cNvSpPr/>
          <p:nvPr/>
        </p:nvSpPr>
        <p:spPr>
          <a:xfrm>
            <a:off x="0" y="6500880"/>
            <a:ext cx="4411800" cy="357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5"/>
          <p:cNvSpPr/>
          <p:nvPr/>
        </p:nvSpPr>
        <p:spPr>
          <a:xfrm rot="21213600">
            <a:off x="2030040" y="5005080"/>
            <a:ext cx="184320" cy="52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9"/>
          <p:cNvSpPr/>
          <p:nvPr/>
        </p:nvSpPr>
        <p:spPr>
          <a:xfrm>
            <a:off x="4565520" y="6500880"/>
            <a:ext cx="5340600" cy="357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9286920" y="214200"/>
            <a:ext cx="619200" cy="360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9995-81D2-4640-BC9D-034A2FAC6B53}" type="slidenum">
              <a:rPr b="1" lang="zh-CN" sz="1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136000" y="214200"/>
            <a:ext cx="1073160" cy="360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de-DE" sz="1800" spc="-1" strike="noStrike">
                <a:solidFill>
                  <a:srgbClr val="ffffff"/>
                </a:solidFill>
                <a:latin typeface="Arial Black"/>
              </a:rPr>
              <a:t>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1"/>
          <p:cNvSpPr/>
          <p:nvPr/>
        </p:nvSpPr>
        <p:spPr>
          <a:xfrm>
            <a:off x="7070760" y="835200"/>
            <a:ext cx="615960" cy="9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18" descr="04.png"/>
          <p:cNvPicPr/>
          <p:nvPr/>
        </p:nvPicPr>
        <p:blipFill>
          <a:blip r:embed="rId1"/>
          <a:stretch/>
        </p:blipFill>
        <p:spPr>
          <a:xfrm>
            <a:off x="0" y="0"/>
            <a:ext cx="3767040" cy="3643200"/>
          </a:xfrm>
          <a:prstGeom prst="rect">
            <a:avLst/>
          </a:prstGeom>
          <a:ln w="0">
            <a:noFill/>
          </a:ln>
        </p:spPr>
      </p:pic>
      <p:sp>
        <p:nvSpPr>
          <p:cNvPr id="85" name="直角三角形 12"/>
          <p:cNvSpPr/>
          <p:nvPr/>
        </p:nvSpPr>
        <p:spPr>
          <a:xfrm flipH="1">
            <a:off x="8435880" y="4929120"/>
            <a:ext cx="463680" cy="500040"/>
          </a:xfrm>
          <a:prstGeom prst="rtTriangl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3"/>
          <p:cNvSpPr/>
          <p:nvPr/>
        </p:nvSpPr>
        <p:spPr>
          <a:xfrm>
            <a:off x="3024360" y="3786120"/>
            <a:ext cx="3357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多咀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每天快走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20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一天十次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..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手指操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记录成功的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每季度学一项新运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每天出门前对着镜子微笑并对自己说：我一定能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16"/>
          <p:cNvSpPr/>
          <p:nvPr/>
        </p:nvSpPr>
        <p:spPr>
          <a:xfrm>
            <a:off x="0" y="6500880"/>
            <a:ext cx="3017880" cy="357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9"/>
          <p:cNvSpPr/>
          <p:nvPr/>
        </p:nvSpPr>
        <p:spPr>
          <a:xfrm>
            <a:off x="3173400" y="6500880"/>
            <a:ext cx="6732720" cy="357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9286920" y="214200"/>
            <a:ext cx="619200" cy="360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D17B-D364-4E03-835E-6FD808C28306}" type="slidenum">
              <a:rPr b="1" lang="zh-CN" sz="1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8136000" y="214200"/>
            <a:ext cx="1073160" cy="360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de-DE" sz="1800" spc="-1" strike="noStrike">
                <a:solidFill>
                  <a:srgbClr val="ffffff"/>
                </a:solidFill>
                <a:latin typeface="Arial Black"/>
              </a:rPr>
              <a:t>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1"/>
          <p:cNvSpPr/>
          <p:nvPr/>
        </p:nvSpPr>
        <p:spPr>
          <a:xfrm>
            <a:off x="3309840" y="2786040"/>
            <a:ext cx="578664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写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100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个自己喜欢的东西，每天拿出来看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每天找些时间专门背一些东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每周给自己半小时的无聊时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每周看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到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次自己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看过的节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做个聆听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18" descr="04.png"/>
          <p:cNvPicPr/>
          <p:nvPr/>
        </p:nvPicPr>
        <p:blipFill>
          <a:blip r:embed="rId1"/>
          <a:stretch/>
        </p:blipFill>
        <p:spPr>
          <a:xfrm>
            <a:off x="-333360" y="0"/>
            <a:ext cx="34830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2T02:37:58Z</dcterms:created>
  <dc:creator>www.pptbz.com</dc:creator>
  <dc:description/>
  <dc:language>en-US</dc:language>
  <cp:lastModifiedBy>Administrator</cp:lastModifiedBy>
  <dcterms:modified xsi:type="dcterms:W3CDTF">2015-06-30T08:01:20Z</dcterms:modified>
  <cp:revision>12</cp:revision>
  <dc:subject/>
  <dc:title>幻灯片 1</dc:title>
</cp:coreProperties>
</file>