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B4A-3ED4-4CC1-BD54-F399C137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DB2-68E5-4790-92F2-FB838F76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56C-254F-4F19-B308-5525E13E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52C-905E-4A78-8E99-3306EC8B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ACFA-AB42-411B-8E6F-47A28DB5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D037-0093-4BDA-B2A8-A029A27C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0878-C7C5-401C-AD51-44E0FB2C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8A3A-7638-4459-B7F6-2A08A6ED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9C64-576E-46C5-8A24-E51219A7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7410-C436-4F4A-8154-E1A22C6A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9ABC-6162-4BEA-B329-86AFC60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D92-208A-42C7-B7E6-1665F8CE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5ACF-08AC-49BF-95CA-F8FC3DD8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AFCE-5DA6-4ED5-95D0-4FCA5F1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A49B-5010-4B3E-B97B-212A0F68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668D-DBFC-4C60-9BF1-4C8A00BF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7481-8305-407F-A3D8-ECC239F7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32B-0BF0-439A-8B16-CEB12E5D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FCA-A4EF-4301-A9D1-D5E2B86E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066-E785-498D-96D4-652C1B38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341-F13E-41EB-BF4D-EB5C1B1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1CC-B724-4662-A300-64EAEAD4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F38-27DE-49EB-8E63-04C4EDE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E49-AB87-4C8F-8071-8335155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2BF-2458-4A93-B35A-E61466BFEF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D036-181C-42A2-A65A-DEE2E634AB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5B7-C4E9-4173-B4FC-4362C860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标题 1"/>
          <p:cNvSpPr/>
          <p:nvPr/>
        </p:nvSpPr>
        <p:spPr>
          <a:xfrm rot="19201800">
            <a:off x="6442200" y="1119240"/>
            <a:ext cx="2327040" cy="201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标题 1"/>
          <p:cNvSpPr/>
          <p:nvPr/>
        </p:nvSpPr>
        <p:spPr>
          <a:xfrm rot="19759200">
            <a:off x="374400" y="1238040"/>
            <a:ext cx="2327040" cy="201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 rot="1582800">
            <a:off x="1722240" y="1036800"/>
            <a:ext cx="2328840" cy="201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标题 1"/>
          <p:cNvSpPr/>
          <p:nvPr/>
        </p:nvSpPr>
        <p:spPr>
          <a:xfrm rot="19201800">
            <a:off x="3587400" y="1083960"/>
            <a:ext cx="2328840" cy="201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标题 1"/>
          <p:cNvSpPr/>
          <p:nvPr/>
        </p:nvSpPr>
        <p:spPr>
          <a:xfrm rot="573600">
            <a:off x="4937040" y="1322280"/>
            <a:ext cx="2328840" cy="20113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0" y="4000680"/>
            <a:ext cx="9144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357720" y="4786200"/>
            <a:ext cx="788760" cy="709560"/>
            <a:chOff x="3357720" y="4786200"/>
            <a:chExt cx="788760" cy="709560"/>
          </a:xfrm>
        </p:grpSpPr>
        <p:pic>
          <p:nvPicPr>
            <p:cNvPr id="89" name="图片 16" descr=""/>
            <p:cNvPicPr/>
            <p:nvPr/>
          </p:nvPicPr>
          <p:blipFill>
            <a:blip r:embed="rId6"/>
            <a:stretch/>
          </p:blipFill>
          <p:spPr>
            <a:xfrm>
              <a:off x="3401280" y="4961520"/>
              <a:ext cx="569880" cy="5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17" descr=""/>
            <p:cNvPicPr/>
            <p:nvPr/>
          </p:nvPicPr>
          <p:blipFill>
            <a:blip r:embed="rId7"/>
            <a:stretch/>
          </p:blipFill>
          <p:spPr>
            <a:xfrm>
              <a:off x="3357720" y="4786200"/>
              <a:ext cx="788760" cy="52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1"/>
          <p:cNvSpPr/>
          <p:nvPr/>
        </p:nvSpPr>
        <p:spPr>
          <a:xfrm>
            <a:off x="714240" y="285840"/>
            <a:ext cx="1500480" cy="500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6929280" y="285840"/>
            <a:ext cx="1500480" cy="50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7280" y="285840"/>
            <a:ext cx="4429440" cy="500040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标题 2"/>
          <p:cNvSpPr/>
          <p:nvPr/>
        </p:nvSpPr>
        <p:spPr>
          <a:xfrm>
            <a:off x="42876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Arial"/>
                <a:ea typeface="Calibri"/>
              </a:rPr>
              <a:t>HAPPY HALLOW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Arial"/>
              </a:rPr>
              <a:t>HAPPY HALLOWE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7098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Arial"/>
              </a:rPr>
              <a:t>Happy Hallowe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857160"/>
            <a:ext cx="2492640" cy="3549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57360" y="857160"/>
            <a:ext cx="2492280" cy="3549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08400" y="857160"/>
            <a:ext cx="2492280" cy="354960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Arial"/>
              </a:rPr>
              <a:t>HAPPY HALLOWE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43000" y="3285720"/>
            <a:ext cx="3354480" cy="2428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6520" y="3285720"/>
            <a:ext cx="3354480" cy="2428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3280" y="713880"/>
            <a:ext cx="3354480" cy="24289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46240" y="713880"/>
            <a:ext cx="3354480" cy="2428920"/>
          </a:xfrm>
          <a:prstGeom prst="rect">
            <a:avLst/>
          </a:prstGeom>
          <a:blipFill rotWithShape="0">
            <a:blip r:embed="rId4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1187280" y="571680"/>
            <a:ext cx="1492560" cy="133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标题 1"/>
          <p:cNvSpPr/>
          <p:nvPr/>
        </p:nvSpPr>
        <p:spPr>
          <a:xfrm>
            <a:off x="357120" y="2782800"/>
            <a:ext cx="8001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357120" y="44737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357120" y="521172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5902200" y="642960"/>
            <a:ext cx="1527480" cy="1319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标题 1"/>
          <p:cNvSpPr/>
          <p:nvPr/>
        </p:nvSpPr>
        <p:spPr>
          <a:xfrm>
            <a:off x="3544920" y="608040"/>
            <a:ext cx="1527120" cy="1320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128592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Hallo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607212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Hallo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6"/>
          <p:cNvSpPr/>
          <p:nvPr/>
        </p:nvSpPr>
        <p:spPr>
          <a:xfrm>
            <a:off x="364320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Hallo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5"/>
          <p:cNvSpPr/>
          <p:nvPr/>
        </p:nvSpPr>
        <p:spPr>
          <a:xfrm>
            <a:off x="642960" y="256212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HAPPY HALLOWEE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000680" y="1344600"/>
            <a:ext cx="1285560" cy="1155600"/>
            <a:chOff x="4000680" y="1344600"/>
            <a:chExt cx="1285560" cy="1155600"/>
          </a:xfrm>
        </p:grpSpPr>
        <p:pic>
          <p:nvPicPr>
            <p:cNvPr id="121" name="图片 6" descr=""/>
            <p:cNvPicPr/>
            <p:nvPr/>
          </p:nvPicPr>
          <p:blipFill>
            <a:blip r:embed="rId1"/>
            <a:stretch/>
          </p:blipFill>
          <p:spPr>
            <a:xfrm>
              <a:off x="4071960" y="1630440"/>
              <a:ext cx="928440" cy="86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图片 7" descr=""/>
            <p:cNvPicPr/>
            <p:nvPr/>
          </p:nvPicPr>
          <p:blipFill>
            <a:blip r:embed="rId2"/>
            <a:stretch/>
          </p:blipFill>
          <p:spPr>
            <a:xfrm>
              <a:off x="4000680" y="1344600"/>
              <a:ext cx="1285560" cy="85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WP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7524720" y="5950080"/>
            <a:ext cx="1584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WPS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kingsoftw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36000" y="595008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237440" y="6238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45080" y="2997360"/>
            <a:ext cx="25243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5:42:00Z</dcterms:created>
  <dc:creator>番茄花园</dc:creator>
  <dc:description/>
  <dc:language>en-US</dc:language>
  <cp:lastModifiedBy>番茄花园</cp:lastModifiedBy>
  <cp:lastPrinted>1899-12-30T00:00:00Z</cp:lastPrinted>
  <dcterms:modified xsi:type="dcterms:W3CDTF">2007-10-12T09:58:0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88</vt:lpwstr>
  </property>
</Properties>
</file>