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ED9-A074-4FA5-AC85-E0590F01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38A-ED68-4C88-8284-3B9E7975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664-3157-45D2-BBBA-D55D43D6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CD2-8C6D-4C5B-8D4A-2D8493B7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B60-B090-48B8-8F7D-E378CFCF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74C-8C84-4194-A38D-A0A7A4AB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55E7-8163-4B94-9E66-080199B3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460-B3DB-4493-B3D0-898BBA60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D37-BC20-4CCD-B480-2A12AB52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073-49CC-4511-809D-87285CDC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728-C1BD-4B7F-8F40-01C4A9C5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9739-5D6E-41CA-854F-846159BC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468360" y="1197000"/>
            <a:ext cx="8207280" cy="52563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94920" y="836280"/>
            <a:ext cx="2243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SimSun"/>
              </a:defRPr>
            </a:lvl1pPr>
          </a:lstStyle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SimSun"/>
              </a:rPr>
              <a:t>http://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5752800" y="64576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347148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A6BB-8A96-4739-AB94-0A7A556B9F4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395280" y="33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Verdana"/>
                <a:ea typeface="SimSun"/>
              </a:rPr>
              <a:t>LOGO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Line 23"/>
          <p:cNvSpPr/>
          <p:nvPr/>
        </p:nvSpPr>
        <p:spPr>
          <a:xfrm>
            <a:off x="2268360" y="981000"/>
            <a:ext cx="6264360" cy="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http://www.nordridesign.com/about.html" TargetMode="External"/><Relationship Id="rId3" Type="http://schemas.openxmlformats.org/officeDocument/2006/relationships/hyperlink" Target="http://www.nordridesign.com/service_ppt_service.html" TargetMode="External"/><Relationship Id="rId4" Type="http://schemas.openxmlformats.org/officeDocument/2006/relationships/hyperlink" Target="http://www.nordridesign.com/service_ppt_service.html" TargetMode="External"/><Relationship Id="rId5" Type="http://schemas.openxmlformats.org/officeDocument/2006/relationships/hyperlink" Target="http://www.nordridesign.com/service_ppt.html" TargetMode="External"/><Relationship Id="rId6" Type="http://schemas.openxmlformats.org/officeDocument/2006/relationships/hyperlink" Target="http://www.nordridesign.com/service_ppt.html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420640"/>
            <a:ext cx="72388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团队建设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PPT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模板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280" y="3052800"/>
            <a:ext cx="74199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SimSun"/>
              </a:rPr>
              <a:t>www.cr173.com</a:t>
            </a:r>
            <a:endParaRPr b="1" lang="en-US" sz="18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日期占位符 3"/>
          <p:cNvSpPr/>
          <p:nvPr/>
        </p:nvSpPr>
        <p:spPr>
          <a:xfrm>
            <a:off x="395280" y="8366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黑体"/>
              </a:rPr>
              <a:t>目录</a:t>
            </a:r>
            <a:endParaRPr b="0" lang="en-US" sz="28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7" name="Text Box 77">
            <a:hlinkClick r:id="rId1" action="ppaction://hlinksldjump"/>
          </p:cNvPr>
          <p:cNvSpPr/>
          <p:nvPr/>
        </p:nvSpPr>
        <p:spPr>
          <a:xfrm>
            <a:off x="1242000" y="1844640"/>
            <a:ext cx="2485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SimSun"/>
                <a:hlinkClick r:id="rId2"/>
              </a:rPr>
              <a:t>The Team / Nordui团队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8" name="Text Box 78"/>
          <p:cNvSpPr/>
          <p:nvPr/>
        </p:nvSpPr>
        <p:spPr>
          <a:xfrm>
            <a:off x="1395720" y="2406600"/>
            <a:ext cx="198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SimSun"/>
                <a:hlinkClick r:id="rId3"/>
              </a:rPr>
              <a:t>Objectives / </a:t>
            </a:r>
            <a:r>
              <a:rPr b="0" lang="zh-CN" sz="1800" spc="-1" strike="noStrike" u="sng">
                <a:solidFill>
                  <a:srgbClr val="000066"/>
                </a:solidFill>
                <a:uFillTx/>
                <a:latin typeface="Arial"/>
                <a:ea typeface="SimSun"/>
                <a:hlinkClick r:id="rId4"/>
              </a:rPr>
              <a:t>服务项目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" name="Text Box 79"/>
          <p:cNvSpPr/>
          <p:nvPr/>
        </p:nvSpPr>
        <p:spPr>
          <a:xfrm>
            <a:off x="1397520" y="2982960"/>
            <a:ext cx="310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SimSun"/>
                <a:hlinkClick r:id="rId5"/>
              </a:rPr>
              <a:t>Our advantage / Nordui</a:t>
            </a:r>
            <a:r>
              <a:rPr b="0" lang="zh-CN" sz="1800" spc="-1" strike="noStrike" u="sng">
                <a:solidFill>
                  <a:srgbClr val="000066"/>
                </a:solidFill>
                <a:uFillTx/>
                <a:latin typeface="Arial"/>
                <a:ea typeface="SimSun"/>
                <a:hlinkClick r:id="rId6"/>
              </a:rPr>
              <a:t>设计优势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0" name="Text Box 80"/>
          <p:cNvSpPr/>
          <p:nvPr/>
        </p:nvSpPr>
        <p:spPr>
          <a:xfrm>
            <a:off x="1369440" y="3559320"/>
            <a:ext cx="25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SimSun"/>
              </a:rPr>
              <a:t>Service delivery /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SimSun"/>
              </a:rPr>
              <a:t>设计流程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" name="Text Box 81"/>
          <p:cNvSpPr/>
          <p:nvPr/>
        </p:nvSpPr>
        <p:spPr>
          <a:xfrm>
            <a:off x="1368360" y="4135320"/>
            <a:ext cx="20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SimSun"/>
              </a:rPr>
              <a:t>Contact us /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SimSun"/>
              </a:rPr>
              <a:t>联系我们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725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日期占位符 3"/>
          <p:cNvSpPr/>
          <p:nvPr/>
        </p:nvSpPr>
        <p:spPr>
          <a:xfrm>
            <a:off x="395280" y="8366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黑体"/>
              </a:rPr>
              <a:t>此处添加标题</a:t>
            </a:r>
            <a:endParaRPr b="0" lang="en-US" sz="28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71640" y="4581360"/>
            <a:ext cx="6048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Arial"/>
                <a:ea typeface="SimSun"/>
              </a:rPr>
              <a:t>Nordri</a:t>
            </a: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SimSun"/>
              </a:rPr>
              <a:t>设计工作室</a:t>
            </a:r>
            <a:r>
              <a:rPr b="0" lang="en-US" sz="1200" spc="-1" strike="noStrike">
                <a:solidFill>
                  <a:srgbClr val="666699"/>
                </a:solidFill>
                <a:latin typeface="Arial"/>
                <a:ea typeface="SimSun"/>
              </a:rPr>
              <a:t>ppt</a:t>
            </a: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SimSun"/>
              </a:rPr>
              <a:t>模版发布供大家免费下载使用。版权为</a:t>
            </a:r>
            <a:r>
              <a:rPr b="0" lang="en-US" sz="1200" spc="-1" strike="noStrike">
                <a:solidFill>
                  <a:srgbClr val="666699"/>
                </a:solidFill>
                <a:latin typeface="Arial"/>
                <a:ea typeface="SimSun"/>
              </a:rPr>
              <a:t>NORDRI</a:t>
            </a: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SimSun"/>
              </a:rPr>
              <a:t>设计工作室所有。您可以自行使用、修改、复制本模版。转载、发表或以其它方式利用本模版上内容，亦或您需更进一步的服务，请和我们联系。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0760" y="3141720"/>
            <a:ext cx="74199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ww.cr173.com</a:t>
            </a:r>
            <a:endParaRPr b="1" lang="en-US" sz="18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914400" y="2276280"/>
            <a:ext cx="72388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黑体"/>
              </a:rPr>
              <a:t>感谢您的关注</a:t>
            </a:r>
            <a:endParaRPr b="0" lang="en-US" sz="4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04:50Z</dcterms:created>
  <dc:creator>NordriDesignStudio</dc:creator>
  <dc:description/>
  <dc:language>en-US</dc:language>
  <cp:lastModifiedBy>Administrator</cp:lastModifiedBy>
  <dcterms:modified xsi:type="dcterms:W3CDTF">2015-07-09T09:52:05Z</dcterms:modified>
  <cp:revision>9</cp:revision>
  <dc:subject/>
  <dc:title>PowerPoint Template</dc:title>
</cp:coreProperties>
</file>