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3.png" ContentType="image/png"/>
  <Override PartName="/ppt/media/image17.jpeg" ContentType="image/jpeg"/>
  <Override PartName="/ppt/media/image26.png" ContentType="image/png"/>
  <Override PartName="/ppt/media/image27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30.png" ContentType="image/png"/>
  <Override PartName="/ppt/media/image6.jpeg" ContentType="image/jpeg"/>
  <Override PartName="/ppt/media/image13.png" ContentType="image/png"/>
  <Override PartName="/ppt/media/image2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20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24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22.jpeg" ContentType="image/jpeg"/>
  <Override PartName="/ppt/media/image19.jpeg" ContentType="image/jpeg"/>
  <Override PartName="/ppt/media/image25.png" ContentType="image/png"/>
  <Override PartName="/ppt/media/image29.png" ContentType="image/png"/>
  <Override PartName="/ppt/media/image2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12880" y="405000"/>
            <a:ext cx="14631480" cy="16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12880" y="2377080"/>
            <a:ext cx="14631480" cy="28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812880" y="5454720"/>
            <a:ext cx="14631480" cy="28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12880" y="405000"/>
            <a:ext cx="14631480" cy="16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12880" y="2377080"/>
            <a:ext cx="7139880" cy="28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10240" y="2377080"/>
            <a:ext cx="7139880" cy="28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12880" y="5454720"/>
            <a:ext cx="7139880" cy="28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8310240" y="5454720"/>
            <a:ext cx="7139880" cy="28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5000"/>
            <a:ext cx="14631480" cy="16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7080"/>
            <a:ext cx="4710960" cy="28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59640" y="2377080"/>
            <a:ext cx="4710960" cy="28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06760" y="2377080"/>
            <a:ext cx="4710960" cy="28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2880" y="5454720"/>
            <a:ext cx="4710960" cy="28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5759640" y="5454720"/>
            <a:ext cx="4710960" cy="28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0706760" y="5454720"/>
            <a:ext cx="4710960" cy="28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5000"/>
            <a:ext cx="14631480" cy="16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812880" y="2377080"/>
            <a:ext cx="14631480" cy="589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12880" y="405000"/>
            <a:ext cx="14631480" cy="16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812880" y="2377080"/>
            <a:ext cx="14631480" cy="589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12880" y="405000"/>
            <a:ext cx="14631480" cy="16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12880" y="2377080"/>
            <a:ext cx="7139880" cy="589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8310240" y="2377080"/>
            <a:ext cx="7139880" cy="589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5000"/>
            <a:ext cx="14631480" cy="16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812880" y="405000"/>
            <a:ext cx="14631480" cy="78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5000"/>
            <a:ext cx="14631480" cy="16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7080"/>
            <a:ext cx="7139880" cy="28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10240" y="2377080"/>
            <a:ext cx="7139880" cy="589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812880" y="5454720"/>
            <a:ext cx="7139880" cy="28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12880" y="405000"/>
            <a:ext cx="14631480" cy="16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12880" y="2377080"/>
            <a:ext cx="7139880" cy="589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8310240" y="2377080"/>
            <a:ext cx="7139880" cy="28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10240" y="5454720"/>
            <a:ext cx="7139880" cy="28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12880" y="405000"/>
            <a:ext cx="14631480" cy="16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12880" y="2377080"/>
            <a:ext cx="7139880" cy="28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8310240" y="2377080"/>
            <a:ext cx="7139880" cy="28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12880" y="5454720"/>
            <a:ext cx="14631480" cy="28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屏幕快照 2015-03-06 下午12.57.56.png"/>
          <p:cNvPicPr/>
          <p:nvPr/>
        </p:nvPicPr>
        <p:blipFill>
          <a:blip r:embed="rId1"/>
          <a:srcRect l="6357" t="0" r="5100" b="0"/>
          <a:stretch/>
        </p:blipFill>
        <p:spPr>
          <a:xfrm>
            <a:off x="1373040" y="1398600"/>
            <a:ext cx="13508280" cy="827568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68575292jw1e7krsmlyyaj20mp0gkgpn-filtered.jpeg"/>
          <p:cNvPicPr/>
          <p:nvPr/>
        </p:nvPicPr>
        <p:blipFill>
          <a:blip r:embed="rId2"/>
          <a:srcRect l="1669" t="0" r="0" b="13686"/>
          <a:stretch/>
        </p:blipFill>
        <p:spPr>
          <a:xfrm>
            <a:off x="2911320" y="2048040"/>
            <a:ext cx="10277640" cy="6561000"/>
          </a:xfrm>
          <a:prstGeom prst="rect">
            <a:avLst/>
          </a:prstGeom>
          <a:ln w="0">
            <a:noFill/>
          </a:ln>
        </p:spPr>
      </p:pic>
      <p:sp>
        <p:nvSpPr>
          <p:cNvPr id="38" name="Rectangle 3"/>
          <p:cNvSpPr/>
          <p:nvPr/>
        </p:nvSpPr>
        <p:spPr>
          <a:xfrm>
            <a:off x="2913120" y="8286840"/>
            <a:ext cx="1027728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4491000" y="7846920"/>
            <a:ext cx="6359400" cy="777960"/>
          </a:xfrm>
          <a:prstGeom prst="rect">
            <a:avLst/>
          </a:prstGeom>
          <a:solidFill>
            <a:srgbClr val="1286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0" name="Rectangle 5"/>
          <p:cNvSpPr/>
          <p:nvPr/>
        </p:nvSpPr>
        <p:spPr>
          <a:xfrm>
            <a:off x="10850400" y="7846920"/>
            <a:ext cx="522360" cy="777960"/>
          </a:xfrm>
          <a:prstGeom prst="rect">
            <a:avLst/>
          </a:prstGeom>
          <a:solidFill>
            <a:srgbClr val="fd88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5091840" y="8129160"/>
            <a:ext cx="32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Helvetica Light"/>
                <a:ea typeface="宋体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495120" y="8129160"/>
            <a:ext cx="32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Helvetica Light"/>
                <a:ea typeface="宋体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8168400" y="8180640"/>
            <a:ext cx="32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Helvetica Light"/>
                <a:ea typeface="宋体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686160" y="8180640"/>
            <a:ext cx="32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Helvetica Light"/>
                <a:ea typeface="宋体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AutoShape 10"/>
          <p:cNvSpPr/>
          <p:nvPr/>
        </p:nvSpPr>
        <p:spPr>
          <a:xfrm rot="21571200">
            <a:off x="5049360" y="376200"/>
            <a:ext cx="7212240" cy="1368360"/>
          </a:xfrm>
          <a:custGeom>
            <a:avLst/>
            <a:gdLst>
              <a:gd name="textAreaLeft" fmla="*/ 0 w 7212240"/>
              <a:gd name="textAreaRight" fmla="*/ 7212600 w 721224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181">
                <a:moveTo>
                  <a:pt x="0" y="20042"/>
                </a:moveTo>
                <a:cubicBezTo>
                  <a:pt x="959" y="14528"/>
                  <a:pt x="1297" y="13399"/>
                  <a:pt x="2054" y="11170"/>
                </a:cubicBezTo>
                <a:cubicBezTo>
                  <a:pt x="2432" y="10056"/>
                  <a:pt x="2865" y="8776"/>
                  <a:pt x="3297" y="8208"/>
                </a:cubicBezTo>
                <a:cubicBezTo>
                  <a:pt x="3730" y="7640"/>
                  <a:pt x="3824" y="7164"/>
                  <a:pt x="4541" y="6670"/>
                </a:cubicBezTo>
                <a:cubicBezTo>
                  <a:pt x="7080" y="7799"/>
                  <a:pt x="7662" y="15880"/>
                  <a:pt x="9223" y="20485"/>
                </a:cubicBezTo>
                <a:cubicBezTo>
                  <a:pt x="10541" y="17078"/>
                  <a:pt x="12272" y="12739"/>
                  <a:pt x="13567" y="7337"/>
                </a:cubicBezTo>
                <a:cubicBezTo>
                  <a:pt x="14861" y="1935"/>
                  <a:pt x="15832" y="426"/>
                  <a:pt x="17129" y="40"/>
                </a:cubicBezTo>
                <a:cubicBezTo>
                  <a:pt x="18481" y="-419"/>
                  <a:pt x="18978" y="3157"/>
                  <a:pt x="19725" y="7099"/>
                </a:cubicBezTo>
                <a:cubicBezTo>
                  <a:pt x="20098" y="9070"/>
                  <a:pt x="20365" y="11444"/>
                  <a:pt x="20679" y="13854"/>
                </a:cubicBezTo>
                <a:cubicBezTo>
                  <a:pt x="20986" y="16296"/>
                  <a:pt x="21315" y="19445"/>
                  <a:pt x="21600" y="21181"/>
                </a:cubicBezTo>
                <a:cubicBezTo>
                  <a:pt x="14400" y="20801"/>
                  <a:pt x="7200" y="20422"/>
                  <a:pt x="0" y="20042"/>
                </a:cubicBezTo>
                <a:close/>
              </a:path>
            </a:pathLst>
          </a:custGeom>
          <a:solidFill>
            <a:srgbClr val="f4cb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AutoShape 11"/>
          <p:cNvSpPr/>
          <p:nvPr/>
        </p:nvSpPr>
        <p:spPr>
          <a:xfrm>
            <a:off x="5970600" y="1198440"/>
            <a:ext cx="4313160" cy="528840"/>
          </a:xfrm>
          <a:custGeom>
            <a:avLst/>
            <a:gdLst>
              <a:gd name="textAreaLeft" fmla="*/ 0 w 4313160"/>
              <a:gd name="textAreaRight" fmla="*/ 4313520 w 4313160"/>
              <a:gd name="textAreaTop" fmla="*/ 0 h 528840"/>
              <a:gd name="textAreaBottom" fmla="*/ 528840 h 528840"/>
            </a:gdLst>
            <a:ahLst/>
            <a:rect l="textAreaLeft" t="textAreaTop" r="textAreaRight" b="textAreaBottom"/>
            <a:pathLst>
              <a:path w="21600" h="21600">
                <a:moveTo>
                  <a:pt x="0" y="20859"/>
                </a:moveTo>
                <a:lnTo>
                  <a:pt x="21600" y="21600"/>
                </a:lnTo>
                <a:cubicBezTo>
                  <a:pt x="19936" y="17863"/>
                  <a:pt x="18973" y="12147"/>
                  <a:pt x="16761" y="6545"/>
                </a:cubicBezTo>
                <a:cubicBezTo>
                  <a:pt x="15656" y="3745"/>
                  <a:pt x="14971" y="3115"/>
                  <a:pt x="14311" y="2409"/>
                </a:cubicBezTo>
                <a:cubicBezTo>
                  <a:pt x="13651" y="1704"/>
                  <a:pt x="13538" y="1148"/>
                  <a:pt x="11634" y="0"/>
                </a:cubicBezTo>
                <a:cubicBezTo>
                  <a:pt x="8791" y="225"/>
                  <a:pt x="9598" y="230"/>
                  <a:pt x="8630" y="1227"/>
                </a:cubicBezTo>
                <a:cubicBezTo>
                  <a:pt x="7662" y="2223"/>
                  <a:pt x="6775" y="4972"/>
                  <a:pt x="5807" y="6778"/>
                </a:cubicBezTo>
                <a:cubicBezTo>
                  <a:pt x="3871" y="10392"/>
                  <a:pt x="1936" y="17245"/>
                  <a:pt x="0" y="20859"/>
                </a:cubicBezTo>
                <a:close/>
              </a:path>
            </a:pathLst>
          </a:custGeom>
          <a:solidFill>
            <a:srgbClr val="7bb89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5745240" y="3627000"/>
            <a:ext cx="5311080" cy="19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920" rIns="52920" tIns="52920" bIns="529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12000" spc="-1" strike="noStrike">
                <a:solidFill>
                  <a:srgbClr val="ffffff"/>
                </a:solidFill>
                <a:latin typeface="Malayalam MN"/>
                <a:ea typeface="宋体"/>
              </a:rPr>
              <a:t>STORM</a:t>
            </a:r>
            <a:endParaRPr b="0" lang="en-US" sz="12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4994280" y="4757760"/>
            <a:ext cx="385920" cy="131760"/>
          </a:xfrm>
          <a:prstGeom prst="rect">
            <a:avLst/>
          </a:prstGeom>
          <a:solidFill>
            <a:srgbClr val="1286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4994280" y="4889520"/>
            <a:ext cx="385920" cy="131760"/>
          </a:xfrm>
          <a:prstGeom prst="rect">
            <a:avLst/>
          </a:prstGeom>
          <a:solidFill>
            <a:srgbClr val="fd88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4859640" y="3773160"/>
            <a:ext cx="95832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920" rIns="52920" tIns="52920" bIns="5292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Helvetica Light"/>
                <a:ea typeface="宋体"/>
              </a:rPr>
              <a:t>storm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4893480" y="4120920"/>
            <a:ext cx="59724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920" rIns="52920" tIns="52920" bIns="5292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Helvetica Light"/>
                <a:ea typeface="宋体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2" name="Line 17"/>
          <p:cNvSpPr/>
          <p:nvPr/>
        </p:nvSpPr>
        <p:spPr>
          <a:xfrm flipV="1">
            <a:off x="4471920" y="3957120"/>
            <a:ext cx="0" cy="106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3" name="Line 18"/>
          <p:cNvSpPr/>
          <p:nvPr/>
        </p:nvSpPr>
        <p:spPr>
          <a:xfrm flipV="1">
            <a:off x="11630160" y="4005360"/>
            <a:ext cx="0" cy="1063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"/>
          <p:cNvSpPr/>
          <p:nvPr/>
        </p:nvSpPr>
        <p:spPr>
          <a:xfrm>
            <a:off x="0" y="0"/>
            <a:ext cx="14017680" cy="3973680"/>
          </a:xfrm>
          <a:prstGeom prst="rect">
            <a:avLst/>
          </a:prstGeom>
          <a:solidFill>
            <a:srgbClr val="dcdee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32" name="Rectangle 2"/>
          <p:cNvSpPr/>
          <p:nvPr/>
        </p:nvSpPr>
        <p:spPr>
          <a:xfrm>
            <a:off x="1488960" y="3035160"/>
            <a:ext cx="3797280" cy="41878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6040440" y="3035160"/>
            <a:ext cx="3797280" cy="418788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234" name="Picture 4" descr="98506f8d7167647ad66e9c408703738bb6134e61529f8-qZyfNV_fw658-filtered.png"/>
          <p:cNvPicPr/>
          <p:nvPr/>
        </p:nvPicPr>
        <p:blipFill>
          <a:blip r:embed="rId1"/>
          <a:stretch/>
        </p:blipFill>
        <p:spPr>
          <a:xfrm>
            <a:off x="6272280" y="4184640"/>
            <a:ext cx="3333600" cy="2077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06651e78bd9b67b64d06c7e668b0d29281fbf8e8944b3-Zbfc6Z_fw658-filtered.png"/>
          <p:cNvPicPr/>
          <p:nvPr/>
        </p:nvPicPr>
        <p:blipFill>
          <a:blip r:embed="rId2"/>
          <a:stretch/>
        </p:blipFill>
        <p:spPr>
          <a:xfrm>
            <a:off x="1488960" y="3952800"/>
            <a:ext cx="3797280" cy="23097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psd14143-filtered.png"/>
          <p:cNvPicPr/>
          <p:nvPr/>
        </p:nvPicPr>
        <p:blipFill>
          <a:blip r:embed="rId3"/>
          <a:stretch/>
        </p:blipFill>
        <p:spPr>
          <a:xfrm>
            <a:off x="10590120" y="3035160"/>
            <a:ext cx="3429000" cy="4187880"/>
          </a:xfrm>
          <a:prstGeom prst="rect">
            <a:avLst/>
          </a:prstGeom>
          <a:ln w="0">
            <a:noFill/>
          </a:ln>
        </p:spPr>
      </p:pic>
      <p:grpSp>
        <p:nvGrpSpPr>
          <p:cNvPr id="237" name="Group 7"/>
          <p:cNvGrpSpPr/>
          <p:nvPr/>
        </p:nvGrpSpPr>
        <p:grpSpPr>
          <a:xfrm>
            <a:off x="2612880" y="482760"/>
            <a:ext cx="10346040" cy="1539720"/>
            <a:chOff x="2612880" y="482760"/>
            <a:chExt cx="10346040" cy="1539720"/>
          </a:xfrm>
        </p:grpSpPr>
        <p:sp>
          <p:nvSpPr>
            <p:cNvPr id="238" name="AutoShape 8"/>
            <p:cNvSpPr/>
            <p:nvPr/>
          </p:nvSpPr>
          <p:spPr>
            <a:xfrm>
              <a:off x="2612880" y="482760"/>
              <a:ext cx="1539720" cy="1539720"/>
            </a:xfrm>
            <a:custGeom>
              <a:avLst/>
              <a:gdLst>
                <a:gd name="textAreaLeft" fmla="*/ 0 w 1539720"/>
                <a:gd name="textAreaRight" fmla="*/ 1540080 w 1539720"/>
                <a:gd name="textAreaTop" fmla="*/ 0 h 1539720"/>
                <a:gd name="textAreaBottom" fmla="*/ 1540080 h 153972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</a:path>
              </a:pathLst>
            </a:custGeom>
            <a:noFill/>
            <a:ln w="3240">
              <a:solidFill>
                <a:srgbClr val="5358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39" name="AutoShape 9"/>
            <p:cNvSpPr/>
            <p:nvPr/>
          </p:nvSpPr>
          <p:spPr>
            <a:xfrm>
              <a:off x="7014960" y="482760"/>
              <a:ext cx="1541520" cy="1539720"/>
            </a:xfrm>
            <a:custGeom>
              <a:avLst/>
              <a:gdLst>
                <a:gd name="textAreaLeft" fmla="*/ 0 w 1541520"/>
                <a:gd name="textAreaRight" fmla="*/ 1541880 w 1541520"/>
                <a:gd name="textAreaTop" fmla="*/ 0 h 1539720"/>
                <a:gd name="textAreaBottom" fmla="*/ 1540080 h 153972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</a:path>
              </a:pathLst>
            </a:custGeom>
            <a:noFill/>
            <a:ln w="3240">
              <a:solidFill>
                <a:srgbClr val="5358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40" name="AutoShape 10"/>
            <p:cNvSpPr/>
            <p:nvPr/>
          </p:nvSpPr>
          <p:spPr>
            <a:xfrm>
              <a:off x="11419200" y="482760"/>
              <a:ext cx="1539720" cy="1539720"/>
            </a:xfrm>
            <a:custGeom>
              <a:avLst/>
              <a:gdLst>
                <a:gd name="textAreaLeft" fmla="*/ 0 w 1539720"/>
                <a:gd name="textAreaRight" fmla="*/ 1540080 w 1539720"/>
                <a:gd name="textAreaTop" fmla="*/ 0 h 1539720"/>
                <a:gd name="textAreaBottom" fmla="*/ 1540080 h 153972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</a:path>
              </a:pathLst>
            </a:custGeom>
            <a:noFill/>
            <a:ln w="3240">
              <a:solidFill>
                <a:srgbClr val="5358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pic>
          <p:nvPicPr>
            <p:cNvPr id="241" name="Picture 11" descr="pasted-image.pdf"/>
            <p:cNvPicPr/>
            <p:nvPr/>
          </p:nvPicPr>
          <p:blipFill>
            <a:blip r:embed="rId4"/>
            <a:stretch/>
          </p:blipFill>
          <p:spPr>
            <a:xfrm>
              <a:off x="3220920" y="828720"/>
              <a:ext cx="298440" cy="9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12" descr="pasted-image.pdf"/>
            <p:cNvPicPr/>
            <p:nvPr/>
          </p:nvPicPr>
          <p:blipFill>
            <a:blip r:embed="rId5"/>
            <a:stretch/>
          </p:blipFill>
          <p:spPr>
            <a:xfrm>
              <a:off x="7356600" y="919080"/>
              <a:ext cx="887400" cy="72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13" descr="pasted-image.pdf"/>
            <p:cNvPicPr/>
            <p:nvPr/>
          </p:nvPicPr>
          <p:blipFill>
            <a:blip r:embed="rId6"/>
            <a:stretch/>
          </p:blipFill>
          <p:spPr>
            <a:xfrm>
              <a:off x="11784240" y="961920"/>
              <a:ext cx="809640" cy="72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4" name="Rectangle 14"/>
          <p:cNvSpPr/>
          <p:nvPr/>
        </p:nvSpPr>
        <p:spPr>
          <a:xfrm>
            <a:off x="1507320" y="7721280"/>
            <a:ext cx="194760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920" rIns="52920" tIns="52920" bIns="529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2300" spc="-1" strike="noStrike">
                <a:solidFill>
                  <a:srgbClr val="a6aaa9"/>
                </a:solidFill>
                <a:latin typeface="Helvetica Neue Light"/>
                <a:ea typeface="宋体"/>
              </a:rPr>
              <a:t>WORKS PAGE</a:t>
            </a:r>
            <a:endParaRPr b="0" lang="en-US" sz="23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6058800" y="7721280"/>
            <a:ext cx="194760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920" rIns="52920" tIns="52920" bIns="529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2300" spc="-1" strike="noStrike">
                <a:solidFill>
                  <a:srgbClr val="a6aaa9"/>
                </a:solidFill>
                <a:latin typeface="Helvetica Neue Light"/>
                <a:ea typeface="宋体"/>
              </a:rPr>
              <a:t>WORKS PAGE</a:t>
            </a:r>
            <a:endParaRPr b="0" lang="en-US" sz="23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6" name="Rectangle 16"/>
          <p:cNvSpPr/>
          <p:nvPr/>
        </p:nvSpPr>
        <p:spPr>
          <a:xfrm>
            <a:off x="10609200" y="7770600"/>
            <a:ext cx="194760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920" rIns="52920" tIns="52920" bIns="529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2300" spc="-1" strike="noStrike">
                <a:solidFill>
                  <a:srgbClr val="a6aaa9"/>
                </a:solidFill>
                <a:latin typeface="Helvetica Neue Light"/>
                <a:ea typeface="宋体"/>
              </a:rPr>
              <a:t>WORKS PAGE</a:t>
            </a:r>
            <a:endParaRPr b="0" lang="en-US" sz="23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e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"/>
          <p:cNvSpPr/>
          <p:nvPr/>
        </p:nvSpPr>
        <p:spPr>
          <a:xfrm>
            <a:off x="1347840" y="1522440"/>
            <a:ext cx="13558680" cy="45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9313920" y="6080040"/>
            <a:ext cx="2977920" cy="287280"/>
          </a:xfrm>
          <a:prstGeom prst="rect">
            <a:avLst/>
          </a:prstGeom>
          <a:solidFill>
            <a:srgbClr val="1286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1347840" y="6080040"/>
            <a:ext cx="7966080" cy="287280"/>
          </a:xfrm>
          <a:prstGeom prst="rect">
            <a:avLst/>
          </a:prstGeom>
          <a:solidFill>
            <a:srgbClr val="353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0" name="Line 4"/>
          <p:cNvSpPr/>
          <p:nvPr/>
        </p:nvSpPr>
        <p:spPr>
          <a:xfrm>
            <a:off x="6141960" y="8774280"/>
            <a:ext cx="4065840" cy="0"/>
          </a:xfrm>
          <a:prstGeom prst="line">
            <a:avLst/>
          </a:prstGeom>
          <a:ln w="3240">
            <a:solidFill>
              <a:srgbClr val="5358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251" name="Group 5"/>
          <p:cNvGrpSpPr/>
          <p:nvPr/>
        </p:nvGrpSpPr>
        <p:grpSpPr>
          <a:xfrm>
            <a:off x="6094440" y="7881840"/>
            <a:ext cx="3851280" cy="573120"/>
            <a:chOff x="6094440" y="7881840"/>
            <a:chExt cx="3851280" cy="573120"/>
          </a:xfrm>
        </p:grpSpPr>
        <p:sp>
          <p:nvSpPr>
            <p:cNvPr id="252" name="AutoShape 6"/>
            <p:cNvSpPr/>
            <p:nvPr/>
          </p:nvSpPr>
          <p:spPr>
            <a:xfrm>
              <a:off x="6094440" y="7881840"/>
              <a:ext cx="573120" cy="5731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</a:path>
              </a:pathLst>
            </a:custGeom>
            <a:noFill/>
            <a:ln w="3240">
              <a:solidFill>
                <a:srgbClr val="5358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53" name="AutoShape 7"/>
            <p:cNvSpPr/>
            <p:nvPr/>
          </p:nvSpPr>
          <p:spPr>
            <a:xfrm>
              <a:off x="7732800" y="7881840"/>
              <a:ext cx="574560" cy="57312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573120"/>
                <a:gd name="textAreaBottom" fmla="*/ 573120 h 57312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</a:path>
              </a:pathLst>
            </a:custGeom>
            <a:noFill/>
            <a:ln w="3240">
              <a:solidFill>
                <a:srgbClr val="5358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54" name="AutoShape 8"/>
            <p:cNvSpPr/>
            <p:nvPr/>
          </p:nvSpPr>
          <p:spPr>
            <a:xfrm>
              <a:off x="9372600" y="7881840"/>
              <a:ext cx="573120" cy="5731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</a:path>
              </a:pathLst>
            </a:custGeom>
            <a:noFill/>
            <a:ln w="3240">
              <a:solidFill>
                <a:srgbClr val="5358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pic>
          <p:nvPicPr>
            <p:cNvPr id="255" name="Picture 9" descr="pasted-image.pdf"/>
            <p:cNvPicPr/>
            <p:nvPr/>
          </p:nvPicPr>
          <p:blipFill>
            <a:blip r:embed="rId1"/>
            <a:stretch/>
          </p:blipFill>
          <p:spPr>
            <a:xfrm>
              <a:off x="6321240" y="8010360"/>
              <a:ext cx="110880" cy="3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10" descr="pasted-image.pdf"/>
            <p:cNvPicPr/>
            <p:nvPr/>
          </p:nvPicPr>
          <p:blipFill>
            <a:blip r:embed="rId2"/>
            <a:stretch/>
          </p:blipFill>
          <p:spPr>
            <a:xfrm>
              <a:off x="7859880" y="8043840"/>
              <a:ext cx="330120" cy="2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11" descr="pasted-image.pdf"/>
            <p:cNvPicPr/>
            <p:nvPr/>
          </p:nvPicPr>
          <p:blipFill>
            <a:blip r:embed="rId3"/>
            <a:stretch/>
          </p:blipFill>
          <p:spPr>
            <a:xfrm>
              <a:off x="9509400" y="8059680"/>
              <a:ext cx="299880" cy="27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Rectangle 13"/>
          <p:cNvSpPr/>
          <p:nvPr/>
        </p:nvSpPr>
        <p:spPr>
          <a:xfrm>
            <a:off x="4377600" y="3164040"/>
            <a:ext cx="728316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920" rIns="52920" tIns="52920" bIns="5292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Helvetica Light"/>
                <a:ea typeface="宋体"/>
              </a:rPr>
              <a:t>THANK YOU</a:t>
            </a:r>
            <a:endParaRPr b="0" lang="en-US" sz="10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12291840" y="6072120"/>
            <a:ext cx="2614680" cy="287280"/>
          </a:xfrm>
          <a:prstGeom prst="rect">
            <a:avLst/>
          </a:prstGeom>
          <a:solidFill>
            <a:srgbClr val="fd8a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68575292jw1e7krsmlyyaj20mp0gkgpn-filtered.jpeg"/>
          <p:cNvPicPr/>
          <p:nvPr/>
        </p:nvPicPr>
        <p:blipFill>
          <a:blip r:embed="rId1"/>
          <a:srcRect l="4755" t="9354" r="10817" b="44450"/>
          <a:stretch/>
        </p:blipFill>
        <p:spPr>
          <a:xfrm>
            <a:off x="0" y="0"/>
            <a:ext cx="16254360" cy="64674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"/>
          <p:cNvSpPr/>
          <p:nvPr/>
        </p:nvSpPr>
        <p:spPr>
          <a:xfrm>
            <a:off x="3038400" y="1827360"/>
            <a:ext cx="10228320" cy="2331720"/>
          </a:xfrm>
          <a:prstGeom prst="rect">
            <a:avLst/>
          </a:prstGeom>
          <a:solidFill>
            <a:srgbClr val="0000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000240" y="6010200"/>
            <a:ext cx="10226880" cy="946080"/>
          </a:xfrm>
          <a:prstGeom prst="rect">
            <a:avLst/>
          </a:prstGeom>
          <a:solidFill>
            <a:srgbClr val="1286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3220640" y="6010200"/>
            <a:ext cx="1201680" cy="946080"/>
          </a:xfrm>
          <a:prstGeom prst="rect">
            <a:avLst/>
          </a:prstGeom>
          <a:solidFill>
            <a:srgbClr val="fd88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3823200" y="6232320"/>
            <a:ext cx="67212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920" rIns="52920" tIns="52920" bIns="5292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Helvetica Light"/>
                <a:ea typeface="宋体"/>
              </a:rPr>
              <a:t>way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6200640" y="7566120"/>
            <a:ext cx="573120" cy="573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noFill/>
          <a:ln w="3240">
            <a:solidFill>
              <a:srgbClr val="5358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7840800" y="7566120"/>
            <a:ext cx="573120" cy="573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noFill/>
          <a:ln w="3240">
            <a:solidFill>
              <a:srgbClr val="5358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9480600" y="7566120"/>
            <a:ext cx="573120" cy="573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noFill/>
          <a:ln w="3240">
            <a:solidFill>
              <a:srgbClr val="5358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62" name="Picture 9" descr="2294-200.png"/>
          <p:cNvPicPr/>
          <p:nvPr/>
        </p:nvPicPr>
        <p:blipFill>
          <a:blip r:embed="rId2"/>
          <a:stretch/>
        </p:blipFill>
        <p:spPr>
          <a:xfrm>
            <a:off x="9580680" y="7667640"/>
            <a:ext cx="371520" cy="371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45375-200.png"/>
          <p:cNvPicPr/>
          <p:nvPr/>
        </p:nvPicPr>
        <p:blipFill>
          <a:blip r:embed="rId3"/>
          <a:stretch/>
        </p:blipFill>
        <p:spPr>
          <a:xfrm>
            <a:off x="7942320" y="7667640"/>
            <a:ext cx="369720" cy="371520"/>
          </a:xfrm>
          <a:prstGeom prst="rect">
            <a:avLst/>
          </a:prstGeom>
          <a:ln w="0">
            <a:noFill/>
          </a:ln>
        </p:spPr>
      </p:pic>
      <p:sp>
        <p:nvSpPr>
          <p:cNvPr id="64" name="Line 11"/>
          <p:cNvSpPr/>
          <p:nvPr/>
        </p:nvSpPr>
        <p:spPr>
          <a:xfrm>
            <a:off x="6199200" y="8454960"/>
            <a:ext cx="4065480" cy="0"/>
          </a:xfrm>
          <a:prstGeom prst="line">
            <a:avLst/>
          </a:prstGeom>
          <a:ln w="3240">
            <a:solidFill>
              <a:srgbClr val="5358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65" name="Picture 12" descr="1713-200.jpg"/>
          <p:cNvPicPr/>
          <p:nvPr/>
        </p:nvPicPr>
        <p:blipFill>
          <a:blip r:embed="rId4"/>
          <a:stretch/>
        </p:blipFill>
        <p:spPr>
          <a:xfrm>
            <a:off x="6302520" y="7667640"/>
            <a:ext cx="371160" cy="3715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3"/>
          <p:cNvSpPr/>
          <p:nvPr/>
        </p:nvSpPr>
        <p:spPr>
          <a:xfrm>
            <a:off x="7091640" y="8776800"/>
            <a:ext cx="101484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920" rIns="52920" tIns="52920" bIns="5292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2400" spc="-1" strike="noStrike">
                <a:solidFill>
                  <a:srgbClr val="53585f"/>
                </a:solidFill>
                <a:latin typeface="Helvetica Light"/>
                <a:ea typeface="宋体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6641640" y="9260280"/>
            <a:ext cx="30175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920" rIns="52920" tIns="52920" bIns="5292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1100" spc="-1" strike="noStrike">
                <a:solidFill>
                  <a:srgbClr val="53585f"/>
                </a:solidFill>
                <a:latin typeface="Helvetica Light"/>
                <a:ea typeface="宋体"/>
              </a:rPr>
              <a:t>HOME</a:t>
            </a:r>
            <a:r>
              <a:rPr b="0" lang="zh-CN" sz="1100" spc="-1" strike="noStrike">
                <a:solidFill>
                  <a:srgbClr val="53585f"/>
                </a:solidFill>
                <a:latin typeface="Helvetica Light"/>
                <a:ea typeface="宋体"/>
              </a:rPr>
              <a:t>分哈斯理发卡拉斯；花费；</a:t>
            </a:r>
            <a:r>
              <a:rPr b="0" lang="zh-CN" sz="1100" spc="-1" strike="noStrike">
                <a:solidFill>
                  <a:srgbClr val="53585f"/>
                </a:solidFill>
                <a:latin typeface="Helvetica Light"/>
                <a:ea typeface="宋体"/>
              </a:rPr>
              <a:t>LAS</a:t>
            </a:r>
            <a:r>
              <a:rPr b="0" lang="zh-CN" sz="1100" spc="-1" strike="noStrike">
                <a:solidFill>
                  <a:srgbClr val="53585f"/>
                </a:solidFill>
                <a:latin typeface="Helvetica Light"/>
                <a:ea typeface="宋体"/>
              </a:rPr>
              <a:t>发哈；是；范德萨发</a:t>
            </a:r>
            <a:r>
              <a:rPr b="0" lang="zh-CN" sz="1100" spc="-1" strike="noStrike">
                <a:solidFill>
                  <a:srgbClr val="53585f"/>
                </a:solidFill>
                <a:latin typeface="Helvetica Light"/>
                <a:ea typeface="宋体"/>
              </a:rPr>
              <a:t>ASF</a:t>
            </a:r>
            <a:r>
              <a:rPr b="0" lang="zh-CN" sz="1100" spc="-1" strike="noStrike">
                <a:solidFill>
                  <a:srgbClr val="53585f"/>
                </a:solidFill>
                <a:latin typeface="Helvetica Light"/>
                <a:ea typeface="宋体"/>
              </a:rPr>
              <a:t>好</a:t>
            </a:r>
            <a:endParaRPr b="0" lang="en-US" sz="11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8272440" y="8776800"/>
            <a:ext cx="87768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920" rIns="52920" tIns="52920" bIns="5292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2400" spc="-1" strike="noStrike">
                <a:solidFill>
                  <a:srgbClr val="53585f"/>
                </a:solidFill>
                <a:latin typeface="Helvetica Light"/>
                <a:ea typeface="宋体"/>
              </a:rPr>
              <a:t>PAGE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9" name="Line 16"/>
          <p:cNvSpPr/>
          <p:nvPr/>
        </p:nvSpPr>
        <p:spPr>
          <a:xfrm flipV="1">
            <a:off x="5322960" y="6346800"/>
            <a:ext cx="0" cy="27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Rectangle 17"/>
          <p:cNvSpPr/>
          <p:nvPr/>
        </p:nvSpPr>
        <p:spPr>
          <a:xfrm>
            <a:off x="5865120" y="6232320"/>
            <a:ext cx="125568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920" rIns="52920" tIns="52920" bIns="5292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Helvetica Light"/>
                <a:ea typeface="宋体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1" name="Line 18"/>
          <p:cNvSpPr/>
          <p:nvPr/>
        </p:nvSpPr>
        <p:spPr>
          <a:xfrm flipV="1">
            <a:off x="7737480" y="6346800"/>
            <a:ext cx="0" cy="27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2" name="Rectangle 19"/>
          <p:cNvSpPr/>
          <p:nvPr/>
        </p:nvSpPr>
        <p:spPr>
          <a:xfrm>
            <a:off x="8662680" y="6246360"/>
            <a:ext cx="82440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920" rIns="52920" tIns="52920" bIns="5292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Helvetica Light"/>
                <a:ea typeface="宋体"/>
              </a:rPr>
              <a:t>page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Line 20"/>
          <p:cNvSpPr/>
          <p:nvPr/>
        </p:nvSpPr>
        <p:spPr>
          <a:xfrm flipV="1">
            <a:off x="10412280" y="6346800"/>
            <a:ext cx="0" cy="27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Rectangle 21"/>
          <p:cNvSpPr/>
          <p:nvPr/>
        </p:nvSpPr>
        <p:spPr>
          <a:xfrm>
            <a:off x="10946160" y="6246360"/>
            <a:ext cx="125244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920" rIns="52920" tIns="52920" bIns="5292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Helvetica Light"/>
                <a:ea typeface="宋体"/>
              </a:rPr>
              <a:t>keynote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75" name="Group 22"/>
          <p:cNvGrpSpPr/>
          <p:nvPr/>
        </p:nvGrpSpPr>
        <p:grpSpPr>
          <a:xfrm>
            <a:off x="13666680" y="6386400"/>
            <a:ext cx="309600" cy="290520"/>
            <a:chOff x="13666680" y="6386400"/>
            <a:chExt cx="309600" cy="290520"/>
          </a:xfrm>
        </p:grpSpPr>
        <p:sp>
          <p:nvSpPr>
            <p:cNvPr id="76" name="AutoShape 23"/>
            <p:cNvSpPr/>
            <p:nvPr/>
          </p:nvSpPr>
          <p:spPr>
            <a:xfrm>
              <a:off x="13666680" y="6386400"/>
              <a:ext cx="233640" cy="23364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77" name="Line 24"/>
            <p:cNvSpPr/>
            <p:nvPr/>
          </p:nvSpPr>
          <p:spPr>
            <a:xfrm>
              <a:off x="13860360" y="6561000"/>
              <a:ext cx="115920" cy="115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sp>
        <p:nvSpPr>
          <p:cNvPr id="78" name="Rectangle 25"/>
          <p:cNvSpPr/>
          <p:nvPr/>
        </p:nvSpPr>
        <p:spPr>
          <a:xfrm>
            <a:off x="4975200" y="3413160"/>
            <a:ext cx="385920" cy="130320"/>
          </a:xfrm>
          <a:prstGeom prst="rect">
            <a:avLst/>
          </a:prstGeom>
          <a:solidFill>
            <a:srgbClr val="1286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9" name="Rectangle 26"/>
          <p:cNvSpPr/>
          <p:nvPr/>
        </p:nvSpPr>
        <p:spPr>
          <a:xfrm>
            <a:off x="4975200" y="3543480"/>
            <a:ext cx="385920" cy="131760"/>
          </a:xfrm>
          <a:prstGeom prst="rect">
            <a:avLst/>
          </a:prstGeom>
          <a:solidFill>
            <a:srgbClr val="fd88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0" name="Rectangle 27"/>
          <p:cNvSpPr/>
          <p:nvPr/>
        </p:nvSpPr>
        <p:spPr>
          <a:xfrm>
            <a:off x="4840560" y="2427120"/>
            <a:ext cx="95832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920" rIns="52920" tIns="52920" bIns="5292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Helvetica Light"/>
                <a:ea typeface="宋体"/>
              </a:rPr>
              <a:t>storm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1" name="Rectangle 28"/>
          <p:cNvSpPr/>
          <p:nvPr/>
        </p:nvSpPr>
        <p:spPr>
          <a:xfrm>
            <a:off x="4875120" y="2774520"/>
            <a:ext cx="59724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920" rIns="52920" tIns="52920" bIns="5292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Helvetica Light"/>
                <a:ea typeface="宋体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2" name="Line 29"/>
          <p:cNvSpPr/>
          <p:nvPr/>
        </p:nvSpPr>
        <p:spPr>
          <a:xfrm flipV="1">
            <a:off x="4197240" y="2555640"/>
            <a:ext cx="0" cy="11192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Line 30"/>
          <p:cNvSpPr/>
          <p:nvPr/>
        </p:nvSpPr>
        <p:spPr>
          <a:xfrm flipV="1">
            <a:off x="12568320" y="2494080"/>
            <a:ext cx="0" cy="1117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4" name="Rectangle 31"/>
          <p:cNvSpPr/>
          <p:nvPr/>
        </p:nvSpPr>
        <p:spPr>
          <a:xfrm>
            <a:off x="2998800" y="9433080"/>
            <a:ext cx="384120" cy="33120"/>
          </a:xfrm>
          <a:prstGeom prst="rect">
            <a:avLst/>
          </a:prstGeom>
          <a:solidFill>
            <a:srgbClr val="128657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5" name="Rectangle 32"/>
          <p:cNvSpPr/>
          <p:nvPr/>
        </p:nvSpPr>
        <p:spPr>
          <a:xfrm>
            <a:off x="14038200" y="9396360"/>
            <a:ext cx="384120" cy="33480"/>
          </a:xfrm>
          <a:prstGeom prst="rect">
            <a:avLst/>
          </a:prstGeom>
          <a:solidFill>
            <a:srgbClr val="128657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6" name="Rectangle 33"/>
          <p:cNvSpPr/>
          <p:nvPr/>
        </p:nvSpPr>
        <p:spPr>
          <a:xfrm>
            <a:off x="6352560" y="2147400"/>
            <a:ext cx="5311080" cy="19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920" rIns="52920" tIns="52920" bIns="529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12000" spc="-1" strike="noStrike">
                <a:solidFill>
                  <a:srgbClr val="ffffff"/>
                </a:solidFill>
                <a:latin typeface="Malayalam MN"/>
                <a:ea typeface="宋体"/>
              </a:rPr>
              <a:t>STORM</a:t>
            </a:r>
            <a:endParaRPr b="0" lang="en-US" sz="12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5818320" y="1782360"/>
            <a:ext cx="4617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920" rIns="52920" tIns="52920" bIns="529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10400" spc="-1" strike="noStrike">
                <a:solidFill>
                  <a:srgbClr val="043c0c"/>
                </a:solidFill>
                <a:latin typeface="Malayalam MN"/>
                <a:ea typeface="宋体"/>
              </a:rPr>
              <a:t>STORM</a:t>
            </a:r>
            <a:endParaRPr b="0" lang="en-US" sz="10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5562360" y="4039200"/>
            <a:ext cx="5129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920" rIns="52920" tIns="52920" bIns="529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2800" spc="-1" strike="noStrike">
                <a:solidFill>
                  <a:srgbClr val="53585f"/>
                </a:solidFill>
                <a:latin typeface="Helvetica Neue UltraLight"/>
                <a:ea typeface="宋体"/>
              </a:rPr>
              <a:t>STORM CORE DESIGN STUDIO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9" name="Line 3"/>
          <p:cNvSpPr/>
          <p:nvPr/>
        </p:nvSpPr>
        <p:spPr>
          <a:xfrm>
            <a:off x="7932600" y="3773520"/>
            <a:ext cx="263520" cy="0"/>
          </a:xfrm>
          <a:prstGeom prst="line">
            <a:avLst/>
          </a:prstGeom>
          <a:ln w="38160">
            <a:solidFill>
              <a:srgbClr val="a6aa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5791320"/>
            <a:ext cx="16392600" cy="4389480"/>
          </a:xfrm>
          <a:prstGeom prst="rect">
            <a:avLst/>
          </a:prstGeom>
          <a:solidFill>
            <a:srgbClr val="ea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5163480" y="6321960"/>
            <a:ext cx="59281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920" rIns="52920" tIns="52920" bIns="529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1600" spc="-1" strike="noStrike">
                <a:solidFill>
                  <a:srgbClr val="53585f"/>
                </a:solidFill>
                <a:latin typeface="Helvetica Neue UltraLight"/>
                <a:ea typeface="宋体"/>
              </a:rPr>
              <a:t>STORM CORE DESIGN STUDIO MAIN  WORK FOR  TWO YEARS</a:t>
            </a:r>
            <a:endParaRPr b="0" lang="en-US" sz="1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2" name="Line 6"/>
          <p:cNvSpPr/>
          <p:nvPr/>
        </p:nvSpPr>
        <p:spPr>
          <a:xfrm>
            <a:off x="7662960" y="6996240"/>
            <a:ext cx="801720" cy="0"/>
          </a:xfrm>
          <a:prstGeom prst="line">
            <a:avLst/>
          </a:prstGeom>
          <a:ln w="38160">
            <a:solidFill>
              <a:srgbClr val="a6aa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3" name="AutoShape 7"/>
          <p:cNvSpPr/>
          <p:nvPr/>
        </p:nvSpPr>
        <p:spPr>
          <a:xfrm rot="21571200">
            <a:off x="3884760" y="8113320"/>
            <a:ext cx="9144000" cy="21049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04920"/>
              <a:gd name="textAreaBottom" fmla="*/ 2105280 h 2104920"/>
            </a:gdLst>
            <a:ahLst/>
            <a:rect l="textAreaLeft" t="textAreaTop" r="textAreaRight" b="textAreaBottom"/>
            <a:pathLst>
              <a:path w="21600" h="21181">
                <a:moveTo>
                  <a:pt x="0" y="20042"/>
                </a:moveTo>
                <a:cubicBezTo>
                  <a:pt x="959" y="14528"/>
                  <a:pt x="1297" y="13399"/>
                  <a:pt x="2054" y="11170"/>
                </a:cubicBezTo>
                <a:cubicBezTo>
                  <a:pt x="2432" y="10056"/>
                  <a:pt x="2865" y="8776"/>
                  <a:pt x="3297" y="8208"/>
                </a:cubicBezTo>
                <a:cubicBezTo>
                  <a:pt x="3730" y="7640"/>
                  <a:pt x="3824" y="7164"/>
                  <a:pt x="4541" y="6670"/>
                </a:cubicBezTo>
                <a:cubicBezTo>
                  <a:pt x="7080" y="7799"/>
                  <a:pt x="7662" y="15880"/>
                  <a:pt x="9223" y="20485"/>
                </a:cubicBezTo>
                <a:cubicBezTo>
                  <a:pt x="10541" y="17078"/>
                  <a:pt x="12272" y="12739"/>
                  <a:pt x="13567" y="7337"/>
                </a:cubicBezTo>
                <a:cubicBezTo>
                  <a:pt x="14861" y="1935"/>
                  <a:pt x="15832" y="426"/>
                  <a:pt x="17129" y="40"/>
                </a:cubicBezTo>
                <a:cubicBezTo>
                  <a:pt x="18481" y="-419"/>
                  <a:pt x="18978" y="3157"/>
                  <a:pt x="19725" y="7099"/>
                </a:cubicBezTo>
                <a:cubicBezTo>
                  <a:pt x="20098" y="9070"/>
                  <a:pt x="20365" y="11444"/>
                  <a:pt x="20679" y="13854"/>
                </a:cubicBezTo>
                <a:cubicBezTo>
                  <a:pt x="20986" y="16296"/>
                  <a:pt x="21315" y="19445"/>
                  <a:pt x="21600" y="21181"/>
                </a:cubicBezTo>
                <a:cubicBezTo>
                  <a:pt x="14400" y="20801"/>
                  <a:pt x="7200" y="20422"/>
                  <a:pt x="0" y="20042"/>
                </a:cubicBezTo>
                <a:close/>
              </a:path>
            </a:pathLst>
          </a:custGeom>
          <a:solidFill>
            <a:srgbClr val="f4cb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4" name="AutoShape 8"/>
          <p:cNvSpPr/>
          <p:nvPr/>
        </p:nvSpPr>
        <p:spPr>
          <a:xfrm>
            <a:off x="4255920" y="8920080"/>
            <a:ext cx="6812280" cy="1285920"/>
          </a:xfrm>
          <a:custGeom>
            <a:avLst/>
            <a:gdLst>
              <a:gd name="textAreaLeft" fmla="*/ 0 w 6812280"/>
              <a:gd name="textAreaRight" fmla="*/ 6812640 w 681228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21600" h="21600">
                <a:moveTo>
                  <a:pt x="0" y="20859"/>
                </a:moveTo>
                <a:lnTo>
                  <a:pt x="21600" y="21600"/>
                </a:lnTo>
                <a:cubicBezTo>
                  <a:pt x="19936" y="17863"/>
                  <a:pt x="18973" y="12147"/>
                  <a:pt x="16761" y="6545"/>
                </a:cubicBezTo>
                <a:cubicBezTo>
                  <a:pt x="15656" y="3745"/>
                  <a:pt x="14971" y="3115"/>
                  <a:pt x="14311" y="2409"/>
                </a:cubicBezTo>
                <a:cubicBezTo>
                  <a:pt x="13651" y="1704"/>
                  <a:pt x="13538" y="1148"/>
                  <a:pt x="11634" y="0"/>
                </a:cubicBezTo>
                <a:cubicBezTo>
                  <a:pt x="8791" y="225"/>
                  <a:pt x="9598" y="230"/>
                  <a:pt x="8630" y="1227"/>
                </a:cubicBezTo>
                <a:cubicBezTo>
                  <a:pt x="7662" y="2223"/>
                  <a:pt x="6775" y="4972"/>
                  <a:pt x="5807" y="6778"/>
                </a:cubicBezTo>
                <a:cubicBezTo>
                  <a:pt x="3871" y="10392"/>
                  <a:pt x="1936" y="17245"/>
                  <a:pt x="0" y="20859"/>
                </a:cubicBezTo>
                <a:close/>
              </a:path>
            </a:pathLst>
          </a:custGeom>
          <a:solidFill>
            <a:srgbClr val="7bb89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1"/>
          <p:cNvSpPr/>
          <p:nvPr/>
        </p:nvSpPr>
        <p:spPr>
          <a:xfrm rot="21478800">
            <a:off x="9812160" y="3387600"/>
            <a:ext cx="3586320" cy="2395800"/>
          </a:xfrm>
          <a:custGeom>
            <a:avLst/>
            <a:gdLst>
              <a:gd name="textAreaLeft" fmla="*/ 0 w 3586320"/>
              <a:gd name="textAreaRight" fmla="*/ 3586680 w 3586320"/>
              <a:gd name="textAreaTop" fmla="*/ 0 h 2395800"/>
              <a:gd name="textAreaBottom" fmla="*/ 2396160 h 2395800"/>
            </a:gdLst>
            <a:ahLst/>
            <a:rect l="textAreaLeft" t="textAreaTop" r="textAreaRight" b="textAreaBottom"/>
            <a:pathLst>
              <a:path w="21600" h="21181">
                <a:moveTo>
                  <a:pt x="0" y="20042"/>
                </a:moveTo>
                <a:cubicBezTo>
                  <a:pt x="959" y="14528"/>
                  <a:pt x="1297" y="13399"/>
                  <a:pt x="2054" y="11170"/>
                </a:cubicBezTo>
                <a:cubicBezTo>
                  <a:pt x="2432" y="10056"/>
                  <a:pt x="2865" y="8776"/>
                  <a:pt x="3297" y="8208"/>
                </a:cubicBezTo>
                <a:cubicBezTo>
                  <a:pt x="3730" y="7640"/>
                  <a:pt x="3824" y="7164"/>
                  <a:pt x="4541" y="6670"/>
                </a:cubicBezTo>
                <a:cubicBezTo>
                  <a:pt x="7080" y="7799"/>
                  <a:pt x="7662" y="15880"/>
                  <a:pt x="9223" y="20485"/>
                </a:cubicBezTo>
                <a:cubicBezTo>
                  <a:pt x="10541" y="17078"/>
                  <a:pt x="12272" y="12739"/>
                  <a:pt x="13567" y="7337"/>
                </a:cubicBezTo>
                <a:cubicBezTo>
                  <a:pt x="14861" y="1935"/>
                  <a:pt x="15832" y="426"/>
                  <a:pt x="17129" y="40"/>
                </a:cubicBezTo>
                <a:cubicBezTo>
                  <a:pt x="18481" y="-419"/>
                  <a:pt x="18978" y="3157"/>
                  <a:pt x="19725" y="7099"/>
                </a:cubicBezTo>
                <a:cubicBezTo>
                  <a:pt x="20098" y="9070"/>
                  <a:pt x="20365" y="11444"/>
                  <a:pt x="20679" y="13854"/>
                </a:cubicBezTo>
                <a:cubicBezTo>
                  <a:pt x="20986" y="16296"/>
                  <a:pt x="21315" y="19445"/>
                  <a:pt x="21600" y="21181"/>
                </a:cubicBezTo>
                <a:cubicBezTo>
                  <a:pt x="14400" y="20801"/>
                  <a:pt x="7200" y="20422"/>
                  <a:pt x="0" y="20042"/>
                </a:cubicBezTo>
                <a:close/>
              </a:path>
            </a:pathLst>
          </a:custGeom>
          <a:solidFill>
            <a:srgbClr val="dcde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96" name="Picture 2" descr="2012107143324904-filtered.jpeg"/>
          <p:cNvPicPr/>
          <p:nvPr/>
        </p:nvPicPr>
        <p:blipFill>
          <a:blip r:embed="rId1"/>
          <a:srcRect l="3373" t="10431" r="11151" b="10431"/>
          <a:stretch/>
        </p:blipFill>
        <p:spPr>
          <a:xfrm>
            <a:off x="2998800" y="3139920"/>
            <a:ext cx="3714840" cy="25797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6719760" y="3139920"/>
            <a:ext cx="3421080" cy="2579760"/>
          </a:xfrm>
          <a:prstGeom prst="rect">
            <a:avLst/>
          </a:prstGeom>
          <a:solidFill>
            <a:srgbClr val="5358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10145880" y="3686040"/>
            <a:ext cx="4276440" cy="2089440"/>
          </a:xfrm>
          <a:custGeom>
            <a:avLst/>
            <a:gdLst>
              <a:gd name="textAreaLeft" fmla="*/ 0 w 4276440"/>
              <a:gd name="textAreaRight" fmla="*/ 4276800 w 4276440"/>
              <a:gd name="textAreaTop" fmla="*/ 0 h 2089440"/>
              <a:gd name="textAreaBottom" fmla="*/ 2089800 h 2089440"/>
            </a:gdLst>
            <a:ahLst/>
            <a:rect l="textAreaLeft" t="textAreaTop" r="textAreaRight" b="textAreaBottom"/>
            <a:pathLst>
              <a:path w="21600" h="21600">
                <a:moveTo>
                  <a:pt x="19361" y="1"/>
                </a:moveTo>
                <a:cubicBezTo>
                  <a:pt x="19273" y="0"/>
                  <a:pt x="19183" y="15"/>
                  <a:pt x="19088" y="46"/>
                </a:cubicBezTo>
                <a:cubicBezTo>
                  <a:pt x="17638" y="468"/>
                  <a:pt x="16559" y="2039"/>
                  <a:pt x="15133" y="7613"/>
                </a:cubicBezTo>
                <a:cubicBezTo>
                  <a:pt x="13707" y="13188"/>
                  <a:pt x="11786" y="17680"/>
                  <a:pt x="10326" y="21206"/>
                </a:cubicBezTo>
                <a:cubicBezTo>
                  <a:pt x="8560" y="16505"/>
                  <a:pt x="7874" y="8212"/>
                  <a:pt x="5028" y="7100"/>
                </a:cubicBezTo>
                <a:cubicBezTo>
                  <a:pt x="4228" y="7622"/>
                  <a:pt x="4124" y="8113"/>
                  <a:pt x="3642" y="8705"/>
                </a:cubicBezTo>
                <a:cubicBezTo>
                  <a:pt x="3161" y="9297"/>
                  <a:pt x="2680" y="10619"/>
                  <a:pt x="2261" y="11771"/>
                </a:cubicBezTo>
                <a:cubicBezTo>
                  <a:pt x="1423" y="14075"/>
                  <a:pt x="1051" y="15244"/>
                  <a:pt x="0" y="20927"/>
                </a:cubicBezTo>
                <a:cubicBezTo>
                  <a:pt x="7200" y="21152"/>
                  <a:pt x="14400" y="21375"/>
                  <a:pt x="21600" y="21600"/>
                </a:cubicBezTo>
                <a:lnTo>
                  <a:pt x="21600" y="5225"/>
                </a:lnTo>
                <a:cubicBezTo>
                  <a:pt x="20996" y="2333"/>
                  <a:pt x="20428" y="7"/>
                  <a:pt x="19361" y="1"/>
                </a:cubicBezTo>
                <a:close/>
              </a:path>
            </a:pathLst>
          </a:custGeom>
          <a:solidFill>
            <a:srgbClr val="f4cb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10439280" y="4483080"/>
            <a:ext cx="3510000" cy="1287360"/>
          </a:xfrm>
          <a:custGeom>
            <a:avLst/>
            <a:gdLst>
              <a:gd name="textAreaLeft" fmla="*/ 0 w 3510000"/>
              <a:gd name="textAreaRight" fmla="*/ 3510360 w 3510000"/>
              <a:gd name="textAreaTop" fmla="*/ 0 h 1287360"/>
              <a:gd name="textAreaBottom" fmla="*/ 1287720 h 1287360"/>
            </a:gdLst>
            <a:ahLst/>
            <a:rect l="textAreaLeft" t="textAreaTop" r="textAreaRight" b="textAreaBottom"/>
            <a:pathLst>
              <a:path w="21600" h="21600">
                <a:moveTo>
                  <a:pt x="0" y="20859"/>
                </a:moveTo>
                <a:lnTo>
                  <a:pt x="21600" y="21600"/>
                </a:lnTo>
                <a:cubicBezTo>
                  <a:pt x="19936" y="17863"/>
                  <a:pt x="18973" y="12147"/>
                  <a:pt x="16761" y="6545"/>
                </a:cubicBezTo>
                <a:cubicBezTo>
                  <a:pt x="15656" y="3745"/>
                  <a:pt x="14971" y="3115"/>
                  <a:pt x="14311" y="2409"/>
                </a:cubicBezTo>
                <a:cubicBezTo>
                  <a:pt x="13651" y="1704"/>
                  <a:pt x="13538" y="1148"/>
                  <a:pt x="11634" y="0"/>
                </a:cubicBezTo>
                <a:cubicBezTo>
                  <a:pt x="8791" y="225"/>
                  <a:pt x="9598" y="230"/>
                  <a:pt x="8630" y="1227"/>
                </a:cubicBezTo>
                <a:cubicBezTo>
                  <a:pt x="7662" y="2223"/>
                  <a:pt x="6775" y="4972"/>
                  <a:pt x="5807" y="6778"/>
                </a:cubicBezTo>
                <a:cubicBezTo>
                  <a:pt x="3871" y="10392"/>
                  <a:pt x="1936" y="17245"/>
                  <a:pt x="0" y="20859"/>
                </a:cubicBezTo>
                <a:close/>
              </a:path>
            </a:pathLst>
          </a:custGeom>
          <a:solidFill>
            <a:srgbClr val="7bb89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13965120" y="3181320"/>
            <a:ext cx="171720" cy="173160"/>
          </a:xfrm>
          <a:custGeom>
            <a:avLst/>
            <a:gdLst>
              <a:gd name="textAreaLeft" fmla="*/ 0 w 171720"/>
              <a:gd name="textAreaRight" fmla="*/ 172080 w 17172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solidFill>
            <a:srgbClr val="fc8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14250960" y="3181320"/>
            <a:ext cx="171360" cy="173160"/>
          </a:xfrm>
          <a:custGeom>
            <a:avLst/>
            <a:gdLst>
              <a:gd name="textAreaLeft" fmla="*/ 0 w 171360"/>
              <a:gd name="textAreaRight" fmla="*/ 171720 w 17136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solidFill>
            <a:srgbClr val="ddde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13679640" y="3181320"/>
            <a:ext cx="171360" cy="173160"/>
          </a:xfrm>
          <a:custGeom>
            <a:avLst/>
            <a:gdLst>
              <a:gd name="textAreaLeft" fmla="*/ 0 w 171360"/>
              <a:gd name="textAreaRight" fmla="*/ 171720 w 17136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solidFill>
            <a:srgbClr val="1286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9104400" y="3686040"/>
            <a:ext cx="1963800" cy="393840"/>
          </a:xfrm>
          <a:prstGeom prst="rect">
            <a:avLst/>
          </a:prstGeom>
          <a:solidFill>
            <a:srgbClr val="fd88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7311960" y="4527360"/>
            <a:ext cx="24825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920" rIns="52920" tIns="52920" bIns="5292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Helvetica Light"/>
                <a:ea typeface="宋体"/>
              </a:rPr>
              <a:t>BEST DESIGN</a:t>
            </a:r>
            <a:endParaRPr b="0" lang="en-US" sz="3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9566280" y="3886200"/>
            <a:ext cx="1079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7277040" y="4080960"/>
            <a:ext cx="114588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920" rIns="52920" tIns="52920" bIns="5292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Helvetica Light"/>
                <a:ea typeface="宋体"/>
              </a:rPr>
              <a:t>STORM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7" name="AutoShape 13"/>
          <p:cNvSpPr/>
          <p:nvPr/>
        </p:nvSpPr>
        <p:spPr>
          <a:xfrm>
            <a:off x="6200640" y="7566120"/>
            <a:ext cx="573120" cy="573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noFill/>
          <a:ln w="3240">
            <a:solidFill>
              <a:srgbClr val="5358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8" name="AutoShape 14"/>
          <p:cNvSpPr/>
          <p:nvPr/>
        </p:nvSpPr>
        <p:spPr>
          <a:xfrm>
            <a:off x="7840800" y="7566120"/>
            <a:ext cx="573120" cy="573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noFill/>
          <a:ln w="3240">
            <a:solidFill>
              <a:srgbClr val="5358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9" name="AutoShape 15"/>
          <p:cNvSpPr/>
          <p:nvPr/>
        </p:nvSpPr>
        <p:spPr>
          <a:xfrm>
            <a:off x="9480600" y="7566120"/>
            <a:ext cx="573120" cy="573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noFill/>
          <a:ln w="3240">
            <a:solidFill>
              <a:srgbClr val="5358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10" name="Picture 16" descr="2294-200.png"/>
          <p:cNvPicPr/>
          <p:nvPr/>
        </p:nvPicPr>
        <p:blipFill>
          <a:blip r:embed="rId2"/>
          <a:stretch/>
        </p:blipFill>
        <p:spPr>
          <a:xfrm>
            <a:off x="9580680" y="7667640"/>
            <a:ext cx="371520" cy="371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45375-200.png"/>
          <p:cNvPicPr/>
          <p:nvPr/>
        </p:nvPicPr>
        <p:blipFill>
          <a:blip r:embed="rId3"/>
          <a:stretch/>
        </p:blipFill>
        <p:spPr>
          <a:xfrm>
            <a:off x="7942320" y="7667640"/>
            <a:ext cx="369720" cy="371520"/>
          </a:xfrm>
          <a:prstGeom prst="rect">
            <a:avLst/>
          </a:prstGeom>
          <a:ln w="0">
            <a:noFill/>
          </a:ln>
        </p:spPr>
      </p:pic>
      <p:sp>
        <p:nvSpPr>
          <p:cNvPr id="112" name="Line 18"/>
          <p:cNvSpPr/>
          <p:nvPr/>
        </p:nvSpPr>
        <p:spPr>
          <a:xfrm>
            <a:off x="6199200" y="8454960"/>
            <a:ext cx="4065480" cy="0"/>
          </a:xfrm>
          <a:prstGeom prst="line">
            <a:avLst/>
          </a:prstGeom>
          <a:ln w="3240">
            <a:solidFill>
              <a:srgbClr val="5358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13" name="Picture 19" descr="1713-200.jpg"/>
          <p:cNvPicPr/>
          <p:nvPr/>
        </p:nvPicPr>
        <p:blipFill>
          <a:blip r:embed="rId4"/>
          <a:stretch/>
        </p:blipFill>
        <p:spPr>
          <a:xfrm>
            <a:off x="6302520" y="7667640"/>
            <a:ext cx="371160" cy="3715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20"/>
          <p:cNvSpPr/>
          <p:nvPr/>
        </p:nvSpPr>
        <p:spPr>
          <a:xfrm>
            <a:off x="7619760" y="8776800"/>
            <a:ext cx="101484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920" rIns="52920" tIns="52920" bIns="5292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2400" spc="-1" strike="noStrike">
                <a:solidFill>
                  <a:srgbClr val="53585f"/>
                </a:solidFill>
                <a:latin typeface="Helvetica Light"/>
                <a:ea typeface="宋体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6641640" y="9260280"/>
            <a:ext cx="30175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920" rIns="52920" tIns="52920" bIns="5292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1100" spc="-1" strike="noStrike">
                <a:solidFill>
                  <a:srgbClr val="53585f"/>
                </a:solidFill>
                <a:latin typeface="Helvetica Light"/>
                <a:ea typeface="宋体"/>
              </a:rPr>
              <a:t>HOME</a:t>
            </a:r>
            <a:r>
              <a:rPr b="0" lang="zh-CN" sz="1100" spc="-1" strike="noStrike">
                <a:solidFill>
                  <a:srgbClr val="53585f"/>
                </a:solidFill>
                <a:latin typeface="Helvetica Light"/>
                <a:ea typeface="宋体"/>
              </a:rPr>
              <a:t>分哈斯理发卡拉斯；花费；</a:t>
            </a:r>
            <a:r>
              <a:rPr b="0" lang="zh-CN" sz="1100" spc="-1" strike="noStrike">
                <a:solidFill>
                  <a:srgbClr val="53585f"/>
                </a:solidFill>
                <a:latin typeface="Helvetica Light"/>
                <a:ea typeface="宋体"/>
              </a:rPr>
              <a:t>LAS</a:t>
            </a:r>
            <a:r>
              <a:rPr b="0" lang="zh-CN" sz="1100" spc="-1" strike="noStrike">
                <a:solidFill>
                  <a:srgbClr val="53585f"/>
                </a:solidFill>
                <a:latin typeface="Helvetica Light"/>
                <a:ea typeface="宋体"/>
              </a:rPr>
              <a:t>发哈；是；范德萨发</a:t>
            </a:r>
            <a:r>
              <a:rPr b="0" lang="zh-CN" sz="1100" spc="-1" strike="noStrike">
                <a:solidFill>
                  <a:srgbClr val="53585f"/>
                </a:solidFill>
                <a:latin typeface="Helvetica Light"/>
                <a:ea typeface="宋体"/>
              </a:rPr>
              <a:t>ASF</a:t>
            </a:r>
            <a:r>
              <a:rPr b="0" lang="zh-CN" sz="1100" spc="-1" strike="noStrike">
                <a:solidFill>
                  <a:srgbClr val="53585f"/>
                </a:solidFill>
                <a:latin typeface="Helvetica Light"/>
                <a:ea typeface="宋体"/>
              </a:rPr>
              <a:t>好</a:t>
            </a:r>
            <a:endParaRPr b="0" lang="en-US" sz="11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14038200" y="9248760"/>
            <a:ext cx="384120" cy="47520"/>
          </a:xfrm>
          <a:prstGeom prst="rect">
            <a:avLst/>
          </a:prstGeom>
          <a:solidFill>
            <a:srgbClr val="128657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7" name="Rectangle 23"/>
          <p:cNvSpPr/>
          <p:nvPr/>
        </p:nvSpPr>
        <p:spPr>
          <a:xfrm>
            <a:off x="2998800" y="9285120"/>
            <a:ext cx="384120" cy="47880"/>
          </a:xfrm>
          <a:prstGeom prst="rect">
            <a:avLst/>
          </a:prstGeom>
          <a:solidFill>
            <a:srgbClr val="128657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c39cc8f35d6b21e57c87180c3331368c8da4640f25bac-A4PEMC_fw658-filtered.jpeg"/>
          <p:cNvPicPr/>
          <p:nvPr/>
        </p:nvPicPr>
        <p:blipFill>
          <a:blip r:embed="rId1"/>
          <a:stretch/>
        </p:blipFill>
        <p:spPr>
          <a:xfrm>
            <a:off x="5649840" y="1996920"/>
            <a:ext cx="2409840" cy="2006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36fbd2329ac40e795eccdb2246f77567498dd354dd9d-pMPzfP_fw658-filtered.jpeg"/>
          <p:cNvPicPr/>
          <p:nvPr/>
        </p:nvPicPr>
        <p:blipFill>
          <a:blip r:embed="rId2"/>
          <a:srcRect l="12160" t="0" r="0" b="7490"/>
          <a:stretch/>
        </p:blipFill>
        <p:spPr>
          <a:xfrm>
            <a:off x="3110040" y="1996920"/>
            <a:ext cx="2541600" cy="2006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tumblr_n5j1renWUp1tap5jeo1_1280-filtered.jpeg"/>
          <p:cNvPicPr/>
          <p:nvPr/>
        </p:nvPicPr>
        <p:blipFill>
          <a:blip r:embed="rId3"/>
          <a:stretch/>
        </p:blipFill>
        <p:spPr>
          <a:xfrm>
            <a:off x="8059680" y="1996920"/>
            <a:ext cx="2675160" cy="2006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c48775b6850937272a0c44f1fd5f754cccf3086b2d520-i7k77Q_fw658-filtered.jpeg"/>
          <p:cNvPicPr/>
          <p:nvPr/>
        </p:nvPicPr>
        <p:blipFill>
          <a:blip r:embed="rId4"/>
          <a:stretch/>
        </p:blipFill>
        <p:spPr>
          <a:xfrm>
            <a:off x="10734840" y="1996920"/>
            <a:ext cx="2409840" cy="20066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0" y="1996920"/>
            <a:ext cx="3110040" cy="2006640"/>
          </a:xfrm>
          <a:prstGeom prst="rect">
            <a:avLst/>
          </a:prstGeom>
          <a:solidFill>
            <a:srgbClr val="dcde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8059680" y="4003560"/>
            <a:ext cx="2675160" cy="473040"/>
          </a:xfrm>
          <a:prstGeom prst="rect">
            <a:avLst/>
          </a:prstGeom>
          <a:solidFill>
            <a:srgbClr val="1286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10734840" y="4003560"/>
            <a:ext cx="2409840" cy="473040"/>
          </a:xfrm>
          <a:prstGeom prst="rect">
            <a:avLst/>
          </a:prstGeom>
          <a:solidFill>
            <a:srgbClr val="fd88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092400" y="4065480"/>
            <a:ext cx="14180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920" rIns="52920" tIns="52920" bIns="52920" anchor="ctr">
            <a:spAutoFit/>
          </a:bodyPr>
          <a:p>
            <a:pPr marL="246240" indent="-246240" algn="ctr">
              <a:buClr>
                <a:srgbClr val="128657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2000" spc="-1" strike="noStrike">
                <a:solidFill>
                  <a:srgbClr val="128657"/>
                </a:solidFill>
                <a:latin typeface="Helvetica Light"/>
                <a:ea typeface="宋体"/>
              </a:rPr>
              <a:t>welcome</a:t>
            </a:r>
            <a:endParaRPr b="0" lang="en-US" sz="2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6427440" y="4065480"/>
            <a:ext cx="418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920" rIns="52920" tIns="52920" bIns="52920" anchor="ctr">
            <a:spAutoFit/>
          </a:bodyPr>
          <a:p>
            <a:pPr marL="246240" indent="-246240" algn="ctr">
              <a:buClr>
                <a:srgbClr val="128657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2000" spc="-1" strike="noStrike">
                <a:solidFill>
                  <a:srgbClr val="128657"/>
                </a:solidFill>
                <a:latin typeface="Helvetica Light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6646320" y="4065480"/>
            <a:ext cx="418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920" rIns="52920" tIns="52920" bIns="52920" anchor="ctr">
            <a:spAutoFit/>
          </a:bodyPr>
          <a:p>
            <a:pPr marL="246240" indent="-246240" algn="ctr">
              <a:buClr>
                <a:srgbClr val="a6aaa9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2000" spc="-1" strike="noStrike">
                <a:solidFill>
                  <a:srgbClr val="128657"/>
                </a:solidFill>
                <a:latin typeface="Helvetica Light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6863760" y="4065480"/>
            <a:ext cx="418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920" rIns="52920" tIns="52920" bIns="52920" anchor="ctr">
            <a:spAutoFit/>
          </a:bodyPr>
          <a:p>
            <a:pPr marL="246240" indent="-246240" algn="ctr">
              <a:buClr>
                <a:srgbClr val="dcdee0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2000" spc="-1" strike="noStrike">
                <a:solidFill>
                  <a:srgbClr val="128657"/>
                </a:solidFill>
                <a:latin typeface="Helvetica Light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10307160" y="4033800"/>
            <a:ext cx="418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920" rIns="52920" tIns="52920" bIns="52920" anchor="ctr">
            <a:spAutoFit/>
          </a:bodyPr>
          <a:p>
            <a:pPr marL="246240" indent="-246240" algn="ctr">
              <a:buClr>
                <a:srgbClr val="ffffff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2000" spc="-1" strike="noStrike">
                <a:solidFill>
                  <a:srgbClr val="128657"/>
                </a:solidFill>
                <a:latin typeface="Helvetica Light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10894320" y="4033800"/>
            <a:ext cx="418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920" rIns="52920" tIns="52920" bIns="52920" anchor="ctr">
            <a:spAutoFit/>
          </a:bodyPr>
          <a:p>
            <a:pPr marL="246240" indent="-246240" algn="ctr">
              <a:buClr>
                <a:srgbClr val="ffffff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2000" spc="-1" strike="noStrike">
                <a:solidFill>
                  <a:srgbClr val="128657"/>
                </a:solidFill>
                <a:latin typeface="Helvetica Light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7400880" y="6621840"/>
            <a:ext cx="14079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920" rIns="52920" tIns="52920" bIns="529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3000" spc="-1" strike="noStrike">
                <a:solidFill>
                  <a:srgbClr val="043c0c"/>
                </a:solidFill>
                <a:latin typeface="Malayalam MN"/>
                <a:ea typeface="宋体"/>
              </a:rPr>
              <a:t>STORM</a:t>
            </a:r>
            <a:endParaRPr b="0" lang="en-US" sz="3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5773680" y="7618680"/>
            <a:ext cx="5129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920" rIns="52920" tIns="52920" bIns="529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2800" spc="-1" strike="noStrike">
                <a:solidFill>
                  <a:srgbClr val="53585f"/>
                </a:solidFill>
                <a:latin typeface="Helvetica Neue UltraLight"/>
                <a:ea typeface="宋体"/>
              </a:rPr>
              <a:t>STORM CORE DESIGN STUDIO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7974000" y="5099040"/>
            <a:ext cx="263520" cy="0"/>
          </a:xfrm>
          <a:prstGeom prst="line">
            <a:avLst/>
          </a:prstGeom>
          <a:ln w="38160">
            <a:solidFill>
              <a:srgbClr val="a6aa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3110040" y="8780400"/>
            <a:ext cx="385560" cy="31680"/>
          </a:xfrm>
          <a:prstGeom prst="rect">
            <a:avLst/>
          </a:prstGeom>
          <a:solidFill>
            <a:srgbClr val="128657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12758760" y="8780400"/>
            <a:ext cx="385920" cy="31680"/>
          </a:xfrm>
          <a:prstGeom prst="rect">
            <a:avLst/>
          </a:prstGeom>
          <a:solidFill>
            <a:srgbClr val="128657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2970360" y="2065320"/>
            <a:ext cx="1319040" cy="3657600"/>
          </a:xfrm>
          <a:prstGeom prst="rect">
            <a:avLst/>
          </a:prstGeom>
          <a:solidFill>
            <a:srgbClr val="1286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4710240" y="3894120"/>
            <a:ext cx="1319040" cy="1828800"/>
          </a:xfrm>
          <a:prstGeom prst="rect">
            <a:avLst/>
          </a:prstGeom>
          <a:solidFill>
            <a:srgbClr val="12865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6450120" y="2870280"/>
            <a:ext cx="1319040" cy="2852640"/>
          </a:xfrm>
          <a:prstGeom prst="rect">
            <a:avLst/>
          </a:prstGeom>
          <a:solidFill>
            <a:srgbClr val="128657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5070600" y="4635360"/>
            <a:ext cx="598320" cy="600120"/>
          </a:xfrm>
          <a:custGeom>
            <a:avLst/>
            <a:gdLst>
              <a:gd name="textAreaLeft" fmla="*/ 0 w 598320"/>
              <a:gd name="textAreaRight" fmla="*/ 598680 w 59832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6810480" y="4699080"/>
            <a:ext cx="598320" cy="600120"/>
          </a:xfrm>
          <a:custGeom>
            <a:avLst/>
            <a:gdLst>
              <a:gd name="textAreaLeft" fmla="*/ 0 w 598320"/>
              <a:gd name="textAreaRight" fmla="*/ 598680 w 59832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3328920" y="4699080"/>
            <a:ext cx="601560" cy="600120"/>
          </a:xfrm>
          <a:custGeom>
            <a:avLst/>
            <a:gdLst>
              <a:gd name="textAreaLeft" fmla="*/ 0 w 601560"/>
              <a:gd name="textAreaRight" fmla="*/ 601560 w 60156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5211720" y="4780080"/>
            <a:ext cx="316080" cy="315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3" name="AutoShape 8"/>
          <p:cNvSpPr/>
          <p:nvPr/>
        </p:nvSpPr>
        <p:spPr>
          <a:xfrm>
            <a:off x="3471840" y="4780080"/>
            <a:ext cx="316080" cy="315720"/>
          </a:xfrm>
          <a:custGeom>
            <a:avLst/>
            <a:gdLst>
              <a:gd name="textAreaLeft" fmla="*/ 0 w 316080"/>
              <a:gd name="textAreaRight" fmla="*/ 316440 w 31608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10800" y="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4" name="AutoShape 9"/>
          <p:cNvSpPr/>
          <p:nvPr/>
        </p:nvSpPr>
        <p:spPr>
          <a:xfrm>
            <a:off x="6950160" y="4782960"/>
            <a:ext cx="317520" cy="303480"/>
          </a:xfrm>
          <a:custGeom>
            <a:avLst/>
            <a:gdLst>
              <a:gd name="textAreaLeft" fmla="*/ 0 w 317520"/>
              <a:gd name="textAreaRight" fmla="*/ 317880 w 317520"/>
              <a:gd name="textAreaTop" fmla="*/ 0 h 303480"/>
              <a:gd name="textAreaBottom" fmla="*/ 303840 h 303480"/>
            </a:gdLst>
            <a:ahLst/>
            <a:rect l="textAreaLeft" t="textAreaTop" r="textAreaRight" b="textAreaBottom"/>
            <a:pathLst>
              <a:path w="317500" h="303212">
                <a:moveTo>
                  <a:pt x="0" y="115816"/>
                </a:moveTo>
                <a:lnTo>
                  <a:pt x="121275" y="115817"/>
                </a:lnTo>
                <a:lnTo>
                  <a:pt x="158750" y="0"/>
                </a:lnTo>
                <a:lnTo>
                  <a:pt x="196225" y="115817"/>
                </a:lnTo>
                <a:lnTo>
                  <a:pt x="317500" y="115816"/>
                </a:lnTo>
                <a:lnTo>
                  <a:pt x="219386" y="187395"/>
                </a:lnTo>
                <a:lnTo>
                  <a:pt x="256863" y="303211"/>
                </a:lnTo>
                <a:lnTo>
                  <a:pt x="158750" y="231632"/>
                </a:lnTo>
                <a:lnTo>
                  <a:pt x="60637" y="303211"/>
                </a:lnTo>
                <a:lnTo>
                  <a:pt x="98114" y="187395"/>
                </a:lnTo>
                <a:lnTo>
                  <a:pt x="0" y="115816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graphicFrame>
        <p:nvGraphicFramePr>
          <p:cNvPr id="145" name="Object 10"/>
          <p:cNvGraphicFramePr/>
          <p:nvPr/>
        </p:nvGraphicFramePr>
        <p:xfrm>
          <a:off x="8389800" y="2065320"/>
          <a:ext cx="6004080" cy="38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9800" y="2065320"/>
                    <a:ext cx="6004080" cy="38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Rectangle 11"/>
          <p:cNvSpPr/>
          <p:nvPr/>
        </p:nvSpPr>
        <p:spPr>
          <a:xfrm>
            <a:off x="9016920" y="2063880"/>
            <a:ext cx="385920" cy="108000"/>
          </a:xfrm>
          <a:prstGeom prst="rect">
            <a:avLst/>
          </a:prstGeom>
          <a:solidFill>
            <a:srgbClr val="26b256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11320560" y="2063880"/>
            <a:ext cx="385560" cy="108000"/>
          </a:xfrm>
          <a:prstGeom prst="rect">
            <a:avLst/>
          </a:prstGeom>
          <a:solidFill>
            <a:srgbClr val="7dc454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9" name="AutoShape 13"/>
          <p:cNvSpPr/>
          <p:nvPr/>
        </p:nvSpPr>
        <p:spPr>
          <a:xfrm>
            <a:off x="8950320" y="4187880"/>
            <a:ext cx="133200" cy="133200"/>
          </a:xfrm>
          <a:custGeom>
            <a:avLst/>
            <a:gdLst>
              <a:gd name="textAreaLeft" fmla="*/ 0 w 133200"/>
              <a:gd name="textAreaRight" fmla="*/ 133560 w 13320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noFill/>
          <a:ln w="25560">
            <a:solidFill>
              <a:srgbClr val="26b2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0" name="AutoShape 14"/>
          <p:cNvSpPr/>
          <p:nvPr/>
        </p:nvSpPr>
        <p:spPr>
          <a:xfrm>
            <a:off x="10728360" y="4267080"/>
            <a:ext cx="133200" cy="131760"/>
          </a:xfrm>
          <a:custGeom>
            <a:avLst/>
            <a:gdLst>
              <a:gd name="textAreaLeft" fmla="*/ 0 w 133200"/>
              <a:gd name="textAreaRight" fmla="*/ 133560 w 1332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noFill/>
          <a:ln w="25560">
            <a:solidFill>
              <a:srgbClr val="26b2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1" name="AutoShape 15"/>
          <p:cNvSpPr/>
          <p:nvPr/>
        </p:nvSpPr>
        <p:spPr>
          <a:xfrm>
            <a:off x="12542760" y="3230640"/>
            <a:ext cx="131760" cy="133200"/>
          </a:xfrm>
          <a:custGeom>
            <a:avLst/>
            <a:gdLst>
              <a:gd name="textAreaLeft" fmla="*/ 0 w 131760"/>
              <a:gd name="textAreaRight" fmla="*/ 132120 w 13176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noFill/>
          <a:ln w="25560">
            <a:solidFill>
              <a:srgbClr val="26b2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2" name="AutoShape 16"/>
          <p:cNvSpPr/>
          <p:nvPr/>
        </p:nvSpPr>
        <p:spPr>
          <a:xfrm>
            <a:off x="14277960" y="2460600"/>
            <a:ext cx="131760" cy="133200"/>
          </a:xfrm>
          <a:custGeom>
            <a:avLst/>
            <a:gdLst>
              <a:gd name="textAreaLeft" fmla="*/ 0 w 131760"/>
              <a:gd name="textAreaRight" fmla="*/ 132120 w 13176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noFill/>
          <a:ln w="25560">
            <a:solidFill>
              <a:srgbClr val="26b2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8893800" y="3916440"/>
            <a:ext cx="2466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920" rIns="52920" tIns="52920" bIns="529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1000" spc="-1" strike="noStrike">
                <a:solidFill>
                  <a:srgbClr val="00882b"/>
                </a:solidFill>
                <a:latin typeface="Arial"/>
                <a:ea typeface="宋体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0671840" y="3995640"/>
            <a:ext cx="2466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920" rIns="52920" tIns="52920" bIns="529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1000" spc="-1" strike="noStrike">
                <a:solidFill>
                  <a:srgbClr val="00882b"/>
                </a:solidFill>
                <a:latin typeface="Arial"/>
                <a:ea typeface="宋体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5" name="Rectangle 19"/>
          <p:cNvSpPr/>
          <p:nvPr/>
        </p:nvSpPr>
        <p:spPr>
          <a:xfrm>
            <a:off x="12485520" y="2959200"/>
            <a:ext cx="2466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920" rIns="52920" tIns="52920" bIns="529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1000" spc="-1" strike="noStrike">
                <a:solidFill>
                  <a:srgbClr val="00882b"/>
                </a:solidFill>
                <a:latin typeface="Arial"/>
                <a:ea typeface="宋体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6" name="Rectangle 20"/>
          <p:cNvSpPr/>
          <p:nvPr/>
        </p:nvSpPr>
        <p:spPr>
          <a:xfrm>
            <a:off x="14169600" y="2002680"/>
            <a:ext cx="2466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920" rIns="52920" tIns="52920" bIns="529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1000" spc="-1" strike="noStrike">
                <a:solidFill>
                  <a:srgbClr val="00882b"/>
                </a:solidFill>
                <a:latin typeface="Arial"/>
                <a:ea typeface="宋体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7" name="Rectangle 21"/>
          <p:cNvSpPr/>
          <p:nvPr/>
        </p:nvSpPr>
        <p:spPr>
          <a:xfrm>
            <a:off x="9654120" y="1988640"/>
            <a:ext cx="411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920" rIns="52920" tIns="52920" bIns="529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1000" spc="-1" strike="noStrike">
                <a:solidFill>
                  <a:srgbClr val="00882b"/>
                </a:solidFill>
                <a:latin typeface="Arial"/>
                <a:ea typeface="宋体"/>
              </a:rPr>
              <a:t>督门提酒</a:t>
            </a:r>
            <a:endParaRPr b="0" lang="en-US" sz="1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8" name="Rectangle 22"/>
          <p:cNvSpPr/>
          <p:nvPr/>
        </p:nvSpPr>
        <p:spPr>
          <a:xfrm>
            <a:off x="12089520" y="2003040"/>
            <a:ext cx="411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920" rIns="52920" tIns="52920" bIns="529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1000" spc="-1" strike="noStrike">
                <a:solidFill>
                  <a:srgbClr val="7dc454"/>
                </a:solidFill>
                <a:latin typeface="Arial"/>
                <a:ea typeface="宋体"/>
              </a:rPr>
              <a:t>冷风之生</a:t>
            </a:r>
            <a:endParaRPr b="0" lang="en-US" sz="1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9" name="AutoShape 23"/>
          <p:cNvSpPr/>
          <p:nvPr/>
        </p:nvSpPr>
        <p:spPr>
          <a:xfrm>
            <a:off x="6200640" y="7566120"/>
            <a:ext cx="573120" cy="573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noFill/>
          <a:ln w="3240">
            <a:solidFill>
              <a:srgbClr val="5358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0" name="AutoShape 24"/>
          <p:cNvSpPr/>
          <p:nvPr/>
        </p:nvSpPr>
        <p:spPr>
          <a:xfrm>
            <a:off x="7840800" y="7566120"/>
            <a:ext cx="573120" cy="573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noFill/>
          <a:ln w="3240">
            <a:solidFill>
              <a:srgbClr val="5358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1" name="AutoShape 25"/>
          <p:cNvSpPr/>
          <p:nvPr/>
        </p:nvSpPr>
        <p:spPr>
          <a:xfrm>
            <a:off x="9480600" y="7566120"/>
            <a:ext cx="573120" cy="573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noFill/>
          <a:ln w="3240">
            <a:solidFill>
              <a:srgbClr val="5358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62" name="Picture 26" descr="2294-200.png"/>
          <p:cNvPicPr/>
          <p:nvPr/>
        </p:nvPicPr>
        <p:blipFill>
          <a:blip r:embed="rId3"/>
          <a:stretch/>
        </p:blipFill>
        <p:spPr>
          <a:xfrm>
            <a:off x="9580680" y="7667640"/>
            <a:ext cx="371520" cy="3715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7" descr="45375-200.png"/>
          <p:cNvPicPr/>
          <p:nvPr/>
        </p:nvPicPr>
        <p:blipFill>
          <a:blip r:embed="rId4"/>
          <a:stretch/>
        </p:blipFill>
        <p:spPr>
          <a:xfrm>
            <a:off x="7942320" y="7667640"/>
            <a:ext cx="369720" cy="371520"/>
          </a:xfrm>
          <a:prstGeom prst="rect">
            <a:avLst/>
          </a:prstGeom>
          <a:ln w="0">
            <a:noFill/>
          </a:ln>
        </p:spPr>
      </p:pic>
      <p:sp>
        <p:nvSpPr>
          <p:cNvPr id="164" name="Line 28"/>
          <p:cNvSpPr/>
          <p:nvPr/>
        </p:nvSpPr>
        <p:spPr>
          <a:xfrm>
            <a:off x="6199200" y="8454960"/>
            <a:ext cx="4065480" cy="0"/>
          </a:xfrm>
          <a:prstGeom prst="line">
            <a:avLst/>
          </a:prstGeom>
          <a:ln w="3240">
            <a:solidFill>
              <a:srgbClr val="5358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65" name="Picture 29" descr="1713-200.jpg"/>
          <p:cNvPicPr/>
          <p:nvPr/>
        </p:nvPicPr>
        <p:blipFill>
          <a:blip r:embed="rId5"/>
          <a:stretch/>
        </p:blipFill>
        <p:spPr>
          <a:xfrm>
            <a:off x="6302520" y="7667640"/>
            <a:ext cx="371160" cy="3715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30"/>
          <p:cNvSpPr/>
          <p:nvPr/>
        </p:nvSpPr>
        <p:spPr>
          <a:xfrm>
            <a:off x="7619760" y="8776800"/>
            <a:ext cx="101484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920" rIns="52920" tIns="52920" bIns="5292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2400" spc="-1" strike="noStrike">
                <a:solidFill>
                  <a:srgbClr val="53585f"/>
                </a:solidFill>
                <a:latin typeface="Helvetica Light"/>
                <a:ea typeface="宋体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7" name="Rectangle 31"/>
          <p:cNvSpPr/>
          <p:nvPr/>
        </p:nvSpPr>
        <p:spPr>
          <a:xfrm>
            <a:off x="7822440" y="9207000"/>
            <a:ext cx="65520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920" rIns="52920" tIns="52920" bIns="5292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elvetica Light"/>
                <a:ea typeface="宋体"/>
              </a:rPr>
              <a:t>督门提酒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8" name="Rectangle 32"/>
          <p:cNvSpPr/>
          <p:nvPr/>
        </p:nvSpPr>
        <p:spPr>
          <a:xfrm>
            <a:off x="14038200" y="9248760"/>
            <a:ext cx="384120" cy="47520"/>
          </a:xfrm>
          <a:prstGeom prst="rect">
            <a:avLst/>
          </a:prstGeom>
          <a:solidFill>
            <a:srgbClr val="128657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9" name="Rectangle 33"/>
          <p:cNvSpPr/>
          <p:nvPr/>
        </p:nvSpPr>
        <p:spPr>
          <a:xfrm>
            <a:off x="2998800" y="9285120"/>
            <a:ext cx="384120" cy="47880"/>
          </a:xfrm>
          <a:prstGeom prst="rect">
            <a:avLst/>
          </a:prstGeom>
          <a:solidFill>
            <a:srgbClr val="128657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e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"/>
          <p:cNvSpPr/>
          <p:nvPr/>
        </p:nvSpPr>
        <p:spPr>
          <a:xfrm>
            <a:off x="1343160" y="5602320"/>
            <a:ext cx="13557240" cy="45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1353960" y="1270080"/>
            <a:ext cx="11465280" cy="281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72" name="Picture 3" descr="屏幕快照 2015-05-01 上午11.35.48.png"/>
          <p:cNvPicPr/>
          <p:nvPr/>
        </p:nvPicPr>
        <p:blipFill>
          <a:blip r:embed="rId1"/>
          <a:stretch/>
        </p:blipFill>
        <p:spPr>
          <a:xfrm>
            <a:off x="7128000" y="2168640"/>
            <a:ext cx="2243160" cy="715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屏幕快照 2015-05-01 上午11.35.55.png"/>
          <p:cNvPicPr/>
          <p:nvPr/>
        </p:nvPicPr>
        <p:blipFill>
          <a:blip r:embed="rId2"/>
          <a:stretch/>
        </p:blipFill>
        <p:spPr>
          <a:xfrm>
            <a:off x="10547280" y="2168640"/>
            <a:ext cx="2271960" cy="715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屏幕快照 2015-05-01 上午11.36.02.png"/>
          <p:cNvPicPr/>
          <p:nvPr/>
        </p:nvPicPr>
        <p:blipFill>
          <a:blip r:embed="rId3"/>
          <a:stretch/>
        </p:blipFill>
        <p:spPr>
          <a:xfrm>
            <a:off x="3719520" y="2168640"/>
            <a:ext cx="2211480" cy="7156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6"/>
          <p:cNvSpPr/>
          <p:nvPr/>
        </p:nvSpPr>
        <p:spPr>
          <a:xfrm>
            <a:off x="3732840" y="3186360"/>
            <a:ext cx="5331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920" rIns="52920" tIns="52920" bIns="5292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elvetica Light"/>
                <a:ea typeface="宋体"/>
              </a:rPr>
              <a:t>ANNA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7154280" y="3186360"/>
            <a:ext cx="55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920" rIns="52920" tIns="52920" bIns="5292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elvetica Light"/>
                <a:ea typeface="宋体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10571760" y="3186360"/>
            <a:ext cx="449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920" rIns="52920" tIns="52920" bIns="5292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elvetica Light"/>
                <a:ea typeface="宋体"/>
              </a:rPr>
              <a:t>BELL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178" name="Group 9"/>
          <p:cNvGrpSpPr/>
          <p:nvPr/>
        </p:nvGrpSpPr>
        <p:grpSpPr>
          <a:xfrm>
            <a:off x="5665680" y="3257640"/>
            <a:ext cx="265320" cy="145800"/>
            <a:chOff x="5665680" y="3257640"/>
            <a:chExt cx="265320" cy="145800"/>
          </a:xfrm>
        </p:grpSpPr>
        <p:sp>
          <p:nvSpPr>
            <p:cNvPr id="179" name="Rectangle 10"/>
            <p:cNvSpPr/>
            <p:nvPr/>
          </p:nvSpPr>
          <p:spPr>
            <a:xfrm>
              <a:off x="5797440" y="3257640"/>
              <a:ext cx="133560" cy="145800"/>
            </a:xfrm>
            <a:prstGeom prst="rect">
              <a:avLst/>
            </a:prstGeom>
            <a:solidFill>
              <a:srgbClr val="fd8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80" name="Rectangle 11"/>
            <p:cNvSpPr/>
            <p:nvPr/>
          </p:nvSpPr>
          <p:spPr>
            <a:xfrm>
              <a:off x="5665680" y="3257640"/>
              <a:ext cx="133560" cy="145800"/>
            </a:xfrm>
            <a:prstGeom prst="rect">
              <a:avLst/>
            </a:prstGeom>
            <a:solidFill>
              <a:srgbClr val="1775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grpSp>
        <p:nvGrpSpPr>
          <p:cNvPr id="181" name="Group 12"/>
          <p:cNvGrpSpPr/>
          <p:nvPr/>
        </p:nvGrpSpPr>
        <p:grpSpPr>
          <a:xfrm>
            <a:off x="12553920" y="3257640"/>
            <a:ext cx="265320" cy="145800"/>
            <a:chOff x="12553920" y="3257640"/>
            <a:chExt cx="265320" cy="145800"/>
          </a:xfrm>
        </p:grpSpPr>
        <p:sp>
          <p:nvSpPr>
            <p:cNvPr id="182" name="Rectangle 13"/>
            <p:cNvSpPr/>
            <p:nvPr/>
          </p:nvSpPr>
          <p:spPr>
            <a:xfrm>
              <a:off x="12685680" y="3257640"/>
              <a:ext cx="133560" cy="145800"/>
            </a:xfrm>
            <a:prstGeom prst="rect">
              <a:avLst/>
            </a:prstGeom>
            <a:solidFill>
              <a:srgbClr val="fd8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83" name="Rectangle 14"/>
            <p:cNvSpPr/>
            <p:nvPr/>
          </p:nvSpPr>
          <p:spPr>
            <a:xfrm>
              <a:off x="12553920" y="3257640"/>
              <a:ext cx="133560" cy="145800"/>
            </a:xfrm>
            <a:prstGeom prst="rect">
              <a:avLst/>
            </a:prstGeom>
            <a:solidFill>
              <a:srgbClr val="1775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grpSp>
        <p:nvGrpSpPr>
          <p:cNvPr id="184" name="Group 15"/>
          <p:cNvGrpSpPr/>
          <p:nvPr/>
        </p:nvGrpSpPr>
        <p:grpSpPr>
          <a:xfrm>
            <a:off x="9105840" y="3257640"/>
            <a:ext cx="265320" cy="145800"/>
            <a:chOff x="9105840" y="3257640"/>
            <a:chExt cx="265320" cy="145800"/>
          </a:xfrm>
        </p:grpSpPr>
        <p:sp>
          <p:nvSpPr>
            <p:cNvPr id="185" name="Rectangle 16"/>
            <p:cNvSpPr/>
            <p:nvPr/>
          </p:nvSpPr>
          <p:spPr>
            <a:xfrm>
              <a:off x="9237600" y="3257640"/>
              <a:ext cx="133560" cy="145800"/>
            </a:xfrm>
            <a:prstGeom prst="rect">
              <a:avLst/>
            </a:prstGeom>
            <a:solidFill>
              <a:srgbClr val="fd8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86" name="Rectangle 17"/>
            <p:cNvSpPr/>
            <p:nvPr/>
          </p:nvSpPr>
          <p:spPr>
            <a:xfrm>
              <a:off x="9105840" y="3257640"/>
              <a:ext cx="133560" cy="145800"/>
            </a:xfrm>
            <a:prstGeom prst="rect">
              <a:avLst/>
            </a:prstGeom>
            <a:solidFill>
              <a:srgbClr val="1775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sp>
        <p:nvSpPr>
          <p:cNvPr id="187" name="Rectangle 18"/>
          <p:cNvSpPr/>
          <p:nvPr/>
        </p:nvSpPr>
        <p:spPr>
          <a:xfrm>
            <a:off x="4883040" y="4013280"/>
            <a:ext cx="6732720" cy="145800"/>
          </a:xfrm>
          <a:prstGeom prst="rect">
            <a:avLst/>
          </a:prstGeom>
          <a:solidFill>
            <a:srgbClr val="1286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8" name="Rectangle 19"/>
          <p:cNvSpPr/>
          <p:nvPr/>
        </p:nvSpPr>
        <p:spPr>
          <a:xfrm>
            <a:off x="11615760" y="4013280"/>
            <a:ext cx="1203480" cy="145800"/>
          </a:xfrm>
          <a:prstGeom prst="rect">
            <a:avLst/>
          </a:prstGeom>
          <a:solidFill>
            <a:srgbClr val="fd88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3719520" y="6678720"/>
            <a:ext cx="1163520" cy="1049400"/>
          </a:xfrm>
          <a:prstGeom prst="rect">
            <a:avLst/>
          </a:prstGeom>
          <a:solidFill>
            <a:srgbClr val="1286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0" name="Rectangle 21"/>
          <p:cNvSpPr/>
          <p:nvPr/>
        </p:nvSpPr>
        <p:spPr>
          <a:xfrm>
            <a:off x="4861080" y="6678720"/>
            <a:ext cx="7966080" cy="1049400"/>
          </a:xfrm>
          <a:prstGeom prst="rect">
            <a:avLst/>
          </a:prstGeom>
          <a:solidFill>
            <a:srgbClr val="353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1" name="Rectangle 22"/>
          <p:cNvSpPr/>
          <p:nvPr/>
        </p:nvSpPr>
        <p:spPr>
          <a:xfrm>
            <a:off x="12631680" y="5079960"/>
            <a:ext cx="187560" cy="34920"/>
          </a:xfrm>
          <a:prstGeom prst="rect">
            <a:avLst/>
          </a:prstGeom>
          <a:solidFill>
            <a:srgbClr val="1286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2" name="Rectangle 23"/>
          <p:cNvSpPr/>
          <p:nvPr/>
        </p:nvSpPr>
        <p:spPr>
          <a:xfrm>
            <a:off x="3719520" y="5097600"/>
            <a:ext cx="187200" cy="34920"/>
          </a:xfrm>
          <a:prstGeom prst="rect">
            <a:avLst/>
          </a:prstGeom>
          <a:solidFill>
            <a:srgbClr val="1286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3" name="Rectangle 24"/>
          <p:cNvSpPr/>
          <p:nvPr/>
        </p:nvSpPr>
        <p:spPr>
          <a:xfrm>
            <a:off x="3719520" y="7728120"/>
            <a:ext cx="9107640" cy="152280"/>
          </a:xfrm>
          <a:prstGeom prst="rect">
            <a:avLst/>
          </a:prstGeom>
          <a:solidFill>
            <a:srgbClr val="dcde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4" name="AutoShape 25"/>
          <p:cNvSpPr/>
          <p:nvPr/>
        </p:nvSpPr>
        <p:spPr>
          <a:xfrm>
            <a:off x="3720960" y="8516880"/>
            <a:ext cx="573120" cy="573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noFill/>
          <a:ln w="3240">
            <a:solidFill>
              <a:srgbClr val="5358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5" name="AutoShape 26"/>
          <p:cNvSpPr/>
          <p:nvPr/>
        </p:nvSpPr>
        <p:spPr>
          <a:xfrm>
            <a:off x="4941720" y="8516880"/>
            <a:ext cx="573120" cy="573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noFill/>
          <a:ln w="3240">
            <a:solidFill>
              <a:srgbClr val="5358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6" name="AutoShape 27"/>
          <p:cNvSpPr/>
          <p:nvPr/>
        </p:nvSpPr>
        <p:spPr>
          <a:xfrm>
            <a:off x="6162840" y="8516880"/>
            <a:ext cx="572760" cy="573120"/>
          </a:xfrm>
          <a:custGeom>
            <a:avLst/>
            <a:gdLst>
              <a:gd name="textAreaLeft" fmla="*/ 0 w 572760"/>
              <a:gd name="textAreaRight" fmla="*/ 573120 w 572760"/>
              <a:gd name="textAreaTop" fmla="*/ 0 h 573120"/>
              <a:gd name="textAreaBottom" fmla="*/ 573120 h 573120"/>
            </a:gdLst>
            <a:ahLst/>
            <a:rect l="textAreaLeft" t="textAreaTop" r="textAreaRight" b="textAreaBottom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noFill/>
          <a:ln w="3240">
            <a:solidFill>
              <a:srgbClr val="5358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97" name="Picture 28" descr="2294-200.png"/>
          <p:cNvPicPr/>
          <p:nvPr/>
        </p:nvPicPr>
        <p:blipFill>
          <a:blip r:embed="rId4"/>
          <a:stretch/>
        </p:blipFill>
        <p:spPr>
          <a:xfrm>
            <a:off x="6264360" y="8616960"/>
            <a:ext cx="369720" cy="371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9" descr="45375-200.png"/>
          <p:cNvPicPr/>
          <p:nvPr/>
        </p:nvPicPr>
        <p:blipFill>
          <a:blip r:embed="rId5"/>
          <a:stretch/>
        </p:blipFill>
        <p:spPr>
          <a:xfrm>
            <a:off x="5043600" y="8616960"/>
            <a:ext cx="369720" cy="371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0" descr="1832-200.png"/>
          <p:cNvPicPr/>
          <p:nvPr/>
        </p:nvPicPr>
        <p:blipFill>
          <a:blip r:embed="rId6"/>
          <a:stretch/>
        </p:blipFill>
        <p:spPr>
          <a:xfrm>
            <a:off x="3821040" y="8621640"/>
            <a:ext cx="371520" cy="37152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31"/>
          <p:cNvSpPr/>
          <p:nvPr/>
        </p:nvSpPr>
        <p:spPr>
          <a:xfrm>
            <a:off x="11081520" y="8612280"/>
            <a:ext cx="157104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920" rIns="52920" tIns="52920" bIns="5292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1800" spc="-1" strike="noStrike">
                <a:solidFill>
                  <a:srgbClr val="53585f"/>
                </a:solidFill>
                <a:latin typeface="Helvetica Light"/>
                <a:ea typeface="宋体"/>
              </a:rPr>
              <a:t>督门提酒</a:t>
            </a:r>
            <a:r>
              <a:rPr b="0" lang="zh-CN" sz="1800" spc="-1" strike="noStrike">
                <a:solidFill>
                  <a:srgbClr val="53585f"/>
                </a:solidFill>
                <a:latin typeface="Helvetica Light"/>
                <a:ea typeface="宋体"/>
              </a:rPr>
              <a:t>keynote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1"/>
          <p:cNvSpPr/>
          <p:nvPr/>
        </p:nvSpPr>
        <p:spPr>
          <a:xfrm rot="21566400">
            <a:off x="4928760" y="2022480"/>
            <a:ext cx="5127840" cy="3687840"/>
          </a:xfrm>
          <a:custGeom>
            <a:avLst/>
            <a:gdLst>
              <a:gd name="textAreaLeft" fmla="*/ 0 w 5127840"/>
              <a:gd name="textAreaRight" fmla="*/ 5128200 w 5127840"/>
              <a:gd name="textAreaTop" fmla="*/ 0 h 3687840"/>
              <a:gd name="textAreaBottom" fmla="*/ 3688200 h 3687840"/>
            </a:gdLst>
            <a:ahLst/>
            <a:rect l="textAreaLeft" t="textAreaTop" r="textAreaRight" b="textAreaBottom"/>
            <a:pathLst>
              <a:path w="21600" h="21568">
                <a:moveTo>
                  <a:pt x="16447" y="0"/>
                </a:moveTo>
                <a:cubicBezTo>
                  <a:pt x="16362" y="2"/>
                  <a:pt x="16276" y="20"/>
                  <a:pt x="16184" y="54"/>
                </a:cubicBezTo>
                <a:cubicBezTo>
                  <a:pt x="14783" y="521"/>
                  <a:pt x="13766" y="2125"/>
                  <a:pt x="12498" y="7752"/>
                </a:cubicBezTo>
                <a:cubicBezTo>
                  <a:pt x="11230" y="13379"/>
                  <a:pt x="9458" y="17934"/>
                  <a:pt x="8113" y="21510"/>
                </a:cubicBezTo>
                <a:cubicBezTo>
                  <a:pt x="6295" y="16855"/>
                  <a:pt x="5450" y="8569"/>
                  <a:pt x="2658" y="7542"/>
                </a:cubicBezTo>
                <a:cubicBezTo>
                  <a:pt x="1891" y="8089"/>
                  <a:pt x="1802" y="8587"/>
                  <a:pt x="1346" y="9194"/>
                </a:cubicBezTo>
                <a:cubicBezTo>
                  <a:pt x="890" y="9801"/>
                  <a:pt x="453" y="11139"/>
                  <a:pt x="70" y="12305"/>
                </a:cubicBezTo>
                <a:cubicBezTo>
                  <a:pt x="44" y="12386"/>
                  <a:pt x="25" y="12452"/>
                  <a:pt x="0" y="12530"/>
                </a:cubicBezTo>
                <a:lnTo>
                  <a:pt x="0" y="21546"/>
                </a:lnTo>
                <a:cubicBezTo>
                  <a:pt x="7200" y="21554"/>
                  <a:pt x="14400" y="21560"/>
                  <a:pt x="21600" y="21568"/>
                </a:cubicBezTo>
                <a:cubicBezTo>
                  <a:pt x="21244" y="19797"/>
                  <a:pt x="20805" y="16576"/>
                  <a:pt x="20408" y="14080"/>
                </a:cubicBezTo>
                <a:cubicBezTo>
                  <a:pt x="20003" y="11616"/>
                  <a:pt x="19649" y="9185"/>
                  <a:pt x="19192" y="7177"/>
                </a:cubicBezTo>
                <a:cubicBezTo>
                  <a:pt x="18334" y="3412"/>
                  <a:pt x="17723" y="-32"/>
                  <a:pt x="16447" y="0"/>
                </a:cubicBezTo>
                <a:close/>
              </a:path>
            </a:pathLst>
          </a:custGeom>
          <a:solidFill>
            <a:srgbClr val="dcde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2" name="AutoShape 2"/>
          <p:cNvSpPr/>
          <p:nvPr/>
        </p:nvSpPr>
        <p:spPr>
          <a:xfrm rot="21566400">
            <a:off x="4930560" y="2562120"/>
            <a:ext cx="6661080" cy="3252960"/>
          </a:xfrm>
          <a:custGeom>
            <a:avLst/>
            <a:gdLst>
              <a:gd name="textAreaLeft" fmla="*/ 0 w 6661080"/>
              <a:gd name="textAreaRight" fmla="*/ 6661440 w 6661080"/>
              <a:gd name="textAreaTop" fmla="*/ 0 h 3252960"/>
              <a:gd name="textAreaBottom" fmla="*/ 3253320 h 3252960"/>
            </a:gdLst>
            <a:ahLst/>
            <a:rect l="textAreaLeft" t="textAreaTop" r="textAreaRight" b="textAreaBottom"/>
            <a:pathLst>
              <a:path w="21600" h="21600">
                <a:moveTo>
                  <a:pt x="19361" y="1"/>
                </a:moveTo>
                <a:cubicBezTo>
                  <a:pt x="19273" y="0"/>
                  <a:pt x="19183" y="15"/>
                  <a:pt x="19088" y="46"/>
                </a:cubicBezTo>
                <a:cubicBezTo>
                  <a:pt x="17638" y="468"/>
                  <a:pt x="16559" y="2039"/>
                  <a:pt x="15133" y="7613"/>
                </a:cubicBezTo>
                <a:cubicBezTo>
                  <a:pt x="13707" y="13188"/>
                  <a:pt x="11786" y="17680"/>
                  <a:pt x="10326" y="21206"/>
                </a:cubicBezTo>
                <a:cubicBezTo>
                  <a:pt x="8560" y="16505"/>
                  <a:pt x="7874" y="8212"/>
                  <a:pt x="5028" y="7100"/>
                </a:cubicBezTo>
                <a:cubicBezTo>
                  <a:pt x="4228" y="7622"/>
                  <a:pt x="4124" y="8113"/>
                  <a:pt x="3642" y="8705"/>
                </a:cubicBezTo>
                <a:cubicBezTo>
                  <a:pt x="3161" y="9297"/>
                  <a:pt x="2680" y="10619"/>
                  <a:pt x="2261" y="11771"/>
                </a:cubicBezTo>
                <a:cubicBezTo>
                  <a:pt x="1423" y="14075"/>
                  <a:pt x="1051" y="15244"/>
                  <a:pt x="0" y="20927"/>
                </a:cubicBezTo>
                <a:cubicBezTo>
                  <a:pt x="7200" y="21152"/>
                  <a:pt x="14400" y="21375"/>
                  <a:pt x="21600" y="21600"/>
                </a:cubicBezTo>
                <a:lnTo>
                  <a:pt x="21600" y="5225"/>
                </a:lnTo>
                <a:cubicBezTo>
                  <a:pt x="20996" y="2333"/>
                  <a:pt x="20428" y="7"/>
                  <a:pt x="19361" y="1"/>
                </a:cubicBezTo>
                <a:close/>
              </a:path>
            </a:pathLst>
          </a:custGeom>
          <a:solidFill>
            <a:srgbClr val="f4cb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3" name="AutoShape 3"/>
          <p:cNvSpPr/>
          <p:nvPr/>
        </p:nvSpPr>
        <p:spPr>
          <a:xfrm rot="21566400">
            <a:off x="5392440" y="3777840"/>
            <a:ext cx="5468760" cy="2005200"/>
          </a:xfrm>
          <a:custGeom>
            <a:avLst/>
            <a:gdLst>
              <a:gd name="textAreaLeft" fmla="*/ 0 w 5468760"/>
              <a:gd name="textAreaRight" fmla="*/ 5469120 w 5468760"/>
              <a:gd name="textAreaTop" fmla="*/ 0 h 2005200"/>
              <a:gd name="textAreaBottom" fmla="*/ 2005560 h 2005200"/>
            </a:gdLst>
            <a:ahLst/>
            <a:rect l="textAreaLeft" t="textAreaTop" r="textAreaRight" b="textAreaBottom"/>
            <a:pathLst>
              <a:path w="21600" h="21600">
                <a:moveTo>
                  <a:pt x="0" y="20859"/>
                </a:moveTo>
                <a:lnTo>
                  <a:pt x="21600" y="21600"/>
                </a:lnTo>
                <a:cubicBezTo>
                  <a:pt x="19936" y="17863"/>
                  <a:pt x="18973" y="12147"/>
                  <a:pt x="16761" y="6545"/>
                </a:cubicBezTo>
                <a:cubicBezTo>
                  <a:pt x="15656" y="3745"/>
                  <a:pt x="14971" y="3115"/>
                  <a:pt x="14311" y="2409"/>
                </a:cubicBezTo>
                <a:cubicBezTo>
                  <a:pt x="13651" y="1704"/>
                  <a:pt x="13538" y="1148"/>
                  <a:pt x="11634" y="0"/>
                </a:cubicBezTo>
                <a:cubicBezTo>
                  <a:pt x="8791" y="225"/>
                  <a:pt x="9598" y="230"/>
                  <a:pt x="8630" y="1227"/>
                </a:cubicBezTo>
                <a:cubicBezTo>
                  <a:pt x="7662" y="2223"/>
                  <a:pt x="6775" y="4972"/>
                  <a:pt x="5807" y="6778"/>
                </a:cubicBezTo>
                <a:cubicBezTo>
                  <a:pt x="3871" y="10392"/>
                  <a:pt x="1936" y="17245"/>
                  <a:pt x="0" y="20859"/>
                </a:cubicBezTo>
                <a:close/>
              </a:path>
            </a:pathLst>
          </a:custGeom>
          <a:solidFill>
            <a:srgbClr val="7bb89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5676120" y="6825600"/>
            <a:ext cx="490248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920" rIns="52920" tIns="52920" bIns="529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Helvetica Neue UltraLight"/>
                <a:ea typeface="宋体"/>
              </a:rPr>
              <a:t>WORKS PAGE</a:t>
            </a:r>
            <a:endParaRPr b="0" lang="en-US" sz="6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7996320" y="8186760"/>
            <a:ext cx="261720" cy="0"/>
          </a:xfrm>
          <a:prstGeom prst="line">
            <a:avLst/>
          </a:prstGeom>
          <a:ln w="38160">
            <a:solidFill>
              <a:srgbClr val="a6aa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5599080" y="8535600"/>
            <a:ext cx="5129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920" rIns="52920" tIns="52920" bIns="529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2800" spc="-1" strike="noStrike">
                <a:solidFill>
                  <a:srgbClr val="53585f"/>
                </a:solidFill>
                <a:latin typeface="Helvetica Neue UltraLight"/>
                <a:ea typeface="宋体"/>
              </a:rPr>
              <a:t>STORM CORE DESIGN STUDIO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7" name="Line 7"/>
          <p:cNvSpPr/>
          <p:nvPr/>
        </p:nvSpPr>
        <p:spPr>
          <a:xfrm>
            <a:off x="3587760" y="5737320"/>
            <a:ext cx="9447120" cy="71280"/>
          </a:xfrm>
          <a:prstGeom prst="line">
            <a:avLst/>
          </a:prstGeom>
          <a:ln w="25560">
            <a:solidFill>
              <a:srgbClr val="a6aaa9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0" y="-65160"/>
            <a:ext cx="13744440" cy="3021120"/>
          </a:xfrm>
          <a:prstGeom prst="rect">
            <a:avLst/>
          </a:prstGeom>
          <a:solidFill>
            <a:srgbClr val="e0e2e4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209" name="Picture 2" descr="c48775b6850937272a0c44f1fd5f754cccf3086b2d520-i7k77Q_fw658-filtered.jpeg"/>
          <p:cNvPicPr/>
          <p:nvPr/>
        </p:nvPicPr>
        <p:blipFill>
          <a:blip r:embed="rId1"/>
          <a:srcRect l="0" t="0" r="0" b="5980"/>
          <a:stretch/>
        </p:blipFill>
        <p:spPr>
          <a:xfrm>
            <a:off x="6013440" y="4041720"/>
            <a:ext cx="3865680" cy="3025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6ec009d4fd229a608b7d25e46c7f88c412cbb614bd0d-pZdLB6_fw658-filtered.jpeg"/>
          <p:cNvPicPr/>
          <p:nvPr/>
        </p:nvPicPr>
        <p:blipFill>
          <a:blip r:embed="rId2"/>
          <a:stretch/>
        </p:blipFill>
        <p:spPr>
          <a:xfrm>
            <a:off x="2147760" y="1504800"/>
            <a:ext cx="3865680" cy="2901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36fbd2329ac40e795eccdb2246f77567498dd354dd9d-pMPzfP_fw658-filtered.jpeg"/>
          <p:cNvPicPr/>
          <p:nvPr/>
        </p:nvPicPr>
        <p:blipFill>
          <a:blip r:embed="rId3"/>
          <a:srcRect l="0" t="0" r="0" b="6016"/>
          <a:stretch/>
        </p:blipFill>
        <p:spPr>
          <a:xfrm>
            <a:off x="6013440" y="1512720"/>
            <a:ext cx="3865680" cy="2725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96fc7ef1416c4336e8a04bd6d4908a2513c1a9c8df11-y83gQY_fw658-filtered.jpeg"/>
          <p:cNvPicPr/>
          <p:nvPr/>
        </p:nvPicPr>
        <p:blipFill>
          <a:blip r:embed="rId4"/>
          <a:stretch/>
        </p:blipFill>
        <p:spPr>
          <a:xfrm>
            <a:off x="9879120" y="1512720"/>
            <a:ext cx="3865320" cy="2900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c39cc8f35d6b21e57c87180c3331368c8da4640f25bac-A4PEMC_fw658-filtered.jpeg"/>
          <p:cNvPicPr/>
          <p:nvPr/>
        </p:nvPicPr>
        <p:blipFill>
          <a:blip r:embed="rId5"/>
          <a:srcRect l="0" t="0" r="0" b="5468"/>
          <a:stretch/>
        </p:blipFill>
        <p:spPr>
          <a:xfrm>
            <a:off x="2147760" y="4375080"/>
            <a:ext cx="3865680" cy="3043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tumblr_n5j1renWUp1tap5jeo1_1280-filtered.jpeg"/>
          <p:cNvPicPr/>
          <p:nvPr/>
        </p:nvPicPr>
        <p:blipFill>
          <a:blip r:embed="rId6"/>
          <a:stretch/>
        </p:blipFill>
        <p:spPr>
          <a:xfrm>
            <a:off x="9879120" y="4400640"/>
            <a:ext cx="3865320" cy="2898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5868f8eccd3087831791e5291ab95996d4fac3a9a0a0-D0ZWqG_fw658-filtered.jpeg"/>
          <p:cNvPicPr/>
          <p:nvPr/>
        </p:nvPicPr>
        <p:blipFill>
          <a:blip r:embed="rId7"/>
          <a:srcRect l="0" t="0" r="0" b="5566"/>
          <a:stretch/>
        </p:blipFill>
        <p:spPr>
          <a:xfrm>
            <a:off x="2147760" y="7418520"/>
            <a:ext cx="3865680" cy="2741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f1cd39319129a5f0e21754bb0dfd9d32621f310e2937d-aQOfWZ_fw658-filtered.jpeg"/>
          <p:cNvPicPr/>
          <p:nvPr/>
        </p:nvPicPr>
        <p:blipFill>
          <a:blip r:embed="rId8"/>
          <a:srcRect l="0" t="0" r="0" b="3983"/>
          <a:stretch/>
        </p:blipFill>
        <p:spPr>
          <a:xfrm>
            <a:off x="6013440" y="7067520"/>
            <a:ext cx="3865680" cy="30909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b9e3646177c85f9e82c97510e992306f35d7f33c6a23-Rvywy6_fw658-filtered.jpeg"/>
          <p:cNvPicPr/>
          <p:nvPr/>
        </p:nvPicPr>
        <p:blipFill>
          <a:blip r:embed="rId9"/>
          <a:stretch/>
        </p:blipFill>
        <p:spPr>
          <a:xfrm>
            <a:off x="9879120" y="7264440"/>
            <a:ext cx="3865320" cy="289404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11"/>
          <p:cNvSpPr/>
          <p:nvPr/>
        </p:nvSpPr>
        <p:spPr>
          <a:xfrm>
            <a:off x="2147760" y="4375080"/>
            <a:ext cx="3819600" cy="3022560"/>
          </a:xfrm>
          <a:prstGeom prst="rect">
            <a:avLst/>
          </a:prstGeom>
          <a:solidFill>
            <a:srgbClr val="fd8a5d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0" y="4375080"/>
            <a:ext cx="5967360" cy="858960"/>
          </a:xfrm>
          <a:prstGeom prst="rect">
            <a:avLst/>
          </a:prstGeom>
          <a:solidFill>
            <a:srgbClr val="12865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2823480" y="4606560"/>
            <a:ext cx="195228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920" rIns="52920" tIns="52920" bIns="529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HOME PAGE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2145960" y="653040"/>
            <a:ext cx="630720" cy="6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920" rIns="52920" tIns="52920" bIns="5292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3600" spc="-1" strike="noStrike">
                <a:solidFill>
                  <a:srgbClr val="00882b"/>
                </a:solidFill>
                <a:latin typeface="Helvetica Light"/>
                <a:ea typeface="宋体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3428640" y="653040"/>
            <a:ext cx="630720" cy="6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920" rIns="52920" tIns="52920" bIns="5292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3600" spc="-1" strike="noStrike">
                <a:solidFill>
                  <a:srgbClr val="53585f"/>
                </a:solidFill>
                <a:latin typeface="Helvetica Light"/>
                <a:ea typeface="宋体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3" name="Line 16"/>
          <p:cNvSpPr/>
          <p:nvPr/>
        </p:nvSpPr>
        <p:spPr>
          <a:xfrm flipV="1">
            <a:off x="2936880" y="820800"/>
            <a:ext cx="289080" cy="325440"/>
          </a:xfrm>
          <a:prstGeom prst="line">
            <a:avLst/>
          </a:prstGeom>
          <a:ln w="12600">
            <a:solidFill>
              <a:srgbClr val="8588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2560" rIns="52560" tIns="52560" bIns="5256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224" name="Group 17"/>
          <p:cNvGrpSpPr/>
          <p:nvPr/>
        </p:nvGrpSpPr>
        <p:grpSpPr>
          <a:xfrm>
            <a:off x="9879120" y="693720"/>
            <a:ext cx="3852720" cy="573120"/>
            <a:chOff x="9879120" y="693720"/>
            <a:chExt cx="3852720" cy="573120"/>
          </a:xfrm>
        </p:grpSpPr>
        <p:sp>
          <p:nvSpPr>
            <p:cNvPr id="225" name="AutoShape 18"/>
            <p:cNvSpPr/>
            <p:nvPr/>
          </p:nvSpPr>
          <p:spPr>
            <a:xfrm>
              <a:off x="9879120" y="693720"/>
              <a:ext cx="572760" cy="573120"/>
            </a:xfrm>
            <a:custGeom>
              <a:avLst/>
              <a:gdLst>
                <a:gd name="textAreaLeft" fmla="*/ 0 w 572760"/>
                <a:gd name="textAreaRight" fmla="*/ 573120 w 572760"/>
                <a:gd name="textAreaTop" fmla="*/ 0 h 573120"/>
                <a:gd name="textAreaBottom" fmla="*/ 573120 h 57312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</a:path>
              </a:pathLst>
            </a:custGeom>
            <a:noFill/>
            <a:ln w="3240">
              <a:solidFill>
                <a:srgbClr val="5358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26" name="AutoShape 19"/>
            <p:cNvSpPr/>
            <p:nvPr/>
          </p:nvSpPr>
          <p:spPr>
            <a:xfrm>
              <a:off x="11518920" y="693720"/>
              <a:ext cx="573120" cy="5731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</a:path>
              </a:pathLst>
            </a:custGeom>
            <a:noFill/>
            <a:ln w="3240">
              <a:solidFill>
                <a:srgbClr val="5358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227" name="AutoShape 20"/>
            <p:cNvSpPr/>
            <p:nvPr/>
          </p:nvSpPr>
          <p:spPr>
            <a:xfrm>
              <a:off x="13159080" y="693720"/>
              <a:ext cx="572760" cy="573120"/>
            </a:xfrm>
            <a:custGeom>
              <a:avLst/>
              <a:gdLst>
                <a:gd name="textAreaLeft" fmla="*/ 0 w 572760"/>
                <a:gd name="textAreaRight" fmla="*/ 573120 w 572760"/>
                <a:gd name="textAreaTop" fmla="*/ 0 h 573120"/>
                <a:gd name="textAreaBottom" fmla="*/ 573120 h 57312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</a:path>
              </a:pathLst>
            </a:custGeom>
            <a:noFill/>
            <a:ln w="3240">
              <a:solidFill>
                <a:srgbClr val="5358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pic>
          <p:nvPicPr>
            <p:cNvPr id="228" name="Picture 21" descr="pasted-image.pdf"/>
            <p:cNvPicPr/>
            <p:nvPr/>
          </p:nvPicPr>
          <p:blipFill>
            <a:blip r:embed="rId10"/>
            <a:stretch/>
          </p:blipFill>
          <p:spPr>
            <a:xfrm>
              <a:off x="10105920" y="822240"/>
              <a:ext cx="110880" cy="3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22" descr="pasted-image.pdf"/>
            <p:cNvPicPr/>
            <p:nvPr/>
          </p:nvPicPr>
          <p:blipFill>
            <a:blip r:embed="rId11"/>
            <a:stretch/>
          </p:blipFill>
          <p:spPr>
            <a:xfrm>
              <a:off x="11646000" y="855720"/>
              <a:ext cx="330120" cy="2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23" descr="pasted-image.pdf"/>
            <p:cNvPicPr/>
            <p:nvPr/>
          </p:nvPicPr>
          <p:blipFill>
            <a:blip r:embed="rId12"/>
            <a:stretch/>
          </p:blipFill>
          <p:spPr>
            <a:xfrm>
              <a:off x="13295520" y="871560"/>
              <a:ext cx="299880" cy="2714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6T23:55:33Z</dcterms:created>
  <dc:creator>督门提酒</dc:creator>
  <dc:description/>
  <dc:language>en-US</dc:language>
  <cp:lastModifiedBy>Administrator</cp:lastModifiedBy>
  <dcterms:modified xsi:type="dcterms:W3CDTF">2015-08-11T01:37:43Z</dcterms:modified>
  <cp:revision>2</cp:revision>
  <dc:subject/>
  <dc:title>PowerPoint 演示文稿</dc:title>
</cp:coreProperties>
</file>