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6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6" descr="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3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5"/>
          <p:cNvSpPr/>
          <p:nvPr/>
        </p:nvSpPr>
        <p:spPr>
          <a:xfrm>
            <a:off x="5041800" y="1154160"/>
            <a:ext cx="3861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970440" y="2077920"/>
            <a:ext cx="442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</a:rPr>
              <a:t>越夜越精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868320" y="3781440"/>
            <a:ext cx="48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ff66"/>
                </a:solidFill>
                <a:latin typeface="Arial"/>
              </a:rPr>
              <a:t>有胆你就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-550800" y="760320"/>
            <a:ext cx="96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ngular"/>
              </a:rPr>
              <a:t>Happy  Hallowee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0" repeatCount="5000">
                                  <p:stCondLst>
                                    <p:cond delay="0"/>
                                  </p:stCondLst>
                                  <p:iterate type="wd">
                                    <p:tmAbs val="600"/>
                                  </p:iterate>
                                  <p:childTnLst>
                                    <p:animMotion origin="layout" path="M 0.03646 0.03168 C 0.03403 0.03445 0.03195 0.03723 0.02917 0.03862 C 0.02466 0.04509 0.01997 0.05087 0.01545 0.05689 C 0.01337 0.06383 0.01111 0.06614 0.00782 0.06984 C 0.00608 0.07724 0.00278 0.08325 -0.00017 0.0895 C -0.00156 0.09828 -0.0059 0.10407 -0.00781 0.11239 C -0.00972 0.11864 -0.01076 0.12396 -0.01319 0.12904 C -0.01389 0.13482 -0.01545 0.14246 -0.01701 0.14754 C -0.01771 0.1524 -0.01771 0.15263 -0.01909 0.15749 C -0.02031 0.16235 -0.02309 0.1716 -0.02309 0.17183 C -0.02378 0.18038 -0.02673 0.18594 -0.0283 0.19403 C -0.03246 0.21993 -0.03593 0.24791 -0.03819 0.27474 C -0.03767 0.31198 -0.03437 0.36193 -0.04045 0.39916 C -0.04132 0.41142 -0.04201 0.42391 -0.04323 0.43617 C -0.04357 0.4431 -0.04427 0.45004 -0.04444 0.45721 C -0.04566 0.49907 -0.04323 0.48196 -0.04583 0.49838 C -0.04705 0.51503 -0.04496 0.50138 -0.04843 0.50948 C -0.04948 0.51225 -0.05017 0.51526 -0.05121 0.51803 C -0.05278 0.52382 -0.05746 0.52613 -0.06007 0.52937 C -0.06562 0.53607 -0.06007 0.53191 -0.06475 0.53492 C -0.06788 0.53954 -0.07083 0.54394 -0.07448 0.54625 C -0.07673 0.54949 -0.07899 0.55064 -0.08159 0.55319 C -0.08333 0.55504 -0.08507 0.55828 -0.0868 0.56013 C -0.08993 0.56336 -0.0967 0.56591 -0.09913 0.56706 C -0.10451 0.57007 -0.10989 0.57585 -0.11545 0.57724 C -0.11944 0.57816 -0.12326 0.57816 -0.12725 0.57863 C -0.13403 0.58256 -0.14739 0.58325 -0.14739 0.58348 C -0.16875 0.59042 -0.18819 0.5851 -0.21059 0.58441 C -0.21718 0.58233 -0.22534 0.57724 -0.23159 0.57308 C -0.23541 0.5703 -0.23871 0.56706 -0.24253 0.56591 C -0.246 0.56221 -0.24878 0.56059 -0.2526 0.55874 C -0.25399 0.55781 -0.25694 0.55573 -0.25694 0.55596 C -0.25972 0.55249 -0.26423 0.54556 -0.26684 0.54347 C -0.26788 0.54255 -0.26892 0.54186 -0.26996 0.5407 C -0.27135 0.53885 -0.27396 0.53492 -0.27396 0.53515 C -0.27587 0.52867 -0.27812 0.52197 -0.28107 0.51803 C -0.2842 0.50786 -0.28246 0.51202 -0.28559 0.50532 C -0.28663 0.49722 -0.28802 0.48936 -0.2901 0.48242 C -0.29132 0.47178 -0.29444 0.46207 -0.2967 0.45282 C -0.2993 0.44287 -0.30069 0.4327 -0.30399 0.42322 C -0.30503 0.41628 -0.30712 0.40818 -0.30903 0.40217 C -0.30972 0.39616 -0.31059 0.39199 -0.3118 0.38668 C -0.31441 0.34944 -0.31024 0.33557 -0.30712 0.30458 C -0.30694 0.29486 -0.30659 0.28469 -0.30659 0.27474 C -0.30625 0.25 -0.30642 0.22479 -0.30607 0.19981 C -0.30538 0.17113 -0.30243 0.14801 -0.29462 0.12488 C -0.28941 0.10892 -0.29253 0.11424 -0.28819 0.108 C -0.28593 0.10037 -0.28264 0.09574 -0.27986 0.0895 C -0.27708 0.08395 -0.27482 0.07631 -0.27205 0.07123 C -0.26823 0.06429 -0.26337 0.05966 -0.25972 0.05273 C -0.25278 0.0407 -0.246 0.02451 -0.2375 0.01896 C -0.23264 0.01202 -0.22656 0.00277 -0.22118 0.00046 C -0.21597 -0.00532 -0.21146 -0.01203 -0.20555 -0.01365 C -0.20104 -0.01689 -0.20208 -0.01781 -0.19635 -0.0192 C -0.18889 -0.02359 -0.18125 -0.02475 -0.17343 -0.02614 C -0.16354 -0.034 -0.14166 -0.02799 -0.13698 -0.02776 C -0.1335 -0.02637 -0.13003 -0.02614 -0.12656 -0.02498 C -0.12343 -0.02359 -0.121 -0.01989 -0.11805 -0.01804 C -0.11389 -0.01504 -0.11111 -0.01434 -0.10712 -0.01087 C -0.10486 -0.00579 -0.09982 -0.00093 -0.09653 0.00185 C -0.09323 0.00809 -0.08906 0.01133 -0.08541 0.01757 C -0.07587 0.03353 -0.06718 0.05018 -0.05885 0.06984 C -0.05625 0.07539 -0.0526 0.08256 -0.05034 0.0895 C -0.04548 0.10476 -0.04166 0.12164 -0.03732 0.1376 C -0.02968 0.16605 -0.01996 0.19241 -0.0085 0.21392 C -0.0033 0.22386 0.00052 0.23658 0.00643 0.24537 C 0.00972 0.25462 0.0132 0.2604 0.01736 0.26757 C 0.01841 0.26919 0.01875 0.2715 0.01945 0.27335 C 0.01997 0.27451 0.02066 0.2752 0.02136 0.27613 C 0.02413 0.28445 0.02847 0.29301 0.03177 0.30041 C 0.03525 0.30804 0.0375 0.32354 0.04028 0.33279 C 0.04167 0.34112 0.04306 0.34875 0.04427 0.35684 C 0.04479 0.36054 0.04549 0.36447 0.04618 0.36817 C 0.04653 0.36956 0.0467 0.37234 0.0467 0.37257 C 0.04809 0.40471 0.05052 0.44634 0.04618 0.47687 C 0.04584 0.48612 0.04514 0.49491 0.04427 0.50393 C 0.04393 0.5222 0.04479 0.54902 0.03976 0.56591 C 0.03907 0.57539 0.03924 0.57863 0.03716 0.58603 C 0.03594 0.60869 0.02795 0.63436 0.01736 0.64223 C 0.0099 0.65795 -0.00173 0.66026 -0.0118 0.66235 C -0.01354 0.66142 -0.01545 0.66073 -0.01701 0.6605 C -0.02343 0.6598 -0.02968 0.66026 -0.03593 0.65911 C -0.04097 0.65841 -0.04392 0.65286 -0.04843 0.65078 C -0.05503 0.63922 -0.06146 0.62719 -0.06736 0.61401 C -0.07448 0.59898 -0.06718 0.61748 -0.07326 0.60268 C -0.07604 0.59551 -0.07743 0.58695 -0.08021 0.58025 C -0.08125 0.56915 -0.08455 0.55851 -0.0868 0.54879 C -0.09132 0.53145 -0.09653 0.51642 -0.1026 0.50115 C -0.1125 0.47479 -0.09722 0.51063 -0.10833 0.48404 C -0.10937 0.48149 -0.11059 0.47918 -0.11163 0.47687 C -0.11232 0.47525 -0.11354 0.47409 -0.11423 0.47248 C -0.11614 0.46785 -0.11788 0.46346 -0.11944 0.4586 C -0.12014 0.45629 -0.12048 0.45374 -0.12135 0.45166 C -0.12569 0.44079 -0.12239 0.4549 -0.12656 0.44033 C -0.12968 0.42946 -0.13212 0.42021 -0.13559 0.4105 C -0.1375 0.40564 -0.13975 0.39246 -0.14166 0.38668 C -0.14271 0.38274 -0.14427 0.37997 -0.14548 0.3765 C -0.14965 0.3647 -0.15087 0.35638 -0.15434 0.34412 C -0.1559 0.33626 -0.15607 0.33973 -0.1585 0.33279 C -0.16093 0.32631 -0.16076 0.321 -0.16441 0.31868 C -0.16701 0.31105 -0.17066 0.3055 -0.17343 0.29902 C -0.17604 0.29301 -0.17812 0.28631 -0.18142 0.28168 C -0.1835 0.27266 -0.18732 0.27104 -0.18993 0.26225 C -0.19149 0.25647 -0.19045 0.25878 -0.19305 0.25508 C -0.196 0.24537 -0.2 0.23774 -0.20295 0.22803 C -0.20416 0.2197 -0.2026 0.22803 -0.20607 0.22109 C -0.20677 0.21993 -0.20694 0.21808 -0.20746 0.21692 C -0.20868 0.21392 -0.20989 0.21091 -0.21128 0.20837 C -0.21215 0.20675 -0.21319 0.20582 -0.21406 0.20421 C -0.21892 0.19334 -0.2243 0.18223 -0.2283 0.17021 C -0.23229 0.15911 -0.23559 0.14269 -0.24132 0.13621 C -0.24323 0.13066 -0.24635 0.12326 -0.24913 0.11933 C -0.25486 0.10245 -0.24774 0.12187 -0.25312 0.11077 C -0.25521 0.10638 -0.25694 0.10037 -0.25972 0.09643 C -0.27031 0.07978 -0.28246 0.06799 -0.29462 0.05689 C -0.30868 0.0592 -0.32257 0.06244 -0.33646 0.06568 C -0.33802 0.06776 -0.33958 0.06915 -0.34114 0.07123 C -0.34444 0.07701 -0.34705 0.08395 -0.35087 0.08811 C -0.3533 0.09528 -0.35607 0.10198 -0.3585 0.10962 C -0.35989 0.11332 -0.3625 0.12072 -0.3625 0.12095 C -0.36354 0.12881 -0.36458 0.13367 -0.36718 0.14038 C -0.36771 0.14593 -0.36823 0.14986 -0.36979 0.15471 C -0.37031 0.15888 -0.37118 0.16327 -0.3717 0.1672 C -0.37187 0.16882 -0.37239 0.1716 -0.37239 0.17183 C -0.37326 0.18385 -0.37413 0.19588 -0.375 0.20837 C -0.3743 0.24537 -0.37673 0.29532 -0.36649 0.3284 C -0.36562 0.33626 -0.36423 0.34343 -0.36198 0.34967 C -0.36007 0.36956 -0.36267 0.34759 -0.35989 0.361 C -0.35972 0.36262 -0.35972 0.3647 -0.35937 0.36679 C -0.3592 0.36817 -0.35903 0.36979 -0.3585 0.37095 C -0.35729 0.37766 -0.35555 0.38436 -0.35416 0.39084 C -0.35243 0.40518 -0.35468 0.38829 -0.35225 0.40078 C -0.35 0.41165 -0.34913 0.42576 -0.34757 0.43755 C -0.34635 0.44773 -0.34566 0.45837 -0.34444 0.46831 C -0.34444 0.47687 -0.34566 0.48519 -0.34566 0.49398 C -0.34566 0.51457 -0.34514 0.5259 -0.34305 0.54347 C -0.34218 0.55087 -0.34184 0.56105 -0.33923 0.56706 C -0.33246 0.58186 -0.33628 0.57261 -0.33194 0.57724 C -0.33038 0.57909 -0.32899 0.58256 -0.32743 0.58441 C -0.32048 0.59158 -0.31337 0.59551 -0.30659 0.60152 C -0.30347 0.60083 -0.3 0.60245 -0.29739 0.59852 C -0.29444 0.59458 -0.29635 0.59482 -0.29409 0.59019 C -0.29271 0.58742 -0.29114 0.58533 -0.28958 0.58325 C -0.28437 0.57516 -0.28472 0.57608 -0.27916 0.57007 C -0.27378 0.56406 -0.26875 0.55619 -0.26337 0.55041 C -0.25903 0.54602 -0.26128 0.54162 -0.25573 0.53931 C -0.25034 0.52775 -0.25312 0.53099 -0.24791 0.52659 C -0.23906 0.50161 -0.22621 0.4882 -0.21458 0.47109 C -0.20729 0.46068 -0.20034 0.44935 -0.19305 0.43894 C -0.18958 0.43408 -0.18698 0.42645 -0.18333 0.42183 C -0.17968 0.41119 -0.18229 0.41766 -0.17482 0.40495 C -0.16649 0.39061 -0.1585 0.37488 -0.15 0.361 C -0.14548 0.35337 -0.14392 0.35453 -0.14028 0.3469 C -0.13489 0.3351 -0.13038 0.31915 -0.12378 0.31013 C -0.12153 0.30319 -0.11892 0.29995 -0.11614 0.29324 C -0.10503 0.26341 -0.08767 0.24329 -0.07048 0.23496 C -0.06528 0.23242 -0.06041 0.22733 -0.05486 0.22525 C -0.0526 0.22201 -0.05 0.22109 -0.04705 0.2197 C -0.04514 0.21878 -0.04114 0.21692 -0.04114 0.21716 C -0.03663 0.21184 -0.03246 0.20976 -0.0276 0.20837 C -0.02239 0.20282 -0.01684 0.20004 -0.01111 0.19865 C -0.00764 0.19449 -0.00468 0.19264 -0.00087 0.19149 C 0.00677 0.18594 0.01354 0.17668 0.02136 0.17437 C 0.02847 0.16905 0.03611 0.16766 0.04288 0.16026 C 0.04497 0.15587 0.04722 0.15448 0.04931 0.15032 C 0.05226 0.145 0.054 0.13806 0.05729 0.13344 C 0.06007 0.12095 0.05677 0.1339 0.06059 0.12349 C 0.06146 0.12072 0.06302 0.11517 0.06302 0.1154 C 0.06354 0.1117 0.06459 0.10869 0.06459 0.10499 C 0.06459 0.09065 0.06181 0.07516 0.05591 0.06706 C 0.05538 0.06498 0.05486 0.06313 0.054 0.06128 C 0.05347 0.06013 0.05243 0.05989 0.05191 0.05828 C 0.05139 0.05666 0.05122 0.05458 0.0507 0.05273 C 0.04931 0.04764 0.04775 0.04463 0.04549 0.04162 C 0.04514 0.04001 0.04479 0.03839 0.04427 0.03723 C 0.04306 0.03515 0.0382 0.03284 0.03646 0.03168 Z">
                                      <p:cBhvr>
                                        <p:cTn id="6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 repeatCount="500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nimMotion origin="layout" path="M 0.27761 -0.07794 C 0.26979 -0.06198 0.26337 -0.04163 0.25695 -0.02428 C 0.25521 -0.00902 0.25139 0.0044 0.24775 0.01897 C 0.24653 0.0296 0.24427 0.03862 0.24132 0.04857 C 0.23906 0.06522 0.23611 0.08488 0.2309 0.10037 C 0.21632 0.14385 0.229 0.10338 0.21788 0.13321 C 0.2125 0.14778 0.21563 0.14408 0.20886 0.15911 C 0.20052 0.17762 0.18906 0.1945 0.179 0.21115 C 0.16077 0.24121 0.18577 0.20259 0.16962 0.23173 C 0.16788 0.23497 0.16511 0.23728 0.16337 0.24052 C 0.16163 0.24306 0.16111 0.24676 0.15938 0.24908 C 0.15538 0.2544 0.15087 0.25833 0.14653 0.26295 C 0.13594 0.27405 0.1283 0.28978 0.11771 0.30111 C 0.10174 0.31846 0.1217 0.29811 0.10365 0.31314 C 0.09514 0.32031 0.08542 0.33488 0.07639 0.33904 C 0.05174 0.34991 0.08403 0.33465 0.06215 0.34783 C 0.05174 0.35384 0.03924 0.35708 0.0283 0.35985 C 0.00781 0.35893 -0.00538 0.35916 -0.02361 0.3513 C -0.02604 0.34922 -0.02934 0.34875 -0.03142 0.34598 C -0.03785 0.33742 -0.03906 0.32077 -0.04184 0.30967 C -0.04791 0.24885 -0.02691 0.20583 0.00469 0.16605 C 0.01215 0.1568 0.01823 0.14593 0.02552 0.13668 C 0.02934 0.13229 0.03438 0.12974 0.03733 0.12466 C 0.04618 0.10916 0.05799 0.09806 0.06858 0.08488 C 0.09462 0.0525 0.06528 0.08511 0.09323 0.05527 C 0.09827 0.04996 0.10486 0.04672 0.11007 0.04163 C 0.11858 0.03354 0.10972 0.03816 0.11771 0.03469 C 0.12222 0.03076 0.1257 0.02637 0.1309 0.02429 C 0.13976 0.01642 0.15 0.01133 0.15938 0.00532 C 0.1691 -0.00069 0.17934 -0.01017 0.18941 -0.01387 C 0.20139 -0.02544 0.21597 -0.03029 0.2283 -0.04139 C 0.23247 -0.04995 0.23021 -0.04995 0.22448 -0.05527 C 0.22066 -0.06522 0.21476 -0.07169 0.20886 -0.07955 C 0.18542 -0.11078 0.15504 -0.13136 0.1257 -0.15055 C 0.11771 -0.15587 0.10886 -0.15911 0.10087 -0.16443 C 0.0934 -0.16952 0.1007 -0.1679 0.08941 -0.17114 C 0.08715 -0.17183 0.0849 -0.17229 0.08281 -0.17299 C 0.08004 -0.17391 0.075 -0.17646 0.075 -0.17646 C 0.05018 -0.17507 0.02691 -0.16998 0.00226 -0.1679 C -0.00642 -0.16397 -0.01979 -0.15495 -0.02899 -0.15217 C -0.03316 -0.15078 -0.03767 -0.14963 -0.04184 -0.14708 C -0.0533 -0.14015 -0.06267 -0.12905 -0.0743 -0.1228 C -0.08611 -0.10707 -0.09583 -0.09644 -0.10295 -0.07609 C -0.10503 -0.0703 -0.10729 -0.06452 -0.10937 -0.05874 C -0.11024 -0.05643 -0.11111 -0.05411 -0.11198 -0.0518 C -0.11285 -0.04949 -0.11458 -0.04486 -0.11458 -0.04486 C -0.11684 -0.02243 -0.11857 -0.00231 -0.1158 0.02082 C -0.1151 0.02729 -0.10434 0.05042 -0.10156 0.05712 C -0.08489 0.09829 -0.04687 0.14362 -0.01059 0.14871 C 0.00538 0.15634 0.02188 0.14848 0.03733 0.14362 C 0.04271 0.14015 0.04584 0.13807 0.04913 0.13159 C 0.04601 0.11564 0.04236 0.09806 0.03472 0.08488 C 0.03247 0.07193 0.01927 0.04579 0.01146 0.03631 C -0.00382 0.01758 0.00469 0.03007 -0.00677 0.01897 C -0.03646 -0.00994 -0.06753 -0.02937 -0.10416 -0.03469 C -0.12014 -0.03399 -0.13628 -0.03423 -0.15225 -0.03284 C -0.17014 -0.03122 -0.1901 -0.02127 -0.20677 -0.01387 C -0.21753 -0.00902 -0.22673 -0.0067 -0.23785 -0.00347 C -0.24774 -0.00046 -0.25694 0.00625 -0.26649 0.01041 C -0.27448 0.01827 -0.28333 0.02267 -0.29114 0.03122 C -0.29791 0.03862 -0.30087 0.04903 -0.30677 0.05712 C -0.3085 0.06661 -0.31128 0.07609 -0.31458 0.08488 C -0.31146 0.12419 -0.31354 0.10685 -0.30937 0.13668 C -0.30729 0.15218 -0.30607 0.14709 -0.30156 0.1575 C -0.29201 0.1797 -0.27986 0.20375 -0.26128 0.21462 C -0.24791 0.22248 -0.23021 0.22896 -0.2158 0.23173 C -0.20816 0.23335 -0.19253 0.2352 -0.19253 0.2352 C -0.17691 0.23358 -0.16076 0.2352 -0.14566 0.23011 C -0.14288 0.22919 -0.14062 0.22618 -0.13785 0.22503 C -0.13368 0.22341 -0.12934 0.22271 -0.125 0.22156 C -0.11857 0.21716 -0.1151 0.21531 -0.11319 0.20583 C -0.1184 0.17322 -0.14132 0.13576 -0.16649 0.12974 C -0.18125 0.11009 -0.20642 0.10731 -0.22621 0.10384 C -0.25416 0.10523 -0.2559 0.10315 -0.27552 0.1124 C -0.28073 0.11494 -0.28594 0.11702 -0.29114 0.11934 C -0.29375 0.12049 -0.29896 0.1228 -0.29896 0.1228 C -0.31041 0.13437 -0.32673 0.14038 -0.33923 0.15056 C -0.35573 0.16397 -0.36528 0.18964 -0.37812 0.20768 C -0.3809 0.21693 -0.38403 0.22479 -0.38732 0.23358 C -0.38854 0.24445 -0.39132 0.2537 -0.39253 0.2648 C -0.39149 0.29649 -0.39219 0.30342 -0.38333 0.32701 C -0.38298 0.32933 -0.38298 0.33187 -0.38212 0.33395 C -0.38073 0.33765 -0.37691 0.34436 -0.37691 0.34436 C -0.37396 0.35939 -0.35694 0.37489 -0.34705 0.38229 C -0.32517 0.39848 -0.35625 0.37581 -0.33403 0.39454 C -0.31944 0.4068 -0.30208 0.41605 -0.28594 0.42391 C -0.27448 0.42947 -0.26163 0.42993 -0.24965 0.43247 C -0.23628 0.43201 -0.22274 0.4327 -0.20937 0.43085 C -0.20573 0.43039 -0.2026 0.42669 -0.19896 0.42553 C -0.17986 0.41975 -0.15972 0.41998 -0.14045 0.41351 C -0.12639 0.40888 -0.11319 0.40033 -0.09896 0.39616 C -0.08472 0.38668 -0.10625 0.40033 -0.08333 0.38922 C -0.08194 0.38853 -0.0809 0.38668 -0.07951 0.38576 C -0.06771 0.37789 -0.07743 0.38529 -0.0691 0.38067 C -0.06111 0.37604 -0.05382 0.37049 -0.04566 0.36679 C -0.03628 0.35824 -0.02448 0.35453 -0.01719 0.34251 C -0.01163 0.33372 -0.00937 0.31684 -0.00416 0.3062 C -0.00364 0.29695 -0.00208 0.2877 -0.00156 0.27845 C -0.00017 0.25416 -0.00139 0.24191 0.00625 0.22156 C 0.00764 0.20976 0.0099 0.19635 0.01268 0.18502 C 0.01441 0.17692 0.01702 0.17137 0.01788 0.16258 C 0.02066 0.13044 0.01962 0.10268 0.02952 0.07262 C 0.03264 0.06406 0.03629 0.0488 0.04236 0.04325 C 0.04618 0.03354 0.05035 0.02382 0.05556 0.0155 C 0.06059 0.00717 0.06597 -0.000229999999999999 0.06858 -0.01041 C 0.06945 -0.02266 0.06893 -0.02706 0.07379 -0.03631 C 0.0757 -0.04417 0.075 -0.03954 0.075 -0.05018 E">
                                      <p:cBhvr>
                                        <p:cTn id="10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0.0382 0.1006 C 0.03906 0.12882 0.03768 0.15564 0.03698 0.18363 C 0.03629 0.213 0.03577 0.2426 0.03438 0.27174 C 0.03351 0.28469 0.03195 0.29741 0.03108 0.30967 C 0.02535 0.37488 0.01424 0.43663 -0.00017 0.48635 C -0.00156 0.49121 -0.0026 0.49699 -0.00399 0.50185 C -0.00851 0.51665 -0.01337 0.52937 -0.01771 0.54348 C -0.02135 0.55481 -0.02396 0.56429 -0.02899 0.56915 C -0.03385 0.58002 -0.0401 0.57077 -0.04548 0.56753 C -0.05156 0.5599 -0.05729 0.55203 -0.0625 0.54001 C -0.06545 0.5333 -0.0691 0.52845 -0.07083 0.51758 C -0.07344 0.50208 -0.07587 0.48635 -0.0783 0.47086 C -0.07864 0.45906 -0.08003 0.45097 -0.0809 0.43964 C -0.08177 0.429 -0.08229 0.41882 -0.08368 0.40842 C -0.08455 0.39338 -0.08489 0.38367 -0.08542 0.36702 C -0.08507 0.34806 -0.08507 0.32886 -0.08472 0.30967 C -0.08437 0.2833 -0.08003 0.26133 -0.07639 0.2389 C -0.07587 0.23404 -0.07378 0.22687 -0.07274 0.2234 C -0.07135 0.21947 -0.0691 0.21785 -0.06823 0.213 C -0.0658 0.20166 -0.06076 0.19357 -0.0566 0.19056 C -0.05017 0.18062 -0.04392 0.17345 -0.03715 0.16628 C -0.03594 0.16489 -0.03455 0.16351 -0.03316 0.16281 C -0.03055 0.16119 -0.025 0.15934 -0.025 0.15957 C -0.01996 0.16004 -0.01493 0.15957 -0.01007 0.16119 C -0.00712 0.16212 -0.00399 0.17993 -0.00173 0.18524 C 0.00035 0.19796 0.00347 0.20976 0.0059 0.22178 C 0.01059 0.24399 0.01337 0.26989 0.01754 0.29255 C 0.01858 0.30527 0.0224 0.32794 0.02483 0.33927 C 0.02622 0.35268 0.02795 0.36563 0.02917 0.37905 C 0.02899 0.40148 0.03038 0.43154 0.02761 0.45513 C 0.02708 0.46577 0.02691 0.47086 0.02483 0.47942 C 0.02413 0.48659 0.02257 0.49121 0.02153 0.49815 C 0.01979 0.51041 0.01823 0.52081 0.01545 0.53145 C 0.01424 0.53538 0.01268 0.5377 0.01146 0.54163 C 0.01111 0.54325 0.01094 0.54556 0.01042 0.54695 C 0.00938 0.54972 0.00712 0.55365 0.00712 0.55388 C 0.00382 0.56822 -0.00069 0.57909 -0.00573 0.58672 C -0.01128 0.59551 -0.00573 0.58788 -0.01059 0.59713 C -0.01337 0.60199 -0.01701 0.60731 -0.01996 0.61101 C -0.02083 0.61193 -0.025 0.61401 -0.02552 0.61425 C -0.03003 0.61795 -0.03385 0.62373 -0.03819 0.6265 C -0.04392 0.63321 -0.04861 0.63228 -0.05486 0.63321 C -0.06007 0.63598 -0.06528 0.63899 -0.07048 0.64177 C -0.07326 0.64153 -0.07621 0.64107 -0.07934 0.64015 C -0.08351 0.63922 -0.08055 0.63853 -0.08437 0.63483 C -0.08663 0.63228 -0.08941 0.63136 -0.09201 0.62997 C -0.09548 0.62442 -0.09878 0.61818 -0.10243 0.61425 C -0.10712 0.6043 -0.1 0.6191 -0.10694 0.60731 C -0.11024 0.60199 -0.11371 0.59482 -0.11684 0.58834 C -0.1191 0.58372 -0.11979 0.57585 -0.12239 0.57285 C -0.12413 0.56452 -0.12517 0.55597 -0.12795 0.55042 C -0.12812 0.5481 -0.12812 0.54556 -0.12847 0.54348 C -0.12899 0.53955 -0.13055 0.53307 -0.13055 0.5333 C -0.13142 0.52313 -0.13316 0.51596 -0.13472 0.50717 C -0.13559 0.49352 -0.13854 0.48335 -0.1401 0.47086 C -0.14375 0.44357 -0.14774 0.41697 -0.15121 0.38945 C -0.15191 0.37812 -0.15295 0.36771 -0.15399 0.35661 C -0.15607 0.33372 -0.15625 0.30897 -0.15781 0.28538 C -0.15833 0.27128 -0.15903 0.25809 -0.15937 0.24399 C -0.1592 0.21323 -0.16024 0.16697 -0.15451 0.13691 C -0.15347 0.13182 -0.15226 0.12789 -0.15121 0.12303 C -0.14965 0.11633 -0.14861 0.10985 -0.1467 0.10407 C -0.14479 0.09158 -0.14132 0.08511 -0.13854 0.0747 C -0.13472 0.06129 -0.13021 0.04602 -0.12448 0.04001 C -0.12135 0.03238 -0.11701 0.02752 -0.11302 0.02451 C -0.10746 0.03608 -0.10729 0.06059 -0.10347 0.07632 C -0.10278 0.08672 -0.10191 0.09713 -0.10139 0.10754 C -0.10278 0.1524 -0.10208 0.19843 -0.10573 0.24214 C -0.10625 0.25647 -0.10712 0.27012 -0.10798 0.28376 C -0.10885 0.2951 -0.10885 0.3055 -0.11076 0.31522 C -0.11232 0.3432 -0.11892 0.36725 -0.12413 0.38945 C -0.12604 0.39732 -0.12726 0.40703 -0.12899 0.41536 C -0.13003 0.41998 -0.13212 0.42252 -0.13281 0.42761 C -0.13437 0.43709 -0.13611 0.44357 -0.13906 0.4482 C -0.1408 0.45675 -0.14271 0.46438 -0.14566 0.46901 C -0.14844 0.48034 -0.15121 0.48797 -0.15555 0.49329 C -0.15642 0.49422 -0.15746 0.49514 -0.15833 0.49653 C -0.15955 0.49884 -0.16163 0.5037 -0.16163 0.50393 C -0.16458 0.50277 -0.16753 0.50324 -0.17066 0.50185 C -0.17552 0.49931 -0.17951 0.48959 -0.18385 0.48265 C -0.18559 0.47479 -0.18732 0.47063 -0.18993 0.46554 C -0.19149 0.45837 -0.19357 0.45444 -0.19548 0.4482 C -0.19896 0.43779 -0.20104 0.42461 -0.20486 0.41536 C -0.2059 0.40148 -0.20451 0.41536 -0.20764 0.39986 C -0.20851 0.39547 -0.20885 0.39015 -0.20989 0.38598 C -0.21024 0.38437 -0.21059 0.38252 -0.21094 0.3809 C -0.21198 0.36656 -0.21476 0.35453 -0.21649 0.34112 C -0.21719 0.32331 -0.21875 0.30712 -0.21927 0.28885 C -0.21892 0.26388 -0.22014 0.22502 -0.2158 0.19912 C -0.21371 0.17021 -0.21007 0.16443 -0.20538 0.142 C -0.20417 0.12997 -0.2059 0.14362 -0.20312 0.13344 C -0.2026 0.13136 -0.2026 0.12858 -0.20208 0.1265 C -0.20087 0.12234 -0.1993 0.12003 -0.19826 0.1161 C -0.19583 0.10731 -0.19305 0.09713 -0.18941 0.09366 C -0.18715 0.09829 -0.18611 0.10361 -0.18489 0.11101 C -0.1842 0.12188 -0.18264 0.12858 -0.18107 0.13853 C -0.17951 0.14963 -0.17864 0.16166 -0.17778 0.17322 C -0.17743 0.17715 -0.17691 0.18131 -0.17656 0.18524 C -0.17621 0.18941 -0.17552 0.1975 -0.17552 0.19773 C -0.17326 0.24838 -0.17743 0.33349 -0.18385 0.38437 C -0.18489 0.40194 -0.18646 0.41281 -0.18941 0.42761 C -0.19045 0.43339 -0.19097 0.43941 -0.19219 0.44496 C -0.19288 0.45282 -0.19566 0.45837 -0.19774 0.46392 C -0.19965 0.46924 -0.20156 0.47687 -0.20382 0.48104 C -0.20469 0.48265 -0.20555 0.48335 -0.20642 0.48474 C -0.20868 0.48797 -0.20798 0.4889 -0.21042 0.49329 C -0.21198 0.49584 -0.21423 0.49722 -0.2158 0.49815 C -0.22552 0.51295 -0.21753 0.50555 -0.23923 0.5037 C -0.24444 0.49792 -0.24844 0.48497 -0.25312 0.47595 C -0.25746 0.45745 -0.25173 0.47988 -0.25694 0.46392 C -0.25833 0.4593 -0.25903 0.4519 -0.26024 0.44658 C -0.26128 0.43548 -0.26337 0.42484 -0.26458 0.41374 C -0.26649 0.34898 -0.26927 0.27613 -0.25955 0.21647 C -0.25868 0.20398 -0.2559 0.19357 -0.25417 0.18201 C -0.24896 0.14917 -0.24236 0.11656 -0.23368 0.09204 C -0.22708 0.07354 -0.22101 0.0525 -0.21476 0.03307 C -0.21076 0.02035 -0.21285 0.03168 -0.20764 0.01758 C -0.20469 0.00948 -0.20069 0.00069 -0.19705 -0.00486 C -0.19653 -0.00601 -0.19566 -0.00578 -0.19479 -0.00671 C -0.1941 -0.00763 -0.1934 -0.00902 -0.19271 -0.01018 C -0.18871 -0.01735 -0.18403 -0.02544 -0.17951 -0.02914 C -0.17448 -0.0333 -0.16892 -0.03446 -0.16389 -0.03793 C -0.15677 -0.03723 -0.15 -0.03747 -0.14305 -0.03608 C -0.13767 -0.03515 -0.13333 -0.0303 -0.12847 -0.02567 C -0.12153 -0.0192 -0.11423 -0.01411 -0.10746 -0.00671 C -0.10052 0.00069 -0.1066 -0.0037 -0.09982 0.00532 C -0.09271 0.01411 -0.08559 0.0222 -0.07864 0.0296 C -0.07378 0.03469 -0.06944 0.04186 -0.06441 0.04533 C -0.0618 0.05111 -0.05955 0.0525 -0.0566 0.0555 C -0.05417 0.06105 -0.05226 0.06383 -0.0493 0.06591 C -0.04427 0.07562 -0.03906 0.08395 -0.03385 0.09204 C -0.03125 0.09598 -0.02917 0.10176 -0.02656 0.10569 C -0.02482 0.11471 -0.02187 0.11656 -0.01944 0.12303 C -0.01632 0.13136 -0.0118 0.14315 -0.00781 0.14547 C -0.00069 0.1679 0.00955 0.17877 0.01823 0.19403 C 0.02031 0.19773 0.02327 0.20305 0.02483 0.2093 C 0.02604 0.21392 0.02622 0.21785 0.02761 0.22178 C 0.02882 0.22502 0.03143 0.23034 0.03143 0.23057 C 0.03212 0.23751 0.03403 0.24005 0.03594 0.24399 C 0.03629 0.24561 0.03663 0.24792 0.03698 0.24907 C 0.03837 0.25301 0.03976 0.25277 0.0382 0.25277 E">
                                      <p:cBhvr>
                                        <p:cTn id="12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531720" y="2130480"/>
            <a:ext cx="8128080" cy="3916440"/>
            <a:chOff x="531720" y="2130480"/>
            <a:chExt cx="8128080" cy="3916440"/>
          </a:xfrm>
        </p:grpSpPr>
        <p:sp>
          <p:nvSpPr>
            <p:cNvPr id="154" name="AutoShape 3"/>
            <p:cNvSpPr/>
            <p:nvPr/>
          </p:nvSpPr>
          <p:spPr>
            <a:xfrm>
              <a:off x="531720" y="2130480"/>
              <a:ext cx="8128080" cy="391644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3"/>
            <p:cNvSpPr/>
            <p:nvPr/>
          </p:nvSpPr>
          <p:spPr>
            <a:xfrm>
              <a:off x="534600" y="2260440"/>
              <a:ext cx="8121960" cy="3642480"/>
            </a:xfrm>
            <a:prstGeom prst="roundRect">
              <a:avLst>
                <a:gd name="adj" fmla="val 2731"/>
              </a:avLst>
            </a:prstGeom>
            <a:solidFill>
              <a:srgbClr val="d9d9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 txBox="1"/>
          <p:nvPr/>
        </p:nvSpPr>
        <p:spPr>
          <a:xfrm>
            <a:off x="2066760" y="947880"/>
            <a:ext cx="5053320" cy="91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ff99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游戏一：咬苹果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33cc"/>
                  </a:gs>
                  <a:gs pos="100000">
                    <a:srgbClr val="ff9900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7" name=""/>
          <p:cNvSpPr/>
          <p:nvPr/>
        </p:nvSpPr>
        <p:spPr>
          <a:xfrm>
            <a:off x="938160" y="2384280"/>
            <a:ext cx="7156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游戏规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339933"/>
                </a:solidFill>
                <a:latin typeface="Arial"/>
              </a:rPr>
              <a:t>三组一轮，每组</a:t>
            </a:r>
            <a:r>
              <a:rPr b="1" lang="zh-CN" sz="4000" spc="-1" strike="noStrike">
                <a:solidFill>
                  <a:srgbClr val="339933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339933"/>
                </a:solidFill>
                <a:latin typeface="Arial"/>
              </a:rPr>
              <a:t>位小朋友，以接力赛的形式，跑去对面咬水盆里的苹果，哪组时间短哪组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logo-s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777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340000" y="2884320"/>
            <a:ext cx="4703760" cy="274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抽奖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-55440" y="111240"/>
            <a:ext cx="9280440" cy="6664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531720" y="2130480"/>
            <a:ext cx="8128080" cy="3916440"/>
            <a:chOff x="531720" y="2130480"/>
            <a:chExt cx="8128080" cy="3916440"/>
          </a:xfrm>
        </p:grpSpPr>
        <p:sp>
          <p:nvSpPr>
            <p:cNvPr id="162" name="AutoShape 3"/>
            <p:cNvSpPr/>
            <p:nvPr/>
          </p:nvSpPr>
          <p:spPr>
            <a:xfrm>
              <a:off x="531720" y="2130480"/>
              <a:ext cx="8128080" cy="391644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3"/>
            <p:cNvSpPr/>
            <p:nvPr/>
          </p:nvSpPr>
          <p:spPr>
            <a:xfrm>
              <a:off x="534600" y="2260440"/>
              <a:ext cx="8121960" cy="3642480"/>
            </a:xfrm>
            <a:prstGeom prst="roundRect">
              <a:avLst>
                <a:gd name="adj" fmla="val 2731"/>
              </a:avLst>
            </a:prstGeom>
            <a:solidFill>
              <a:srgbClr val="d9d9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 txBox="1"/>
          <p:nvPr/>
        </p:nvSpPr>
        <p:spPr>
          <a:xfrm>
            <a:off x="2077920" y="936720"/>
            <a:ext cx="505296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游戏二：呼啦圈默契大考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5" name=""/>
          <p:cNvSpPr/>
          <p:nvPr/>
        </p:nvSpPr>
        <p:spPr>
          <a:xfrm>
            <a:off x="938160" y="2170080"/>
            <a:ext cx="7156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38160" y="2384280"/>
            <a:ext cx="7623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游戏规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339933"/>
                </a:solidFill>
                <a:latin typeface="Arial"/>
              </a:rPr>
              <a:t>三组一轮，每组</a:t>
            </a:r>
            <a:r>
              <a:rPr b="1" lang="zh-CN" sz="4000" spc="-1" strike="noStrike">
                <a:solidFill>
                  <a:srgbClr val="339933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339933"/>
                </a:solidFill>
                <a:latin typeface="Arial"/>
              </a:rPr>
              <a:t>个人，手拉手不放开，呼啦圈从头到脚一圈之后传给下一位同学，用时最短组获胜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F:\0矢量下载资料2\PNG\万圣节\Vista_Halloween_Icons_009.png"/>
          <p:cNvPicPr/>
          <p:nvPr/>
        </p:nvPicPr>
        <p:blipFill>
          <a:blip r:embed="rId1"/>
          <a:stretch/>
        </p:blipFill>
        <p:spPr>
          <a:xfrm>
            <a:off x="343080" y="0"/>
            <a:ext cx="1027080" cy="1027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1644480" y="709560"/>
            <a:ext cx="604368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0000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「</a:t>
            </a: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0000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Trick or treat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0000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」的传说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ff0000"/>
                  </a:gs>
                </a:gsLst>
                <a:lin ang="135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9" name=""/>
          <p:cNvSpPr/>
          <p:nvPr/>
        </p:nvSpPr>
        <p:spPr>
          <a:xfrm>
            <a:off x="336600" y="1832040"/>
            <a:ext cx="8499600" cy="37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960000"/>
                </a:solidFill>
                <a:latin typeface="Calibri"/>
              </a:rPr>
              <a:t>孩子挨家要糖的习俗，传说起源于爱尔兰。古西欧的爱尔兰异教徒，相信在万圣节前一晚，鬼魂会群集在住家附近，并且接受人民设宴款待。因此宴会结束后，村民们就自己扮成鬼魂精灵，游走村外，引导鬼魂离开，避邪免灾。而且万圣节期间，村民们也会在住家前后放置水果及食品，希望能喂饱鬼魂后，让它们不会伤害人类和动物，或掠夺其它收成品。渐渐的，这个习俗一直延续下来，就成了孩子们取笑不慷慨之家的玩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-20160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552600" y="2446200"/>
            <a:ext cx="7494480" cy="176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MS UI Gothic"/>
              </a:rPr>
              <a:t>Trick or treat!</a:t>
            </a:r>
            <a:endParaRPr b="1" lang="en-US" sz="1800" spc="-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75000"/>
                  </a:srgbClr>
                </a:outerShdw>
              </a:effectLst>
              <a:latin typeface="MS UI Gothic"/>
              <a:ea typeface="MS UI Gothic"/>
            </a:endParaRPr>
          </a:p>
        </p:txBody>
      </p:sp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logo-s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777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2340000" y="2884320"/>
            <a:ext cx="4703760" cy="274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抽奖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-55440" y="111240"/>
            <a:ext cx="9280440" cy="6664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3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347840" y="1185840"/>
            <a:ext cx="650556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Goodbye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474840" y="2416320"/>
            <a:ext cx="8143560" cy="4105080"/>
            <a:chOff x="474840" y="2416320"/>
            <a:chExt cx="8143560" cy="4105080"/>
          </a:xfrm>
        </p:grpSpPr>
        <p:sp>
          <p:nvSpPr>
            <p:cNvPr id="122" name="AutoShape 3"/>
            <p:cNvSpPr/>
            <p:nvPr/>
          </p:nvSpPr>
          <p:spPr>
            <a:xfrm>
              <a:off x="474840" y="2416320"/>
              <a:ext cx="8143560" cy="410508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"/>
            <p:cNvSpPr/>
            <p:nvPr/>
          </p:nvSpPr>
          <p:spPr>
            <a:xfrm>
              <a:off x="477720" y="2552760"/>
              <a:ext cx="8137440" cy="3817800"/>
            </a:xfrm>
            <a:prstGeom prst="roundRect">
              <a:avLst>
                <a:gd name="adj" fmla="val 2731"/>
              </a:avLst>
            </a:prstGeom>
            <a:solidFill>
              <a:srgbClr val="d9d9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2000160" y="760320"/>
            <a:ext cx="4683240" cy="157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万圣节的由来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529000"/>
            <a:ext cx="86868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死去的人的灵魂不断的在寻找活人的身体来复生，好让他们可以重新回到人间。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Celts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这个族群的人，一直深信十月是一个很好的时机，因为在这个时候，正是死去的人的世界与活人的世界相交错的时刻。当然了！活着的人绝对不会愿意被一个死去的人附身的，所以村庄里的人就想出了一个好方法，他们在十月三十一日的晚上将所有的火熄灭，穿着奇奇怪怪的服装，并发出一些吵闹的声音在村里走来，走去，就是为了吓走那些鬼魂。因此，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月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31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日，就被定为“万圣之灵日”，即万圣节，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Hallowe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646200" y="1206360"/>
            <a:ext cx="8128080" cy="3730680"/>
            <a:chOff x="646200" y="1206360"/>
            <a:chExt cx="8128080" cy="3730680"/>
          </a:xfrm>
        </p:grpSpPr>
        <p:sp>
          <p:nvSpPr>
            <p:cNvPr id="127" name="AutoShape 3"/>
            <p:cNvSpPr/>
            <p:nvPr/>
          </p:nvSpPr>
          <p:spPr>
            <a:xfrm>
              <a:off x="646200" y="1206360"/>
              <a:ext cx="8128080" cy="373068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3"/>
            <p:cNvSpPr/>
            <p:nvPr/>
          </p:nvSpPr>
          <p:spPr>
            <a:xfrm>
              <a:off x="649080" y="1330200"/>
              <a:ext cx="8121960" cy="3469680"/>
            </a:xfrm>
            <a:prstGeom prst="roundRect">
              <a:avLst>
                <a:gd name="adj" fmla="val 2731"/>
              </a:avLst>
            </a:prstGeom>
            <a:solidFill>
              <a:srgbClr val="d9d9d9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 txBox="1"/>
          <p:nvPr/>
        </p:nvSpPr>
        <p:spPr>
          <a:xfrm>
            <a:off x="2214720" y="1679400"/>
            <a:ext cx="5960880" cy="249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看谁记得牢？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8572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alibri"/>
              </a:rPr>
              <a:t>1</a:t>
            </a:r>
            <a:r>
              <a:rPr b="1" lang="zh-CN" sz="4000" spc="-1" strike="noStrike">
                <a:solidFill>
                  <a:srgbClr val="cc0099"/>
                </a:solidFill>
                <a:latin typeface="Calibri"/>
              </a:rPr>
              <a:t>、万圣节是在哪天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alibri"/>
              </a:rPr>
              <a:t>2</a:t>
            </a:r>
            <a:r>
              <a:rPr b="1" lang="zh-CN" sz="4000" spc="-1" strike="noStrike">
                <a:solidFill>
                  <a:srgbClr val="cc0099"/>
                </a:solidFill>
                <a:latin typeface="Calibri"/>
              </a:rPr>
              <a:t>、万圣节的习俗是什么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alibri"/>
              </a:rPr>
              <a:t>3</a:t>
            </a:r>
            <a:r>
              <a:rPr b="1" lang="zh-CN" sz="4000" spc="-1" strike="noStrike">
                <a:solidFill>
                  <a:srgbClr val="cc0099"/>
                </a:solidFill>
                <a:latin typeface="Calibri"/>
              </a:rPr>
              <a:t>、万圣节上有个灯叫什么灯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alibri"/>
              </a:rPr>
              <a:t>4</a:t>
            </a:r>
            <a:r>
              <a:rPr b="1" lang="zh-CN" sz="4000" spc="-1" strike="noStrike">
                <a:solidFill>
                  <a:srgbClr val="cc0099"/>
                </a:solidFill>
                <a:latin typeface="Calibri"/>
              </a:rPr>
              <a:t>、“万圣节快乐”英文怎么说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alibri"/>
              </a:rPr>
              <a:t>5</a:t>
            </a:r>
            <a:r>
              <a:rPr b="1" lang="zh-CN" sz="4000" spc="-1" strike="noStrike">
                <a:solidFill>
                  <a:srgbClr val="cc0099"/>
                </a:solidFill>
                <a:latin typeface="Calibri"/>
              </a:rPr>
              <a:t>、和万圣节有关的事物有哪些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Calibri"/>
              </a:rPr>
              <a:t>6</a:t>
            </a:r>
            <a:r>
              <a:rPr b="1" lang="zh-CN" sz="4000" spc="-1" strike="noStrike">
                <a:solidFill>
                  <a:srgbClr val="cc0099"/>
                </a:solidFill>
                <a:latin typeface="Calibri"/>
              </a:rPr>
              <a:t>、万圣节的色彩主旋律是什么颜色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488880" y="1544760"/>
            <a:ext cx="8128080" cy="3916080"/>
            <a:chOff x="488880" y="1544760"/>
            <a:chExt cx="8128080" cy="3916080"/>
          </a:xfrm>
        </p:grpSpPr>
        <p:sp>
          <p:nvSpPr>
            <p:cNvPr id="132" name="AutoShape 3"/>
            <p:cNvSpPr/>
            <p:nvPr/>
          </p:nvSpPr>
          <p:spPr>
            <a:xfrm>
              <a:off x="488880" y="1544760"/>
              <a:ext cx="8128080" cy="391608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3"/>
            <p:cNvSpPr/>
            <p:nvPr/>
          </p:nvSpPr>
          <p:spPr>
            <a:xfrm>
              <a:off x="491760" y="1674720"/>
              <a:ext cx="8121960" cy="3642120"/>
            </a:xfrm>
            <a:prstGeom prst="roundRect">
              <a:avLst>
                <a:gd name="adj" fmla="val 2731"/>
              </a:avLst>
            </a:prstGeom>
            <a:solidFill>
              <a:srgbClr val="d9d9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1947960" y="1989000"/>
            <a:ext cx="5835600" cy="286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单词教学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426360" y="853920"/>
            <a:ext cx="2358720" cy="2430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88960" y="3409920"/>
            <a:ext cx="2940120" cy="27925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49440" y="636480"/>
            <a:ext cx="2535120" cy="2927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rcRect l="36668" t="18196" r="6197" b="4120"/>
          <a:stretch/>
        </p:blipFill>
        <p:spPr>
          <a:xfrm>
            <a:off x="3571920" y="839880"/>
            <a:ext cx="1859040" cy="2149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3795840" y="3156120"/>
            <a:ext cx="2754360" cy="2760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531720" y="2130480"/>
            <a:ext cx="8128080" cy="3916440"/>
            <a:chOff x="531720" y="2130480"/>
            <a:chExt cx="8128080" cy="3916440"/>
          </a:xfrm>
        </p:grpSpPr>
        <p:sp>
          <p:nvSpPr>
            <p:cNvPr id="142" name="AutoShape 3"/>
            <p:cNvSpPr/>
            <p:nvPr/>
          </p:nvSpPr>
          <p:spPr>
            <a:xfrm>
              <a:off x="531720" y="2130480"/>
              <a:ext cx="8128080" cy="391644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3"/>
            <p:cNvSpPr/>
            <p:nvPr/>
          </p:nvSpPr>
          <p:spPr>
            <a:xfrm>
              <a:off x="534600" y="2260440"/>
              <a:ext cx="8121960" cy="3642480"/>
            </a:xfrm>
            <a:prstGeom prst="roundRect">
              <a:avLst>
                <a:gd name="adj" fmla="val 2731"/>
              </a:avLst>
            </a:prstGeom>
            <a:solidFill>
              <a:srgbClr val="d9d9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 txBox="1"/>
          <p:nvPr/>
        </p:nvSpPr>
        <p:spPr>
          <a:xfrm>
            <a:off x="2081160" y="947880"/>
            <a:ext cx="5052960" cy="91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ff99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传鬼音游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33cc"/>
                  </a:gs>
                  <a:gs pos="100000">
                    <a:srgbClr val="ff9900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"/>
          <p:cNvSpPr/>
          <p:nvPr/>
        </p:nvSpPr>
        <p:spPr>
          <a:xfrm>
            <a:off x="938160" y="2384280"/>
            <a:ext cx="7156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游戏规则：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用白布把糖果裹起来就成了“鬼”的头，并画好“鬼脸”。请孩子们坐成一圆圈，音乐开始就开始传“鬼”，音乐停，手上抓着“鬼”的孩子就要回答老师的问题。游戏结后把“鬼头”的糖果取出来分给大家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logo-s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777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2340000" y="2884320"/>
            <a:ext cx="4703760" cy="274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抽奖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-55440" y="111240"/>
            <a:ext cx="9280440" cy="6664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446040" y="1387440"/>
            <a:ext cx="8128080" cy="3916440"/>
            <a:chOff x="446040" y="1387440"/>
            <a:chExt cx="8128080" cy="3916440"/>
          </a:xfrm>
        </p:grpSpPr>
        <p:sp>
          <p:nvSpPr>
            <p:cNvPr id="150" name="AutoShape 3"/>
            <p:cNvSpPr/>
            <p:nvPr/>
          </p:nvSpPr>
          <p:spPr>
            <a:xfrm>
              <a:off x="446040" y="1387440"/>
              <a:ext cx="8128080" cy="391644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"/>
            <p:cNvSpPr/>
            <p:nvPr/>
          </p:nvSpPr>
          <p:spPr>
            <a:xfrm>
              <a:off x="448920" y="1517400"/>
              <a:ext cx="8121960" cy="3642480"/>
            </a:xfrm>
            <a:prstGeom prst="roundRect">
              <a:avLst>
                <a:gd name="adj" fmla="val 2731"/>
              </a:avLst>
            </a:prstGeom>
            <a:solidFill>
              <a:srgbClr val="d9d9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 txBox="1"/>
          <p:nvPr/>
        </p:nvSpPr>
        <p:spPr>
          <a:xfrm>
            <a:off x="1766880" y="3071880"/>
            <a:ext cx="5810400" cy="2100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游戏环节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4:00:26Z</dcterms:created>
  <dc:creator>锐普</dc:creator>
  <dc:description/>
  <dc:language>en-US</dc:language>
  <cp:lastModifiedBy>User</cp:lastModifiedBy>
  <dcterms:modified xsi:type="dcterms:W3CDTF">2015-09-12T03:07:04Z</dcterms:modified>
  <cp:revision>77</cp:revision>
  <dc:subject/>
  <dc:title>万圣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