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D97-1C60-4673-94AC-545C6552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AAF-F7A9-46D0-8F33-49BF1AD6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C9E-8E4F-4A2B-B06E-F7B81FF0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7C1-9656-478E-B08F-2849AA37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91D-FE54-4685-BED3-084D6A0A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295-FE5F-49AA-AC01-782D4845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899-7867-45B1-BF82-C55B139A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AB5-BB8F-4178-80D5-24A78F95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0FF-4641-4285-8C97-F17E479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C17-CF16-4FD7-B8A5-27B090E9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F44-F710-472A-856A-48F4F3A3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C4E-9527-46C2-B66E-CD213D4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421A-73B4-46A8-8BF5-B2FF63FA8F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4000" y="907920"/>
            <a:ext cx="6553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Halloween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321400" cy="715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ler cl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91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handful of e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1356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了不许打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0" spc="-1" strike="noStrike">
                <a:solidFill>
                  <a:srgbClr val="000066"/>
                </a:solidFill>
                <a:latin typeface="Arial"/>
              </a:rPr>
              <a:t>thank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12000" spc="-1" strike="noStrike">
                <a:solidFill>
                  <a:srgbClr val="000066"/>
                </a:solidFill>
                <a:latin typeface="Arial"/>
              </a:rPr>
              <a:t>you~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Sth. about hallowe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igin  of   fest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igin  of   name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ick-or-treating and gu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ames and other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thing  interest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94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the  festiv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Celtic fest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Colors-- black and 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"summer's end“ &amp;"Celtic New Yea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66"/>
                </a:solidFill>
                <a:latin typeface="Arial"/>
              </a:rPr>
              <a:t>Nam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originally spelled Hallowe’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"Eve of" All Saints' 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rick-or-trea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a customary celebration for childr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asking for treats  with the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Guising-perform a show to earn tre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Games and other activi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pple bobb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iv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u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ture husband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2987640" cy="256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987640" y="4221000"/>
            <a:ext cx="3745080" cy="26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732720" y="422100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867280" y="1413000"/>
            <a:ext cx="3276720" cy="428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270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203640" y="0"/>
            <a:ext cx="3571920" cy="428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400560" cy="428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66"/>
                </a:solidFill>
                <a:latin typeface="Arial"/>
              </a:rPr>
              <a:t>Ray Villafane &amp; his wor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il b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</a:rPr>
              <a:t>美杜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3:31:06Z</dcterms:created>
  <dc:creator>Windows 用户</dc:creator>
  <dc:description/>
  <dc:language>en-US</dc:language>
  <cp:lastModifiedBy>Windows 用户</cp:lastModifiedBy>
  <dcterms:modified xsi:type="dcterms:W3CDTF">2010-11-01T12:37:14Z</dcterms:modified>
  <cp:revision>4</cp:revision>
  <dc:subject/>
  <dc:title>幻灯片 1</dc:title>
</cp:coreProperties>
</file>