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3FC-1440-4CBC-83EC-F8166FC1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2A9-E423-4356-88E4-2E67853D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DC444-16F1-414D-9317-B054FEDE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6A707-FBCA-4D51-A661-6E111EF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EF4C8-8E5F-4DF5-9203-7CBBA7CF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25458-BB45-4AE9-8909-E84F2228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CE54A-1252-4056-9521-02A5C47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A8606-6C00-43B8-9354-637044A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276ED-D9CF-4607-BB70-9DC39CDB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D1190-07DA-4544-8BF0-CEEC7777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2E1C3-3C12-414F-86A3-0F03BB11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64DD2-2819-4B72-B594-728EDB8A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B7B-1784-48E0-949B-AC86EEA8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28206-15D1-48AF-BA17-9B78AA34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DF554-6FCE-4D97-B4A1-B13EDD3C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5CC0E-1EA2-4E25-819C-D92EF080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407E-7955-4DE7-A88D-244E14F2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0231E-CDB9-4DDF-818E-6B16025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582EB-F3F0-462F-BA25-19ED3B6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4E262-9D1B-4E80-87E7-A585F233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6804A-26C9-40F5-B713-614F990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3FD9-8F8E-4DDC-B2EE-DA6DEEB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C4011-07CE-4DD7-AE69-E9711A58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18A-328C-466C-BD9C-C5BCE79E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3C2BD-1382-4376-9FE2-BFF05BCB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534B7-3C48-4F9F-8D8A-2E0014F8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1D256-59CC-4796-8F61-737C7B7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F1F0B-7E7C-44EB-9026-616E51B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3C73F-E967-4655-9E7A-79B9D6B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8754-09E8-4B39-8D26-CFDC15F8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616EA-91E4-484F-9C07-3E34121F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4FB87-AF72-401E-91E8-7871113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B2907-E672-4588-A4DA-BE356F78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D44C8-9D11-4BF8-8B27-4C34F71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86C-A4A5-44A1-99D6-C372938A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D92BE-1176-4FD0-86B6-3A887A49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8F0FC-A4A5-4D4B-8F69-3CEE876A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F5021-9BD6-44D8-A67C-A004DC31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0C532-2204-466C-B021-DF7CCB05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5D24F-2A8E-4EA9-ABC6-6AA850B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226D9-3029-4A9A-80C7-C2D4CF28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068A4-0D0A-4F1F-99CA-E3DB59E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809D-F697-455E-9215-E7FE89F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A2495-EA67-48E6-86A3-252900F9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FAD94-39A2-409E-A483-E95F16A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B888-785D-4D9E-90D3-F7188B9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D0AFC-178E-4473-919F-A94292D1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451A6-3C3C-463F-B297-CBA6712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AB790-C08E-4AC7-A3C0-95631AEF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15B81-3279-4E13-8354-674BE306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13F81-FC5E-4199-BBD0-8828B721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48064-4ED3-4A09-9D90-C973271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D01E5-8B98-4629-850E-1EA36E0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493B3-B7F8-4352-BE58-3D07DF6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ECB89-F5E6-4B90-B7A4-E60D6146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96CF5-E2E8-4A61-ADA1-24D07A5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9F0B-E076-4A1E-884A-1D7DBC6A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24C60-A830-419F-A6DA-A0E0113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77CEC-A9EA-4481-84BD-AF11665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6BAAB-5A7F-4CC7-B505-6EC2313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C617E-8428-445B-9882-0A77882D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DBF97-0AA2-49EE-B1FF-7BB51832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EF156-DCA8-4C1F-A97D-DD7E8183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C845A-A3B9-4158-89F2-66E97222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1458-7FBF-486F-B3CF-0382094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8F68-DA8C-4E43-B72A-9829D957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1A4E-56EE-480A-9582-DF17469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586C-B434-4449-A21F-3C880EC3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A8A-78C4-474C-B6A6-C23AB940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8A46-AC3F-4748-BBCC-C13325D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0BA-8BD4-46C2-A6E3-A6CB833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0786-BACA-4557-B0BB-D43CA03E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61C9-7395-4C02-AB85-FD1F4556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0D31-99E4-4784-9C14-669B77FA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A2FA-9448-4701-8A64-51A6732C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E07F-3596-45E4-91D3-1EBCAA2B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B2AE-A332-48A4-9179-89546F0C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D8C5-82DE-4F48-9C54-1CFA9D49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90AA-3CCA-4037-A978-306052A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FF7-FF30-4061-B3E0-0874CEB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D8E3-707C-40EF-83DE-925D9CF9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CA2A-B3D8-4569-BBAD-BE81B6A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329B-24D9-4B3D-87B1-130EB62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D384-E1FB-42F7-BB37-3B3DD8B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7EC0-9F9A-41E5-8484-F3ACF0F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140B-F4CA-4B56-87D2-6D8DC361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9525-B921-4639-BD5E-4B01FF2F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7A86-453D-49EB-9FB5-54A834C6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EDC0-8021-492D-8BA2-4357E02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2E79-6490-4E00-B7AB-DC1D79B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94E-691D-4FB9-A1DA-64CE7E1A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D3C2-D094-458D-B081-E70F41C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B699-194A-4470-9131-20CB8B2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FA82-AB5B-4F84-9310-9CF4BE6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16B2-25FC-4AD1-B273-35F08B8C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0BE2B-9F2F-4187-8E85-31C24B3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2B0D-0346-4DED-9051-A102D73F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75F6-F1D7-447A-9698-1793A332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0902-8652-4C53-81F6-AD172F24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5C91-B526-49A6-AE5A-56533EC6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437A-FEDB-4774-AB5F-17D9F40D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32A-EF7E-446D-9FD9-D7B97DA1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4E9E-E910-40FE-9069-3C33E4DC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65BF-0111-40D4-B8C9-FA1610D3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06F0D-CDEF-4EB0-B22D-A07F1E5B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F34A-74F9-4573-878E-A598B67D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759E-9FBE-4C1B-A917-D1E1344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6EB8-C87F-4DA8-901D-8B08C94B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DD88-A5C0-4ED2-9E85-BBE8B69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9678-6C43-42DB-A60C-B72B49D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51DD-D7CA-4F99-B346-5F3C69C7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5790-3F9B-4BC4-BE78-7ECD0806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528-016D-468E-8357-74EA2379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FBCD-EB7A-4C2C-9EC5-3301B8CB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CFF1-9A26-4BC3-BF7C-DD9F1270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BFC3-8289-4F5C-9B9E-9DD36981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AD5F2-1C74-4FC4-AAE2-13B2002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90C1-AC57-4148-866A-BCC7AA6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FD78C-E577-4BDD-930D-51A8A6B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5346-429E-4510-9FE8-38F200A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CCD8F-89C4-443A-9BB4-77D3E1A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240B-1466-4D8A-A40E-A27236D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25B10-8F1C-4126-A8E3-F0D57DE0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A4B-1AE9-450A-A9DD-F2472D5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D3DF-C68E-4027-B04D-61950544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426F-E183-4DA9-930C-E5170B1A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F4A7-A474-461D-9F11-63D08DD5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D469-74F3-4019-834A-6E2FBD42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0EB5-A6F2-4B8B-B903-CED8A6A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8A3D-2EB8-47CA-B960-4C2FF686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8701-BA06-4B42-89E3-ACED65DE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EB71-BA60-4E8F-82E9-9F58E09A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F3069-76C5-49C6-883F-A81204B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DE66-4778-4EDE-BB11-93EF68E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71C-21FC-4F7E-B0BF-C79E363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CED2-B5C7-41DE-A730-1B1BB0F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951C-C899-445C-A8DD-E9AD8AF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E0C8-F681-4B54-AA95-0633E463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35AF-B766-4FDE-9FB1-B3CF8807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2704-5FE2-4CCD-9E10-1199EF3A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F829A-347C-4196-9006-117AA60D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8463-D598-44BA-BEF6-1F94131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EBA9A-EB8A-41A8-AF1B-AF86EDCC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534B-42CC-454D-ACA3-C74B179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7D3A-822A-4C72-B850-0AAF59FF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E48-0760-41EA-9F40-194480B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18E15-1C70-4FAF-87FF-EB8D1E7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251C-FFA3-4F25-AE95-385DB5B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7826B-A17E-4EFD-832D-4DDF8B3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0380-3A26-4D5F-A49F-4D1DC69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A785-E1AE-4F4C-962F-692BDAF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45850-19F2-4295-8285-0BC936FE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5668-A3BF-49D2-A710-FB797FD5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326A4-F7BC-4E68-9C95-4BE389AF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77A98-B40E-429A-8959-E47E8AA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1F159-2E05-4463-B638-1CBA6D73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8657-2ABC-43BF-A903-47F1B196E07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F29-4D1F-42FF-AAA8-2E171C6956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6D2-7C8E-4CDE-9892-BFA7E3A588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7693-57E4-4BD2-9033-474A076D76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D82F-F73E-446E-B6C9-CD385227E8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A94-687A-4575-B77D-0DD8D51410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B9C-7003-4A0E-8FE4-1B2218FC07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E6DA-065A-429D-8153-D8CDBCD957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3487-E463-4A50-B160-B2C096F3F0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D158-A17D-463A-B6A4-5D4542B1B2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E392-F203-4E26-B5DE-DA6BC5B6D1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055-78B6-406C-A866-1F3CA62FD0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1AB-58C3-4797-BA11-26C9ABFADF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4FA1-C743-4041-9A72-2FE65876EE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96BE-A0EF-45E5-9A69-90522B6D40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8A5-539F-430D-B52C-627C4D1EB5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9E92-7220-45A1-8845-EBD5A8F9FE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AA00-E330-4EEA-8209-16DAD6CEAD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C9A-5495-467B-BB7F-B4BF493963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A47-B795-44B3-9FC6-98D7FF4EA3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616-3F11-49E0-ADAE-691F561D1E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AB4-CE94-486E-BE59-BC125A6B80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05A5-6862-44AF-9BFC-418E326669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FCB-1D26-4251-8637-EEA3DBBC3E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4AD-4B4A-46A5-9FC5-9BF5183054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F16-2505-4257-BFEF-1FF068FCD3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"/>
          <p:cNvSpPr/>
          <p:nvPr/>
        </p:nvSpPr>
        <p:spPr>
          <a:xfrm>
            <a:off x="0" y="4221000"/>
            <a:ext cx="9144000" cy="18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5661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zh-CN" sz="2000" spc="-1" strike="noStrike">
              <a:solidFill>
                <a:srgbClr val="898989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fff43"/>
              </a:buClr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5"/>
          <p:cNvSpPr/>
          <p:nvPr/>
        </p:nvSpPr>
        <p:spPr>
          <a:xfrm>
            <a:off x="5435640" y="765000"/>
            <a:ext cx="3024000" cy="4032360"/>
          </a:xfrm>
          <a:prstGeom prst="rect">
            <a:avLst/>
          </a:prstGeom>
          <a:gradFill rotWithShape="0">
            <a:gsLst>
              <a:gs pos="0">
                <a:srgbClr val="bb3783"/>
              </a:gs>
              <a:gs pos="100000">
                <a:srgbClr val="5619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268360" y="765000"/>
            <a:ext cx="3024360" cy="4032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6a6a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395280" y="765000"/>
            <a:ext cx="1728720" cy="4032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6a6a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1" name="AutoShape 13"/>
          <p:cNvSpPr/>
          <p:nvPr/>
        </p:nvSpPr>
        <p:spPr>
          <a:xfrm flipH="1">
            <a:off x="970920" y="4537080"/>
            <a:ext cx="7272360" cy="2060640"/>
          </a:xfrm>
          <a:prstGeom prst="parallelogram">
            <a:avLst>
              <a:gd name="adj" fmla="val 25015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2" name="AutoShape 9"/>
          <p:cNvSpPr/>
          <p:nvPr/>
        </p:nvSpPr>
        <p:spPr>
          <a:xfrm flipH="1">
            <a:off x="970920" y="4176720"/>
            <a:ext cx="2158920" cy="2060640"/>
          </a:xfrm>
          <a:prstGeom prst="parallelogram">
            <a:avLst>
              <a:gd name="adj" fmla="val 26187"/>
            </a:avLst>
          </a:prstGeom>
          <a:gradFill rotWithShape="0">
            <a:gsLst>
              <a:gs pos="0">
                <a:srgbClr val="dddddd"/>
              </a:gs>
              <a:gs pos="100000">
                <a:srgbClr val="fbfb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3" name="AutoShape 10"/>
          <p:cNvSpPr/>
          <p:nvPr/>
        </p:nvSpPr>
        <p:spPr>
          <a:xfrm flipH="1">
            <a:off x="2555280" y="3916440"/>
            <a:ext cx="2158920" cy="2060640"/>
          </a:xfrm>
          <a:prstGeom prst="parallelogram">
            <a:avLst>
              <a:gd name="adj" fmla="val 26187"/>
            </a:avLst>
          </a:prstGeom>
          <a:gradFill rotWithShape="0">
            <a:gsLst>
              <a:gs pos="0">
                <a:srgbClr val="ff9900"/>
              </a:gs>
              <a:gs pos="100000">
                <a:srgbClr val="fff0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4" name="AutoShape 11"/>
          <p:cNvSpPr/>
          <p:nvPr/>
        </p:nvSpPr>
        <p:spPr>
          <a:xfrm flipH="1">
            <a:off x="4139640" y="3672000"/>
            <a:ext cx="2158920" cy="2060640"/>
          </a:xfrm>
          <a:prstGeom prst="parallelogram">
            <a:avLst>
              <a:gd name="adj" fmla="val 26187"/>
            </a:avLst>
          </a:prstGeom>
          <a:gradFill rotWithShape="0">
            <a:gsLst>
              <a:gs pos="0">
                <a:srgbClr val="669900"/>
              </a:gs>
              <a:gs pos="100000">
                <a:srgbClr val="e7f0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5" name="AutoShape 12"/>
          <p:cNvSpPr/>
          <p:nvPr/>
        </p:nvSpPr>
        <p:spPr>
          <a:xfrm flipH="1">
            <a:off x="5724360" y="3411360"/>
            <a:ext cx="2159280" cy="2060640"/>
          </a:xfrm>
          <a:prstGeom prst="parallelogram">
            <a:avLst>
              <a:gd name="adj" fmla="val 26192"/>
            </a:avLst>
          </a:prstGeom>
          <a:gradFill rotWithShape="0">
            <a:gsLst>
              <a:gs pos="0">
                <a:srgbClr val="bb3783"/>
              </a:gs>
              <a:gs pos="100000">
                <a:srgbClr val="f2d9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6" name="Line 23"/>
          <p:cNvSpPr/>
          <p:nvPr/>
        </p:nvSpPr>
        <p:spPr>
          <a:xfrm>
            <a:off x="2195640" y="333360"/>
            <a:ext cx="1440" cy="4246560"/>
          </a:xfrm>
          <a:prstGeom prst="line">
            <a:avLst/>
          </a:prstGeom>
          <a:ln w="19080">
            <a:solidFill>
              <a:srgbClr val="caf27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7" name="Line 25"/>
          <p:cNvSpPr/>
          <p:nvPr/>
        </p:nvSpPr>
        <p:spPr>
          <a:xfrm>
            <a:off x="5364000" y="333360"/>
            <a:ext cx="1800" cy="3743280"/>
          </a:xfrm>
          <a:prstGeom prst="line">
            <a:avLst/>
          </a:prstGeom>
          <a:ln w="19080">
            <a:solidFill>
              <a:srgbClr val="caf278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395280" y="333360"/>
            <a:ext cx="1728720" cy="3589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9" name="Rectangle 29"/>
          <p:cNvSpPr/>
          <p:nvPr/>
        </p:nvSpPr>
        <p:spPr>
          <a:xfrm>
            <a:off x="2268360" y="333360"/>
            <a:ext cx="3024360" cy="3589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0" name="Rectangle 30"/>
          <p:cNvSpPr/>
          <p:nvPr/>
        </p:nvSpPr>
        <p:spPr>
          <a:xfrm>
            <a:off x="5435640" y="333360"/>
            <a:ext cx="3024000" cy="358920"/>
          </a:xfrm>
          <a:prstGeom prst="rect">
            <a:avLst/>
          </a:prstGeom>
          <a:solidFill>
            <a:srgbClr val="bb3783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ful Presentation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1" name="Freeform 39"/>
          <p:cNvSpPr/>
          <p:nvPr/>
        </p:nvSpPr>
        <p:spPr>
          <a:xfrm>
            <a:off x="2371680" y="2286000"/>
            <a:ext cx="3733920" cy="179064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2352" h="1128">
                <a:moveTo>
                  <a:pt x="0" y="1128"/>
                </a:moveTo>
                <a:cubicBezTo>
                  <a:pt x="233" y="1031"/>
                  <a:pt x="1100" y="656"/>
                  <a:pt x="1404" y="546"/>
                </a:cubicBezTo>
                <a:cubicBezTo>
                  <a:pt x="1708" y="436"/>
                  <a:pt x="1765" y="463"/>
                  <a:pt x="1824" y="468"/>
                </a:cubicBezTo>
                <a:lnTo>
                  <a:pt x="1758" y="576"/>
                </a:lnTo>
                <a:lnTo>
                  <a:pt x="2352" y="438"/>
                </a:lnTo>
                <a:lnTo>
                  <a:pt x="2094" y="0"/>
                </a:lnTo>
                <a:lnTo>
                  <a:pt x="2016" y="126"/>
                </a:lnTo>
                <a:cubicBezTo>
                  <a:pt x="1890" y="183"/>
                  <a:pt x="1674" y="192"/>
                  <a:pt x="1338" y="342"/>
                </a:cubicBezTo>
                <a:cubicBezTo>
                  <a:pt x="1002" y="492"/>
                  <a:pt x="279" y="964"/>
                  <a:pt x="0" y="1128"/>
                </a:cubicBez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8f8f8"/>
              </a:gs>
              <a:gs pos="100000">
                <a:srgbClr val="dddddd"/>
              </a:gs>
            </a:gsLst>
            <a:lin ang="0"/>
          </a:gradFill>
          <a:ln w="1260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2" name="WordArt 40"/>
          <p:cNvSpPr txBox="1"/>
          <p:nvPr/>
        </p:nvSpPr>
        <p:spPr>
          <a:xfrm rot="19743000">
            <a:off x="2700000" y="2844360"/>
            <a:ext cx="2276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noFill/>
                <a:latin typeface="HY견고딕"/>
              </a:rPr>
              <a:t>It's difficult to make arrows</a:t>
            </a:r>
            <a:endParaRPr b="0" lang="en-US" sz="1200" spc="1" strike="noStrike">
              <a:ln w="0">
                <a:noFill/>
              </a:ln>
              <a:noFill/>
              <a:latin typeface="HY견고딕"/>
              <a:ea typeface="HY견고딕"/>
            </a:endParaRPr>
          </a:p>
        </p:txBody>
      </p:sp>
      <p:pic>
        <p:nvPicPr>
          <p:cNvPr id="553" name="Picture 43" descr="others_sex_man4"/>
          <p:cNvPicPr/>
          <p:nvPr/>
        </p:nvPicPr>
        <p:blipFill>
          <a:blip r:embed="rId1"/>
          <a:stretch/>
        </p:blipFill>
        <p:spPr>
          <a:xfrm rot="2805600">
            <a:off x="1692360" y="4797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4" descr="others_sex_man4"/>
          <p:cNvPicPr/>
          <p:nvPr/>
        </p:nvPicPr>
        <p:blipFill>
          <a:blip r:embed="rId2"/>
          <a:stretch/>
        </p:blipFill>
        <p:spPr>
          <a:xfrm>
            <a:off x="1476360" y="3860640"/>
            <a:ext cx="646200" cy="1548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5" descr="others_sex_women1"/>
          <p:cNvPicPr/>
          <p:nvPr/>
        </p:nvPicPr>
        <p:blipFill>
          <a:blip r:embed="rId3"/>
          <a:stretch/>
        </p:blipFill>
        <p:spPr>
          <a:xfrm rot="2528400">
            <a:off x="6732360" y="4149720"/>
            <a:ext cx="718920" cy="696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7" descr="others_sex_women1"/>
          <p:cNvPicPr/>
          <p:nvPr/>
        </p:nvPicPr>
        <p:blipFill>
          <a:blip r:embed="rId4"/>
          <a:stretch/>
        </p:blipFill>
        <p:spPr>
          <a:xfrm rot="2528400">
            <a:off x="6372000" y="3860640"/>
            <a:ext cx="718920" cy="696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8" descr="others_sex_women2"/>
          <p:cNvPicPr/>
          <p:nvPr/>
        </p:nvPicPr>
        <p:blipFill>
          <a:blip r:embed="rId5"/>
          <a:stretch/>
        </p:blipFill>
        <p:spPr>
          <a:xfrm>
            <a:off x="6097680" y="2997360"/>
            <a:ext cx="779400" cy="15476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9" descr="others_sex_women1"/>
          <p:cNvPicPr/>
          <p:nvPr/>
        </p:nvPicPr>
        <p:blipFill>
          <a:blip r:embed="rId6"/>
          <a:stretch/>
        </p:blipFill>
        <p:spPr>
          <a:xfrm>
            <a:off x="6443640" y="3213000"/>
            <a:ext cx="884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/>
          <p:cNvSpPr/>
          <p:nvPr/>
        </p:nvSpPr>
        <p:spPr>
          <a:xfrm>
            <a:off x="2773440" y="1917720"/>
            <a:ext cx="3168720" cy="2741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0" name="AutoShape 3"/>
          <p:cNvSpPr/>
          <p:nvPr/>
        </p:nvSpPr>
        <p:spPr>
          <a:xfrm rot="18006000">
            <a:off x="829080" y="2492640"/>
            <a:ext cx="4464360" cy="100800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842" y="21600"/>
                </a:lnTo>
                <a:lnTo>
                  <a:pt x="1875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d3d3d3"/>
              </a:gs>
            </a:gsLst>
            <a:lin ang="8994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1" name="AutoShape 7"/>
          <p:cNvSpPr/>
          <p:nvPr/>
        </p:nvSpPr>
        <p:spPr>
          <a:xfrm rot="10800000">
            <a:off x="2268360" y="4726080"/>
            <a:ext cx="4176720" cy="1008000"/>
          </a:xfrm>
          <a:prstGeom prst="pie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16200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Gangnam Sales Offi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562" name="Group 19"/>
          <p:cNvGrpSpPr/>
          <p:nvPr/>
        </p:nvGrpSpPr>
        <p:grpSpPr>
          <a:xfrm>
            <a:off x="3710160" y="2781360"/>
            <a:ext cx="1296360" cy="1295280"/>
            <a:chOff x="3710160" y="2781360"/>
            <a:chExt cx="1296360" cy="1295280"/>
          </a:xfrm>
        </p:grpSpPr>
        <p:sp>
          <p:nvSpPr>
            <p:cNvPr id="563" name="Arc 8"/>
            <p:cNvSpPr/>
            <p:nvPr/>
          </p:nvSpPr>
          <p:spPr>
            <a:xfrm>
              <a:off x="4359240" y="2786040"/>
              <a:ext cx="647280" cy="873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873360"/>
                <a:gd name="textAreaBottom" fmla="*/ 873720 h 873360"/>
              </a:gdLst>
              <a:ahLst/>
              <a:rect l="textAreaLeft" t="textAreaTop" r="textAreaRight" b="textAreaBottom"/>
              <a:pathLst>
                <a:path w="21600" h="29178">
                  <a:moveTo>
                    <a:pt x="1268" y="0"/>
                  </a:moveTo>
                  <a:cubicBezTo>
                    <a:pt x="12685" y="672"/>
                    <a:pt x="21600" y="10126"/>
                    <a:pt x="21600" y="21563"/>
                  </a:cubicBezTo>
                  <a:cubicBezTo>
                    <a:pt x="21600" y="24164"/>
                    <a:pt x="21130" y="26743"/>
                    <a:pt x="20213" y="29178"/>
                  </a:cubicBezTo>
                </a:path>
                <a:path w="21600" h="29178">
                  <a:moveTo>
                    <a:pt x="1268" y="0"/>
                  </a:moveTo>
                  <a:cubicBezTo>
                    <a:pt x="12685" y="672"/>
                    <a:pt x="21600" y="10126"/>
                    <a:pt x="21600" y="21563"/>
                  </a:cubicBezTo>
                  <a:cubicBezTo>
                    <a:pt x="21600" y="24164"/>
                    <a:pt x="21130" y="26743"/>
                    <a:pt x="20213" y="29178"/>
                  </a:cubicBezTo>
                  <a:lnTo>
                    <a:pt x="0" y="21563"/>
                  </a:lnTo>
                  <a:lnTo>
                    <a:pt x="1268" y="0"/>
                  </a:lnTo>
                  <a:close/>
                </a:path>
              </a:pathLst>
            </a:custGeom>
            <a:noFill/>
            <a:ln w="76320">
              <a:solidFill>
                <a:srgbClr val="a50021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564" name="Arc 12"/>
            <p:cNvSpPr/>
            <p:nvPr/>
          </p:nvSpPr>
          <p:spPr>
            <a:xfrm>
              <a:off x="3789000" y="3429000"/>
              <a:ext cx="1150920" cy="647640"/>
            </a:xfrm>
            <a:custGeom>
              <a:avLst/>
              <a:gdLst>
                <a:gd name="textAreaLeft" fmla="*/ 0 w 1150920"/>
                <a:gd name="textAreaRight" fmla="*/ 1150920 w 11509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38394" h="21600">
                  <a:moveTo>
                    <a:pt x="-27142" y="9901"/>
                  </a:moveTo>
                  <a:cubicBezTo>
                    <a:pt x="-30848" y="17085"/>
                    <a:pt x="27281" y="21599"/>
                    <a:pt x="19197" y="21600"/>
                  </a:cubicBezTo>
                  <a:cubicBezTo>
                    <a:pt x="11113" y="21600"/>
                    <a:pt x="3706" y="17086"/>
                    <a:pt x="0" y="9901"/>
                  </a:cubicBezTo>
                </a:path>
                <a:path w="38394" h="21600">
                  <a:moveTo>
                    <a:pt x="-27142" y="9901"/>
                  </a:moveTo>
                  <a:cubicBezTo>
                    <a:pt x="-30848" y="17085"/>
                    <a:pt x="27281" y="21599"/>
                    <a:pt x="19197" y="21600"/>
                  </a:cubicBezTo>
                  <a:cubicBezTo>
                    <a:pt x="11113" y="21600"/>
                    <a:pt x="3706" y="17086"/>
                    <a:pt x="0" y="9901"/>
                  </a:cubicBezTo>
                  <a:lnTo>
                    <a:pt x="19197" y="0"/>
                  </a:lnTo>
                  <a:lnTo>
                    <a:pt x="-27142" y="9901"/>
                  </a:lnTo>
                  <a:close/>
                </a:path>
              </a:pathLst>
            </a:custGeom>
            <a:noFill/>
            <a:ln w="76320">
              <a:solidFill>
                <a:srgbClr val="a50021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565" name="Arc 15"/>
            <p:cNvSpPr/>
            <p:nvPr/>
          </p:nvSpPr>
          <p:spPr>
            <a:xfrm>
              <a:off x="3710160" y="2781360"/>
              <a:ext cx="647280" cy="9190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1600" h="30724">
                  <a:moveTo>
                    <a:pt x="2021" y="30724"/>
                  </a:moveTo>
                  <a:cubicBezTo>
                    <a:pt x="690" y="27866"/>
                    <a:pt x="0" y="24752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w="21600" h="30724">
                  <a:moveTo>
                    <a:pt x="2021" y="30724"/>
                  </a:moveTo>
                  <a:cubicBezTo>
                    <a:pt x="690" y="27866"/>
                    <a:pt x="0" y="24752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021" y="30724"/>
                  </a:lnTo>
                  <a:close/>
                </a:path>
              </a:pathLst>
            </a:custGeom>
            <a:noFill/>
            <a:ln w="76320">
              <a:solidFill>
                <a:srgbClr val="a50021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566" name="AutoShape 17"/>
          <p:cNvSpPr/>
          <p:nvPr/>
        </p:nvSpPr>
        <p:spPr>
          <a:xfrm flipH="1" rot="3594000">
            <a:off x="3421440" y="2492640"/>
            <a:ext cx="4464360" cy="1008000"/>
          </a:xfrm>
          <a:custGeom>
            <a:avLst/>
            <a:gdLst>
              <a:gd name="textAreaLeft" fmla="*/ -360 w 4464360"/>
              <a:gd name="textAreaRight" fmla="*/ 4464360 w 446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842" y="21600"/>
                </a:lnTo>
                <a:lnTo>
                  <a:pt x="1875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8407b"/>
              </a:gs>
              <a:gs pos="100000">
                <a:srgbClr val="9fafc7"/>
              </a:gs>
            </a:gsLst>
            <a:lin ang="8994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7" name="AutoShape 18"/>
          <p:cNvSpPr/>
          <p:nvPr/>
        </p:nvSpPr>
        <p:spPr>
          <a:xfrm flipV="1" rot="10800000">
            <a:off x="2266920" y="5804280"/>
            <a:ext cx="4176720" cy="100836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71" y="21600"/>
                </a:lnTo>
                <a:lnTo>
                  <a:pt x="1902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8" name="WordArt 20"/>
          <p:cNvSpPr txBox="1"/>
          <p:nvPr/>
        </p:nvSpPr>
        <p:spPr>
          <a:xfrm>
            <a:off x="4005360" y="3352680"/>
            <a:ext cx="637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noFill/>
                <a:latin typeface="HY헤드라인M"/>
              </a:rPr>
              <a:t>1 Cycle</a:t>
            </a:r>
            <a:endParaRPr b="0" lang="en-US" sz="1400" spc="1" strike="noStrike">
              <a:ln w="0">
                <a:noFill/>
              </a:ln>
              <a:noFill/>
              <a:latin typeface="HY헤드라인M"/>
              <a:ea typeface="HY헤드라인M"/>
            </a:endParaRPr>
          </a:p>
        </p:txBody>
      </p:sp>
      <p:sp>
        <p:nvSpPr>
          <p:cNvPr id="569" name="WordArt 21"/>
          <p:cNvSpPr txBox="1"/>
          <p:nvPr/>
        </p:nvSpPr>
        <p:spPr>
          <a:xfrm>
            <a:off x="3416400" y="4437000"/>
            <a:ext cx="18763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noFill/>
                <a:latin typeface="HY헤드라인M"/>
              </a:rPr>
              <a:t>Gangnam Sales Office</a:t>
            </a:r>
            <a:endParaRPr b="0" lang="en-US" sz="1400" spc="1" strike="noStrike">
              <a:ln w="0">
                <a:noFill/>
              </a:ln>
              <a:noFill/>
              <a:latin typeface="HY헤드라인M"/>
              <a:ea typeface="HY헤드라인M"/>
            </a:endParaRPr>
          </a:p>
        </p:txBody>
      </p:sp>
      <p:sp>
        <p:nvSpPr>
          <p:cNvPr id="570" name="WordArt 22"/>
          <p:cNvSpPr txBox="1"/>
          <p:nvPr/>
        </p:nvSpPr>
        <p:spPr>
          <a:xfrm rot="18006600">
            <a:off x="1598400" y="2547720"/>
            <a:ext cx="18763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noFill/>
                <a:latin typeface="HY헤드라인M"/>
              </a:rPr>
              <a:t>Gangnam Sales Office</a:t>
            </a:r>
            <a:endParaRPr b="0" lang="en-US" sz="1400" spc="1" strike="noStrike">
              <a:ln w="0">
                <a:noFill/>
              </a:ln>
              <a:noFill/>
              <a:latin typeface="HY헤드라인M"/>
              <a:ea typeface="HY헤드라인M"/>
            </a:endParaRPr>
          </a:p>
        </p:txBody>
      </p:sp>
      <p:sp>
        <p:nvSpPr>
          <p:cNvPr id="571" name="WordArt 23"/>
          <p:cNvSpPr txBox="1"/>
          <p:nvPr/>
        </p:nvSpPr>
        <p:spPr>
          <a:xfrm rot="14413200">
            <a:off x="6011640" y="4263120"/>
            <a:ext cx="18763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18407b"/>
                </a:solidFill>
                <a:latin typeface="HY헤드라인M"/>
              </a:rPr>
              <a:t>Gangnam Sales Office</a:t>
            </a:r>
            <a:endParaRPr b="0" lang="en-US" sz="1400" spc="1" strike="noStrike">
              <a:ln w="0">
                <a:noFill/>
              </a:ln>
              <a:solidFill>
                <a:srgbClr val="18407b"/>
              </a:solidFill>
              <a:latin typeface="HY헤드라인M"/>
              <a:ea typeface="HY헤드라인M"/>
            </a:endParaRPr>
          </a:p>
        </p:txBody>
      </p:sp>
      <p:sp>
        <p:nvSpPr>
          <p:cNvPr id="572" name="WordArt 24"/>
          <p:cNvSpPr txBox="1"/>
          <p:nvPr/>
        </p:nvSpPr>
        <p:spPr>
          <a:xfrm>
            <a:off x="250920" y="260280"/>
            <a:ext cx="3914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noFill/>
                <a:latin typeface="HY헤드라인M"/>
              </a:rPr>
              <a:t>Venn Diagrams - Triangles</a:t>
            </a:r>
            <a:endParaRPr b="0" lang="en-US" sz="2400" spc="1" strike="noStrike">
              <a:ln w="0">
                <a:noFill/>
              </a:ln>
              <a:noFill/>
              <a:latin typeface="HY헤드라인M"/>
              <a:ea typeface="HY헤드라인M"/>
            </a:endParaRPr>
          </a:p>
        </p:txBody>
      </p:sp>
      <p:sp>
        <p:nvSpPr>
          <p:cNvPr id="573" name="WordArt 25"/>
          <p:cNvSpPr txBox="1"/>
          <p:nvPr/>
        </p:nvSpPr>
        <p:spPr>
          <a:xfrm rot="14413200">
            <a:off x="5577840" y="4626000"/>
            <a:ext cx="18763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Gangnam Sales Office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HY헤드라인M"/>
              <a:ea typeface="HY헤드라인M"/>
            </a:endParaRPr>
          </a:p>
        </p:txBody>
      </p:sp>
      <p:sp>
        <p:nvSpPr>
          <p:cNvPr id="574" name="WordArt 26"/>
          <p:cNvSpPr txBox="1"/>
          <p:nvPr/>
        </p:nvSpPr>
        <p:spPr>
          <a:xfrm rot="18006600">
            <a:off x="2174760" y="2831760"/>
            <a:ext cx="18763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Gangnam Sales Office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HY헤드라인M"/>
              <a:ea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55:00Z</dcterms:created>
  <dc:creator>果因PPT工作室</dc:creator>
  <dc:description/>
  <cp:keywords>XS-普屏 4：3;SC-淡绿色;BG-浅色;DH-静态</cp:keywords>
  <dc:language>en-US</dc:language>
  <cp:lastModifiedBy>Sky123.Org</cp:lastModifiedBy>
  <dcterms:modified xsi:type="dcterms:W3CDTF">2015-07-22T09:48:44Z</dcterms:modified>
  <cp:revision>9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