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8AF-59D5-40D1-AEB4-F9AE26A2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991-A6F7-4A15-959D-28988F25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CF75C-F5C9-4414-9A2D-C9F0B941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982C5-C989-42AB-988E-CDF25C10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CAA4B-F6AF-459C-BEB9-A5845AB9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7A87B-E5E8-4FEE-934C-A8DF9A95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4EBA7-9FFC-4FDC-B4F5-41BA1D53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50313-FD4A-45B8-8B77-0601C944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E92E6-79C8-44BD-8EC0-56D73E9C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48753-17F7-4ED4-A1E9-35BEFC55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FA1A7-CC20-4CB4-BCD1-BC9FEFEE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B3A76-31E3-4B1E-A529-92846F8B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992-49F9-4E15-BC0E-F36171F1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A9C33-7F6A-4008-98DE-229F0E8E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B5139-81C2-4DC0-8345-17560EB9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BF06D-199E-4A04-9A8E-FD2A2780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F7272-5B6A-464C-9712-617BBF99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50DD9-6CE7-431A-ADC3-E099B7E4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FBB8F-45F7-4636-AED7-3B876805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A09C1-B3CC-4264-811E-A5919240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85A2B-FA1B-4BA0-A1FB-88746332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8868D-CBB4-4B4C-A3D1-B21FF69F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DEFF4-23E7-479A-B963-8587A0CB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483-25C4-48D6-A276-091BB65E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1D4F6-52C0-4027-B505-1CAE345E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C2926-1FE2-44F8-831B-F11C79D9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162E7-D498-4688-8DF6-E9591641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CCAC2-6047-41AE-BCBD-85551C1B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536B0-14FC-456C-8E89-70C411E4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CA479-1755-496A-A356-441B7F53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B0CD1-5B0C-440D-978D-E5DF4E4E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736BC-E626-49F8-9D31-C4D5BD38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55AC1-36B8-42A7-AEB6-8C9E1A58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04C8D-CC20-40BF-BE92-A771A8C2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422F-BDAD-480A-9888-39FC15E8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3FDFC-AAC7-4F06-B67F-FC5FA868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C9CBA-B43E-456B-B581-2ED45A69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CAB59-AA5F-41F3-AF46-4490FA86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DABD0-E84C-460F-ADFA-FF71666D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820ED-1795-431E-B852-042FE61F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D6699-0E91-4134-922A-7C78ECA9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552BF-177F-4134-8D5F-53A2FB1B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2D5FD-88B7-44C5-BEB1-C7A0B6A5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906AD-8455-4695-BF18-8AAE17D2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CE21B-579B-4C56-B9F8-54E1F3FF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D341-135C-43FB-BDF4-24746BF4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4BA59-A63E-4FD7-B490-DE54A6EC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528E1-35B8-4335-BCC6-3C3F6FE1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08633-90D8-455E-9B31-786B3AF2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274F9-DB64-4807-9D69-D63853F8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3A6DE-4594-4C22-A5A3-CCEE7AA6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C5E310-48BF-4F90-953A-DB802C23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73388-4299-4303-B8A8-83C44922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5385E-3423-4991-A0F1-5E52E480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4C877-1701-442A-8244-FE7387EF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612C9-2304-4574-8D90-4F0B5383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1A91-DF59-4738-8DD8-CF1B24F2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396DD-A22E-429C-A5D7-E961624C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08715-E625-4FF8-8BCC-1438551F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1589A-0E51-4D31-B980-02DED8E2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B01E6-BED7-4F91-A6E1-1588C3D4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8054A-802B-410B-AB7D-0D06305D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A5192-81F3-40F6-A5B1-4A1BED49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4E975-9816-4A57-9831-C8FA9C94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33B6-7D97-4D50-8C78-1968C443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D59D-004F-44E3-A056-AE8D5E3A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9925-FBB2-4B2E-BCEC-8D0AF62B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FBE2-2470-41E9-A323-5642ED12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2E0-F66C-4016-8D20-75C25242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55CC-F1EC-46D4-9264-72BBC13F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ED7E-8540-4D14-9854-E91BB4DB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0A85-4219-4F1D-B892-0FCF8BB5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401B-C150-470D-8C3F-64296693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2C36-D729-46E1-A371-034738F5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7012-D0B2-43AF-97B0-27B66F36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5B853-1779-46E2-A0F3-1F1164C2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A735D-6AFF-4B77-B267-FC76E710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8FF74-62B4-4B0C-B459-390FC3D9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527C-329B-41E7-8540-4AFDFF2F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83F-9413-40B1-98C3-0920F431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9BEF2-1C4D-450C-BAF7-F4E2D4C9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5C8A6-772C-48B0-B6E0-70BC7869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77C09-30A3-49E9-9533-60DC4A2E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1A16C-4027-40BB-A396-E2E85E43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7D7B-D903-41E6-9D14-11371A29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9D1F4-1A78-4CED-8AC5-03738625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05B9C-1FB2-4901-9DAD-6AD8AEF8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C26E7-C7F3-4C75-9632-53B64566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52CDC-A7AE-469C-B5CA-50CB21B0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AD2DF-C11B-4A6E-A2E5-5CD687B4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EB3A-5CAE-4559-AEAC-A2D5EAAB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E58F0-E662-42BB-9F64-0515EEFA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AEF25-3254-49E2-91DD-2BAD3887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1C51F-DA07-4381-AF53-6E1DAF60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9A7EE-3082-4C15-AF14-CFCDF1F5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E3F42-4EC7-4DF4-A554-361191EB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B9A01-33A1-4B89-8042-4B38A355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26160-07FE-4FDF-AADE-A09C7FDC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39345-653E-461A-8CB5-57844897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6E477-1722-4DDB-A147-3AAA6083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DC97A-05F9-4885-A769-50159555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58B-6BF5-4B26-929F-4BD17198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8CA87-BA7B-4456-B3CD-9A90F015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B18F5-4072-49D8-898C-7E32C7A2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02516-A21B-4078-98C9-CBB04601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832BE-F606-454B-8114-FF71B600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92D0F-6993-42CD-8E2E-44646629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3A4D7-2DF8-48E2-A6D1-A09E7ADB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7A77F-98FF-4D91-BD92-1634328A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FBE3D-C30D-49C8-9BC3-4231DBE8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82EC3-EAEA-4051-A889-51F0841C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D5546-1EAE-48A4-B9F9-67469911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D07-0596-41F0-BE6E-9E98AB6D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C7DE4-0A90-474B-B302-EEFFA0EF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13525-ACA2-472D-A762-6D8CDC7A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151F1-AE99-48E4-94EC-A7AF482B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F5731-9185-4024-848D-95E5AD2C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6B2C8-8C09-4EE8-92F5-1AA503B8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15A57-355B-411F-B8EC-C0866E6D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C3BBD-D76D-416B-9962-9330E0E8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30328-CE6E-4DEC-8614-EDD414C1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AB0D4-1AB5-40A5-B440-33298846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ED6C3-29CA-4116-AA98-4EC26101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175-CD19-475F-8FFF-C6EF31B3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57A30-3D34-492D-8D69-4DF63CE9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E11B3-AC1E-47DE-BDF6-3F7390F6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CD7E3-49B9-444C-BCAE-BFBE03C6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395DD-4EAB-4E61-A97F-19CEFE9F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F327C-6B8B-4176-8051-A9BD4C07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1B193-AF3B-49EB-8338-189B901A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EAD5D-8ACD-4C26-9C9E-30524030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4611A-17F4-4CD2-A664-948BB041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967E7-A31E-461A-B45A-BB5C9BAF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03EAC-EC3E-467A-A70F-FA2046ED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123-4280-4D87-832C-0CA6D4F6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4F1C3-F154-4833-B5C6-764DF54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C728E-342C-40B0-8E7C-FB611088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88D45-E998-4C73-B5B1-5D16166E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6135D-D081-464F-8DB2-1FAEE41E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17220-580E-4687-A876-7ABFE5AA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A9C87-7C2F-4DB7-A2D8-C9E002EB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D36B6-03F8-4EE9-98F8-BF492F25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B19F1-F0D7-4476-A447-4867B6CC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124E7-613C-45CD-AA5E-D98BB01C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5C917-B759-40FB-BA7B-BA2EF6B3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C04-05C5-450E-9AF3-189A4D04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DCB1F-3BF8-482F-9F61-29181013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10D15-9447-420C-849F-F3E4DFC9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31557-F776-423B-9820-F817C96C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E5293-E516-48F3-9AA0-EA562F01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69BE0-C498-472F-A5BB-9204DBCD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1A0BE-6520-43CE-91B6-43DB64EB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79D9F-4A18-4897-8FAA-5E7FA720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B59C3-0242-4D51-97E3-9B6FFC15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DD591-78B6-4964-81F0-24573947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878BE-1BBA-40E7-A791-3030CA3A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素彩网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宋体"/>
              </a:rPr>
              <a:t>http://www.sc115.com-ppt</a:t>
            </a:r>
            <a:r>
              <a:rPr b="1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模板免费下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C6C8-4AB7-46A9-BAF6-FE299FF4E0FE}" type="slidenum">
              <a:rPr b="1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3AAE-DD78-4E84-AC2E-438D8084D43A}" type="slidenum">
              <a:rPr b="1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F61D-C0B9-4267-982E-5D4B4391771E}" type="slidenum">
              <a:rPr b="1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FF54-D129-4C98-B954-8C7DAC2EE07C}" type="slidenum">
              <a:rPr b="1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F66B-CED0-482D-853B-A037B935CD30}" type="slidenum">
              <a:rPr b="1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4486c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4486c"/>
                </a:solidFill>
                <a:latin typeface="Arial Black"/>
                <a:ea typeface="宋体"/>
              </a:rPr>
              <a:t>素彩网</a:t>
            </a:r>
            <a:r>
              <a:rPr b="0" lang="en-US" sz="1000" spc="-1" strike="noStrike">
                <a:solidFill>
                  <a:srgbClr val="24486c"/>
                </a:solidFill>
                <a:latin typeface="Arial Black"/>
                <a:ea typeface="宋体"/>
              </a:rPr>
              <a:t>http://www.sc115.com-ppt</a:t>
            </a:r>
            <a:r>
              <a:rPr b="0" lang="zh-CN" sz="1000" spc="-1" strike="noStrike">
                <a:solidFill>
                  <a:srgbClr val="24486c"/>
                </a:solidFill>
                <a:latin typeface="Arial Black"/>
                <a:ea typeface="宋体"/>
              </a:rPr>
              <a:t>模板免费下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4486c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45B9-4F9D-40E0-9FD3-C4C54BD16E01}" type="slidenum">
              <a:rPr b="0" lang="zh-CN" sz="1000" spc="-1" strike="noStrike">
                <a:solidFill>
                  <a:srgbClr val="24486c"/>
                </a:solidFill>
                <a:latin typeface="Arial Black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52B7-CB09-4821-9DE5-B5D5257166B3}" type="slidenum">
              <a:rPr b="1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8362-1FC6-4326-907C-3D56DADA0476}" type="slidenum">
              <a:rPr b="1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D739-7B7C-4109-8E68-F83DE4CA8BE6}" type="slidenum">
              <a:rPr b="1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A7E4-05A6-4F71-90A2-0AB409EA6BC0}" type="slidenum">
              <a:rPr b="1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E1E6-EC3D-4F40-9D57-0353F5A3FE21}" type="slidenum">
              <a:rPr b="1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1AFE-B651-43C6-B3DA-9B4529F291B9}" type="slidenum">
              <a:rPr b="1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8BB0-EA0F-4973-A0B0-BFCBFE2951D6}" type="slidenum">
              <a:rPr b="1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宋体"/>
              </a:rPr>
              <a:t>Berrylishiou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Your Topic Goes He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403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37" name="页脚占位符 3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Transitional Pag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Your Topic Goes He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403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42" name="页脚占位符 3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eclipse</dc:creator>
  <dc:description/>
  <dc:language>en-US</dc:language>
  <cp:lastModifiedBy>Administrator</cp:lastModifiedBy>
  <dcterms:modified xsi:type="dcterms:W3CDTF">2015-08-16T01:06:16Z</dcterms:modified>
  <cp:revision>11</cp:revision>
  <dc:subject/>
  <dc:title>Silly Mi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