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6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FE0-0981-4A52-89B5-8F4088D6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944-C18F-4B7F-A1E7-63F318D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E4F-AF06-48D5-A125-EC8D89F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A83-6EE9-48B4-9508-A1B3C27A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D2C1-0965-4EFF-88FD-C61CF961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BA1-6E87-4766-9EE1-B3472D94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37C-2B32-4234-9A11-6BAA9E7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01D-C52A-40C5-BDA3-3B88FEB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3658-1366-4E59-B537-4A9005C8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BE35-F9D0-4B5E-9111-E076F38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D8A-1C51-43E9-9861-7844894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E90-3BC3-4C2C-9DAA-ABC1BA8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0C6-7510-4E21-B742-BD083C5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310-7A9A-41D2-97F2-A30B7B7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94F-62F8-4CD9-A1DB-988A241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FB5E-A447-4F0B-B431-273333C0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BE20-E93A-48E4-B5FC-6CF4B57A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93B4-A1E5-466E-93C7-4F72D839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68D5-65E5-449D-8CBA-E0A42CF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90F7-B4F3-451F-9AEE-0E787EB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100A-2E2B-4864-8324-174D65A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6C12-4B28-432C-B8D6-3083D13A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A64-84B9-4D25-8E88-F18C339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E085-C1B6-489D-A485-52CE3EB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DD63-69FF-4561-A9FC-FD58D23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98DF-3BA6-4258-BA04-8682B07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2536-AB6C-4455-BB63-51D0AC3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07D5-033E-40DB-A9F9-FF14FA5C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82FA-F6DD-4809-879E-16886984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78E1-5224-4B9C-87ED-F1AFC37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CA22-67D3-4DEF-B9D5-8AE336DB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3DBA-E7CC-49D2-8BB9-CB78C58B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5A4E-0641-48CE-A350-B9FE2DE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105-D42E-4C36-914E-6F2D806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EE06-32B2-4C97-86ED-96E48B6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0161-80A6-4409-AF93-4CD55856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A46B-7640-40C8-89B9-DD0DA8C9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7AE3-FD82-494E-9C8D-4B6A4B1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DC56-0A90-42EE-886D-2CF77BF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CA01-A6CB-4F9C-9517-B642D74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227A-A6E0-477B-AAF2-A2AE446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8694-179A-40B5-9AD6-C3F910A7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E700-ABDF-4102-8E7F-CB326FD9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8A3-9B39-49C1-9806-26F83AFD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B72-8A89-4856-90F8-39BFAB9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716-7997-47AC-8386-46D4ECD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A09-FEFD-4DE7-AE95-46B46A1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D5B-F7D0-48B9-B867-24041D5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70AE-9893-4BEE-9A82-57CE7D96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8" descr="图片6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10"/>
            <p:cNvSpPr/>
            <p:nvPr/>
          </p:nvSpPr>
          <p:spPr>
            <a:xfrm>
              <a:off x="179280" y="0"/>
              <a:ext cx="23767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2" descr="无忧中职资源网红"/>
          <p:cNvPicPr/>
          <p:nvPr/>
        </p:nvPicPr>
        <p:blipFill>
          <a:blip r:embed="rId3"/>
          <a:stretch/>
        </p:blipFill>
        <p:spPr>
          <a:xfrm>
            <a:off x="0" y="-144360"/>
            <a:ext cx="190800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6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92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6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20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4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8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62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6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8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C3EB-9D64-4F86-85A3-E1DC46AAD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25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7" name="Picture 254" descr="图片6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255"/>
            <p:cNvSpPr/>
            <p:nvPr/>
          </p:nvSpPr>
          <p:spPr>
            <a:xfrm>
              <a:off x="179280" y="0"/>
              <a:ext cx="23767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256" descr="无忧中职资源网红"/>
          <p:cNvPicPr/>
          <p:nvPr/>
        </p:nvPicPr>
        <p:blipFill>
          <a:blip r:embed="rId3"/>
          <a:stretch/>
        </p:blipFill>
        <p:spPr>
          <a:xfrm>
            <a:off x="0" y="-144360"/>
            <a:ext cx="190800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无忧中职资源网红"/>
          <p:cNvPicPr/>
          <p:nvPr/>
        </p:nvPicPr>
        <p:blipFill>
          <a:blip r:embed="rId3"/>
          <a:stretch/>
        </p:blipFill>
        <p:spPr>
          <a:xfrm>
            <a:off x="0" y="-144360"/>
            <a:ext cx="1908000" cy="1197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D7B-9D2A-48D2-8ADA-D1B56493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8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9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4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18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3" descr="无忧中职资源网红"/>
          <p:cNvPicPr/>
          <p:nvPr/>
        </p:nvPicPr>
        <p:blipFill>
          <a:blip r:embed="rId3"/>
          <a:stretch/>
        </p:blipFill>
        <p:spPr>
          <a:xfrm>
            <a:off x="0" y="-144360"/>
            <a:ext cx="1908000" cy="1197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08B-C34B-4311-973F-1A5ECCFE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0" descr="6545_200703211744221[1]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626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ff"/>
                </a:solidFill>
                <a:latin typeface="Arial"/>
                <a:ea typeface="华文新魏"/>
              </a:rPr>
              <a:t>  </a:t>
            </a:r>
            <a:r>
              <a:rPr b="0" lang="zh-CN" sz="6600" spc="-1" strike="noStrike">
                <a:solidFill>
                  <a:srgbClr val="99ff66"/>
                </a:solidFill>
                <a:latin typeface="Arial"/>
                <a:ea typeface="华文新魏"/>
              </a:rPr>
              <a:t>树立信心，</a:t>
            </a:r>
            <a:br>
              <a:rPr sz="6600"/>
            </a:br>
            <a:br>
              <a:rPr sz="2400"/>
            </a:br>
            <a:r>
              <a:rPr b="0" lang="zh-CN" sz="6600" spc="-1" strike="noStrike">
                <a:solidFill>
                  <a:srgbClr val="99ff66"/>
                </a:solidFill>
                <a:latin typeface="Arial"/>
                <a:ea typeface="华文新魏"/>
              </a:rPr>
              <a:t>我的未来不是梦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58920" y="4436640"/>
            <a:ext cx="749916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66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99ff66"/>
                </a:solidFill>
                <a:latin typeface="Arial"/>
                <a:ea typeface="楷体_GB2312"/>
              </a:rPr>
              <a:t>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1032" descr="43ecd8439a69fa2f73f05d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WordArt 2" descr=""/>
          <p:cNvPicPr/>
          <p:nvPr/>
        </p:nvPicPr>
        <p:blipFill>
          <a:blip r:embed="rId2"/>
          <a:stretch/>
        </p:blipFill>
        <p:spPr>
          <a:xfrm>
            <a:off x="1536840" y="615960"/>
            <a:ext cx="6192720" cy="2529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yanjingboshiyijia"/>
          <p:cNvPicPr/>
          <p:nvPr/>
        </p:nvPicPr>
        <p:blipFill>
          <a:blip r:embed="rId3"/>
          <a:stretch/>
        </p:blipFill>
        <p:spPr>
          <a:xfrm>
            <a:off x="755640" y="3141720"/>
            <a:ext cx="4419720" cy="25398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6"/>
          <p:cNvSpPr/>
          <p:nvPr/>
        </p:nvSpPr>
        <p:spPr>
          <a:xfrm>
            <a:off x="4716360" y="3357720"/>
            <a:ext cx="3124440" cy="1066680"/>
          </a:xfrm>
          <a:prstGeom prst="cloudCallout">
            <a:avLst>
              <a:gd name="adj1" fmla="val -55282"/>
              <a:gd name="adj2" fmla="val -17856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相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能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9" descr="04ea93d7fa36143707088ba1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40323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不是像我在太阳下低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流着汗水默默辛苦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不是像我就算受了冷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不放弃自己想要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不是像我整天忙着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追求一种意想不到的温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不是像我曾经茫然失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次一次徘徊在十字街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因为我不在乎别人怎么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从来没有忘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自己的承诺对爱的执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08280" y="1655640"/>
            <a:ext cx="406548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知道我的未来不是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跟着希望在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WordArt 5"/>
          <p:cNvSpPr txBox="1"/>
          <p:nvPr/>
        </p:nvSpPr>
        <p:spPr>
          <a:xfrm>
            <a:off x="2340000" y="404640"/>
            <a:ext cx="39337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未来不是梦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42" name="Picture 6" descr="音符2"/>
          <p:cNvPicPr/>
          <p:nvPr/>
        </p:nvPicPr>
        <p:blipFill>
          <a:blip r:embed="rId2"/>
          <a:stretch/>
        </p:blipFill>
        <p:spPr>
          <a:xfrm>
            <a:off x="4572000" y="4797360"/>
            <a:ext cx="876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6" descr="2008-8-1_1219144548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请全体同学将折好的纸飞机，写上自己的心愿、理想，飞向教室上空</a:t>
            </a:r>
            <a:r>
              <a:rPr b="0" lang="en-US" sz="4000" spc="-1" strike="noStrike">
                <a:solidFill>
                  <a:srgbClr val="e40000"/>
                </a:solidFill>
                <a:latin typeface="Arial"/>
                <a:ea typeface="仿宋_GB2312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WordArt 4"/>
          <p:cNvSpPr txBox="1"/>
          <p:nvPr/>
        </p:nvSpPr>
        <p:spPr>
          <a:xfrm>
            <a:off x="3203640" y="692280"/>
            <a:ext cx="274320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放飞梦想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6" name="Picture 5" descr="114_jpg"/>
          <p:cNvPicPr/>
          <p:nvPr/>
        </p:nvPicPr>
        <p:blipFill>
          <a:blip r:embed="rId2"/>
          <a:stretch/>
        </p:blipFill>
        <p:spPr>
          <a:xfrm>
            <a:off x="5867280" y="4869000"/>
            <a:ext cx="1676520" cy="163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5d60b27e034b123329388a3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WordArt 4"/>
          <p:cNvSpPr txBox="1"/>
          <p:nvPr/>
        </p:nvSpPr>
        <p:spPr>
          <a:xfrm>
            <a:off x="898560" y="2421000"/>
            <a:ext cx="65530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班会到此结束！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3780000" y="4149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谢谢大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3" descr="5dbdc50131e84709728b65a0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名人的故事和警句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志当存高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8" descr="五角星1"/>
          <p:cNvPicPr/>
          <p:nvPr/>
        </p:nvPicPr>
        <p:blipFill>
          <a:blip r:embed="rId2"/>
          <a:stretch/>
        </p:blipFill>
        <p:spPr>
          <a:xfrm>
            <a:off x="7093080" y="1557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9"/>
          <p:cNvSpPr/>
          <p:nvPr/>
        </p:nvSpPr>
        <p:spPr>
          <a:xfrm>
            <a:off x="1219320" y="2666880"/>
            <a:ext cx="8001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2c5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最困难之时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是离成功不远之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1219320" y="3352680"/>
            <a:ext cx="7772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e2c5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上最快乐的事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莫过于为理想而奋斗。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1219320" y="407664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2c5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过去属于死神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未来属于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1219320" y="479736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2c5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没有志向的青年，就像断了线的风筝，只会在空中东摇西晃，最后必然丧失前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99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799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99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99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9" descr="32bc08d447727add51da4b1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你们为什么读书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初沈阳一所小学。校长问同学们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们为什么读书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堂上顿时寂静无声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过了片刻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个同学毕恭毕敬地站起来回答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读书为了寻求生路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话音刚落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另一位同学说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了光宗耀祖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时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位同学从座位上站起来。他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浓眉大眼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昂首挺胸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声回答道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了中华民族之崛起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腾飞于世界而读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时这位少年年仅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。请问这位少年是谁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143000" y="285264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1d6f6fed13b7bcc92f2e21af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立志摘取明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7740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歌德巴赫猜想一直被看作数学王冠上的明珠。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年前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不少科学家试图征服它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因此耗费了巨大的精力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却都没有成功。有位中国少年上中学时就暗暗立志摘取这颗明珠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把它当作自己的事业和理想。他拼命积累知识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奋力演算难题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草稿纸装了一麻袋又一麻袋。最后他终于用自己的智慧和理想的合力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移动了数学群山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摘取了数学王冠上这一璀璨的明珠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发明了以他的姓氏的定理。请问这位少年是谁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0" descr="753a8eb5916089488ad4b26f[1]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257120" y="121896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主题班会今天开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我们二人走上来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师生领导都来看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使劲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我们来说三句半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大家同学都爱看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要说节目好不好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请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每次考试总结找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概念公式多记牢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只要大家齐努力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准考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班级荣誉争第一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师生团结把心齐， 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试问今后怎么干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努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219640" y="1142640"/>
            <a:ext cx="3810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如今绿色环校园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塑胶操场更舒坦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人人满面挂笑容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真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互助关爱讲文明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骂人打架都不行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班内纪律更是好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保持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我们是一代新青年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理想伟大志气远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目标实现并不难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实干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今天班会节目多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我们在这别多说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努力拼搏看未来，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再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WordArt 5" descr=""/>
          <p:cNvPicPr/>
          <p:nvPr/>
        </p:nvPicPr>
        <p:blipFill>
          <a:blip r:embed="rId2"/>
          <a:stretch/>
        </p:blipFill>
        <p:spPr>
          <a:xfrm>
            <a:off x="2682720" y="463680"/>
            <a:ext cx="3992760" cy="6159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3_r1_c4"/>
          <p:cNvPicPr/>
          <p:nvPr/>
        </p:nvPicPr>
        <p:blipFill>
          <a:blip r:embed="rId3"/>
          <a:stretch/>
        </p:blipFill>
        <p:spPr>
          <a:xfrm>
            <a:off x="7886880" y="5532480"/>
            <a:ext cx="1257120" cy="1325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a221923bbd7dca18b8998fd3[1]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84360" y="673200"/>
            <a:ext cx="4175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自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成功的选择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109_jpg"/>
          <p:cNvPicPr/>
          <p:nvPr/>
        </p:nvPicPr>
        <p:blipFill>
          <a:blip r:embed="rId2"/>
          <a:stretch/>
        </p:blipFill>
        <p:spPr>
          <a:xfrm>
            <a:off x="7308720" y="54936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2" descr="2010032009270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我不愿意活的像一个问号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东张西望找不到自己的跑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现在我为梦想超速在奔跑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心在燃烧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来吧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唱出感觉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high</a:t>
            </a: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出味道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yea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仿宋_GB2312"/>
              </a:rPr>
              <a:t>——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hey!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你再叹气就快变一个句号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难道不想看大家都为你尖叫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402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其实你也会像明星一样酷让人心跳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来吧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手舞足蹈别怕人笑</a:t>
            </a: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yea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仿宋_GB2312"/>
              </a:rPr>
              <a:t>——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舞台我自己建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让全世界看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剧本我自己写好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信自己永远是个主角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魅力我自己创造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乎每个人意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未来我自己照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明天把我拥抱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a   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音符3"/>
          <p:cNvPicPr/>
          <p:nvPr/>
        </p:nvPicPr>
        <p:blipFill>
          <a:blip r:embed="rId2"/>
          <a:stretch/>
        </p:blipFill>
        <p:spPr>
          <a:xfrm>
            <a:off x="900000" y="1197000"/>
            <a:ext cx="8077320" cy="380880"/>
          </a:xfrm>
          <a:prstGeom prst="rect">
            <a:avLst/>
          </a:prstGeom>
          <a:ln w="0">
            <a:noFill/>
          </a:ln>
        </p:spPr>
      </p:pic>
      <p:pic>
        <p:nvPicPr>
          <p:cNvPr id="628" name="《我为歌狂》-我的舞台.mp3" descr=""/>
          <p:cNvPicPr/>
          <p:nvPr/>
        </p:nvPicPr>
        <p:blipFill>
          <a:blip r:embed="rId3"/>
          <a:stretch/>
        </p:blipFill>
        <p:spPr>
          <a:xfrm>
            <a:off x="8534520" y="6477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9" name="WordArt 11"/>
          <p:cNvSpPr txBox="1"/>
          <p:nvPr/>
        </p:nvSpPr>
        <p:spPr>
          <a:xfrm>
            <a:off x="3492360" y="549360"/>
            <a:ext cx="2735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舞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6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5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WordArt 6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15328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过同学们的理想，下面就让我们来听一段相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声有请我和曼曼闪亮登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4:48:42Z</dcterms:created>
  <dc:creator/>
  <dc:description/>
  <dc:language>en-US</dc:language>
  <cp:lastModifiedBy>Administrator</cp:lastModifiedBy>
  <dcterms:modified xsi:type="dcterms:W3CDTF">2015-09-21T06:05:15Z</dcterms:modified>
  <cp:revision>48</cp:revision>
  <dc:subject/>
  <dc:title>  树立信心， 我的未来不是梦</dc:title>
</cp:coreProperties>
</file>