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3FB-FCE2-42BB-8A4F-B4ABEC0D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164-56DB-4D5D-AC61-AD203AD1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095-B780-4FA8-B7D9-5560B921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457-C7E0-4128-8499-0516AB5C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5F2-2703-418B-8191-B51740D1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38F-AFCF-455E-91B3-756DAEA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982-4E34-4458-96A2-6C2E907A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C98-1042-4FA2-A7B9-833F73CB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421-05B9-423D-B6E0-9B4975C2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712-4875-42CB-9D0F-04DE951E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57F-E3CA-49D7-B19E-15F20C6C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2D5-4625-403C-9278-865F7D7F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DF66-E616-4B80-8FA1-8E58340AF01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56C0-C845-44BC-8E37-02756429E4B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928960" y="3933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429000" y="47149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297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615564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119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6556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1192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322668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36960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129780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410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86972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172620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08368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72680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522684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44088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297800" y="5072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51200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86972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158364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486972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a</cp:lastModifiedBy>
  <dcterms:modified xsi:type="dcterms:W3CDTF">2015-06-27T02:10:20Z</dcterms:modified>
  <cp:revision>1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