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872-744B-479E-88EE-7EE3EA2B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868-3F7C-43F5-B910-CEB65FE0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A86-F5A4-4428-89B7-489F5B8D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324-C76C-46F3-8F6C-3652A41A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7165-71E2-45F9-AFD3-25EA7C76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EBE4-CCE3-4361-8558-EA761181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E492-8BF7-4C7F-89B2-2863E3C4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3F77-4007-4038-8663-9DBD14B1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3EEE-0907-465F-9522-000934DC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5A2F-9CAC-483B-81B6-662066E3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1E42-2DCD-4083-8F32-D97E1BFB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872-8D59-4008-B1B7-583A99B3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E36A-F26B-4535-A1C5-FA59861A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043E-8EE9-462A-89B4-B019866D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C68B-D060-4224-A072-1D3F2FC9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F641-FFF6-4473-A999-FE32990C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238B-F9CA-48CE-AF8E-CE7B977D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FDC-EB95-43DB-B617-B853C7AD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2CFC-E303-45F4-B264-60791E77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889-8205-477D-8D05-92D0A988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3E6-A30F-4406-8EC9-82CBB81B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25A-DBA2-4AD4-99ED-EB1295E0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30F-9F83-4B29-9E4B-0E2618A9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982-C4E7-4909-8A28-36C272E8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C664-0F64-4F47-AD25-A97EEC727E8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1635-AFAB-496C-9A8A-B80E9664BA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2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 flipV="1">
            <a:off x="0" y="5372640"/>
            <a:ext cx="9144000" cy="1484280"/>
          </a:xfrm>
          <a:prstGeom prst="rect">
            <a:avLst/>
          </a:prstGeom>
          <a:solidFill>
            <a:srgbClr val="80808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3200" y="5423040"/>
            <a:ext cx="887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5373720"/>
            <a:ext cx="8870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ff99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84640" y="504828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快乐办公之心灵秘籍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宋体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07996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83672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07996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83672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507996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83672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19400" y="631800"/>
            <a:ext cx="494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712880" y="69372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微笑上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绝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80648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乐观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10552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提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1806480" y="2852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管理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119560" y="2852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保持健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806480" y="39085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加强沟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119560" y="390852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、把握今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5"/>
          <p:cNvPicPr/>
          <p:nvPr/>
        </p:nvPicPr>
        <p:blipFill>
          <a:blip r:embed="rId2"/>
          <a:stretch/>
        </p:blipFill>
        <p:spPr>
          <a:xfrm rot="720000">
            <a:off x="7380360" y="4436640"/>
            <a:ext cx="118404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4"/>
          <p:cNvPicPr/>
          <p:nvPr/>
        </p:nvPicPr>
        <p:blipFill>
          <a:blip r:embed="rId2"/>
          <a:stretch/>
        </p:blipFill>
        <p:spPr>
          <a:xfrm>
            <a:off x="900000" y="2276640"/>
            <a:ext cx="3065400" cy="199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01300000084627121640859141042"/>
          <p:cNvPicPr/>
          <p:nvPr/>
        </p:nvPicPr>
        <p:blipFill>
          <a:blip r:embed="rId3"/>
          <a:stretch/>
        </p:blipFill>
        <p:spPr>
          <a:xfrm>
            <a:off x="5364000" y="2133720"/>
            <a:ext cx="2816280" cy="2087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140360" y="2854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娃娃篆简"/>
              </a:rPr>
              <a:t>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79440" y="8668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619280" y="436572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愁眉苦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229440" y="43657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笑对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619280" y="5157720"/>
            <a:ext cx="61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9900"/>
                </a:solidFill>
                <a:latin typeface="Arial"/>
                <a:ea typeface="汉仪娃娃篆简"/>
              </a:rPr>
              <a:t>我们不能选择工作，但可以选择心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828720" y="1557360"/>
            <a:ext cx="75913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遇到压力时要看到压力后面的动力；遇到挫折时要看到挫折后面的成长，遇到成功时要看到成功后面的失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任何事情都有两个以上的选择，我们要做的是选择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积极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应对心态。有专家研究，一个乐观系数高的人，在处理问题时，他就会比一般人多出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机会得到满意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向乐观的态度不仅会平息由环境压力而带来的紊乱情绪，也较能使问题导向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宋体"/>
              </a:rPr>
              <a:t>积极正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692360" y="8380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宋体"/>
              </a:rPr>
              <a:t>、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6811920" y="5016600"/>
            <a:ext cx="1608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979640" y="4797360"/>
            <a:ext cx="525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人们需要快乐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,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就像需要衣服一样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玛格瑞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利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雷厄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048040" y="981000"/>
            <a:ext cx="5187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044720" y="1557360"/>
            <a:ext cx="76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熟读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项黄金法则，让你快乐长伴，每天以微笑面对工作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42920" y="2635200"/>
            <a:ext cx="766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微笑了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3492360" y="3286080"/>
            <a:ext cx="25923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9"/>
          <p:cNvPicPr/>
          <p:nvPr/>
        </p:nvPicPr>
        <p:blipFill>
          <a:blip r:embed="rId2"/>
          <a:stretch/>
        </p:blipFill>
        <p:spPr>
          <a:xfrm>
            <a:off x="2211480" y="3286080"/>
            <a:ext cx="4593960" cy="3313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260360" y="2349360"/>
            <a:ext cx="66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谢  谢  观  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Sky123.Org</cp:lastModifiedBy>
  <cp:lastPrinted>1899-12-30T00:00:00Z</cp:lastPrinted>
  <dcterms:modified xsi:type="dcterms:W3CDTF">2015-07-30T06:50:3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