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51640" y="368280"/>
            <a:ext cx="12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6,3,&#30740;&#31350;&#32972;&#26223;" TargetMode="External"/><Relationship Id="rId3" Type="http://schemas.openxmlformats.org/officeDocument/2006/relationships/hyperlink" Target="267,4,&#30740;&#31350;&#24847;&#20041;" TargetMode="External"/><Relationship Id="rId4" Type="http://schemas.openxmlformats.org/officeDocument/2006/relationships/hyperlink" Target="268,5,&#30740;&#31350;&#30446;&#26631;" TargetMode="External"/><Relationship Id="rId5" Type="http://schemas.openxmlformats.org/officeDocument/2006/relationships/hyperlink" Target="269,6,&#30740;&#31350;&#30340;&#23637;&#24320;&#24605;&#36335;&#21644;&#26694;&#26550;" TargetMode="External"/><Relationship Id="rId6" Type="http://schemas.openxmlformats.org/officeDocument/2006/relationships/hyperlink" Target="270,7,&#35770;&#25991;&#32467;&#26500;" TargetMode="External"/><Relationship Id="rId7" Type="http://schemas.openxmlformats.org/officeDocument/2006/relationships/hyperlink" Target="271,8,&#30456;&#20851;&#27010;&#24565;" TargetMode="External"/><Relationship Id="rId8" Type="http://schemas.openxmlformats.org/officeDocument/2006/relationships/hyperlink" Target="272,9,&#30740;&#31350;&#32508;&#36848;" TargetMode="External"/><Relationship Id="rId9" Type="http://schemas.openxmlformats.org/officeDocument/2006/relationships/hyperlink" Target="273,10,&#30740;&#31350;&#26041;&#27861;&#19982;&#36807;&#31243;" TargetMode="External"/><Relationship Id="rId10" Type="http://schemas.openxmlformats.org/officeDocument/2006/relationships/hyperlink" Target="274,11,&#20027;&#35201;&#32467;&#35770;" TargetMode="External"/><Relationship Id="rId11" Type="http://schemas.openxmlformats.org/officeDocument/2006/relationships/hyperlink" Target="276,12,&#38382;&#39064;&#35752;&#35770;" TargetMode="External"/><Relationship Id="rId12" Type="http://schemas.openxmlformats.org/officeDocument/2006/relationships/hyperlink" Target="275,13,&#33268;&#35874;" TargetMode="Externa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117440" y="2133720"/>
            <a:ext cx="31654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毕业答辩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2048040" y="2345760"/>
            <a:ext cx="31640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5f5f5f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毕业答辩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5f5f5f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771560" y="3718080"/>
            <a:ext cx="58262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姓名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号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院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班级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方法与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  <a:path fill="darken" w="21600" h="25890">
                <a:moveTo>
                  <a:pt x="10800" y="5945"/>
                </a:moveTo>
                <a:lnTo>
                  <a:pt x="13390" y="8570"/>
                </a:ln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lnTo>
                  <a:pt x="17800" y="12945"/>
                </a:lnTo>
                <a:lnTo>
                  <a:pt x="16138" y="12945"/>
                </a:lnTo>
                <a:lnTo>
                  <a:pt x="16138" y="20172"/>
                </a:lnTo>
                <a:lnTo>
                  <a:pt x="5463" y="20172"/>
                </a:lnTo>
                <a:lnTo>
                  <a:pt x="5463" y="12945"/>
                </a:lnTo>
                <a:lnTo>
                  <a:pt x="3800" y="12945"/>
                </a:lnTo>
                <a:close/>
              </a:path>
              <a:path fill="darkenLess" w="21600" h="25890">
                <a:moveTo>
                  <a:pt x="13390" y="8570"/>
                </a:move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close/>
              </a:path>
              <a:path fill="darkenLess" w="21600" h="25890">
                <a:moveTo>
                  <a:pt x="9873" y="16462"/>
                </a:moveTo>
                <a:lnTo>
                  <a:pt x="11728" y="16462"/>
                </a:lnTo>
                <a:lnTo>
                  <a:pt x="11728" y="20172"/>
                </a:lnTo>
                <a:lnTo>
                  <a:pt x="16138" y="20172"/>
                </a:lnTo>
                <a:lnTo>
                  <a:pt x="16138" y="12945"/>
                </a:lnTo>
                <a:lnTo>
                  <a:pt x="5463" y="12945"/>
                </a:lnTo>
                <a:lnTo>
                  <a:pt x="5463" y="20172"/>
                </a:lnTo>
                <a:lnTo>
                  <a:pt x="9873" y="201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  <a:path fill="darken" w="21600" h="25890">
                <a:moveTo>
                  <a:pt x="10800" y="5945"/>
                </a:moveTo>
                <a:lnTo>
                  <a:pt x="13390" y="8570"/>
                </a:ln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lnTo>
                  <a:pt x="17800" y="12945"/>
                </a:lnTo>
                <a:lnTo>
                  <a:pt x="16138" y="12945"/>
                </a:lnTo>
                <a:lnTo>
                  <a:pt x="16138" y="20172"/>
                </a:lnTo>
                <a:lnTo>
                  <a:pt x="5463" y="20172"/>
                </a:lnTo>
                <a:lnTo>
                  <a:pt x="5463" y="12945"/>
                </a:lnTo>
                <a:lnTo>
                  <a:pt x="3800" y="12945"/>
                </a:lnTo>
                <a:close/>
              </a:path>
              <a:path fill="darkenLess" w="21600" h="25890">
                <a:moveTo>
                  <a:pt x="13390" y="8570"/>
                </a:move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close/>
              </a:path>
              <a:path fill="darkenLess" w="21600" h="25890">
                <a:moveTo>
                  <a:pt x="9873" y="16462"/>
                </a:moveTo>
                <a:lnTo>
                  <a:pt x="11728" y="16462"/>
                </a:lnTo>
                <a:lnTo>
                  <a:pt x="11728" y="20172"/>
                </a:lnTo>
                <a:lnTo>
                  <a:pt x="16138" y="20172"/>
                </a:lnTo>
                <a:lnTo>
                  <a:pt x="16138" y="12945"/>
                </a:lnTo>
                <a:lnTo>
                  <a:pt x="5463" y="12945"/>
                </a:lnTo>
                <a:lnTo>
                  <a:pt x="5463" y="20172"/>
                </a:lnTo>
                <a:lnTo>
                  <a:pt x="9873" y="201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  <a:path fill="darken" w="21600" h="25890">
                <a:moveTo>
                  <a:pt x="10800" y="5945"/>
                </a:moveTo>
                <a:lnTo>
                  <a:pt x="13390" y="8570"/>
                </a:ln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lnTo>
                  <a:pt x="17800" y="12945"/>
                </a:lnTo>
                <a:lnTo>
                  <a:pt x="16138" y="12945"/>
                </a:lnTo>
                <a:lnTo>
                  <a:pt x="16138" y="20172"/>
                </a:lnTo>
                <a:lnTo>
                  <a:pt x="5463" y="20172"/>
                </a:lnTo>
                <a:lnTo>
                  <a:pt x="5463" y="12945"/>
                </a:lnTo>
                <a:lnTo>
                  <a:pt x="3800" y="12945"/>
                </a:lnTo>
                <a:close/>
              </a:path>
              <a:path fill="darkenLess" w="21600" h="25890">
                <a:moveTo>
                  <a:pt x="13390" y="8570"/>
                </a:move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close/>
              </a:path>
              <a:path fill="darkenLess" w="21600" h="25890">
                <a:moveTo>
                  <a:pt x="9873" y="16462"/>
                </a:moveTo>
                <a:lnTo>
                  <a:pt x="11728" y="16462"/>
                </a:lnTo>
                <a:lnTo>
                  <a:pt x="11728" y="20172"/>
                </a:lnTo>
                <a:lnTo>
                  <a:pt x="16138" y="20172"/>
                </a:lnTo>
                <a:lnTo>
                  <a:pt x="16138" y="12945"/>
                </a:lnTo>
                <a:lnTo>
                  <a:pt x="5463" y="12945"/>
                </a:lnTo>
                <a:lnTo>
                  <a:pt x="5463" y="20172"/>
                </a:lnTo>
                <a:lnTo>
                  <a:pt x="9873" y="201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致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  <a:path fill="darken" w="21600" h="25890">
                <a:moveTo>
                  <a:pt x="10800" y="5945"/>
                </a:moveTo>
                <a:lnTo>
                  <a:pt x="13390" y="8570"/>
                </a:ln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lnTo>
                  <a:pt x="17800" y="12945"/>
                </a:lnTo>
                <a:lnTo>
                  <a:pt x="16138" y="12945"/>
                </a:lnTo>
                <a:lnTo>
                  <a:pt x="16138" y="20172"/>
                </a:lnTo>
                <a:lnTo>
                  <a:pt x="5463" y="20172"/>
                </a:lnTo>
                <a:lnTo>
                  <a:pt x="5463" y="12945"/>
                </a:lnTo>
                <a:lnTo>
                  <a:pt x="3800" y="12945"/>
                </a:lnTo>
                <a:close/>
              </a:path>
              <a:path fill="darkenLess" w="21600" h="25890">
                <a:moveTo>
                  <a:pt x="13390" y="8570"/>
                </a:move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close/>
              </a:path>
              <a:path fill="darkenLess" w="21600" h="25890">
                <a:moveTo>
                  <a:pt x="9873" y="16462"/>
                </a:moveTo>
                <a:lnTo>
                  <a:pt x="11728" y="16462"/>
                </a:lnTo>
                <a:lnTo>
                  <a:pt x="11728" y="20172"/>
                </a:lnTo>
                <a:lnTo>
                  <a:pt x="16138" y="20172"/>
                </a:lnTo>
                <a:lnTo>
                  <a:pt x="16138" y="12945"/>
                </a:lnTo>
                <a:lnTo>
                  <a:pt x="5463" y="12945"/>
                </a:lnTo>
                <a:lnTo>
                  <a:pt x="5463" y="20172"/>
                </a:lnTo>
                <a:lnTo>
                  <a:pt x="9873" y="201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2412360" y="2277000"/>
              <a:ext cx="4320360" cy="1728000"/>
              <a:chOff x="2412360" y="2277000"/>
              <a:chExt cx="4320360" cy="1728000"/>
            </a:xfrm>
          </p:grpSpPr>
          <p:sp>
            <p:nvSpPr>
              <p:cNvPr id="161" name=""/>
              <p:cNvSpPr txBox="1"/>
              <p:nvPr/>
            </p:nvSpPr>
            <p:spPr>
              <a:xfrm>
                <a:off x="2412360" y="2277000"/>
                <a:ext cx="4320360" cy="91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1" strike="noStrike">
                    <a:ln w="32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e7f3f4"/>
                        </a:gs>
                      </a:gsLst>
                      <a:lin ang="5400000"/>
                    </a:gradFill>
                    <a:latin typeface="黑体"/>
                  </a:rPr>
                  <a:t>谢谢观赏</a:t>
                </a:r>
                <a:endParaRPr b="0" i="1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黑体"/>
                  <a:ea typeface="黑体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-1908000" y="2376360"/>
                <a:ext cx="4320360" cy="813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-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bbe0e3">
                            <a:alpha val="0"/>
                          </a:srgbClr>
                        </a:gs>
                        <a:gs pos="100000">
                          <a:srgbClr val="e8f5f6">
                            <a:alpha val="32156"/>
                          </a:srgbClr>
                        </a:gs>
                      </a:gsLst>
                      <a:lin ang="5400000"/>
                    </a:gradFill>
                    <a:latin typeface="黑体"/>
                  </a:rPr>
                  <a:t>谢谢观赏</a:t>
                </a:r>
                <a:endParaRPr b="0" i="1" lang="en-US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bbe0e3">
                          <a:alpha val="0"/>
                        </a:srgbClr>
                      </a:gs>
                      <a:gs pos="100000">
                        <a:srgbClr val="e8f5f6">
                          <a:alpha val="32156"/>
                        </a:srgbClr>
                      </a:gs>
                    </a:gsLst>
                    <a:lin ang="5400000"/>
                  </a:gradFill>
                  <a:latin typeface="黑体"/>
                  <a:ea typeface="黑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研究的展开思路和框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论文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相关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研究方法与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主要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致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138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1440" y="1125000"/>
            <a:ext cx="81374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3960720"/>
            <a:ext cx="1657440" cy="1197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未知"/>
          <p:cNvSpPr/>
          <p:nvPr/>
        </p:nvSpPr>
        <p:spPr>
          <a:xfrm flipH="1" rot="14494800">
            <a:off x="3987360" y="4089960"/>
            <a:ext cx="712800" cy="53676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 flipH="1" rot="12547800">
            <a:off x="3330000" y="4756320"/>
            <a:ext cx="430200" cy="45072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0000" y="4797360"/>
            <a:ext cx="179388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未知"/>
          <p:cNvSpPr/>
          <p:nvPr/>
        </p:nvSpPr>
        <p:spPr>
          <a:xfrm rot="9052200">
            <a:off x="5677920" y="4756320"/>
            <a:ext cx="430200" cy="45072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3960720"/>
            <a:ext cx="1728720" cy="1197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09960" y="1774800"/>
            <a:ext cx="2547720" cy="2660760"/>
            <a:chOff x="2109960" y="1774800"/>
            <a:chExt cx="2547720" cy="2660760"/>
          </a:xfrm>
        </p:grpSpPr>
        <p:sp>
          <p:nvSpPr>
            <p:cNvPr id="93" name="未知"/>
            <p:cNvSpPr/>
            <p:nvPr/>
          </p:nvSpPr>
          <p:spPr>
            <a:xfrm>
              <a:off x="2109960" y="1774800"/>
              <a:ext cx="2547720" cy="2660760"/>
            </a:xfrm>
            <a:custGeom>
              <a:avLst/>
              <a:gdLst/>
              <a:ahLst/>
              <a:rect l="l" t="t" r="r" b="b"/>
              <a:pathLst>
                <a:path w="1739" h="1676">
                  <a:moveTo>
                    <a:pt x="0" y="910"/>
                  </a:moveTo>
                  <a:lnTo>
                    <a:pt x="1075" y="1676"/>
                  </a:lnTo>
                  <a:lnTo>
                    <a:pt x="1151" y="1620"/>
                  </a:lnTo>
                  <a:lnTo>
                    <a:pt x="1235" y="1552"/>
                  </a:lnTo>
                  <a:lnTo>
                    <a:pt x="1327" y="1496"/>
                  </a:lnTo>
                  <a:lnTo>
                    <a:pt x="1427" y="1448"/>
                  </a:lnTo>
                  <a:lnTo>
                    <a:pt x="1523" y="1412"/>
                  </a:lnTo>
                  <a:lnTo>
                    <a:pt x="1605" y="1388"/>
                  </a:lnTo>
                  <a:lnTo>
                    <a:pt x="1683" y="1376"/>
                  </a:lnTo>
                  <a:lnTo>
                    <a:pt x="1739" y="1368"/>
                  </a:lnTo>
                  <a:lnTo>
                    <a:pt x="1739" y="0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111040" y="1774800"/>
              <a:ext cx="2546280" cy="1444680"/>
            </a:xfrm>
            <a:custGeom>
              <a:avLst/>
              <a:gdLst/>
              <a:ahLst/>
              <a:rect l="l" t="t" r="r" b="b"/>
              <a:pathLst>
                <a:path w="1610" h="910">
                  <a:moveTo>
                    <a:pt x="0" y="910"/>
                  </a:moveTo>
                  <a:cubicBezTo>
                    <a:pt x="54" y="835"/>
                    <a:pt x="112" y="761"/>
                    <a:pt x="196" y="677"/>
                  </a:cubicBezTo>
                  <a:cubicBezTo>
                    <a:pt x="281" y="593"/>
                    <a:pt x="409" y="480"/>
                    <a:pt x="509" y="403"/>
                  </a:cubicBezTo>
                  <a:cubicBezTo>
                    <a:pt x="608" y="326"/>
                    <a:pt x="701" y="262"/>
                    <a:pt x="794" y="211"/>
                  </a:cubicBezTo>
                  <a:cubicBezTo>
                    <a:pt x="887" y="160"/>
                    <a:pt x="959" y="129"/>
                    <a:pt x="1064" y="97"/>
                  </a:cubicBezTo>
                  <a:cubicBezTo>
                    <a:pt x="1169" y="65"/>
                    <a:pt x="1335" y="32"/>
                    <a:pt x="1426" y="16"/>
                  </a:cubicBezTo>
                  <a:cubicBezTo>
                    <a:pt x="1517" y="0"/>
                    <a:pt x="1572" y="6"/>
                    <a:pt x="1610" y="4"/>
                  </a:cubicBez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916360" y="2276640"/>
            <a:ext cx="1728720" cy="129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 rot="7105200">
            <a:off x="4845600" y="4091760"/>
            <a:ext cx="711360" cy="53496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87640" y="1774800"/>
            <a:ext cx="2547720" cy="2660760"/>
            <a:chOff x="4787640" y="1774800"/>
            <a:chExt cx="2547720" cy="2660760"/>
          </a:xfrm>
        </p:grpSpPr>
        <p:sp>
          <p:nvSpPr>
            <p:cNvPr id="98" name="未知"/>
            <p:cNvSpPr/>
            <p:nvPr/>
          </p:nvSpPr>
          <p:spPr>
            <a:xfrm flipH="1">
              <a:off x="4787280" y="1774800"/>
              <a:ext cx="2547720" cy="2660760"/>
            </a:xfrm>
            <a:custGeom>
              <a:avLst/>
              <a:gdLst/>
              <a:ahLst/>
              <a:rect l="l" t="t" r="r" b="b"/>
              <a:pathLst>
                <a:path w="1739" h="1676">
                  <a:moveTo>
                    <a:pt x="0" y="910"/>
                  </a:moveTo>
                  <a:lnTo>
                    <a:pt x="1075" y="1676"/>
                  </a:lnTo>
                  <a:lnTo>
                    <a:pt x="1151" y="1620"/>
                  </a:lnTo>
                  <a:lnTo>
                    <a:pt x="1235" y="1552"/>
                  </a:lnTo>
                  <a:lnTo>
                    <a:pt x="1327" y="1496"/>
                  </a:lnTo>
                  <a:lnTo>
                    <a:pt x="1427" y="1448"/>
                  </a:lnTo>
                  <a:lnTo>
                    <a:pt x="1523" y="1412"/>
                  </a:lnTo>
                  <a:lnTo>
                    <a:pt x="1605" y="1388"/>
                  </a:lnTo>
                  <a:lnTo>
                    <a:pt x="1683" y="1376"/>
                  </a:lnTo>
                  <a:lnTo>
                    <a:pt x="1739" y="1368"/>
                  </a:lnTo>
                  <a:lnTo>
                    <a:pt x="1739" y="0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 flipH="1">
              <a:off x="4787640" y="1774800"/>
              <a:ext cx="2546280" cy="1444680"/>
            </a:xfrm>
            <a:custGeom>
              <a:avLst/>
              <a:gdLst/>
              <a:ahLst/>
              <a:rect l="l" t="t" r="r" b="b"/>
              <a:pathLst>
                <a:path w="1610" h="910">
                  <a:moveTo>
                    <a:pt x="0" y="910"/>
                  </a:moveTo>
                  <a:cubicBezTo>
                    <a:pt x="54" y="835"/>
                    <a:pt x="112" y="761"/>
                    <a:pt x="196" y="677"/>
                  </a:cubicBezTo>
                  <a:cubicBezTo>
                    <a:pt x="281" y="593"/>
                    <a:pt x="409" y="480"/>
                    <a:pt x="509" y="403"/>
                  </a:cubicBezTo>
                  <a:cubicBezTo>
                    <a:pt x="608" y="326"/>
                    <a:pt x="701" y="262"/>
                    <a:pt x="794" y="211"/>
                  </a:cubicBezTo>
                  <a:cubicBezTo>
                    <a:pt x="887" y="160"/>
                    <a:pt x="959" y="129"/>
                    <a:pt x="1064" y="97"/>
                  </a:cubicBezTo>
                  <a:cubicBezTo>
                    <a:pt x="1169" y="65"/>
                    <a:pt x="1335" y="32"/>
                    <a:pt x="1426" y="16"/>
                  </a:cubicBezTo>
                  <a:cubicBezTo>
                    <a:pt x="1517" y="0"/>
                    <a:pt x="1572" y="6"/>
                    <a:pt x="1610" y="4"/>
                  </a:cubicBez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788000" y="2276640"/>
            <a:ext cx="1728720" cy="129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  <a:path fill="darken" w="21600" h="25890">
                <a:moveTo>
                  <a:pt x="10800" y="5945"/>
                </a:moveTo>
                <a:lnTo>
                  <a:pt x="13390" y="8570"/>
                </a:ln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lnTo>
                  <a:pt x="17800" y="12945"/>
                </a:lnTo>
                <a:lnTo>
                  <a:pt x="16138" y="12945"/>
                </a:lnTo>
                <a:lnTo>
                  <a:pt x="16138" y="20172"/>
                </a:lnTo>
                <a:lnTo>
                  <a:pt x="5463" y="20172"/>
                </a:lnTo>
                <a:lnTo>
                  <a:pt x="5463" y="12945"/>
                </a:lnTo>
                <a:lnTo>
                  <a:pt x="3800" y="12945"/>
                </a:lnTo>
                <a:close/>
              </a:path>
              <a:path fill="darkenLess" w="21600" h="25890">
                <a:moveTo>
                  <a:pt x="13390" y="8570"/>
                </a:move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close/>
              </a:path>
              <a:path fill="darkenLess" w="21600" h="25890">
                <a:moveTo>
                  <a:pt x="9873" y="16462"/>
                </a:moveTo>
                <a:lnTo>
                  <a:pt x="11728" y="16462"/>
                </a:lnTo>
                <a:lnTo>
                  <a:pt x="11728" y="20172"/>
                </a:lnTo>
                <a:lnTo>
                  <a:pt x="16138" y="20172"/>
                </a:lnTo>
                <a:lnTo>
                  <a:pt x="16138" y="12945"/>
                </a:lnTo>
                <a:lnTo>
                  <a:pt x="5463" y="12945"/>
                </a:lnTo>
                <a:lnTo>
                  <a:pt x="5463" y="20172"/>
                </a:lnTo>
                <a:lnTo>
                  <a:pt x="9873" y="201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  <a:path fill="darken" w="21600" h="25890">
                <a:moveTo>
                  <a:pt x="10800" y="5945"/>
                </a:moveTo>
                <a:lnTo>
                  <a:pt x="13390" y="8570"/>
                </a:ln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lnTo>
                  <a:pt x="17800" y="12945"/>
                </a:lnTo>
                <a:lnTo>
                  <a:pt x="16138" y="12945"/>
                </a:lnTo>
                <a:lnTo>
                  <a:pt x="16138" y="20172"/>
                </a:lnTo>
                <a:lnTo>
                  <a:pt x="5463" y="20172"/>
                </a:lnTo>
                <a:lnTo>
                  <a:pt x="5463" y="12945"/>
                </a:lnTo>
                <a:lnTo>
                  <a:pt x="3800" y="12945"/>
                </a:lnTo>
                <a:close/>
              </a:path>
              <a:path fill="darkenLess" w="21600" h="25890">
                <a:moveTo>
                  <a:pt x="13390" y="8570"/>
                </a:move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close/>
              </a:path>
              <a:path fill="darkenLess" w="21600" h="25890">
                <a:moveTo>
                  <a:pt x="9873" y="16462"/>
                </a:moveTo>
                <a:lnTo>
                  <a:pt x="11728" y="16462"/>
                </a:lnTo>
                <a:lnTo>
                  <a:pt x="11728" y="20172"/>
                </a:lnTo>
                <a:lnTo>
                  <a:pt x="16138" y="20172"/>
                </a:lnTo>
                <a:lnTo>
                  <a:pt x="16138" y="12945"/>
                </a:lnTo>
                <a:lnTo>
                  <a:pt x="5463" y="12945"/>
                </a:lnTo>
                <a:lnTo>
                  <a:pt x="5463" y="20172"/>
                </a:lnTo>
                <a:lnTo>
                  <a:pt x="9873" y="201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  <a:path fill="darken" w="21600" h="25890">
                <a:moveTo>
                  <a:pt x="10800" y="5945"/>
                </a:moveTo>
                <a:lnTo>
                  <a:pt x="13390" y="8570"/>
                </a:ln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lnTo>
                  <a:pt x="17800" y="12945"/>
                </a:lnTo>
                <a:lnTo>
                  <a:pt x="16138" y="12945"/>
                </a:lnTo>
                <a:lnTo>
                  <a:pt x="16138" y="20172"/>
                </a:lnTo>
                <a:lnTo>
                  <a:pt x="5463" y="20172"/>
                </a:lnTo>
                <a:lnTo>
                  <a:pt x="5463" y="12945"/>
                </a:lnTo>
                <a:lnTo>
                  <a:pt x="3800" y="12945"/>
                </a:lnTo>
                <a:close/>
              </a:path>
              <a:path fill="darkenLess" w="21600" h="25890">
                <a:moveTo>
                  <a:pt x="13390" y="8570"/>
                </a:move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close/>
              </a:path>
              <a:path fill="darkenLess" w="21600" h="25890">
                <a:moveTo>
                  <a:pt x="9873" y="16462"/>
                </a:moveTo>
                <a:lnTo>
                  <a:pt x="11728" y="16462"/>
                </a:lnTo>
                <a:lnTo>
                  <a:pt x="11728" y="20172"/>
                </a:lnTo>
                <a:lnTo>
                  <a:pt x="16138" y="20172"/>
                </a:lnTo>
                <a:lnTo>
                  <a:pt x="16138" y="12945"/>
                </a:lnTo>
                <a:lnTo>
                  <a:pt x="5463" y="12945"/>
                </a:lnTo>
                <a:lnTo>
                  <a:pt x="5463" y="20172"/>
                </a:lnTo>
                <a:lnTo>
                  <a:pt x="9873" y="201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139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的展开思路和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10040" y="2919240"/>
            <a:ext cx="293688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468360" y="1125360"/>
            <a:ext cx="4037040" cy="2387880"/>
          </a:xfrm>
          <a:custGeom>
            <a:avLst/>
            <a:gdLst/>
            <a:ahLst/>
            <a:rect l="l" t="t" r="r" b="b"/>
            <a:pathLst>
              <a:path w="2444" h="1014">
                <a:moveTo>
                  <a:pt x="0" y="1014"/>
                </a:moveTo>
                <a:lnTo>
                  <a:pt x="1518" y="1014"/>
                </a:lnTo>
                <a:lnTo>
                  <a:pt x="1518" y="696"/>
                </a:lnTo>
                <a:lnTo>
                  <a:pt x="2444" y="696"/>
                </a:lnTo>
                <a:lnTo>
                  <a:pt x="2444" y="0"/>
                </a:lnTo>
                <a:lnTo>
                  <a:pt x="0" y="0"/>
                </a:lnTo>
                <a:lnTo>
                  <a:pt x="0" y="1014"/>
                </a:lnTo>
              </a:path>
            </a:pathLst>
          </a:custGeom>
          <a:noFill/>
          <a:ln w="64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4640400" y="1125360"/>
            <a:ext cx="4037040" cy="2387880"/>
          </a:xfrm>
          <a:custGeom>
            <a:avLst/>
            <a:gdLst/>
            <a:ahLst/>
            <a:rect l="l" t="t" r="r" b="b"/>
            <a:pathLst>
              <a:path w="2444" h="1014">
                <a:moveTo>
                  <a:pt x="2444" y="1014"/>
                </a:moveTo>
                <a:lnTo>
                  <a:pt x="926" y="1014"/>
                </a:lnTo>
                <a:lnTo>
                  <a:pt x="926" y="696"/>
                </a:lnTo>
                <a:lnTo>
                  <a:pt x="0" y="696"/>
                </a:lnTo>
                <a:lnTo>
                  <a:pt x="0" y="0"/>
                </a:lnTo>
                <a:lnTo>
                  <a:pt x="2444" y="0"/>
                </a:lnTo>
                <a:lnTo>
                  <a:pt x="2444" y="1014"/>
                </a:lnTo>
              </a:path>
            </a:pathLst>
          </a:custGeom>
          <a:noFill/>
          <a:ln w="64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468360" y="3687840"/>
            <a:ext cx="4037040" cy="2405160"/>
          </a:xfrm>
          <a:custGeom>
            <a:avLst/>
            <a:gdLst/>
            <a:ahLst/>
            <a:rect l="l" t="t" r="r" b="b"/>
            <a:pathLst>
              <a:path w="2444" h="1022">
                <a:moveTo>
                  <a:pt x="0" y="0"/>
                </a:moveTo>
                <a:lnTo>
                  <a:pt x="1518" y="0"/>
                </a:lnTo>
                <a:lnTo>
                  <a:pt x="1518" y="326"/>
                </a:lnTo>
                <a:lnTo>
                  <a:pt x="2444" y="326"/>
                </a:lnTo>
                <a:lnTo>
                  <a:pt x="2444" y="1022"/>
                </a:lnTo>
                <a:lnTo>
                  <a:pt x="0" y="1022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640400" y="3687840"/>
            <a:ext cx="4037040" cy="2405160"/>
          </a:xfrm>
          <a:custGeom>
            <a:avLst/>
            <a:gdLst/>
            <a:ahLst/>
            <a:rect l="l" t="t" r="r" b="b"/>
            <a:pathLst>
              <a:path w="2444" h="1022">
                <a:moveTo>
                  <a:pt x="2444" y="0"/>
                </a:moveTo>
                <a:lnTo>
                  <a:pt x="926" y="0"/>
                </a:lnTo>
                <a:lnTo>
                  <a:pt x="926" y="326"/>
                </a:lnTo>
                <a:lnTo>
                  <a:pt x="0" y="326"/>
                </a:lnTo>
                <a:lnTo>
                  <a:pt x="0" y="1022"/>
                </a:lnTo>
                <a:lnTo>
                  <a:pt x="2444" y="1022"/>
                </a:lnTo>
                <a:lnTo>
                  <a:pt x="2444" y="0"/>
                </a:lnTo>
                <a:lnTo>
                  <a:pt x="2444" y="0"/>
                </a:lnTo>
                <a:close/>
              </a:path>
            </a:pathLst>
          </a:custGeom>
          <a:noFill/>
          <a:ln w="64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3840" y="1695600"/>
            <a:ext cx="36972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125360"/>
            <a:ext cx="4035240" cy="460440"/>
          </a:xfrm>
          <a:prstGeom prst="rect">
            <a:avLst/>
          </a:pr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1840" y="1125360"/>
            <a:ext cx="4035600" cy="460440"/>
          </a:xfrm>
          <a:prstGeom prst="rect">
            <a:avLst/>
          </a:pr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632560"/>
            <a:ext cx="4037040" cy="460440"/>
          </a:xfrm>
          <a:prstGeom prst="rect">
            <a:avLst/>
          </a:pr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0400" y="5632560"/>
            <a:ext cx="4037040" cy="460440"/>
          </a:xfrm>
          <a:prstGeom prst="rect">
            <a:avLst/>
          </a:pr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34200" y="39258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6120" y="28494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3640" y="3870360"/>
            <a:ext cx="21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3640" y="2941560"/>
            <a:ext cx="21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  <a:path fill="darken" w="21600" h="25890">
                <a:moveTo>
                  <a:pt x="10800" y="5945"/>
                </a:moveTo>
                <a:lnTo>
                  <a:pt x="13390" y="8570"/>
                </a:ln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lnTo>
                  <a:pt x="17800" y="12945"/>
                </a:lnTo>
                <a:lnTo>
                  <a:pt x="16138" y="12945"/>
                </a:lnTo>
                <a:lnTo>
                  <a:pt x="16138" y="20172"/>
                </a:lnTo>
                <a:lnTo>
                  <a:pt x="5463" y="20172"/>
                </a:lnTo>
                <a:lnTo>
                  <a:pt x="5463" y="12945"/>
                </a:lnTo>
                <a:lnTo>
                  <a:pt x="3800" y="12945"/>
                </a:lnTo>
                <a:close/>
              </a:path>
              <a:path fill="darkenLess" w="21600" h="25890">
                <a:moveTo>
                  <a:pt x="13390" y="8570"/>
                </a:move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close/>
              </a:path>
              <a:path fill="darkenLess" w="21600" h="25890">
                <a:moveTo>
                  <a:pt x="9873" y="16462"/>
                </a:moveTo>
                <a:lnTo>
                  <a:pt x="11728" y="16462"/>
                </a:lnTo>
                <a:lnTo>
                  <a:pt x="11728" y="20172"/>
                </a:lnTo>
                <a:lnTo>
                  <a:pt x="16138" y="20172"/>
                </a:lnTo>
                <a:lnTo>
                  <a:pt x="16138" y="12945"/>
                </a:lnTo>
                <a:lnTo>
                  <a:pt x="5463" y="12945"/>
                </a:lnTo>
                <a:lnTo>
                  <a:pt x="5463" y="20172"/>
                </a:lnTo>
                <a:lnTo>
                  <a:pt x="9873" y="201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论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43120" y="1824120"/>
            <a:ext cx="5216400" cy="402120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5b79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554200"/>
            <a:ext cx="2051280" cy="13003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96762" dir="679359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41320" y="4791240"/>
            <a:ext cx="2051280" cy="12999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2388" dir="7183193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887480" y="5270040"/>
            <a:ext cx="17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25680" y="1268280"/>
            <a:ext cx="2051280" cy="13003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2554200"/>
            <a:ext cx="2051280" cy="13003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99192" dir="301805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076800" y="3084120"/>
            <a:ext cx="17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94200" y="4791240"/>
            <a:ext cx="2051280" cy="12999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99192" dir="301805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55480" y="5222880"/>
            <a:ext cx="17874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16160" y="3523680"/>
            <a:ext cx="2470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请输入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014800" y="5229000"/>
            <a:ext cx="17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896760" y="3067200"/>
            <a:ext cx="17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501360" y="1771200"/>
            <a:ext cx="178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  <a:path fill="darken" w="21600" h="25890">
                <a:moveTo>
                  <a:pt x="10800" y="5945"/>
                </a:moveTo>
                <a:lnTo>
                  <a:pt x="13390" y="8570"/>
                </a:ln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lnTo>
                  <a:pt x="17800" y="12945"/>
                </a:lnTo>
                <a:lnTo>
                  <a:pt x="16138" y="12945"/>
                </a:lnTo>
                <a:lnTo>
                  <a:pt x="16138" y="20172"/>
                </a:lnTo>
                <a:lnTo>
                  <a:pt x="5463" y="20172"/>
                </a:lnTo>
                <a:lnTo>
                  <a:pt x="5463" y="12945"/>
                </a:lnTo>
                <a:lnTo>
                  <a:pt x="3800" y="12945"/>
                </a:lnTo>
                <a:close/>
              </a:path>
              <a:path fill="darkenLess" w="21600" h="25890">
                <a:moveTo>
                  <a:pt x="13390" y="8570"/>
                </a:move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close/>
              </a:path>
              <a:path fill="darkenLess" w="21600" h="25890">
                <a:moveTo>
                  <a:pt x="9873" y="16462"/>
                </a:moveTo>
                <a:lnTo>
                  <a:pt x="11728" y="16462"/>
                </a:lnTo>
                <a:lnTo>
                  <a:pt x="11728" y="20172"/>
                </a:lnTo>
                <a:lnTo>
                  <a:pt x="16138" y="20172"/>
                </a:lnTo>
                <a:lnTo>
                  <a:pt x="16138" y="12945"/>
                </a:lnTo>
                <a:lnTo>
                  <a:pt x="5463" y="12945"/>
                </a:lnTo>
                <a:lnTo>
                  <a:pt x="5463" y="20172"/>
                </a:lnTo>
                <a:lnTo>
                  <a:pt x="9873" y="201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关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  <a:path fill="darken" w="21600" h="25890">
                <a:moveTo>
                  <a:pt x="10800" y="5945"/>
                </a:moveTo>
                <a:lnTo>
                  <a:pt x="13390" y="8570"/>
                </a:ln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lnTo>
                  <a:pt x="17800" y="12945"/>
                </a:lnTo>
                <a:lnTo>
                  <a:pt x="16138" y="12945"/>
                </a:lnTo>
                <a:lnTo>
                  <a:pt x="16138" y="20172"/>
                </a:lnTo>
                <a:lnTo>
                  <a:pt x="5463" y="20172"/>
                </a:lnTo>
                <a:lnTo>
                  <a:pt x="5463" y="12945"/>
                </a:lnTo>
                <a:lnTo>
                  <a:pt x="3800" y="12945"/>
                </a:lnTo>
                <a:close/>
              </a:path>
              <a:path fill="darkenLess" w="21600" h="25890">
                <a:moveTo>
                  <a:pt x="13390" y="8570"/>
                </a:move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close/>
              </a:path>
              <a:path fill="darkenLess" w="21600" h="25890">
                <a:moveTo>
                  <a:pt x="9873" y="16462"/>
                </a:moveTo>
                <a:lnTo>
                  <a:pt x="11728" y="16462"/>
                </a:lnTo>
                <a:lnTo>
                  <a:pt x="11728" y="20172"/>
                </a:lnTo>
                <a:lnTo>
                  <a:pt x="16138" y="20172"/>
                </a:lnTo>
                <a:lnTo>
                  <a:pt x="16138" y="12945"/>
                </a:lnTo>
                <a:lnTo>
                  <a:pt x="5463" y="12945"/>
                </a:lnTo>
                <a:lnTo>
                  <a:pt x="5463" y="20172"/>
                </a:lnTo>
                <a:lnTo>
                  <a:pt x="9873" y="201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50" y="24540"/>
                </a:lnTo>
                <a:lnTo>
                  <a:pt x="20250" y="135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350" y="24540"/>
                </a:lnTo>
                <a:lnTo>
                  <a:pt x="20250" y="2454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40"/>
                </a:lnTo>
                <a:close/>
              </a:path>
              <a:path fill="darken" w="21600" h="25890">
                <a:moveTo>
                  <a:pt x="10800" y="5945"/>
                </a:moveTo>
                <a:lnTo>
                  <a:pt x="13390" y="8570"/>
                </a:ln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lnTo>
                  <a:pt x="17800" y="12945"/>
                </a:lnTo>
                <a:lnTo>
                  <a:pt x="16138" y="12945"/>
                </a:lnTo>
                <a:lnTo>
                  <a:pt x="16138" y="20172"/>
                </a:lnTo>
                <a:lnTo>
                  <a:pt x="5463" y="20172"/>
                </a:lnTo>
                <a:lnTo>
                  <a:pt x="5463" y="12945"/>
                </a:lnTo>
                <a:lnTo>
                  <a:pt x="3800" y="12945"/>
                </a:lnTo>
                <a:close/>
              </a:path>
              <a:path fill="darkenLess" w="21600" h="25890">
                <a:moveTo>
                  <a:pt x="13390" y="8570"/>
                </a:moveTo>
                <a:lnTo>
                  <a:pt x="13390" y="6820"/>
                </a:lnTo>
                <a:lnTo>
                  <a:pt x="15175" y="6820"/>
                </a:lnTo>
                <a:lnTo>
                  <a:pt x="15175" y="10355"/>
                </a:lnTo>
                <a:close/>
              </a:path>
              <a:path fill="darkenLess" w="21600" h="25890">
                <a:moveTo>
                  <a:pt x="9873" y="16462"/>
                </a:moveTo>
                <a:lnTo>
                  <a:pt x="11728" y="16462"/>
                </a:lnTo>
                <a:lnTo>
                  <a:pt x="11728" y="20172"/>
                </a:lnTo>
                <a:lnTo>
                  <a:pt x="16138" y="20172"/>
                </a:lnTo>
                <a:lnTo>
                  <a:pt x="16138" y="12945"/>
                </a:lnTo>
                <a:lnTo>
                  <a:pt x="5463" y="12945"/>
                </a:lnTo>
                <a:lnTo>
                  <a:pt x="5463" y="20172"/>
                </a:lnTo>
                <a:lnTo>
                  <a:pt x="9873" y="201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/>
  <dc:description/>
  <dc:language>en-US</dc:language>
  <cp:lastModifiedBy>小田</cp:lastModifiedBy>
  <dcterms:modified xsi:type="dcterms:W3CDTF">2015-08-11T09:09:28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