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9BC-124A-4682-B43E-D266B800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8B8-FB25-4785-88D8-50117FC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A8D-4041-47D9-AD23-AE1F72B3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415-CAC9-42C3-8201-D03E4E74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4A3E-E70B-496C-8900-23E7B16C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6AC-87BD-4FB7-A15B-253AA28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88B3-1E32-4624-959E-5D18D36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FDDB-3A86-4B12-AEDD-A214141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8BC-CB7B-4DA3-8D5C-8F56DB0A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0CE-0A83-45E5-A242-6E8DA3B6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DE9D-FD0C-4CB2-8F9E-92FE8A1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0FD-7492-477B-9491-B796AB4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8DB-ABB5-4ED7-9724-C0B25075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A5F-24C6-46E1-ACBA-E12EC45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C2B-5B4E-4F24-878C-E6C75C27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F01C-C132-4B04-9B57-5DB590E3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9BB-5CEB-42BE-ACCA-94684D2D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DFC4-61E2-43E1-B48C-1B9C9846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21DC-C046-4B97-9F37-1B05E32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27A4-A7D2-4BBB-9E3B-4D06FF30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29F3-EB24-4A2A-825E-FA714D4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5578-EF6D-477C-87ED-78AE1DD8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49F-861B-4B12-A21B-59F7BA8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32C6-33C8-4B77-88B8-8FDF54C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7C23-DEDE-43ED-9360-5C6AF2A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2EC0-5CB4-4D00-83BE-AD20984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C224-E6FD-459B-B7CD-68F1227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9D0C-665D-458D-B429-343C07A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03F6-45BE-4860-A0BD-888E2477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B3C3-A02C-4D44-BE54-F4AD8C05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AFB3-5B7D-4DAF-8007-B3832D92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A142-AAC7-44D6-8278-11738C4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6E6E-C8C6-4015-B561-E708B90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07A-F5ED-4325-91AF-C30846E5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27AD-E62F-49A2-8D5B-AD14E1F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561C-2EE1-44A8-94DA-2E86160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76BE-33E0-4529-B405-E8CADF08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81C5-DE28-416D-8EAE-EE1EF08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7154-6457-420B-937B-09185F7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AAB0-8695-47D9-9817-3AAEA06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3B65-E9B9-4306-8716-DABDB7E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BE85-7FF2-4673-88EB-0333545E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7F16-6BA1-468C-9FCD-48EC2EDB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DDC-D208-40D1-9978-CBED042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202-45CD-42AF-9705-DB1DE74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A7A-683A-440A-A477-7A809DD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1AB-09E8-4398-ABB5-D1E98F7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C98-B062-4681-BE68-B463625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C4D-3591-45CC-B8FE-1C963CD8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220-767B-49E5-84ED-11F0F1D4B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66880" y="0"/>
            <a:ext cx="647712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1FA-0070-4343-B797-D996D07AF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224320" cy="522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222-2443-410C-827F-C336446F9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105520" cy="495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07:49:03Z</dcterms:created>
  <dc:creator/>
  <dc:description/>
  <dc:language>en-US</dc:language>
  <cp:lastModifiedBy>keke</cp:lastModifiedBy>
  <dcterms:modified xsi:type="dcterms:W3CDTF">2015-09-07T07:59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