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68A-4C07-4D9A-99BF-6494EF86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能做到“寂寞和诱惑”怎么办？借用外力（最爱的人，为了他，你也要努力，写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，然后一个一个的换掉，直到剩最后一个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所谓执行力度，通俗地说就是做事所投入的精力多少，上级一个指示，下面的员工去做了，但心不在焉，或注意力不集中，是不可能做好每一件事的，员工应本着要全力以赴做得“更好”，而不能退而求其次，做个“可以了，过得去了”就算了，这种混日子的心态其实也就是一种不负责任的行为，或者说这样的员工也是没有多大归属感的，不但实现不了自我价值，更不能给企业创造财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在执行速度方面来说，工作做得好坏与否，时间是一个重要的标准，在组织里，工作完成都是有一定时间限制的，超过了时间，工作完成也没有多大的意义，不但损了公司的利益，也破坏了自身形象，一位员工在工作的过程中多少会遇到没有按时完成任务的情况，我们不能以点概面地评论谁是谁非，但一个工作量要完成，本身就是一件具有挑战性的事，有了一定的压力，人才会有弹性，才有超越自己的勇气，才会越战越勇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执行方法与执行方向的问题，一个系统的方法能节约大量的人力与财力，能大大提高人力资源的利用率。在工作中，全体员工不但要严格按照工作的相关规定和要求执行好，落实好，而且在实际的操作过程中，应有主动的创新意识，要能运用最切实际的方法来达到工作目标，能在最短的时间内运用最好的方法完成工作，而在执行方向的问题上，决策层交代的任务，也应尽量在员工付出一定努力能达到的范围内，勿以强制性的命令来下达员工达不到的工作。还有，决策者也应避免以含糊不清、模棱两可的话来传达指示，以免让员工的工作定位模糊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谈话内容：勇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工作项目和成果   乐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和想法   善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热心、友好，更多的谈论感情方面的事    智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决问题，办好事情，取得进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勇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居高临下   乐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花言巧语   善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语重心长   智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捉摸不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手说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拍拍肩头表示安慰。拍拍背部表示友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凡是有进口的国家、进口金额，进口数量，进口国全部出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为了设定的目标，把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信息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思想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情感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在个人或群体之间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递，并</a:t>
            </a:r>
            <a:r>
              <a:rPr b="1" lang="zh-CN" sz="1200" spc="-1" strike="noStrike">
                <a:solidFill>
                  <a:srgbClr val="ff0000"/>
                </a:solidFill>
                <a:latin typeface="Times New Roman"/>
              </a:rPr>
              <a:t>达成协议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的过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信任什么样的人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专业的人（医生、律师、专家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正直善良的人，懂得荣辱的人（没有羞耻心的人？没有自尊的人，不是嗟来之食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心胜于用脑的人（投资在脖子以上？还是脖子以下？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和自己相同的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如果人没有了自尊，连脸都不要了，那么还有什么可以约束你吗？合同有用吗？能约束人的无外乎就是人的尊严，人的脸面，不行丢不起那人，这种缺德事坚决不能做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副驾驶座安全气囊的案例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为什么恐惧？）怕失败，我们怕失败而不敢成交，你说可笑不可笑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考虑考虑再说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没关系，您好好考虑考虑，你的这种心情可以理解，如果是我的话，我也会慎重考虑的，大家都说你是稳重的人，看来你做事真的很稳重；能告诉我你想考虑什么吗？是不是我们价格太贵？是不是怕我们产品没效果？是不是你有朋友的价格比我们便宜？（是不是我做错了什么？对方肯定会说不是不是，不是是吧，那我带你去开票，然后眼睛自信的看着她，一个字也不要再说了，这就叫”突然死亡“法，谁先说话谁就输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B07F-BA1F-4046-B4FB-D2999CEAF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0234-CA0F-41A1-8A59-7FF8FAEBB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036E-2103-4B5E-9B0F-AEFD93B7C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141C-1737-4C48-8420-208991F4D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68E9-D1CA-4DD4-B7C2-D02420896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8518-EEF5-48F9-85D4-118E0C7D4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BE71-0061-486B-AA49-B73AF9251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0A0B-CEA0-4DB8-9622-83DB92606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41F7-5D38-4AAE-959F-B7D1FF98B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6EE8-23A1-421D-9F1D-8E4CFFDC1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8837-804E-4318-8A14-54526ABAA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38A3-9D73-4514-BA31-162F59EE9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TT模板"/>
          <p:cNvPicPr/>
          <p:nvPr/>
        </p:nvPicPr>
        <p:blipFill>
          <a:blip r:embed="rId2"/>
          <a:stretch/>
        </p:blipFill>
        <p:spPr>
          <a:xfrm>
            <a:off x="-324000" y="-243000"/>
            <a:ext cx="9747360" cy="730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8328-0B39-4F33-9AB4-A0D379930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" name="Picture 7" descr="4"/>
          <p:cNvPicPr/>
          <p:nvPr/>
        </p:nvPicPr>
        <p:blipFill>
          <a:blip r:embed="rId3"/>
          <a:stretch/>
        </p:blipFill>
        <p:spPr>
          <a:xfrm>
            <a:off x="1476360" y="1557360"/>
            <a:ext cx="5616720" cy="423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image/a0ca99d630c0741006088b2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Program%20Files/Tencent/QQ/Users/443479713/FileRecv/&#19977;&#20010;&#24314;&#31569;&#24037;&#20154;&#30340;&#21629;&#36816;.ppt" TargetMode="External"/><Relationship Id="rId2" Type="http://schemas.openxmlformats.org/officeDocument/2006/relationships/hyperlink" Target="file:///C:/Program%20Files/Tencent/QQ/Users/443479713/FileRecv/&#19977;&#20010;&#24314;&#31569;&#24037;&#20154;&#30340;&#21629;&#36816;.ppt" TargetMode="External"/><Relationship Id="rId3" Type="http://schemas.openxmlformats.org/officeDocument/2006/relationships/hyperlink" Target="file:///C:/Program%20Files/Tencent/QQ/Users/443479713/FileRecv/&#20869;&#32844;&#19994;&#29983;&#28079;&#19982;&#22806;&#32844;&#19994;&#29983;&#28079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:/Program%20Files/Tencent/QQ/Users/443479713/FileRecv/&#24615;&#26684;&#27979;&#35797;&#39064;.doc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C:/Program%20Files/Tencent/QQ/Users/443479713/FileRecv/&#20013;&#22269;&#31227;&#21160;&#36710;&#21153;&#36890;&#19994;&#21153;&#20171;&#32461;.doc" TargetMode="External"/><Relationship Id="rId2" Type="http://schemas.openxmlformats.org/officeDocument/2006/relationships/hyperlink" Target="file:///C:/Program%20Files/Tencent/QQ/Users/443479713/FileRecv/&#20013;&#22269;&#31227;&#21160;&#36710;&#21153;&#36890;&#19994;&#21153;&#20171;&#32461;.doc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arketresearch.com/" TargetMode="External"/><Relationship Id="rId2" Type="http://schemas.openxmlformats.org/officeDocument/2006/relationships/hyperlink" Target="http://www.info-shop.com/" TargetMode="External"/><Relationship Id="rId3" Type="http://schemas.openxmlformats.org/officeDocument/2006/relationships/hyperlink" Target="http://www.china-customs.com.c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Program%20Files/Tencent/QQ/Users/443479713/FileRecv/&#22312;&#20919;&#22066;&#28909;&#35773;&#21644;&#35881;&#39554;&#20013;&#25104;&#38271;.mpg" TargetMode="Externa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50920" y="2852640"/>
            <a:ext cx="9001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销 售 技 巧 与 客 户 管 理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训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等心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52720"/>
            <a:ext cx="82296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销售是满足客户的需求，解决客户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一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0ca99d630c0741006088b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63920" y="3019320"/>
            <a:ext cx="1946160" cy="2847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286000" y="5943600"/>
            <a:ext cx="4191120" cy="53352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144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厘米，</a:t>
            </a: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公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843280" y="0"/>
            <a:ext cx="3744720" cy="907920"/>
          </a:xfrm>
          <a:prstGeom prst="leftArrow">
            <a:avLst>
              <a:gd name="adj1" fmla="val 50000"/>
              <a:gd name="adj2" fmla="val 103113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乞求对方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态度我做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著名专栏作家哈理斯和朋友在报摊上买报纸，那朋友礼貌地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贩说了声谢谢，但报贩却冷口冷脸，没发一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伙态度很差，是不是？”他们继续前行时，哈理斯问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每天晚上都是这样的，”朋友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你为甚么还是对他那么客气？”哈理斯问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朋友答道：”为什么我要让他决定我的态度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工作成为你的爱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你爱上你的工作，世界就改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俞敏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res05_attpic_brief"/>
          <p:cNvPicPr/>
          <p:nvPr/>
        </p:nvPicPr>
        <p:blipFill>
          <a:blip r:embed="rId1"/>
          <a:stretch/>
        </p:blipFill>
        <p:spPr>
          <a:xfrm>
            <a:off x="2743200" y="2666880"/>
            <a:ext cx="2857680" cy="367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耐得住寂寞，经得起诱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8480" y="2204640"/>
            <a:ext cx="69231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无人理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工作的艰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领导的不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同事的冷嘲热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838080" y="1143000"/>
            <a:ext cx="8305920" cy="1066680"/>
          </a:xfrm>
          <a:prstGeom prst="rightArrow">
            <a:avLst>
              <a:gd name="adj1" fmla="val 50000"/>
              <a:gd name="adj2" fmla="val 194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耐得住寂寞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838080" y="3505320"/>
            <a:ext cx="8305920" cy="1218960"/>
          </a:xfrm>
          <a:prstGeom prst="rightArrow">
            <a:avLst>
              <a:gd name="adj1" fmla="val 50000"/>
              <a:gd name="adj2" fmla="val 1703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得起诱惑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4876920"/>
            <a:ext cx="3519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外界环境的诱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高职高薪的诱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）  营销型人才的基本礼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握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鼻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熨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438280" y="1143000"/>
            <a:ext cx="3429000" cy="838080"/>
          </a:xfrm>
          <a:prstGeom prst="leftArrow">
            <a:avLst>
              <a:gd name="adj1" fmla="val 50000"/>
              <a:gd name="adj2" fmla="val 10228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养成微笑的习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438280" y="1981080"/>
            <a:ext cx="3429000" cy="838440"/>
          </a:xfrm>
          <a:prstGeom prst="leftArrow">
            <a:avLst>
              <a:gd name="adj1" fmla="val 50000"/>
              <a:gd name="adj2" fmla="val 10224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坚实有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2438280" y="2895480"/>
            <a:ext cx="3429000" cy="838440"/>
          </a:xfrm>
          <a:prstGeom prst="leftArrow">
            <a:avLst>
              <a:gd name="adj1" fmla="val 50000"/>
              <a:gd name="adj2" fmla="val 10224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整洁不凌乱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438280" y="3809880"/>
            <a:ext cx="3429000" cy="838440"/>
          </a:xfrm>
          <a:prstGeom prst="leftArrow">
            <a:avLst>
              <a:gd name="adj1" fmla="val 50000"/>
              <a:gd name="adj2" fmla="val 10224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无污垢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438280" y="4648320"/>
            <a:ext cx="3429000" cy="838080"/>
          </a:xfrm>
          <a:prstGeom prst="leftArrow">
            <a:avLst>
              <a:gd name="adj1" fmla="val 50000"/>
              <a:gd name="adj2" fmla="val 10228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深藏不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2438280" y="5410080"/>
            <a:ext cx="3429000" cy="838440"/>
          </a:xfrm>
          <a:prstGeom prst="leftArrow">
            <a:avLst>
              <a:gd name="adj1" fmla="val 50000"/>
              <a:gd name="adj2" fmla="val 10224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衣服平整无褶皱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506920" y="0"/>
            <a:ext cx="3745080" cy="907920"/>
          </a:xfrm>
          <a:prstGeom prst="leftArrow">
            <a:avLst>
              <a:gd name="adj1" fmla="val 50000"/>
              <a:gd name="adj2" fmla="val 103123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律己、敬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940360" y="1557360"/>
            <a:ext cx="1368360" cy="4319640"/>
          </a:xfrm>
          <a:custGeom>
            <a:avLst/>
            <a:gdLst>
              <a:gd name="textAreaLeft" fmla="*/ 0 w 1368360"/>
              <a:gd name="textAreaRight" fmla="*/ 493920 w 1368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308720" y="2419200"/>
            <a:ext cx="1079640" cy="2665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精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气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神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） 营销型人才的执行力模型分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69850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执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1447920"/>
            <a:ext cx="4648320" cy="838080"/>
          </a:xfrm>
          <a:prstGeom prst="leftArrow">
            <a:avLst>
              <a:gd name="adj1" fmla="val 50000"/>
              <a:gd name="adj2" fmla="val 138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做事所投入的精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286000" y="2590920"/>
            <a:ext cx="4648320" cy="838080"/>
          </a:xfrm>
          <a:prstGeom prst="leftArrow">
            <a:avLst>
              <a:gd name="adj1" fmla="val 50000"/>
              <a:gd name="adj2" fmla="val 138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所需要的技能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09680" y="3809880"/>
            <a:ext cx="4648320" cy="838440"/>
          </a:xfrm>
          <a:prstGeom prst="leftArrow">
            <a:avLst>
              <a:gd name="adj1" fmla="val 50000"/>
              <a:gd name="adj2" fmla="val 1386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的目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209680" y="5029200"/>
            <a:ext cx="4648320" cy="838080"/>
          </a:xfrm>
          <a:prstGeom prst="leftArrow">
            <a:avLst>
              <a:gd name="adj1" fmla="val 50000"/>
              <a:gd name="adj2" fmla="val 138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所完成的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力量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143000"/>
          <a:ext cx="8229600" cy="5340240"/>
        </p:xfrm>
        <a:graphic>
          <a:graphicData uri="http://schemas.openxmlformats.org/drawingml/2006/table">
            <a:tbl>
              <a:tblPr/>
              <a:tblGrid>
                <a:gridCol w="1890720"/>
                <a:gridCol w="633888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执行态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执行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执行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执行速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） 营销型人才素质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格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营销知识和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客户管理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贸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司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品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言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脑操作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财务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413080" y="4149720"/>
            <a:ext cx="2087640" cy="647640"/>
          </a:xfrm>
          <a:prstGeom prst="leftArrow">
            <a:avLst>
              <a:gd name="adj1" fmla="val 50000"/>
              <a:gd name="adj2" fmla="val 80586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  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格知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顾客性格类型的准确辨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象限坐标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言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音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觉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55640" y="5391000"/>
            <a:ext cx="3276720" cy="990720"/>
          </a:xfrm>
          <a:prstGeom prst="rightArrow">
            <a:avLst>
              <a:gd name="adj1" fmla="val 50000"/>
              <a:gd name="adj2" fmla="val 82685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Gulim"/>
                <a:ea typeface="Gulim"/>
                <a:hlinkClick r:id="rId1"/>
              </a:rPr>
              <a:t>性格测试量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1120" y="394920"/>
            <a:ext cx="801540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象限坐标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2362320" y="3886200"/>
            <a:ext cx="45385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572000" y="2286000"/>
            <a:ext cx="0" cy="3529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191120" y="17524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感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191120" y="5867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理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757520" y="358128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内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7015320" y="3581280"/>
            <a:ext cx="546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外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57800" y="2895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f08"/>
                </a:solidFill>
                <a:latin typeface="Arial"/>
              </a:rPr>
              <a:t>活跃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417760" y="29718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f08"/>
                </a:solidFill>
                <a:latin typeface="Arial"/>
              </a:rPr>
              <a:t>平和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743200" y="4267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f08"/>
                </a:solidFill>
                <a:latin typeface="Arial"/>
              </a:rPr>
              <a:t>完美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257800" y="42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f08"/>
                </a:solidFill>
                <a:latin typeface="Arial"/>
              </a:rPr>
              <a:t>力量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  程  大  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4716360"/>
                <a:gridCol w="44276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 目前国内外贸型企业概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 海外客户的信用评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 营销型人才的必备工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 评估后的客户策略制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 国际市场的信息搜集与调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七 营销型人才的客户沟通策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  国际市场中如何寻找海外客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八营销型人才的销售流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33440" y="73080"/>
            <a:ext cx="41022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言迹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7760" y="1052640"/>
            <a:ext cx="4032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话的数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话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1897200" y="2382840"/>
            <a:ext cx="6803280" cy="4025160"/>
            <a:chOff x="1897200" y="2382840"/>
            <a:chExt cx="6803280" cy="4025160"/>
          </a:xfrm>
        </p:grpSpPr>
        <p:sp>
          <p:nvSpPr>
            <p:cNvPr id="137" name="Line 5"/>
            <p:cNvSpPr/>
            <p:nvPr/>
          </p:nvSpPr>
          <p:spPr>
            <a:xfrm>
              <a:off x="2667240" y="4231440"/>
              <a:ext cx="5457600" cy="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5340240" y="2844720"/>
              <a:ext cx="0" cy="3058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4669200" y="2382840"/>
              <a:ext cx="181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说话少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4669200" y="5948280"/>
              <a:ext cx="216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说话多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1897200" y="3948480"/>
              <a:ext cx="91188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关注人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788600" y="3948480"/>
              <a:ext cx="91188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关注事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5934960" y="3373200"/>
              <a:ext cx="20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1f08"/>
                  </a:solidFill>
                  <a:latin typeface="Arial"/>
                </a:rPr>
                <a:t>完美性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3516120" y="3407760"/>
              <a:ext cx="15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1f08"/>
                  </a:solidFill>
                  <a:latin typeface="Arial"/>
                </a:rPr>
                <a:t>平和型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3420720" y="4561560"/>
              <a:ext cx="18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1f08"/>
                  </a:solidFill>
                  <a:latin typeface="Arial"/>
                </a:rPr>
                <a:t>活跃型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6006960" y="4561560"/>
              <a:ext cx="18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c1f08"/>
                  </a:solidFill>
                  <a:latin typeface="Arial"/>
                </a:rPr>
                <a:t>力量型</a:t>
              </a:r>
              <a:endParaRPr b="0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迹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3600" y="1809360"/>
            <a:ext cx="77724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盛气凌人的势头，暗含挑战意味的语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变化复杂，语速快，常常声音很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慢条斯理，沉稳平和，带有温情和真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少有变音，只是一个声调，平和适度，较有分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6320" y="272736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活跃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6320" y="395460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平和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6320" y="5218200"/>
            <a:ext cx="1523880" cy="533160"/>
          </a:xfrm>
          <a:prstGeom prst="rightArrow">
            <a:avLst>
              <a:gd name="adj1" fmla="val 50000"/>
              <a:gd name="adj2" fmla="val 714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完美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6320" y="173988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力量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迹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握手简捷有力，目光对视沉着镇定，身体姿势时刻在变化中，且急促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话时配合着身体语言，脸部表情丰富，常用手“说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人对视，眼神总是跳来跳去，不愿直视对方，握手时怯生生的，肢体语言不紧不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部表情很少，手势很少，不会忘乎所以，  俗称“扑克牌”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76320" y="1981080"/>
            <a:ext cx="1447560" cy="685800"/>
          </a:xfrm>
          <a:prstGeom prst="rightArrow">
            <a:avLst>
              <a:gd name="adj1" fmla="val 50000"/>
              <a:gd name="adj2" fmla="val 5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力量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76320" y="2895480"/>
            <a:ext cx="1447560" cy="762120"/>
          </a:xfrm>
          <a:prstGeom prst="rightArrow">
            <a:avLst>
              <a:gd name="adj1" fmla="val 50000"/>
              <a:gd name="adj2" fmla="val 4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活跃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76320" y="3967200"/>
            <a:ext cx="1447560" cy="685800"/>
          </a:xfrm>
          <a:prstGeom prst="rightArrow">
            <a:avLst>
              <a:gd name="adj1" fmla="val 50000"/>
              <a:gd name="adj2" fmla="val 5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平和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76320" y="5119560"/>
            <a:ext cx="1447560" cy="685800"/>
          </a:xfrm>
          <a:prstGeom prst="rightArrow">
            <a:avLst>
              <a:gd name="adj1" fmla="val 50000"/>
              <a:gd name="adj2" fmla="val 5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完美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司知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麦肯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电梯介绍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900000" y="3068640"/>
            <a:ext cx="7272360" cy="2089080"/>
          </a:xfrm>
          <a:prstGeom prst="rightArrow">
            <a:avLst>
              <a:gd name="adj1" fmla="val 50000"/>
              <a:gd name="adj2" fmla="val 87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钟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、三分钟介绍蒙发利公司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品知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讨论、展示、提炼、融合、标准、存档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产品介绍的“九阳真经”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准确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目标客户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功能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客户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费用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何正式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方法（应该做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时的相关要点（不应该做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 国际市场的信息搜集与调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） 信息搜集前的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） 信息搜集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） 根据搜集信息，划分国际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） 信息搜集前的准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国际准确的英文名称和专业术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产品准确的海关商品编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产品细致的行业分类和关联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10800000">
            <a:off x="178920" y="2060280"/>
            <a:ext cx="6985080" cy="504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谷歌搜索、国内或国际标杆性企业网站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24000" y="3428640"/>
            <a:ext cx="7991280" cy="792000"/>
          </a:xfrm>
          <a:custGeom>
            <a:avLst/>
            <a:gdLst>
              <a:gd name="textAreaLeft" fmla="*/ 0 w 7991280"/>
              <a:gd name="textAreaRight" fmla="*/ 7991640 w 799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中国海关网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谷歌、百度搜索，输入准确的英文名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HS cod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AutoShape 7"/>
          <p:cNvSpPr/>
          <p:nvPr/>
        </p:nvSpPr>
        <p:spPr>
          <a:xfrm rot="10800000">
            <a:off x="107640" y="4797000"/>
            <a:ext cx="6985080" cy="720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阿里巴巴等专业性的综合网站搜索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/>
          <p:cNvSpPr/>
          <p:nvPr/>
        </p:nvSpPr>
        <p:spPr>
          <a:xfrm rot="10800000">
            <a:off x="-360" y="1196640"/>
            <a:ext cx="8893080" cy="5400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） 信息搜集的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际市场宏观环境整体发展趋势搜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国家微观环境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状搜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竞争对手和标杆企业的情报搜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客户关键人物个人信息展开搜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际市场宏观环境整体发展趋势搜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购买方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arketresear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-sho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ina-customs.com.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lobalinsid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自己搜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国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海关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交部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银行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4427640" y="1413000"/>
            <a:ext cx="3816360" cy="2376360"/>
          </a:xfrm>
          <a:prstGeom prst="leftArrowCallout">
            <a:avLst>
              <a:gd name="adj1" fmla="val 25002"/>
              <a:gd name="adj2" fmla="val 25000"/>
              <a:gd name="adj3" fmla="val 26766"/>
              <a:gd name="adj4" fmla="val 73914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业分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数海关编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英文名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者专业术语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700360" y="3860640"/>
            <a:ext cx="3959280" cy="1873440"/>
          </a:xfrm>
          <a:prstGeom prst="leftArrowCallout">
            <a:avLst>
              <a:gd name="adj1" fmla="val 25049"/>
              <a:gd name="adj2" fmla="val 25000"/>
              <a:gd name="adj3" fmla="val 24000"/>
              <a:gd name="adj4" fmla="val 84244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ww.unstates.org +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位数海关编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把合作伙伴调为“全部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把贸易方式调为“进口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间（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金额（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万美元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国家微观环境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P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状搜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PS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做好重点市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品价格区间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916360" y="1989000"/>
            <a:ext cx="1800000" cy="648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销策略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4360" y="1197000"/>
            <a:ext cx="8459640" cy="431640"/>
          </a:xfrm>
          <a:custGeom>
            <a:avLst/>
            <a:gdLst>
              <a:gd name="textAreaLeft" fmla="*/ 0 w 8459640"/>
              <a:gd name="textAreaRight" fmla="*/ 8460000 w 8459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点国家的政治、经济、文化、宗教、法律、习俗、禁忌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16360" y="1989000"/>
            <a:ext cx="1800360" cy="648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场收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 目前国内外贸型企业概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贸型企业的三个发展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贸型人才的三个发展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贸型企业的四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5"/>
          <p:cNvSpPr/>
          <p:nvPr/>
        </p:nvSpPr>
        <p:spPr>
          <a:xfrm rot="10800000">
            <a:off x="4066920" y="4723920"/>
            <a:ext cx="4608360" cy="50508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国贸资讯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竞争对手和标杆企业的情报搜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找出竞争对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上下游的经销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自己的行业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资讯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ntertrade.com.c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关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 rot="10800000">
            <a:off x="4066920" y="4723920"/>
            <a:ext cx="4608360" cy="50508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的海关编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AutoShape 6"/>
          <p:cNvSpPr/>
          <p:nvPr/>
        </p:nvSpPr>
        <p:spPr>
          <a:xfrm rot="10800000">
            <a:off x="4140000" y="4723920"/>
            <a:ext cx="5003640" cy="505080"/>
          </a:xfrm>
          <a:custGeom>
            <a:avLst/>
            <a:gdLst>
              <a:gd name="textAreaLeft" fmla="*/ 0 w 5003640"/>
              <a:gd name="textAreaRight" fmla="*/ 5004000 w 5003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国内有报关记录的公司都会出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竞争对手和标杆企业的情报搜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竞争对手信息搜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派人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种展览会，如中国广交会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购买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一些公开的资料和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策反和收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 rot="10800000">
            <a:off x="2448000" y="2420280"/>
            <a:ext cx="6804000" cy="576360"/>
          </a:xfrm>
          <a:custGeom>
            <a:avLst/>
            <a:gdLst>
              <a:gd name="textAreaLeft" fmla="*/ 0 w 6804000"/>
              <a:gd name="textAreaRight" fmla="*/ 6804360 w 680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籍员工扮演采购，国内员工扮演翻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客户关键人物个人信息展开搜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档案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rot="10800000">
            <a:off x="3132000" y="1556640"/>
            <a:ext cx="6120000" cy="57636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每次“沟通”的点点滴滴搜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搜集信息，划分国际市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590920" y="4952880"/>
            <a:ext cx="426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200400" y="51814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数量上升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2590920" y="198072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600200" y="2590920"/>
            <a:ext cx="685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升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59092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648320" y="1981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029200" y="2494080"/>
            <a:ext cx="1752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象限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点市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2819520" y="256536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象限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潜在市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819520" y="342900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象限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观望市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4716360" y="34290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象限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熟市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5003640" y="1844640"/>
            <a:ext cx="1752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132000" y="1916280"/>
            <a:ext cx="144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2987640" y="4078440"/>
            <a:ext cx="13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4932360" y="4149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× 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国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1474920" y="5734080"/>
            <a:ext cx="7273800" cy="100800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请问：在哪些市场采用一般贸易的市场策略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哪些市场采用代理制额市场策略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哪些市场采用投资式的市场策略？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  国际市场中如何寻找海外客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） 寻找海外客户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） 海外客户的分类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） 寻找海外客户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销售产品所在国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驻华代表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展览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类专业杂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类网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类黄页、专业性网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购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商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索引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国驻华商务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 rot="10800000">
            <a:off x="2700000" y="1988280"/>
            <a:ext cx="6443640" cy="36036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一般大中型需要长期进出口的公司在国内都会有长期办事机构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AutoShape 5"/>
          <p:cNvSpPr/>
          <p:nvPr/>
        </p:nvSpPr>
        <p:spPr>
          <a:xfrm rot="10800000">
            <a:off x="3960720" y="1556640"/>
            <a:ext cx="5004000" cy="360360"/>
          </a:xfrm>
          <a:custGeom>
            <a:avLst/>
            <a:gdLst>
              <a:gd name="textAreaLeft" fmla="*/ 0 w 5004000"/>
              <a:gd name="textAreaRight" fmla="*/ 5004360 w 5004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市场机会无处不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AutoShape 6"/>
          <p:cNvSpPr/>
          <p:nvPr/>
        </p:nvSpPr>
        <p:spPr>
          <a:xfrm rot="10800000">
            <a:off x="5724360" y="331200"/>
            <a:ext cx="3168720" cy="36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精准”营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AutoShape 7"/>
          <p:cNvSpPr/>
          <p:nvPr/>
        </p:nvSpPr>
        <p:spPr>
          <a:xfrm rot="10800000">
            <a:off x="2123640" y="2491560"/>
            <a:ext cx="6769080" cy="36036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目前展览会还是国内最简单最有效的海外拓展平台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AutoShape 8"/>
          <p:cNvSpPr/>
          <p:nvPr/>
        </p:nvSpPr>
        <p:spPr>
          <a:xfrm rot="10800000">
            <a:off x="2484000" y="5157360"/>
            <a:ext cx="4032360" cy="36036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最有潜力的平台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） 海外客户的分类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和国内竞争对手购买产品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和国外竞争对手购买产品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和我们的总经销商购买产品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购买我们的产品，但拥有渠道和实力的潜在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内的专业出口贸易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跨国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 rot="10800000">
            <a:off x="324000" y="6092640"/>
            <a:ext cx="8137440" cy="43308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企业发展的不同阶段，所采用的客户策略是不同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AutoShape 5"/>
          <p:cNvSpPr/>
          <p:nvPr/>
        </p:nvSpPr>
        <p:spPr>
          <a:xfrm rot="10800000">
            <a:off x="6011640" y="3789000"/>
            <a:ext cx="3168360" cy="360360"/>
          </a:xfrm>
          <a:custGeom>
            <a:avLst/>
            <a:gdLst>
              <a:gd name="textAreaLeft" fmla="*/ 0 w 3168360"/>
              <a:gd name="textAreaRight" fmla="*/ 3168720 w 316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的代理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AutoShape 6"/>
          <p:cNvSpPr/>
          <p:nvPr/>
        </p:nvSpPr>
        <p:spPr>
          <a:xfrm rot="10800000">
            <a:off x="5796000" y="1196280"/>
            <a:ext cx="1944720" cy="360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挖”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AutoShape 7"/>
          <p:cNvSpPr/>
          <p:nvPr/>
        </p:nvSpPr>
        <p:spPr>
          <a:xfrm rot="10800000">
            <a:off x="5796000" y="2060280"/>
            <a:ext cx="1944720" cy="360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挖”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AutoShape 8"/>
          <p:cNvSpPr/>
          <p:nvPr/>
        </p:nvSpPr>
        <p:spPr>
          <a:xfrm rot="10800000">
            <a:off x="5867280" y="2923560"/>
            <a:ext cx="3384720" cy="36036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总经销商没有代理的产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 海外客户的信用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免费的评估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收费的评估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 rot="10800000">
            <a:off x="4284360" y="403920"/>
            <a:ext cx="4824360" cy="36036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大客户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赊销的要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AutoShape 5"/>
          <p:cNvSpPr/>
          <p:nvPr/>
        </p:nvSpPr>
        <p:spPr>
          <a:xfrm rot="10800000">
            <a:off x="178920" y="1123200"/>
            <a:ext cx="9001080" cy="360360"/>
          </a:xfrm>
          <a:custGeom>
            <a:avLst/>
            <a:gdLst>
              <a:gd name="textAreaLeft" fmla="*/ 0 w 9001080"/>
              <a:gd name="textAreaRight" fmla="*/ 9001080 w 9001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市场分布、销售渠道、历史销售业绩、员工数量、银行记录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免费得评估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老客户评估新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网站来评估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索引擎来评估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客户在当地下游客户放账的促销政策和宣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 rot="10800000">
            <a:off x="3708000" y="1556640"/>
            <a:ext cx="5111640" cy="576360"/>
          </a:xfrm>
          <a:custGeom>
            <a:avLst/>
            <a:gdLst>
              <a:gd name="textAreaLeft" fmla="*/ 0 w 5111640"/>
              <a:gd name="textAreaRight" fmla="*/ 5112000 w 511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同行是冤家的本性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AutoShape 5"/>
          <p:cNvSpPr/>
          <p:nvPr/>
        </p:nvSpPr>
        <p:spPr>
          <a:xfrm rot="10800000">
            <a:off x="3708000" y="2347200"/>
            <a:ext cx="5111640" cy="576360"/>
          </a:xfrm>
          <a:custGeom>
            <a:avLst/>
            <a:gdLst>
              <a:gd name="textAreaLeft" fmla="*/ 0 w 5111640"/>
              <a:gd name="textAreaRight" fmla="*/ 5112000 w 511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好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AutoShape 7"/>
          <p:cNvSpPr/>
          <p:nvPr/>
        </p:nvSpPr>
        <p:spPr>
          <a:xfrm rot="10800000">
            <a:off x="3708000" y="3284640"/>
            <a:ext cx="5111640" cy="576000"/>
          </a:xfrm>
          <a:custGeom>
            <a:avLst/>
            <a:gdLst>
              <a:gd name="textAreaLeft" fmla="*/ 0 w 5111640"/>
              <a:gd name="textAreaRight" fmla="*/ 5112000 w 511164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弥补网站夸大的成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AutoShape 8"/>
          <p:cNvSpPr/>
          <p:nvPr/>
        </p:nvSpPr>
        <p:spPr>
          <a:xfrm rot="10800000">
            <a:off x="6804000" y="4149360"/>
            <a:ext cx="2232000" cy="576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赊销合同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收费的评估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第三方评估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“中国信用担保公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中国银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驻外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贸型企业的三个发展阶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存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获得订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单不乱，如何提高准确交货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熟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在国外做品牌、渠道、终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 评估后的客户策略制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31640" y="1773000"/>
            <a:ext cx="6227640" cy="4453920"/>
            <a:chOff x="431640" y="1773000"/>
            <a:chExt cx="6227640" cy="4453920"/>
          </a:xfrm>
        </p:grpSpPr>
        <p:sp>
          <p:nvSpPr>
            <p:cNvPr id="240" name="Line 5"/>
            <p:cNvSpPr/>
            <p:nvPr/>
          </p:nvSpPr>
          <p:spPr>
            <a:xfrm>
              <a:off x="1604880" y="5318280"/>
              <a:ext cx="505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2327040" y="5590800"/>
              <a:ext cx="37004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企业满足力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 flipV="1">
              <a:off x="1604880" y="1773000"/>
              <a:ext cx="0" cy="354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431640" y="2500560"/>
              <a:ext cx="81216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客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户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吸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引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力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4" name="Line 9"/>
            <p:cNvSpPr/>
            <p:nvPr/>
          </p:nvSpPr>
          <p:spPr>
            <a:xfrm>
              <a:off x="1604880" y="3500280"/>
              <a:ext cx="487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>
              <a:off x="4042080" y="1773360"/>
              <a:ext cx="0" cy="35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4493160" y="2228040"/>
              <a:ext cx="207576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迅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公关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875600" y="2228040"/>
              <a:ext cx="198540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谨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合作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1875600" y="3773160"/>
              <a:ext cx="198540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推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淡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4493160" y="3773160"/>
              <a:ext cx="198576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介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别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50" name="AutoShape 16"/>
          <p:cNvSpPr/>
          <p:nvPr/>
        </p:nvSpPr>
        <p:spPr>
          <a:xfrm>
            <a:off x="6012000" y="3357720"/>
            <a:ext cx="2736720" cy="1726920"/>
          </a:xfrm>
          <a:prstGeom prst="leftArrowCallout">
            <a:avLst>
              <a:gd name="adj1" fmla="val 25002"/>
              <a:gd name="adj2" fmla="val 25000"/>
              <a:gd name="adj3" fmla="val 26412"/>
              <a:gd name="adj4" fmla="val 66673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商业法则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锦上添花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道德法则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雪中送炭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客户吸引力的标准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满足力的标准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客户知名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的产品品质优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客户产品的标准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的准确交货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客户的订单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的成本优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利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的产能充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付款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企业融资能力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 营销型人才的客户沟通策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）沟通的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）沟通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）沟通的原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握人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尊重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解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追求双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阳光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阴暗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嗜好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0800000">
            <a:off x="2484360" y="1556640"/>
            <a:ext cx="5112000" cy="57636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善良 爱心 健康 真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AutoShape 5"/>
          <p:cNvSpPr/>
          <p:nvPr/>
        </p:nvSpPr>
        <p:spPr>
          <a:xfrm rot="10800000">
            <a:off x="2484360" y="2420280"/>
            <a:ext cx="5112000" cy="57636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贪婪 嫉妒 美色 虚伪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1" name="AutoShape 6"/>
          <p:cNvSpPr/>
          <p:nvPr/>
        </p:nvSpPr>
        <p:spPr>
          <a:xfrm rot="10800000">
            <a:off x="2484360" y="3284640"/>
            <a:ext cx="5112000" cy="57600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极度的喜欢某件事物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4360" y="4621320"/>
          <a:ext cx="8002440" cy="1760400"/>
        </p:xfrm>
        <a:graphic>
          <a:graphicData uri="http://schemas.openxmlformats.org/drawingml/2006/table">
            <a:tbl>
              <a:tblPr/>
              <a:tblGrid>
                <a:gridCol w="80024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展示自我阳光的一面，获得对方的好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掌握对方阴暗的一面，控制对方的行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满足对方嗜好的一面，改变对方的思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重差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化的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则的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解的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认知的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生观、价值观的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 rot="10800000">
            <a:off x="2555640" y="1628280"/>
            <a:ext cx="5111640" cy="433440"/>
          </a:xfrm>
          <a:custGeom>
            <a:avLst/>
            <a:gdLst>
              <a:gd name="textAreaLeft" fmla="*/ 0 w 5111640"/>
              <a:gd name="textAreaRight" fmla="*/ 5112000 w 5111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钱是你的，可资源是我们的”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不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同 ≠ 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news101016-1"/>
          <p:cNvPicPr/>
          <p:nvPr/>
        </p:nvPicPr>
        <p:blipFill>
          <a:blip r:embed="rId1"/>
          <a:stretch/>
        </p:blipFill>
        <p:spPr>
          <a:xfrm>
            <a:off x="6121440" y="1341360"/>
            <a:ext cx="2914560" cy="36864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7"/>
          <p:cNvSpPr/>
          <p:nvPr/>
        </p:nvSpPr>
        <p:spPr>
          <a:xfrm>
            <a:off x="250920" y="4581360"/>
            <a:ext cx="5184720" cy="1440000"/>
          </a:xfrm>
          <a:prstGeom prst="cloudCallout">
            <a:avLst>
              <a:gd name="adj1" fmla="val 59337"/>
              <a:gd name="adj2" fmla="val -67861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么精彩活着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么赶紧死去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追求双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双赢乃至多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人利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）沟通的途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子邮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方介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方服务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 rot="10800000">
            <a:off x="2411280" y="1052280"/>
            <a:ext cx="6624720" cy="43344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问我们为什么要沟通？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AutoShape 5"/>
          <p:cNvSpPr/>
          <p:nvPr/>
        </p:nvSpPr>
        <p:spPr>
          <a:xfrm rot="10800000">
            <a:off x="2484000" y="1628280"/>
            <a:ext cx="6551640" cy="433440"/>
          </a:xfrm>
          <a:custGeom>
            <a:avLst/>
            <a:gdLst>
              <a:gd name="textAreaLeft" fmla="*/ 0 w 6551640"/>
              <a:gd name="textAreaRight" fmla="*/ 6552000 w 6551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沟通不畅，我们往往会用想象代替现实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AutoShape 6"/>
          <p:cNvSpPr/>
          <p:nvPr/>
        </p:nvSpPr>
        <p:spPr>
          <a:xfrm rot="10800000">
            <a:off x="2627280" y="2275920"/>
            <a:ext cx="6516720" cy="433080"/>
          </a:xfrm>
          <a:custGeom>
            <a:avLst/>
            <a:gdLst>
              <a:gd name="textAreaLeft" fmla="*/ 0 w 6516720"/>
              <a:gd name="textAreaRight" fmla="*/ 6517080 w 651672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什么是沟通呢？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7" name="AutoShape 7"/>
          <p:cNvSpPr/>
          <p:nvPr/>
        </p:nvSpPr>
        <p:spPr>
          <a:xfrm rot="10800000">
            <a:off x="2592360" y="2923920"/>
            <a:ext cx="6516720" cy="1296720"/>
          </a:xfrm>
          <a:custGeom>
            <a:avLst/>
            <a:gdLst>
              <a:gd name="textAreaLeft" fmla="*/ 0 w 6516720"/>
              <a:gd name="textAreaRight" fmla="*/ 6517080 w 651672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设定的目标，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信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思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情感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个人或群体之间传递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达成协议的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979920" y="244152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建立信任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053240" y="244152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现需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2747880" y="2781360"/>
            <a:ext cx="673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5821200" y="2781360"/>
            <a:ext cx="673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7031520" y="244152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出方案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7548480" y="2943360"/>
            <a:ext cx="1800" cy="37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7029360" y="325116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解决异议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Line 9"/>
          <p:cNvSpPr/>
          <p:nvPr/>
        </p:nvSpPr>
        <p:spPr>
          <a:xfrm flipH="1">
            <a:off x="5820840" y="3537000"/>
            <a:ext cx="57492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053240" y="325116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专业成交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Line 11"/>
          <p:cNvSpPr/>
          <p:nvPr/>
        </p:nvSpPr>
        <p:spPr>
          <a:xfrm flipH="1">
            <a:off x="2747520" y="3537000"/>
            <a:ext cx="6699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979920" y="3251160"/>
            <a:ext cx="11559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售后服务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250920" y="4149720"/>
            <a:ext cx="8737560" cy="1403280"/>
          </a:xfrm>
          <a:prstGeom prst="rightArrow">
            <a:avLst>
              <a:gd name="adj1" fmla="val 50000"/>
              <a:gd name="adj2" fmla="val 15566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请问，哪个步骤最重要？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1595520" y="2943000"/>
            <a:ext cx="0" cy="377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营销型人才的销售流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贸型人才的三个发展阶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销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跟单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销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2050920" y="2925720"/>
            <a:ext cx="6048360" cy="1295280"/>
          </a:xfrm>
          <a:prstGeom prst="leftArrowCallout">
            <a:avLst>
              <a:gd name="adj1" fmla="val 25002"/>
              <a:gd name="adj2" fmla="val 25000"/>
              <a:gd name="adj3" fmla="val 77826"/>
              <a:gd name="adj4" fmla="val 77725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推”的力量变为“吸”的力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让客户主动来购买我们的产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根据客户的需求可以开发出适合的产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帮助客户挖掘出市场的隐性产品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销售人员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信任，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8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优秀销售人员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8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信任，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时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827360" y="2977560"/>
            <a:ext cx="4759200" cy="871560"/>
          </a:xfrm>
          <a:prstGeom prst="upArrowCallout">
            <a:avLst>
              <a:gd name="adj1" fmla="val 136526"/>
              <a:gd name="adj2" fmla="val 136514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生一世的生意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690560" y="672480"/>
            <a:ext cx="4711680" cy="871920"/>
          </a:xfrm>
          <a:prstGeom prst="downArrowCallout">
            <a:avLst>
              <a:gd name="adj1" fmla="val 135107"/>
              <a:gd name="adj2" fmla="val 135095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生一次的生意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客户信任什么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任有实力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任专业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任自尊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任用心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任自己喜欢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922320" y="-2880"/>
            <a:ext cx="739476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）建立信任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203640" y="2625840"/>
            <a:ext cx="3427200" cy="918360"/>
          </a:xfrm>
          <a:prstGeom prst="leftArrow">
            <a:avLst>
              <a:gd name="adj1" fmla="val 50000"/>
              <a:gd name="adj2" fmla="val 9329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医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132000" y="3490920"/>
            <a:ext cx="5148360" cy="918720"/>
          </a:xfrm>
          <a:prstGeom prst="leftArrow">
            <a:avLst>
              <a:gd name="adj1" fmla="val 50000"/>
              <a:gd name="adj2" fmla="val 140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自尊才会他尊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203640" y="4425840"/>
            <a:ext cx="3424320" cy="918720"/>
          </a:xfrm>
          <a:prstGeom prst="leftArrow">
            <a:avLst>
              <a:gd name="adj1" fmla="val 50000"/>
              <a:gd name="adj2" fmla="val 931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用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用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27280" y="1801800"/>
            <a:ext cx="5148360" cy="918720"/>
          </a:xfrm>
          <a:prstGeom prst="leftArrow">
            <a:avLst>
              <a:gd name="adj1" fmla="val 50000"/>
              <a:gd name="adj2" fmla="val 140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实力才是硬道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喜欢的人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最喜欢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喜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理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一个人，是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感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为什么喜欢，说不出来。能说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，就是有条件，是短暂的，条件改变，喜欢程度就要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恋爱心理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340000" y="2131920"/>
            <a:ext cx="1150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己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476360" y="2565360"/>
            <a:ext cx="2903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自己相似的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-171360"/>
            <a:ext cx="81104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同存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通信任的桥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同存异的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仿匹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位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跟后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堆下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21001386_21n"/>
          <p:cNvPicPr/>
          <p:nvPr/>
        </p:nvPicPr>
        <p:blipFill>
          <a:blip r:embed="rId1"/>
          <a:stretch/>
        </p:blipFill>
        <p:spPr>
          <a:xfrm>
            <a:off x="5207040" y="907920"/>
            <a:ext cx="393696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rcRect l="16032" t="42122" r="19728" b="35246"/>
          <a:stretch/>
        </p:blipFill>
        <p:spPr>
          <a:xfrm>
            <a:off x="3059280" y="3645000"/>
            <a:ext cx="6265800" cy="201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仿匹配的内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47760" y="2079720"/>
          <a:ext cx="8256600" cy="2736720"/>
        </p:xfrm>
        <a:graphic>
          <a:graphicData uri="http://schemas.openxmlformats.org/drawingml/2006/table">
            <a:tbl>
              <a:tblPr/>
              <a:tblGrid>
                <a:gridCol w="4128840"/>
                <a:gridCol w="412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笑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兴趣爱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声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服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呼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肢体动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格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-100080"/>
            <a:ext cx="75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泽民会见哈萨克斯坦总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江泽民－哈萨克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025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7400" y="-27000"/>
            <a:ext cx="835164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朱镕基会见泰国总理他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朱镕基－他信"/>
          <p:cNvPicPr/>
          <p:nvPr/>
        </p:nvPicPr>
        <p:blipFill>
          <a:blip r:embed="rId1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朱镕基－他信"/>
          <p:cNvPicPr/>
          <p:nvPr/>
        </p:nvPicPr>
        <p:blipFill>
          <a:blip r:embed="rId2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朱镕基－他信"/>
          <p:cNvPicPr/>
          <p:nvPr/>
        </p:nvPicPr>
        <p:blipFill>
          <a:blip r:embed="rId3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朱镕基－他信"/>
          <p:cNvPicPr/>
          <p:nvPr/>
        </p:nvPicPr>
        <p:blipFill>
          <a:blip r:embed="rId4"/>
          <a:stretch/>
        </p:blipFill>
        <p:spPr>
          <a:xfrm>
            <a:off x="971640" y="981000"/>
            <a:ext cx="7056360" cy="507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泽民会见赖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朱镕基－他信"/>
          <p:cNvPicPr/>
          <p:nvPr/>
        </p:nvPicPr>
        <p:blipFill>
          <a:blip r:embed="rId1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朱镕基－他信"/>
          <p:cNvPicPr/>
          <p:nvPr/>
        </p:nvPicPr>
        <p:blipFill>
          <a:blip r:embed="rId2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朱镕基－他信"/>
          <p:cNvPicPr/>
          <p:nvPr/>
        </p:nvPicPr>
        <p:blipFill>
          <a:blip r:embed="rId3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朱镕基－他信"/>
          <p:cNvPicPr/>
          <p:nvPr/>
        </p:nvPicPr>
        <p:blipFill>
          <a:blip r:embed="rId4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朱镕基－他信"/>
          <p:cNvPicPr/>
          <p:nvPr/>
        </p:nvPicPr>
        <p:blipFill>
          <a:blip r:embed="rId5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朱镕基－他信"/>
          <p:cNvPicPr/>
          <p:nvPr/>
        </p:nvPicPr>
        <p:blipFill>
          <a:blip r:embed="rId6"/>
          <a:stretch/>
        </p:blipFill>
        <p:spPr>
          <a:xfrm>
            <a:off x="4538520" y="3403440"/>
            <a:ext cx="69840" cy="52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江泽民－赖斯"/>
          <p:cNvPicPr/>
          <p:nvPr/>
        </p:nvPicPr>
        <p:blipFill>
          <a:blip r:embed="rId7"/>
          <a:stretch/>
        </p:blipFill>
        <p:spPr>
          <a:xfrm>
            <a:off x="1042920" y="1052640"/>
            <a:ext cx="6527880" cy="491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江泽民－哈萨克"/>
          <p:cNvPicPr/>
          <p:nvPr/>
        </p:nvPicPr>
        <p:blipFill>
          <a:blip r:embed="rId8"/>
          <a:srcRect l="6605" t="5712" r="53709" b="0"/>
          <a:stretch/>
        </p:blipFill>
        <p:spPr>
          <a:xfrm>
            <a:off x="1476360" y="1066680"/>
            <a:ext cx="3024360" cy="473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音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、中、低之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语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快 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语调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亢 轻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语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着急 平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装 对 正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休闲 对 休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朱镕基－他信"/>
          <p:cNvPicPr/>
          <p:nvPr/>
        </p:nvPicPr>
        <p:blipFill>
          <a:blip r:embed="rId1"/>
          <a:stretch/>
        </p:blipFill>
        <p:spPr>
          <a:xfrm>
            <a:off x="3803760" y="2997360"/>
            <a:ext cx="4800600" cy="333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10463896_140276"/>
          <p:cNvPicPr/>
          <p:nvPr/>
        </p:nvPicPr>
        <p:blipFill>
          <a:blip r:embed="rId2"/>
          <a:srcRect l="5726" t="0" r="14096" b="33865"/>
          <a:stretch/>
        </p:blipFill>
        <p:spPr>
          <a:xfrm>
            <a:off x="357120" y="2997360"/>
            <a:ext cx="3494160" cy="331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贸型企业的四种类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1600200" y="1980720"/>
            <a:ext cx="5257800" cy="3734280"/>
            <a:chOff x="1600200" y="1980720"/>
            <a:chExt cx="5257800" cy="3734280"/>
          </a:xfrm>
        </p:grpSpPr>
        <p:sp>
          <p:nvSpPr>
            <p:cNvPr id="62" name="Line 5"/>
            <p:cNvSpPr/>
            <p:nvPr/>
          </p:nvSpPr>
          <p:spPr>
            <a:xfrm>
              <a:off x="2590920" y="495288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3200400" y="5181480"/>
              <a:ext cx="3124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企业的成长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4" name="Line 7"/>
            <p:cNvSpPr/>
            <p:nvPr/>
          </p:nvSpPr>
          <p:spPr>
            <a:xfrm flipV="1">
              <a:off x="2590920" y="198072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1600200" y="2590920"/>
              <a:ext cx="6858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员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工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长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6" name="Line 9"/>
            <p:cNvSpPr/>
            <p:nvPr/>
          </p:nvSpPr>
          <p:spPr>
            <a:xfrm>
              <a:off x="2590920" y="34290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4648320" y="19810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>
              <a:off x="5029200" y="2362320"/>
              <a:ext cx="1752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优秀型企业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9" name="Rectangle 12"/>
            <p:cNvSpPr/>
            <p:nvPr/>
          </p:nvSpPr>
          <p:spPr>
            <a:xfrm>
              <a:off x="2819520" y="2362320"/>
              <a:ext cx="1676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二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销售型企业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>
              <a:off x="2819520" y="3657600"/>
              <a:ext cx="1676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三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生存型企业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>
              <a:off x="5029200" y="3657600"/>
              <a:ext cx="1676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象限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生产型企业</a:t>
              </a:r>
              <a:endParaRPr b="0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000" y="3240"/>
            <a:ext cx="879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胡锦涛会见西班牙王储费利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肢体语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胡锦涛－费利佩"/>
          <p:cNvPicPr/>
          <p:nvPr/>
        </p:nvPicPr>
        <p:blipFill>
          <a:blip r:embed="rId1"/>
          <a:stretch/>
        </p:blipFill>
        <p:spPr>
          <a:xfrm>
            <a:off x="757080" y="1349280"/>
            <a:ext cx="7344000" cy="474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肢体语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部表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7040" y="274320"/>
            <a:ext cx="7734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兴趣爱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2700360" y="1413000"/>
            <a:ext cx="4680000" cy="936360"/>
          </a:xfrm>
          <a:prstGeom prst="leftArrow">
            <a:avLst>
              <a:gd name="adj1" fmla="val 50000"/>
              <a:gd name="adj2" fmla="val 124952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万能钥匙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158_P_1238051949674"/>
          <p:cNvPicPr/>
          <p:nvPr/>
        </p:nvPicPr>
        <p:blipFill>
          <a:blip r:embed="rId1"/>
          <a:srcRect l="0" t="0" r="0" b="20836"/>
          <a:stretch/>
        </p:blipFill>
        <p:spPr>
          <a:xfrm>
            <a:off x="127080" y="1969920"/>
            <a:ext cx="8889840" cy="395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呼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呼吸节奏都一样了，顾客搞不定都难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   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理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性格特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32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量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泼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完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和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0" y="4724280"/>
            <a:ext cx="8964720" cy="1621080"/>
          </a:xfrm>
          <a:prstGeom prst="leftArrow">
            <a:avLst>
              <a:gd name="adj1" fmla="val 50000"/>
              <a:gd name="adj2" fmla="val 138252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黄金法则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你希望别人怎么对待你，你就怎么对待别人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0" y="4653000"/>
            <a:ext cx="8964720" cy="1728720"/>
          </a:xfrm>
          <a:prstGeom prst="leftArrow">
            <a:avLst>
              <a:gd name="adj1" fmla="val 50000"/>
              <a:gd name="adj2" fmla="val 129644"/>
            </a:avLst>
          </a:prstGeom>
          <a:solidFill>
            <a:srgbClr val="ff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白金法则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别人希望你怎么对待他们，你就怎么对待他们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力量型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——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个性特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65080" y="1267920"/>
            <a:ext cx="8026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意时  另人敬畏、充满威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意时  感觉迟钝、是非难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谦虚客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追求领导和支配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动是追求目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不是取悦、迎合别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让所有人贯彻自己意图的强烈愿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81583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工作狂的倾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衷于棘手的工作，喜欢一招致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变革，往往是变革的倡议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分派任务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抽象的事物不感兴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直截了当，快刀斩乱麻，从不拐弯抹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阿谀奉承和赞美表扬不感兴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喜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婆婆妈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力量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-27360"/>
            <a:ext cx="7792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正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7760" y="2057400"/>
            <a:ext cx="87199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力充沛，雷厉风行，挑战精神，善做决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畏惧向阻碍前进的人和制度发起挑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强烈的求胜欲望，克服艰难险阻的勇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立把握自己的命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00120" y="-27360"/>
            <a:ext cx="552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负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冒冒失失，给人鲁莽的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直来直去，给人咄咄逼人的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绪化，往往忽略别人的感受，不给人颜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过严肃，有失温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争强好胜（好争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缺乏耐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往自尊自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 营销型人才的必备工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） 营销型人才的工作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）  营销型人才基本礼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） 营销型人才的执行力模型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） 营销型人才素质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270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跃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感觉判断自己的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不断有新的刺激和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喜欢循规蹈矩、墨守成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的不如说的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谈论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正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95774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力旺盛，热情洋溢，能言善辩，乐于助人，率性朴直，不拘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出奇制胜（但可能不会长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善于各种场合的社交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幽默，爱开玩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于出谋划策（拙于贯彻执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负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69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话太多，有时口无遮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任性、冲动的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不感兴趣的事情有拖延的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不专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5172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和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44600" y="2014560"/>
            <a:ext cx="87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力图避免多做重大决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犹豫不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奉行中庸之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满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留恋稳定安逸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会在情感上有大的起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在一个按部就班的和有节奏的向前发展的组织结构里当一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160200"/>
            <a:ext cx="55497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479600"/>
            <a:ext cx="86421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务实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对破釜沉舟和积极进取的行为感觉不可思议，行动中喜欢万事具备，按程序行事，谦虚谨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时行动后于方案，一旦行动会全心投入，不遗余力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正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0920" y="1410840"/>
            <a:ext cx="8429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谦虚谨慎、平和沉稳、使人愉快、有归属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善于倾听、贯于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以待人，为人随和，能接受任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感情，但不善表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工作恪尽职守，耐心细致，善始善终，坚持不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不喜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抗和冲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负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957320"/>
            <a:ext cx="828648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变革有所抵触，害怕风险，有时表现怯弱，缺乏主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持己见，相对固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美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802880"/>
            <a:ext cx="87631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苟言笑，习惯分析思考，喜欢逻辑推理和毫厘不差的精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富于理性，喜欢工作甚过喜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明定主次和进度，小心翼翼，有条不紊的按工作秩序行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前了解事情的前因后果，事无巨细，然后作出周密、客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评价和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特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31880" y="1398240"/>
            <a:ext cx="73404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控制自己和限定环境来避免尴尬事情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疏于人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与沉稳持重和精细的人交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事喜欢合乎逻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情合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发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看到事情严肃复杂的层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虑事情不只细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有退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280" y="160200"/>
            <a:ext cx="47559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正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3640" y="1537920"/>
            <a:ext cx="81342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事深思熟虑、小心谨慎、计划精密、一丝不苟、诚信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靠、自尊心强、洁身自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于细节，且训练有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有效的和组织融为一体，并能提出独到见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无与伦比的坚持不懈的韧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） 营销型人才的工作心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耐得住寂寞，经得起诱惑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066680" y="2133720"/>
            <a:ext cx="7010640" cy="76176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平等心态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066680" y="3962520"/>
            <a:ext cx="7010640" cy="76176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让工作成为你的爱好      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066680" y="1219320"/>
            <a:ext cx="7010640" cy="76176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为自己打工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1066680" y="3048120"/>
            <a:ext cx="7010640" cy="76176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</a:rPr>
              <a:t>我的态度我做主           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负面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3316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孤高自傲，是过于挑剔的完美主义者，很少有人能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们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问题瞻前顾后、拖泥带水，压力下可能过于精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于依赖制度和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性保守，过于俭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戒备和自我封闭的心理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避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换位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是指正确了解他人的感受和情绪，进而做到相互理解、关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和情感上的融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就是将心比心，同样时间、地点、事件，把当事人换成自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也就是设身处地去感受、去体谅他人，并让对方知道你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他的感受的理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3259800" y="848520"/>
            <a:ext cx="3225960" cy="871920"/>
          </a:xfrm>
          <a:prstGeom prst="downArrowCallout">
            <a:avLst>
              <a:gd name="adj1" fmla="val 92504"/>
              <a:gd name="adj2" fmla="val 92496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商里面也称之为“同理心”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理心的功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深度尊重别人，满足对方心理需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化解人际矛盾，融洽人际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消除逆反情绪，解除沟通障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表现专业风范，展示人格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使对方非常乐意接受自己，有利于快速形成共识、解决问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无需求用任何金钱投资，具千金难买之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理心的常用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的心情我可以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有这种想法我完全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碰到这种情况我也许也会象您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近有些顾客也象您一样的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这个问题问得很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说的话有道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先跟后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47400" y="2133720"/>
            <a:ext cx="82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附和对方的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才带领他，去你想让他去的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举例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说﹕我认为吃早餐对健康很重要﹐所以我每天早上都吃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鸡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顾客说﹕鸡蛋的胆固醇含量太高﹐我的早餐绝不会吃鸡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说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3059280" y="1969920"/>
            <a:ext cx="4511520" cy="811440"/>
          </a:xfrm>
          <a:prstGeom prst="leftArrow">
            <a:avLst>
              <a:gd name="adj1" fmla="val 50000"/>
              <a:gd name="adj2" fmla="val 13899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说出对方的观点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5438880" y="2906640"/>
            <a:ext cx="3741480" cy="809640"/>
          </a:xfrm>
          <a:prstGeom prst="leftArrow">
            <a:avLst>
              <a:gd name="adj1" fmla="val 50000"/>
              <a:gd name="adj2" fmla="val 115529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说出自己的观点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179280" y="-100080"/>
            <a:ext cx="9085320" cy="6777000"/>
          </a:xfrm>
          <a:prstGeom prst="rightArrow">
            <a:avLst>
              <a:gd name="adj1" fmla="val 50000"/>
              <a:gd name="adj2" fmla="val 33515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不仅您这样说﹐我以前也是这样理解的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我也认为鸡蛋的胆固醇过高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直到去年我看到一篇养生的文章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发现原来胆固醇之中也有好坏之分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且鸡蛋给我们的胆固醇好处多于坏处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鸡蛋中的一些营养更是其他食物中很少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PMingLiU"/>
              </a:rPr>
              <a:t>能提供的呢﹗你有兴趣看一看这篇文章吗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上堆下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上下移动搜索找到共同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举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说：“我是山东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顾客说：“我是黑龙江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说：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说：“我喜欢篮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说：“我喜欢足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说：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340000" y="3646440"/>
            <a:ext cx="6049800" cy="647640"/>
          </a:xfrm>
          <a:prstGeom prst="leftArrow">
            <a:avLst>
              <a:gd name="adj1" fmla="val 50000"/>
              <a:gd name="adj2" fmla="val 233533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咱们都是北方人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195640" y="5445000"/>
            <a:ext cx="6048360" cy="648000"/>
          </a:xfrm>
          <a:prstGeom prst="leftArrow">
            <a:avLst>
              <a:gd name="adj1" fmla="val 50000"/>
              <a:gd name="adj2" fmla="val 23334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咱们都喜欢球类呀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2" descr=""/>
          <p:cNvPicPr/>
          <p:nvPr/>
        </p:nvPicPr>
        <p:blipFill>
          <a:blip r:embed="rId1"/>
          <a:stretch/>
        </p:blipFill>
        <p:spPr>
          <a:xfrm>
            <a:off x="450720" y="2901960"/>
            <a:ext cx="8285400" cy="1378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47400" y="1483920"/>
            <a:ext cx="8351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销售法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Ｓ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 Questions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况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Ｐ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Questions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Ｉ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ation Questions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暗示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Ｎ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-Payoff Questions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足需求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42800" y="3429000"/>
            <a:ext cx="8305920" cy="2881440"/>
          </a:xfrm>
          <a:prstGeom prst="rect">
            <a:avLst/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历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跨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国家，涉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不同的产业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销售拜访的实地观察与分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模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美国心理学家雷克汗姆的实验室诞生了。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迄今为止，已有超过半数的世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强公司接受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专业培训并全面应用这一模式，效果立竿见影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朗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F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：“在尤其大宗生意销售和顾问式销售方面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取得了巨大成功和广泛认可。”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925560" y="48240"/>
            <a:ext cx="700704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二） 发现需求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状况询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200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：找出顾客现在的事实状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影响：如果问的太多，对成功会有 消极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建议：通过事前准备、客户调查等除去不必要的状况询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询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询问顾客在现在的事实状况下所面临的问题，困难和不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：关键环节，越有经验的销售代表，越会问更多的问题性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议：从为顾客解决困难的角度出发，来考虑你的产品，不要以产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拥有的细节和特点为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自己打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什么是为自己打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职业生涯发展的进程中，什么时候你的工作热情和努力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为工资不高，不为别人评价不公而减少，不为没人监督而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懈，从那时起你就开始为自己打工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-270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暗示性询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询问顾客目前事实状况下，所面临问题、困难或不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所产生的结果和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：最有效的一个环节，出色的销售人员会问许多暗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议：暗示性问题最难问，询问之前应策划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248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需求满足询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询问自己提供的对策（解决方案） 的价值和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：经常被出色的销售人员广泛使用，这对客户有积极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议：使用这些问题让顾客告诉你提供的对策的利益所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47760" y="127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: Featur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Advantag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2006831105015064"/>
          <p:cNvPicPr/>
          <p:nvPr/>
        </p:nvPicPr>
        <p:blipFill>
          <a:blip r:embed="rId1"/>
          <a:stretch/>
        </p:blipFill>
        <p:spPr>
          <a:xfrm>
            <a:off x="3059280" y="2625840"/>
            <a:ext cx="6084720" cy="377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922320" y="140040"/>
            <a:ext cx="739476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） 提出方案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736560" y="159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去感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来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609480" y="4572000"/>
            <a:ext cx="7162920" cy="1600200"/>
          </a:xfrm>
          <a:prstGeom prst="rightArrow">
            <a:avLst>
              <a:gd name="adj1" fmla="val 50000"/>
              <a:gd name="adj2" fmla="val 11190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你们产品太贵了？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609480" y="4565520"/>
            <a:ext cx="7162920" cy="1600200"/>
          </a:xfrm>
          <a:prstGeom prst="rightArrow">
            <a:avLst>
              <a:gd name="adj1" fmla="val 50000"/>
              <a:gd name="adj2" fmla="val 11190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我们已经有经销商了？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922320" y="68760"/>
            <a:ext cx="739476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四） 解决异议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你的“专业”知识坚定的告诉客户，你的“产品”完全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帮他解决问题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900000" y="3600"/>
            <a:ext cx="739476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五） 专业成交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0920" y="3759120"/>
          <a:ext cx="8435880" cy="2838600"/>
        </p:xfrm>
        <a:graphic>
          <a:graphicData uri="http://schemas.openxmlformats.org/drawingml/2006/table">
            <a:tbl>
              <a:tblPr/>
              <a:tblGrid>
                <a:gridCol w="4217760"/>
                <a:gridCol w="421812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蒙发利产品的优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竞争对手产品的劣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AutoShape 29"/>
          <p:cNvSpPr/>
          <p:nvPr/>
        </p:nvSpPr>
        <p:spPr>
          <a:xfrm>
            <a:off x="609480" y="2492280"/>
            <a:ext cx="7162920" cy="1024200"/>
          </a:xfrm>
          <a:prstGeom prst="rightArrow">
            <a:avLst>
              <a:gd name="adj1" fmla="val 50000"/>
              <a:gd name="adj2" fmla="val 174842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  <a:ea typeface="Gulim"/>
              </a:rPr>
              <a:t>专业往往体现在差异化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826920" y="1881360"/>
            <a:ext cx="7490160" cy="1223640"/>
          </a:xfrm>
          <a:prstGeom prst="rightArrow">
            <a:avLst>
              <a:gd name="adj1" fmla="val 50000"/>
              <a:gd name="adj2" fmla="val 153030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销售名言：真正的销售从售后开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826920" y="3051000"/>
            <a:ext cx="7490160" cy="1729080"/>
          </a:xfrm>
          <a:prstGeom prst="rightArrow">
            <a:avLst>
              <a:gd name="adj1" fmla="val 50000"/>
              <a:gd name="adj2" fmla="val 108297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客户购买体验后，如果顾客满意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重复购买、转介绍就是一种必然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826920" y="4797360"/>
            <a:ext cx="7490160" cy="1224000"/>
          </a:xfrm>
          <a:prstGeom prst="rightArrow">
            <a:avLst>
              <a:gd name="adj1" fmla="val 50000"/>
              <a:gd name="adj2" fmla="val 152985"/>
            </a:avLst>
          </a:prstGeom>
          <a:solidFill>
            <a:srgbClr val="bbe0e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Gulim"/>
              </a:rPr>
              <a:t>怎么让顾客满意呢？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55640" y="192600"/>
            <a:ext cx="739476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六） 售后服务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满意度公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1705320" y="2168280"/>
            <a:ext cx="5842440" cy="1070280"/>
            <a:chOff x="1705320" y="2168280"/>
            <a:chExt cx="5842440" cy="1070280"/>
          </a:xfrm>
        </p:grpSpPr>
        <p:sp>
          <p:nvSpPr>
            <p:cNvPr id="427" name="Line 4"/>
            <p:cNvSpPr/>
            <p:nvPr/>
          </p:nvSpPr>
          <p:spPr>
            <a:xfrm>
              <a:off x="4281840" y="2730600"/>
              <a:ext cx="32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267520" y="26571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客户期望值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5267520" y="21682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客户体验值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705320" y="23871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客户满意度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3778200" y="24404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432" name="Text Box 9"/>
          <p:cNvSpPr/>
          <p:nvPr/>
        </p:nvSpPr>
        <p:spPr>
          <a:xfrm>
            <a:off x="635040" y="4132440"/>
            <a:ext cx="796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所以，提高客户满意度有两个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提高客户体验值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標楷體"/>
              </a:rPr>
              <a:t>降低客户期望值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strips dir="rd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32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3,1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的期望值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客户期望值管理是在企业不增加运营成本的前提下有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客户满意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一个实际有效的方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期望值管理的原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过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承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超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迈克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戴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442534343"/>
          <p:cNvPicPr/>
          <p:nvPr/>
        </p:nvPicPr>
        <p:blipFill>
          <a:blip r:embed="rId1"/>
          <a:stretch/>
        </p:blipFill>
        <p:spPr>
          <a:xfrm>
            <a:off x="5016600" y="1268280"/>
            <a:ext cx="4127400" cy="525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7:52:36Z</dcterms:created>
  <dc:creator>qjp</dc:creator>
  <dc:description/>
  <cp:keywords/>
  <dc:language>en-US</dc:language>
  <cp:lastModifiedBy>Administrator</cp:lastModifiedBy>
  <cp:lastPrinted>1899-12-30T00:00:00Z</cp:lastPrinted>
  <dcterms:modified xsi:type="dcterms:W3CDTF">2015-09-19T01:52:50Z</dcterms:modified>
  <cp:revision>6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