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E30-764E-456C-B09E-E05A1B5A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98E-FE02-47D8-978E-1379E402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2EE-32DA-4213-8662-645D89DC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9D2-FB8F-43C4-9E32-76722515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50D-2D52-4EBE-A2C6-795B0D4D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9A2-B6F6-4710-BA4E-45DB5B09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0EB-54EF-4992-AA35-93E0472D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ECF-DA04-4A02-BCC9-D793D5B0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C7B-DAE7-47CE-A00D-AF69CA04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FE5-6758-468E-A2A1-15A019A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328-6762-41A4-A2E4-E2114537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D29-4AE1-4736-AECD-27C20058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AE03-83F6-4390-9D98-62FF501DB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92360" y="620640"/>
            <a:ext cx="21589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微笑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050920" y="4221000"/>
            <a:ext cx="23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坚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5724360" y="2276640"/>
            <a:ext cx="2087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自信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208abea630eb0ee0cbefd0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3240000" y="38419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ce26"/>
                </a:solidFill>
                <a:latin typeface="Arial"/>
                <a:ea typeface="楷体_GB2312"/>
              </a:rPr>
              <a:t>我们即将面临着期末考试。现在，你是否明确自己所要达到的目标？你是否已经制订了完美的复习计划？你是否开始着手于复习？面对着即将到来的期末考试，你，准备好了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835280" y="62064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时光如流水，转瞬即逝。犹记得刚开学时的点点滴滴，转眼间，期末的脚步越来越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7f1ad7f9d5657b44252df2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250920" y="3989160"/>
            <a:ext cx="8497800" cy="4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8708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ce26"/>
                </a:solidFill>
                <a:latin typeface="Arial"/>
                <a:ea typeface="楷体_GB2312"/>
              </a:rPr>
              <a:t>人生像一杯茶，不会苦一辈子。但，总得苦一阵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ce26"/>
                </a:solidFill>
                <a:latin typeface="Arial"/>
                <a:ea typeface="楷体_GB2312"/>
              </a:rPr>
              <a:t>微笑着面对失败，不要抱怨生活给予你太多磨难，不要抱怨学习给予你太多曲折。大海如果失去巨浪的翻滚就会失去雄浑，沙漠如果失去飞沙的狂舞就回失去壮观。人生如果只求两点一线一帆风顺，生命也就失去了存在的魅力。其实再平的路上也会有几块石头。遭遇挫折是我们每个人成长历程必经的一站，既然我们无法逃避，就让我们勇敢地面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700360" y="549360"/>
            <a:ext cx="393840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学会微笑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B_2008-11-18-18-22-3816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68360" y="409608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2708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前有两只小青蛙，溜到农民的房子里玩，它们站到一个坛子沿上跳舞时，不小心掉到里面。里面装的是黏糊糊的油，它们想跳出来，油太黏，想爬出来，壁太滑。几经尝试，没有结果。青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边游边想，看来今天是没希望了，怎么也出不去了，反正也没希望了，还游什么呢？这样想着，四肢越发划不动。而青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呢，想到今天真糟糕，怎么都出不去可还是继续游游看吧，也许会找到办法。四肢虽然很累了，可它还是坚持游着。边游边想，只要还有力气，不管怎样，我都要游下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2050920" y="620640"/>
            <a:ext cx="44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自信的力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B_2008-11-18-18-22-3816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684360" y="148932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局一：就在它几乎划不动的时候，后脚碰到了坚实的固体。原来，黄油在青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不停搅动下，凝固了。后来，青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踩在黄油上跳出了坛子，独自回家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258920" y="260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你们猜，这个故事的结局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95280" y="384084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局二：青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惫地划动着四肢，青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在奋力游，它想虽然现在情况很糟糕，但我还要做些什么，它游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旁边，发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肢的动作缓慢而机械，一副听天由命的样子，它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两个排成队，我在前边，你在后边，动作一致，然后我们互换位置，这样就能节省很多体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它后面，按照它的方式游，果然轻松了许多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游边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从来没有在油里游过，今天算是知道了其中的滋味，这倒是健美的好方法。如果每天都在里面游一刻钟，我们就能成为最健美的青蛙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着说着，边唱起它们最喜欢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呱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，不由得忘记了疲劳，一同唱起来。农妇循着歌声发现了它们，轻轻地把它们捞起来，洗干净，送它们回家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435163a9c1c57dfd1e17a29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4356000" y="218952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格的核心是自信，自信使人渡过一个又一个难关。信念的力量，深窥自己的心，而后发觉一切的奇迹在你自己，信念是战胜困难的勇气，考研对大家的人生也是一个严峻的考验，经历过考研的人会懂得那种奋斗的意义；而学习的过程也是一个挑战，一次次的失败一次次重新站起来需要勇气，需要信心，需要信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7"/>
          <p:cNvSpPr txBox="1"/>
          <p:nvPr/>
        </p:nvSpPr>
        <p:spPr>
          <a:xfrm rot="5400000">
            <a:off x="-864360" y="2383560"/>
            <a:ext cx="475128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想要告诉你</a:t>
            </a:r>
            <a:endParaRPr b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272227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692360" y="4213080"/>
            <a:ext cx="7056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8708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命的奖赏远在旅途终点，而非起点附近。我不知道要走多少步才能达到目标，踏上第一千步的时候，仍然可能遭到失败。但成功就藏在拐角后面，除非拐了弯，我永远不知道还有多远。再前进一步，如果没有用，就再向前一步。事实上，每次进步一点点并不太难。坚持不懈，直到成功。从今往后，我承认每天的奋斗就像对参天大树的一次砍击，头几刀可能了无痕迹。每一击看似微不足道，然而，累积起来，巨树终会倒下。这恰如我今天的努力。就像冲洗高山的雨滴，吞噬猛虎的蚂蚁，照亮大地的星辰，建起金字塔的奴隶，我也要一砖一瓦地建造起自己的城堡，因为我深知水滴石穿的道理，只要持之以恒，什么都可以做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 rot="5400000">
            <a:off x="-2003760" y="3019320"/>
            <a:ext cx="595008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坚持不懈，直到成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484360" y="836640"/>
            <a:ext cx="61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愚蠢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待时间 聪明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惰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丧失时间 勤奋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珍惜时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知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抓紧时间 糊涂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蹋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771640" y="285264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只有付出辛勤的汗水，才能获得丰富的回报。在这最后的十几天里，努力吧，拼搏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1T14:36:21Z</dcterms:created>
  <dc:creator>微软用户</dc:creator>
  <dc:description/>
  <dc:language>en-US</dc:language>
  <cp:lastModifiedBy>xydream</cp:lastModifiedBy>
  <dcterms:modified xsi:type="dcterms:W3CDTF">2013-12-26T07:43:48Z</dcterms:modified>
  <cp:revision>6</cp:revision>
  <dc:subject/>
  <dc:title>幻灯片 1</dc:title>
</cp:coreProperties>
</file>