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C54-7B99-4D92-980E-4CCF6554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E0B-4A34-41C1-A682-74D3E2E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EB6-A8DA-4508-9CC7-70438D39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C89-F475-4277-A236-31788DB7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255-2A52-464C-9332-0512B4D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1D6-DBC6-425A-BB6C-E9D00D3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F2F-83E2-4190-BCFD-15BAAAD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7EF-E30A-4CC4-94B5-D8E70182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3B1-5B83-49AC-855C-E3F5E78E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B6D-9964-4F81-BE8A-B1765AA0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5FC-980D-4A27-8135-A12C216C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D49-134C-420C-B52B-BE43627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444-7DCE-48C6-90A6-AB2FA6FE6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china.net/cns/WSZL/DZRW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goods.mayi.com/view/16805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雨后，一只蜘蛛艰难地向墙上已经支离破碎的网爬去。由于墙壁潮湿，它爬到一定的高度就会掉下来。它一次次地向上爬，一次次地又掉下来</a:t>
            </a:r>
            <a:r>
              <a:rPr b="1" lang="en-US" sz="3200" spc="-1" strike="noStrike">
                <a:solidFill>
                  <a:srgbClr val="2407d3"/>
                </a:solidFill>
                <a:latin typeface="Arial"/>
              </a:rPr>
              <a:t>......</a:t>
            </a:r>
            <a:br>
              <a:rPr sz="3200"/>
            </a:br>
            <a:r>
              <a:rPr b="1" lang="en-US" sz="3200" spc="-1" strike="noStrike">
                <a:solidFill>
                  <a:srgbClr val="2407d3"/>
                </a:solidFill>
                <a:latin typeface="Arial"/>
              </a:rPr>
              <a:t>       </a:t>
            </a: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第一个人看到了，他叹了一口气，自言自语：“我的一生不正如这只蜘蛛吗？忙忙碌碌而无所得</a:t>
            </a:r>
            <a:r>
              <a:rPr b="1" lang="en-US" sz="3200" spc="-1" strike="noStrike">
                <a:solidFill>
                  <a:srgbClr val="2407d3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于是，他日渐消沉。</a:t>
            </a:r>
            <a:br>
              <a:rPr sz="3200"/>
            </a:b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       第二个人看到了，说：“这只蜘蛛真愚蠢，为什么不从旁边干燥的地方绕一下爬上去？我以后可不能像它那样愚蠢。”于是，他变得聪明起来。</a:t>
            </a:r>
            <a:br>
              <a:rPr sz="3200"/>
            </a:b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       第三个人看到了，他立刻被蜘蛛屡败屡战的精神感动了。于是，他变得坚强起来。</a:t>
            </a:r>
            <a:br>
              <a:rPr sz="3200"/>
            </a:br>
            <a:r>
              <a:rPr b="1" lang="zh-CN" sz="3200" spc="-1" strike="noStrike">
                <a:solidFill>
                  <a:srgbClr val="2407d3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332000" y="549360"/>
            <a:ext cx="69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现象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一作品，不同的人，解读不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03280" y="256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的知识结构、生活阅历、审美品味（个性爱好）、关注重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各不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8360" y="1557360"/>
            <a:ext cx="835164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论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读者的差异性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导致对文学作品主题解读的个性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836640"/>
            <a:ext cx="835344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论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品内容的丰富性、多样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导致对文学作品解读的个性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59280" y="1989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同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同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095560" y="620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学作品主题解读的个性化及其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916360" y="2276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059280" y="393372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丰  富  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多  样  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6877080" y="2060640"/>
            <a:ext cx="142920" cy="3240000"/>
          </a:xfrm>
          <a:custGeom>
            <a:avLst/>
            <a:gdLst>
              <a:gd name="textAreaLeft" fmla="*/ 0 w 142920"/>
              <a:gd name="textAreaRight" fmla="*/ 51480 w 1429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48760" y="2276640"/>
            <a:ext cx="127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读的个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076720" y="1484280"/>
            <a:ext cx="172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知识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活阅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审美品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关注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116000" y="242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读者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187280" y="4365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916360" y="422100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1125360"/>
            <a:ext cx="60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360" y="4508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金假日，于丹在央视百家讲坛连续七天解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得，受到观众的热烈欢迎，也引来众多的批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yud"/>
          <p:cNvPicPr/>
          <p:nvPr/>
        </p:nvPicPr>
        <p:blipFill>
          <a:blip r:embed="rId2"/>
          <a:stretch/>
        </p:blipFill>
        <p:spPr>
          <a:xfrm>
            <a:off x="2843280" y="189000"/>
            <a:ext cx="33336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39640" y="450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山大学、清华大学十博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于丹用她个人观点随意地曲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义，明显会造成观众、读者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义的误解。呼吁于丹不要再闹出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孩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笑话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jdyd"/>
          <p:cNvPicPr/>
          <p:nvPr/>
        </p:nvPicPr>
        <p:blipFill>
          <a:blip r:embed="rId2"/>
          <a:stretch/>
        </p:blipFill>
        <p:spPr>
          <a:xfrm>
            <a:off x="2771640" y="189000"/>
            <a:ext cx="3133800" cy="4319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6310800" y="476280"/>
            <a:ext cx="14601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们为什么要将反对于丹之流进行到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465300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丹在中关村图书大厦举行新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签售活动，一位男子进入签售会场，穿的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恤赫然写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很着急，庄子很生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yudan"/>
          <p:cNvPicPr/>
          <p:nvPr/>
        </p:nvPicPr>
        <p:blipFill>
          <a:blip r:embed="rId1"/>
          <a:stretch/>
        </p:blipFill>
        <p:spPr>
          <a:xfrm>
            <a:off x="1547640" y="476280"/>
            <a:ext cx="576108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95280" y="549360"/>
            <a:ext cx="828036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塞外鬼才李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不是对孔子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注解与解释，而是对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感想。她的主要感想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真谛，就是告诉大家，怎么样才能过上我们心灵所需要的那种快乐的生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不是提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灵所需要的那种快乐的生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百科全书，于丹只能选取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乐的生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关的篇章，这些篇章只不过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十分之一左右，却有许多曲解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马千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遭遇于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丹解读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本义出入太大，只是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句子作为自己生活感悟的支持，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心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得，会让无数没有读过原文的观众看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家讲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后，就把于丹讲的东西认定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历史学家朱维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胆子大，不懂的东西也敢讲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否应该承认，一篇作品有一个相对确定的主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要不要尊重作者的原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看待语文老师对作品的分析和讲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欣赏文学作品是靠理性分析，还是跟着感觉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化阅读有没有价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文学作品个性化解读的原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以文为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体把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的相对确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原创作意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重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的联想和想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忌跟着感觉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国演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曹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4211640" y="476280"/>
            <a:ext cx="360360" cy="1657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4328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奸诈多疑的枭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3280" y="155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怀大志的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0920" y="4508640"/>
            <a:ext cx="24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2556000" y="3933720"/>
            <a:ext cx="647640" cy="2087640"/>
          </a:xfrm>
          <a:custGeom>
            <a:avLst/>
            <a:gdLst>
              <a:gd name="textAreaLeft" fmla="*/ 414000 w 647640"/>
              <a:gd name="textAreaRight" fmla="*/ 648000 w 647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76720" y="3573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话小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203640" y="4653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封建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203640" y="566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文学作品个性化解读的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郭沫若的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屈原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是要传达什么样的精神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部戏是在反映抗战时期抗日爱国和投降卖国两条路线之间的斗争。该剧借屈原之口对投降派进行了无情的鞭挞，深刻地揭露了投降派卖国求荣的罪行，歌颂了革命人民所进行的不屈不挠的抗日战争，激励广大人民把抗战爱国的正义斗争进行到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文学作品个性化解读的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联系作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柳宗元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山鸟飞绝，万径人踪灭。孤舟蓑笠翁，独钓寒江雪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诗人的生活经历，分析作者所传达的意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文学作品个性化解读的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7560" y="1984320"/>
            <a:ext cx="79790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4.</a:t>
            </a:r>
            <a:r>
              <a:rPr b="1" lang="zh-CN" sz="3200" spc="-1" strike="noStrike">
                <a:solidFill>
                  <a:srgbClr val="2407d3"/>
                </a:solidFill>
                <a:latin typeface="华文新魏"/>
                <a:ea typeface="华文新魏"/>
              </a:rPr>
              <a:t>变换视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横看成岭侧成峰，远近高低各不同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朱光潜先生说过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言是有限的，意是无限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我们应敢于大胆想像，表达出自己独具个性的想像和思考，用自己的理解拓展作品的艺术空间，解读出属于自己的思想和情感，但同时也应该注意文学作品解读的基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千个哈姆雷特还是哈姆雷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续写改编文学名作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故事新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谓故事新编，是指作者充分利用名著、名篇佳作，或课文，并对它进行改编，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现代的眼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审视原作的人物形象、故事情节和思想内容，用原作的人物形象、故事情节和思想内容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反观现实生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从而揭示主旨的一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创新作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方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考作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诚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赤兔之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安二十六年，公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关羽走麦城，兵败遭擒，拒降，为孙权所害。其坐骑赤兔马为孙权赐予马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一日，马忠上表：赤兔马绝食数日，不久将亡。孙权大惊，急访江东名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伯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此人乃伯乐之后，人言其精通马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马忠引伯喜回府，至槽间，但见赤兔马伏于地，哀嘶不止。众人不解，惟伯喜知之。伯喜遣散诸人，抚其背叹道：“昔日曹操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龟虽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老骥伏枥，志在千里。烈士暮年，壮心不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’，吾深知君念关将军之恩，欲从之于地下。然当日吕奉先白门楼殒命，亦未见君如此相依，为何今日这等轻生，岂不负君千里之志哉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兔马哀嘶一声，叹道：“予尝闻，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之将死，其鸣也哀；人之将死，其言也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’今幸遇先生，吾可将肺腑之言相告。吾生于西凉，后为董卓所获，此人飞扬跋扈，杀少帝，卧龙床，实为汉贼，吾深恨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伯喜点头，曰：“后闻李儒献计，将君赠予吕布，吕布乃天下第一勇将，众皆言，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中吕布，马中赤兔。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来当不负君之志也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兔马叹曰：“公言差矣。吕布此人最是无信，为荣华而杀丁原，为美色而刺董卓，投刘备而夺其徐州，结袁术而斩其婚使。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无信不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’，与此等无诚信之人齐名，实为吾平生之大耻！后吾归于曹操，其手下虽猛将如云，却无人可称英雄。吾恐今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辱于奴隶人之手，骈死于槽枥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曹操将吾赠予关将军；吾曾于虎牢关前见其武勇，白门楼上见其恩义，仰慕已久。关将军见吾亦大喜，拜谢曹操。操问何故如此，关将军答曰：‘吾知此马日行千里，今幸得之，他日若知兄长下落，可一日而得见矣。’其人诚信如此。常言道：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随鸾凤飞腾远，人伴贤良品质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’吾敢不以死相报乎？”伯喜闻之，叹曰：“人皆言关将军乃诚信之士，今日所闻，果真如此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兔马泣曰：“吾尝慕不食周粟之伯夷、叔齐之高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玉可碎而不可损其白，竹可破而不可毁其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士为知己而死，人因诚信而存，吾安肯食吴粟而苟活于世间？”言罢，伏地而亡。伯喜放声痛哭，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物犹如此，人何以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”后奏于孙权。权闻之亦泣：“吾不知云长诚信如此，今此忠义之士为吾所害，吾有何面目见天下苍生？”后孙权传旨，将关羽父子并赤兔马厚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是故事新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作者以熟谙三国故事为基础，编撰了赤兔马为诚信而殒身的感人故事，其想象力实在丰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是立意高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文章将赤兔马拟人化，让它在同伯喜的对话中，显示对关羽与董卓、吕布两类人物的褒贬，实现了“真英雄必讲诚信”的主题；且以“鸟随鸾凤飞腾远，人伴贤良品质高”一联，“物犹如此，人何以堪”一句，抒写了人生当择善而从、唯诚信是瞻的志向，使文章的立意更上层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是语言老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篇遣用纯熟的古白话，散整错综，明白畅晓，文采飞扬，这种老到的语言功夫，是众多考生无法望其项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分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0" y="69228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艺黑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青年看</a:t>
            </a:r>
            <a:r>
              <a:rPr b="1" lang="en-US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便以宝玉、黛玉自居，而老年人看又占据了贾政管束的身份，满心是利害的打算，别的什么也看不见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艺黑简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艺黑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经学家看到</a:t>
            </a:r>
            <a:r>
              <a:rPr b="1" lang="en-US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易</a:t>
            </a:r>
            <a:r>
              <a:rPr b="1" lang="en-US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，道学家看到淫，才子看到缠绵，革命家看到排满，流言家看到宫闱秘事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艺黑简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艺黑简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0" y="5084640"/>
            <a:ext cx="9540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07d3"/>
                </a:solidFill>
                <a:latin typeface="Arial"/>
                <a:ea typeface="方正隶书简体"/>
              </a:rPr>
              <a:t>一千个读者就有一千个哈姆雷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07d3"/>
                </a:solidFill>
                <a:latin typeface="Arial"/>
                <a:ea typeface="方正隶书简体"/>
              </a:rPr>
              <a:t>                                    </a:t>
            </a:r>
            <a:r>
              <a:rPr b="1" lang="en-US" sz="4000" spc="-1" strike="noStrike">
                <a:solidFill>
                  <a:srgbClr val="2407d3"/>
                </a:solidFill>
                <a:latin typeface="Arial"/>
                <a:ea typeface="方正隶书简体"/>
              </a:rPr>
              <a:t>------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国谚语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“故事新编”这类作文，要注意两点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是一定要熟悉“故事”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是写好“故事新编”的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是一定要“新编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写好“故事新编”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常见的新编方式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位演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时空错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杂糅，中外互通，熔于一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布置（任选一题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学过的课文中，选择你熟悉的一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叔叔于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伤仲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续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你喜爱的文学作品中选取你熟悉的某个人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面或情节为由头，依照自己的理解，展开想象，生发开去，另写一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考题目：刘兰芝改嫁     花木兰退伍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曹刿新传        愚公别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艺黑简体"/>
                <a:ea typeface="方正艺黑简体"/>
              </a:rPr>
              <a:t>文学作品的个性化解读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_dzrw_05">
            <a:hlinkClick r:id="rId2"/>
          </p:cNvPr>
          <p:cNvPicPr/>
          <p:nvPr/>
        </p:nvPicPr>
        <p:blipFill>
          <a:blip r:embed="rId3"/>
          <a:stretch/>
        </p:blipFill>
        <p:spPr>
          <a:xfrm rot="19741200">
            <a:off x="1116000" y="3429000"/>
            <a:ext cx="2027160" cy="244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ook_cf1f139b-1e0a-408f-ae10-601a079febe1">
            <a:hlinkClick r:id="rId4"/>
          </p:cNvPr>
          <p:cNvPicPr/>
          <p:nvPr/>
        </p:nvPicPr>
        <p:blipFill>
          <a:blip r:embed="rId5"/>
          <a:stretch/>
        </p:blipFill>
        <p:spPr>
          <a:xfrm rot="1693200">
            <a:off x="5940000" y="3284280"/>
            <a:ext cx="18954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了“文学个性化解读”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掌握文学作品个性化解读的原则和途径，并明了个性化解读对读和写的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324000" y="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艺黑简体"/>
              </a:rPr>
              <a:t>清明（杜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艺黑简体"/>
              </a:rPr>
              <a:t>清明时节雨纷纷，路上行人欲断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艺黑简体"/>
              </a:rPr>
              <a:t>借问酒家何处有？牧童遥指杏花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250920" y="1773360"/>
            <a:ext cx="3960720" cy="5084640"/>
          </a:xfrm>
          <a:prstGeom prst="rect">
            <a:avLst/>
          </a:prstGeom>
          <a:solidFill>
            <a:srgbClr val="2407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50920" y="1844640"/>
            <a:ext cx="4249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小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明时节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纷纷路上行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欲断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借问酒家何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有牧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遥指杏花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4859280" y="1773360"/>
            <a:ext cx="4465800" cy="50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1773360"/>
            <a:ext cx="50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短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时间）清明时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背景）雨纷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地点）路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人物情态）行人欲断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对白）借问酒家何处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人物）牧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动作）遥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隶书简体"/>
              </a:rPr>
              <a:t>（远景）杏花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26920" y="836640"/>
            <a:ext cx="77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现象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一作品，阅读时间不同，解读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26920" y="2781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原因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的知识结构、生活阅历、审美品味（个性爱好）、关注重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发生了变化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00000" y="1557360"/>
            <a:ext cx="727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92360" y="476280"/>
            <a:ext cx="3816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  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顾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是灰色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是灰色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是灰色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是灰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片死灰之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过两个孩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淡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l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476360" y="907920"/>
            <a:ext cx="741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表现的是对单调的厌恶，对新鲜美好的欢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灰色天地的樊笼里挣脱出来的鲜红和嫩绿，不正是对青春和力的赞美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运用了对比的手法，表现了孩子的天真烂漫、无私无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可以有主题，也可以无主题。这首诗归纳不出主题思想，只给人一种印象，一种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907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张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198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李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1128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王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11280" y="4076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赵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3:24:13Z</dcterms:created>
  <dc:creator>19591010</dc:creator>
  <dc:description/>
  <dc:language>en-US</dc:language>
  <cp:lastModifiedBy>Administrator</cp:lastModifiedBy>
  <dcterms:modified xsi:type="dcterms:W3CDTF">2015-09-18T01:45:55Z</dcterms:modified>
  <cp:revision>47</cp:revision>
  <dc:subject/>
  <dc:title>中学语文在线-免费资源站（ywzx8.com）</dc:title>
</cp:coreProperties>
</file>