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</p:sldMasterIdLst>
  <p:sldIdLst>
    <p:sldId id="256" r:id="rId31"/>
    <p:sldId id="257" r:id="rId32"/>
    <p:sldId id="258" r:id="rId33"/>
    <p:sldId id="259" r:id="rId34"/>
    <p:sldId id="260" r:id="rId35"/>
    <p:sldId id="261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93A3-B203-4F2E-812B-659BB419E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31E4-BA65-48AC-9A48-27B72523E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62FF03-D4B3-43A3-B0B5-1B74C3942B52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803415-845D-4C13-A583-D181B8C9EF98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35E17D-F2F9-484E-BA00-C5D41E16D9CF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90ADBA-ACF1-4E52-ACA3-62ADC4C4D5B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CDBE23-838F-4C20-9230-38D63AF14CD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C41FF2-A144-4543-9FF8-40FE442DE60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44ADF5-D832-4B1E-957D-3E30B2837D29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7D0167-B0D3-4BB7-9E11-2FF00981EBB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86CF7E-A0AE-4076-8AB1-B62154AECB6C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971372-531F-47A8-B840-4DD346349D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52B6-9645-4599-AC05-46C2B3AF8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63451F-1CA9-4D8F-8FC9-DC284426C6DF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BC0FD5-3196-46F6-8367-2DBBE2FCF547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47E747-2E69-45BB-8C7A-7E0EC60BB6A2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9B68F9-DB6C-4EF7-BF00-2282CFB7D88C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86FCC3-BD14-4736-B74D-CDB749BE82B7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082413-4145-47CA-A0A4-F042C69BB364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FB6F51-CA5B-4C8F-BA64-D592C27DCBE5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AC684D-EE08-4370-BC12-F2F9A695520F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2BE7C6-BC17-4F89-82DC-2A54C5443AC9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F47834-DB68-487D-A8C6-87C5D25E28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8E64-538A-480C-BE3F-3160C2087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24DEAE-521C-43EF-B59D-E5C527DF9A2D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6BF15F8-678F-4472-9804-124D00A305A7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82AE0BB-15E7-4A64-BAAC-15F43FE6E404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184B83E-5E28-4B39-9397-E1ACBA244520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BDF2F2D-B5C3-4CFA-BFA5-5F5AE00AE013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7B37CA2-D78A-4F90-A715-04C2758F8124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51EF8AB-5B06-4B37-B18E-95B9160A64A4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3866473-000C-47A3-9D09-440EDE1409DC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285DB42-59BE-4AFB-A4B1-A9A8C62EFFC5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8743F5A-5341-48C4-BD4C-8508BD50DA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EB5A21-298F-4D15-A5B7-8D2B2E6B93ED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8C64323-B81D-4B35-B905-20B0141235C7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AD69219-479B-468F-9342-4ECBC03A16B5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64C3ACE-500B-41C2-803B-F34DBB6A37FF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94EF37-98F9-4EE7-BC4E-CDC8195BDC6A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5F3626-0385-45D2-AA34-4D8EE07D6326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01AFD2-E47E-4C51-9E2E-567F12B129FA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CF4861-0572-42DD-BEAB-105402D28D80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5912B4-906B-4C48-8A5A-6FDB145ECE1D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B06BC5-090D-4885-8460-9E4BC394E653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301AB9-C450-4194-9F53-27CF8D2E04B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7BD426-1DED-4AE9-8CD7-ADB59256A302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CB9DD0-D3F5-4938-8D9C-C8162205E77E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FB39D7-339A-49A2-8D00-31E0E9C21B2B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FE6375-F360-413C-B04E-BABAE9E40A0C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BB9EDB-8C4B-4C11-AE63-759AD606B942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51E7CD-1F7B-49BB-8289-BAD52357C659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7B6C5F-0CBF-4C30-B8AE-FF00F0062EF9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6C87B4-2AEA-45EC-AA64-95295FC23E25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FAE300-D080-460C-9924-E4834DF98FA7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DE3D5C-0793-483B-B4D0-81F44481E70B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8C65B5-200C-42FF-98F6-A585FC83A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042722-37D6-475A-8402-B275738CF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F61C4F-820A-4A95-9E52-5B32E9CAC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2905A0-7549-485E-B2CC-952F5C220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4E267E-D232-41CD-B413-860900B02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502CD3-A2BF-439E-848D-155D7F443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F2F278-0013-4196-98D4-B7952687E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65E3A3-1513-4866-803C-CEE6962BE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084BB2-31C9-4D82-A27D-6310056C9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EE662E-F37F-4F8E-93B6-6F22F78E5816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9F4D17-0B7E-44DE-B5EB-B85097BD9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9DDE8C-163A-4F4D-B5F2-AC8B9C4A8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F8DF60-10FB-4E76-AF70-E4EB51B57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2B9C-0819-42E2-B300-8D2407739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BABE88-3078-464F-9E6C-C12EEFF61437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3C0717B-10F1-4FBD-A00E-9AC22A1DD58C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AA68A6C-C1BA-4210-A867-4B8E7799293B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623FAD5-69A0-486C-9619-3037C55767C0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A2E567D-70DB-4C64-BFBF-54614C6B572C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811358B-E3AF-4653-95C4-3F065BC359D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BD7912-6520-4FBD-ADE9-592902D64CF1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85034B2-CC6B-40D0-BED4-98D9A14A326A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630DDAE-8BD0-42F2-9A22-D897456DA422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09B00B1-5F54-4113-BF25-956F168FC015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7076B73-080D-4AE1-83BD-1D8218D7A99A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4795CC6-E6C4-4016-832F-9F06F60A9CCE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6E53DCD-CC19-437C-AEFF-1D363A09F46C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4895969-909D-458A-AFF8-CAB53AFB4E7A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45F3E4-1216-4B4B-82A7-0CDDAD12B669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6CAFB0-F1AE-42F4-A666-255ADA674FFA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400AE5-14B4-45E2-A8DC-397E25BE0D1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66AA5B-F807-4485-BD85-61AE66C281A3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BDE2E8-A0B2-4C01-B596-6FE3E2652E21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777586-5C66-4CF3-9583-3A55B8085D96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5A9B1C-0111-4EDD-A85E-615CADB99D15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14D95F-4F6C-4F2C-8DB9-4F0E9C77A530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396A74-E498-43D1-9B8F-ACB9F2D553AB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C85D87-9B45-4127-BABE-88A412800186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23CCC7-E0AF-4912-9154-E164E4B4DC6D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27EF4F-424A-4A3D-B207-318E23B0D604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9F0419-0F4E-4AAD-AA07-205834229254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7BFD2D-47D8-402A-BD3C-C60A234ED661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43D79E-8FCE-4144-97FF-E58BBAC9E8B9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9EA430-03FA-415F-976D-F18F8E853F81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761DE2-F8C3-4E01-893D-4438F906CBE2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521EDD-0A9A-49AB-B327-19CDA8D45402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6BCD53-7095-45E7-A596-9DBBFC77C100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2FBD44-7987-455E-B6D2-5F2CF1930972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A248B4-AA44-4436-931E-246101AABDEA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ECE812-688F-4A99-AE72-B7DF1041247B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DD9A87-2B70-420B-92BA-FB9A5454E4ED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421CBC-CAC2-4FF8-B93F-9B39EAE11D0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7B189A-75FF-4A17-98AF-2C936E6FA667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FF95F9-5ECB-437A-8A00-420EB30001C2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07054C-6B92-4EAD-A831-2754FF536C53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2281C6-9BDB-4016-A586-DC209EDA2937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239AA58-248C-40AD-8D16-A2E5F9979152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B6E7571-D174-40A9-B7BE-0EBCDDC4C1E4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5E1387E-439B-4895-BC54-4E777F02029A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A5AE183-FFF9-4056-8557-61FC1EEC8B62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5F093CA-08A0-4FF7-815C-37BE923105B6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1CDEA0B-8634-4EAB-B071-929A5164F1DE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AA74D2C-4462-49F8-BB8F-5818DFBB05D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D53DB1-6135-4738-80E1-7D4B4158D58A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E5036AD-0CAF-4152-BDD6-2CF1E77588AF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12E78A4-EA8C-4CA9-9A2B-2C7C54FAB947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56456FE-3E0A-4114-B93E-1E082759119E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A3D7265-ED3B-40A9-8397-40BD8CB44E79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80AEDFB-5A8B-46E5-B9B0-57CE578851FF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1D3D77-7EB1-44E3-8521-A98BAA22DD96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944DD5-C873-4B3C-8D53-20CA26720C9E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573648-44DA-4E79-B0BF-FD1191471264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9E36F2-43DF-4CC2-924F-23631E8D9512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EEA7F3-1B12-4B7A-B261-DCA8EA86644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2BF9FF-137A-4D8B-987C-11F4A4ED952D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6BF98B-FA26-4E7F-8CF8-B9E416AC2367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4B2F15-1B84-4AEC-A7C7-306A6F6E2C4C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947D8A-C0EF-4E98-A081-85E37E400464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4869B0-4F58-46C6-A2E3-006E062BEC13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FE2318-1038-4C2C-ABCC-87F92A0338E5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25B272-4485-4153-8061-C9F4FA7FCCC5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75D1FA-BF05-4314-B57B-650BD3426930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E5E10F-44A3-47A8-9242-E4D599A95142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75B85F-D472-4CD1-9FD2-654B13AD841E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C4472D-51F7-4BFE-B4C2-2795EF50897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60ECA4-E994-4AF3-A959-040237FA991B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D8E8F8-A3BA-42B5-8A61-5644D6A6D453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D09528-2E70-44A8-87D2-8AA0EDBEBA65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6597E6-0669-4096-86FC-9C5047811B48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D7606C-23C3-4D10-9E77-0F3E70CF37EF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6CF061-F6EC-4957-AAE7-94F2E0EBCF9B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1EB88F-4029-49C6-A350-261B37B048BE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E089E5-E107-488E-B8C1-B252C880C12F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0F8A9E-4C34-4DD0-A7E6-3BA7C2E3B754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8EDBF4-6867-4100-9D6C-0C9BFD789168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B070E82-4927-447A-BB79-335B822EAC3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2B075B-1DA0-4192-956C-0921909DA035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50AFE70-6378-476F-BA35-CB3D0AAFB4F1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D376698-4696-4D02-98F6-9059FA635E17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EFEA609-81DB-481F-9451-3D4825F89F25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D486D4C-EAD3-481E-8489-81BA1EDC30C5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A66FE72-B2DE-4000-9EA2-0B6F68C2BF36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52AD0B9-AC27-4466-BE2F-AEDADF874D0C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A038DF3-E2E7-4EC4-8FE3-530DB77AF780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6CC9C97-DD2B-421A-98FE-5C1DB31783DC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5DFD7E7-0E2F-44EA-9758-00DA4C291E3C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329653F-8164-4086-BACB-B8A581B7DF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FB5F-E220-4EFC-935C-B9E79BC4A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09F2BF-C626-4F9E-A432-6EB8564A55F6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BAB81F7-C634-4086-AEDB-EE5119F98B42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258E7C-A2F3-4FCF-9349-53A89C5F23B9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A4FB58-EF2F-4460-BE65-90EEEAFA7C09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42F393-ABB8-48F7-A0F6-F86B6FDE9A68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A01608F-12DB-4A93-A982-4822B8D60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AC90B5B-A012-41D7-B910-6E5187D6F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E0ACECC-6806-4B4E-A49E-B2635951E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5D14DA-9A57-42A3-9FF0-A32D32834C9C}" type="slidenum">
              <a:t>&lt;#&gt;</a:t>
            </a:fld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3E09532-4734-435A-ABFF-D0834C79A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B14C155-77AC-4AFC-BF89-138A670A4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CC994EB-97C6-40A0-AFBF-CC5F8193D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DF98F7A-E875-4BA6-AF9B-B19A60AC8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2819330-CAA0-49B7-986C-5FCBF330E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3446FFB-A221-407D-B3EB-1CAC7DA92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4C9DD76-F3B2-40CD-A708-D0FCD4112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C5F743E-F135-478D-97AF-BFAF43B00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F067B83-34C1-453F-B7DB-4C9AA8443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F9482C-125E-475C-91A5-0FD1CB3FD26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BADAAA-B758-4DCD-BF60-44687E9FA8E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65A0-BE8D-431A-8736-8CB7F50DD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0AF06-4A9C-4375-BCEA-0BCC34B4D6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EF96-B1A3-4F75-88D2-551414996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5A81C-7AC7-490A-9231-FF0E0390434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5CEBC-1A9B-4719-B638-8D886B66FF9A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D536C-7E53-402C-968D-F3203378C68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3BD02-D701-44C8-B3B4-B58A9B4323E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E2A17-819C-4AF5-B28D-830CE3479FE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37408-794C-49EF-9483-4C876091232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F1E84-A299-42A0-8855-D2F2A483495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16E33-A84F-4587-9C98-3703F6FDE51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81DDE-48F3-41C1-A553-F625E1A67F89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016F8-E7A4-4180-8A68-7702D865F2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8739-75AB-44D4-9E88-8082AE4EB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85682-17CD-44F8-B40A-2C6AE62ACAE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7C97FF-94D4-4598-A270-ABBD2308181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E0C544-DA69-41B7-B027-FFCA93F41C9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D255B0-100A-4A1A-B98E-71CA837F0B7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1FA55F-E3E4-4313-AA4D-B6C9D621EFE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BF7320-8AAD-4E23-8E97-334A945FBEA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AC15E6-7D62-4910-8E15-DC8E2E0C721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795885-634C-4C0F-A4CF-CEC56D0C15D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9D4906-48D3-4C9D-A5EA-E12AE174B7A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510A29-F65A-400F-9126-50054F0D9A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52F1-D322-4458-A9C2-C9FF115E9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97C620-B0A1-4896-9A5E-DF9AC477EFE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A883AE-6AEE-4DCF-95E1-878D386661B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7028C4-189C-46D2-B459-167BAC6F2F40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22F5-86AF-43F1-8378-BA0FE8FE6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3630BD5-E9DD-4EA1-97C2-3682D47001D9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137FC91-EE20-4880-ADD8-417336089EB2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23321CB-E0F2-4DFD-98F8-33B37F007E2A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E6356B9-E877-4F9F-81DB-1103375D2F3F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9DD0171-BE36-48E0-911C-F8CF200D19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EEE5-1AA0-4D50-B91C-DACE3139C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5B507AD-2D8D-42A1-8834-C91A287DDEA7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826C446-CBD7-4E3F-B8A9-1ADF4477D0AD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2B4A8CB-950D-4160-A2D4-81957C3F563C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40FCB8A-EC6D-4A7C-95BA-092F64F8AE43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0725616-B850-47A1-A93C-15BAF8D9411C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E3756AD-AE19-4E80-BE91-CC8F56744B60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0D21FE2-C977-4DCE-9D2C-1D41404C00AE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1323DC-450E-4DB3-A532-78663262863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6435CD-289F-47E8-8FB7-68313F0DDA73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10BDD3-9A50-40C3-A331-87C44D7E95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93.xml"/><Relationship Id="rId8" Type="http://schemas.openxmlformats.org/officeDocument/2006/relationships/slideLayout" Target="../slideLayouts/slideLayout194.xml"/><Relationship Id="rId9" Type="http://schemas.openxmlformats.org/officeDocument/2006/relationships/slideLayout" Target="../slideLayouts/slideLayout195.xml"/><Relationship Id="rId10" Type="http://schemas.openxmlformats.org/officeDocument/2006/relationships/slideLayout" Target="../slideLayouts/slideLayout196.xml"/><Relationship Id="rId11" Type="http://schemas.openxmlformats.org/officeDocument/2006/relationships/slideLayout" Target="../slideLayouts/slideLayout197.xml"/><Relationship Id="rId12" Type="http://schemas.openxmlformats.org/officeDocument/2006/relationships/slideLayout" Target="../slideLayouts/slideLayout198.xml"/><Relationship Id="rId13" Type="http://schemas.openxmlformats.org/officeDocument/2006/relationships/slideLayout" Target="../slideLayouts/slideLayout199.xml"/><Relationship Id="rId14" Type="http://schemas.openxmlformats.org/officeDocument/2006/relationships/slideLayout" Target="../slideLayouts/slideLayout200.xml"/><Relationship Id="rId15" Type="http://schemas.openxmlformats.org/officeDocument/2006/relationships/slideLayout" Target="../slideLayouts/slideLayout201.xml"/><Relationship Id="rId16" Type="http://schemas.openxmlformats.org/officeDocument/2006/relationships/slideLayout" Target="../slideLayouts/slideLayout202.xml"/><Relationship Id="rId17" Type="http://schemas.openxmlformats.org/officeDocument/2006/relationships/slideLayout" Target="../slideLayouts/slideLayout203.xml"/><Relationship Id="rId18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070B7-DDB0-43B2-9706-CD21EE6D4AD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sldNum" idx="17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2A17F-65CB-4369-8792-3A694A60CB9F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5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sldNum" idx="19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D36ED-700F-44F0-9D42-E76D87E5DCA6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sldNum" idx="21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56F20-67E3-4AB3-B8B2-C2F9A58FB3BF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5" descr="Orange outline.jpg"/>
          <p:cNvPicPr/>
          <p:nvPr/>
        </p:nvPicPr>
        <p:blipFill>
          <a:blip r:embed="rId3"/>
          <a:stretch/>
        </p:blipFill>
        <p:spPr>
          <a:xfrm>
            <a:off x="7439040" y="6043680"/>
            <a:ext cx="1425600" cy="58572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292929"/>
                </a:solidFill>
                <a:latin typeface="Segoe U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92929"/>
                </a:solidFill>
                <a:latin typeface="Segoe UI"/>
                <a:ea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 type="sldNum" idx="24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884D7-142B-4FE4-A2A7-00D21249AE84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5"/>
          <p:cNvSpPr/>
          <p:nvPr/>
        </p:nvSpPr>
        <p:spPr>
          <a:xfrm>
            <a:off x="1606680" y="0"/>
            <a:ext cx="29196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6"/>
          <p:cNvSpPr/>
          <p:nvPr/>
        </p:nvSpPr>
        <p:spPr>
          <a:xfrm>
            <a:off x="0" y="1347840"/>
            <a:ext cx="206280" cy="85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U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7"/>
          <p:cNvSpPr/>
          <p:nvPr/>
        </p:nvSpPr>
        <p:spPr>
          <a:xfrm>
            <a:off x="8953560" y="5303880"/>
            <a:ext cx="190440" cy="47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8"/>
          <p:cNvSpPr/>
          <p:nvPr/>
        </p:nvSpPr>
        <p:spPr>
          <a:xfrm>
            <a:off x="1606680" y="6273720"/>
            <a:ext cx="1269720" cy="58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Picture 3" descr="C:\Documents and Settings\rob.morrison\Desktop\PiL_PPT\Picture 20.png"/>
          <p:cNvPicPr/>
          <p:nvPr/>
        </p:nvPicPr>
        <p:blipFill>
          <a:blip r:embed="rId3"/>
          <a:stretch/>
        </p:blipFill>
        <p:spPr>
          <a:xfrm>
            <a:off x="4054320" y="573120"/>
            <a:ext cx="4557960" cy="392904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10" descr="Blue_Background.png"/>
          <p:cNvPicPr/>
          <p:nvPr/>
        </p:nvPicPr>
        <p:blipFill>
          <a:blip r:embed="rId4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11" descr="yellow-square.png"/>
          <p:cNvPicPr/>
          <p:nvPr/>
        </p:nvPicPr>
        <p:blipFill>
          <a:blip r:embed="rId5">
            <a:lum bright="-6000"/>
          </a:blip>
          <a:stretch/>
        </p:blipFill>
        <p:spPr>
          <a:xfrm>
            <a:off x="2876400" y="368280"/>
            <a:ext cx="1722600" cy="183348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2" descr="M:\Public Sector\FY10 Active Jobs\SLX00019_PiL_More Templates\STUDIO\Print\PiL_PPT\Partners-in-Learning_2_bL_r.png"/>
          <p:cNvPicPr/>
          <p:nvPr/>
        </p:nvPicPr>
        <p:blipFill>
          <a:blip r:embed="rId6"/>
          <a:stretch/>
        </p:blipFill>
        <p:spPr>
          <a:xfrm>
            <a:off x="339840" y="6146640"/>
            <a:ext cx="1766880" cy="408240"/>
          </a:xfrm>
          <a:prstGeom prst="rect">
            <a:avLst/>
          </a:prstGeom>
          <a:ln w="0">
            <a:noFill/>
          </a:ln>
        </p:spPr>
      </p:pic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7"/>
    <p:sldLayoutId id="2147483858" r:id="rId8"/>
    <p:sldLayoutId id="2147483859" r:id="rId9"/>
    <p:sldLayoutId id="2147483860" r:id="rId10"/>
    <p:sldLayoutId id="2147483861" r:id="rId11"/>
    <p:sldLayoutId id="2147483862" r:id="rId12"/>
    <p:sldLayoutId id="2147483863" r:id="rId13"/>
    <p:sldLayoutId id="2147483864" r:id="rId14"/>
    <p:sldLayoutId id="2147483865" r:id="rId15"/>
    <p:sldLayoutId id="2147483866" r:id="rId16"/>
    <p:sldLayoutId id="2147483867" r:id="rId17"/>
    <p:sldLayoutId id="2147483868" r:id="rId18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5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 type="sldNum" idx="26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6E3D2-A1E3-48D2-9E77-65792B8CDE00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6" name="Picture 5" descr="circles-yellow.png"/>
          <p:cNvPicPr/>
          <p:nvPr/>
        </p:nvPicPr>
        <p:blipFill>
          <a:blip r:embed="rId3"/>
          <a:stretch/>
        </p:blipFill>
        <p:spPr>
          <a:xfrm>
            <a:off x="7831080" y="3637080"/>
            <a:ext cx="1135080" cy="2262240"/>
          </a:xfrm>
          <a:prstGeom prst="rect">
            <a:avLst/>
          </a:prstGeom>
          <a:ln w="0">
            <a:noFill/>
          </a:ln>
        </p:spPr>
      </p:pic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 type="sldNum" idx="28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0AD04-E169-4EED-BEDF-D44B9C7D5062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A5C64-13FD-42F8-A3A4-7DE73D695084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7" name="Picture 5" descr="yellow-square.png"/>
          <p:cNvPicPr/>
          <p:nvPr/>
        </p:nvPicPr>
        <p:blipFill>
          <a:blip r:embed="rId3"/>
          <a:stretch/>
        </p:blipFill>
        <p:spPr>
          <a:xfrm>
            <a:off x="6622920" y="3687840"/>
            <a:ext cx="1987560" cy="2117520"/>
          </a:xfrm>
          <a:prstGeom prst="rect">
            <a:avLst/>
          </a:prstGeom>
          <a:ln w="0">
            <a:noFill/>
          </a:ln>
        </p:spPr>
      </p:pic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6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 type="sldNum" idx="30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9F50E-7CFB-40C1-8EDD-FC3439799A7A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7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ftr" idx="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 type="sldNum" idx="32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9140B-0AF7-4C7B-81C4-E53C48B2E79B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8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ftr" idx="3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 type="sldNum" idx="34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A68AD-373C-4FDF-ADE2-BE4EA48E3575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Picture 5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 type="sldNum" idx="36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FBD76-F55D-41AA-98A8-1C94B67D2166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0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ftr" idx="3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sldNum" idx="38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59DA5-B603-441B-AFA6-02180F82382A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5" descr="Orange outline.jpg"/>
          <p:cNvPicPr/>
          <p:nvPr/>
        </p:nvPicPr>
        <p:blipFill>
          <a:blip r:embed="rId3"/>
          <a:stretch/>
        </p:blipFill>
        <p:spPr>
          <a:xfrm>
            <a:off x="7439040" y="6043680"/>
            <a:ext cx="1425600" cy="585720"/>
          </a:xfrm>
          <a:prstGeom prst="rect">
            <a:avLst/>
          </a:prstGeom>
          <a:ln w="0">
            <a:noFill/>
          </a:ln>
        </p:spPr>
      </p:pic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 type="dt" idx="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292929"/>
                </a:solidFill>
                <a:latin typeface="Segoe U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92929"/>
                </a:solidFill>
                <a:latin typeface="Segoe UI"/>
                <a:ea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 type="ftr" idx="4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 type="sldNum" idx="41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0A504-9E11-42CA-8EAA-0463A32B5D8A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7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F981D-2DCB-4C25-A731-1C40A70FB61A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5"/>
          <p:cNvSpPr/>
          <p:nvPr/>
        </p:nvSpPr>
        <p:spPr>
          <a:xfrm>
            <a:off x="1606680" y="0"/>
            <a:ext cx="29196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0" y="1347840"/>
            <a:ext cx="206280" cy="85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U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8953560" y="5303880"/>
            <a:ext cx="190440" cy="47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1606680" y="6273720"/>
            <a:ext cx="1269720" cy="58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C:\Documents and Settings\rob.morrison\Desktop\PiL_PPT\Picture 20.png"/>
          <p:cNvPicPr/>
          <p:nvPr/>
        </p:nvPicPr>
        <p:blipFill>
          <a:blip r:embed="rId3"/>
          <a:stretch/>
        </p:blipFill>
        <p:spPr>
          <a:xfrm>
            <a:off x="4054320" y="573120"/>
            <a:ext cx="4557960" cy="3929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Blue_Background.png"/>
          <p:cNvPicPr/>
          <p:nvPr/>
        </p:nvPicPr>
        <p:blipFill>
          <a:blip r:embed="rId4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yellow-square.png"/>
          <p:cNvPicPr/>
          <p:nvPr/>
        </p:nvPicPr>
        <p:blipFill>
          <a:blip r:embed="rId5">
            <a:lum bright="-6000"/>
          </a:blip>
          <a:stretch/>
        </p:blipFill>
        <p:spPr>
          <a:xfrm>
            <a:off x="2876400" y="368280"/>
            <a:ext cx="1722600" cy="18334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M:\Public Sector\FY10 Active Jobs\SLX00019_PiL_More Templates\STUDIO\Print\PiL_PPT\Partners-in-Learning_2_bL_r.png"/>
          <p:cNvPicPr/>
          <p:nvPr/>
        </p:nvPicPr>
        <p:blipFill>
          <a:blip r:embed="rId6"/>
          <a:stretch/>
        </p:blipFill>
        <p:spPr>
          <a:xfrm>
            <a:off x="339840" y="6146640"/>
            <a:ext cx="1766880" cy="4082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9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C3C19-9D78-4E7E-8D1A-15445D6B6898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5" descr="circles-yellow.png"/>
          <p:cNvPicPr/>
          <p:nvPr/>
        </p:nvPicPr>
        <p:blipFill>
          <a:blip r:embed="rId3"/>
          <a:stretch/>
        </p:blipFill>
        <p:spPr>
          <a:xfrm>
            <a:off x="7831080" y="3637080"/>
            <a:ext cx="1135080" cy="226224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sldNum" idx="11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7124D-1F2F-492B-8827-8F179861E4FC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5" descr="yellow-square.png"/>
          <p:cNvPicPr/>
          <p:nvPr/>
        </p:nvPicPr>
        <p:blipFill>
          <a:blip r:embed="rId3"/>
          <a:stretch/>
        </p:blipFill>
        <p:spPr>
          <a:xfrm>
            <a:off x="6622920" y="3687840"/>
            <a:ext cx="1987560" cy="211752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13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852C1-6048-4CEB-A016-138FAB0AD7E0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sldNum" idx="15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3FBB9-A513-4026-BABF-38571CB9C48D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1ppt.com/moban/" TargetMode="External"/><Relationship Id="rId3" Type="http://schemas.openxmlformats.org/officeDocument/2006/relationships/hyperlink" Target="http://www.1ppt.com/hangye/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TextBox 3"/>
          <p:cNvSpPr/>
          <p:nvPr/>
        </p:nvSpPr>
        <p:spPr>
          <a:xfrm>
            <a:off x="1771560" y="857160"/>
            <a:ext cx="30610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卡通幻灯片模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学习的校园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TextBox 4"/>
          <p:cNvSpPr/>
          <p:nvPr/>
        </p:nvSpPr>
        <p:spPr>
          <a:xfrm>
            <a:off x="1121760" y="2225520"/>
            <a:ext cx="329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CR173.COM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免费下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圆角矩形标注 5"/>
          <p:cNvSpPr/>
          <p:nvPr/>
        </p:nvSpPr>
        <p:spPr>
          <a:xfrm>
            <a:off x="1714680" y="3429000"/>
            <a:ext cx="1285560" cy="285840"/>
          </a:xfrm>
          <a:prstGeom prst="wedgeRoundRectCallout">
            <a:avLst>
              <a:gd name="adj1" fmla="val -33319"/>
              <a:gd name="adj2" fmla="val 92958"/>
              <a:gd name="adj3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圆角矩形标注 7"/>
          <p:cNvSpPr/>
          <p:nvPr/>
        </p:nvSpPr>
        <p:spPr>
          <a:xfrm>
            <a:off x="1714680" y="3429000"/>
            <a:ext cx="1285560" cy="285840"/>
          </a:xfrm>
          <a:prstGeom prst="wedgeRoundRectCallout">
            <a:avLst>
              <a:gd name="adj1" fmla="val -33319"/>
              <a:gd name="adj2" fmla="val 92958"/>
              <a:gd name="adj3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TextBox 12"/>
          <p:cNvSpPr/>
          <p:nvPr/>
        </p:nvSpPr>
        <p:spPr>
          <a:xfrm>
            <a:off x="4143240" y="178596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我们学习的校园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矩形 5"/>
          <p:cNvSpPr/>
          <p:nvPr/>
        </p:nvSpPr>
        <p:spPr>
          <a:xfrm>
            <a:off x="6308640" y="4218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3" name="그룹 27"/>
          <p:cNvGrpSpPr/>
          <p:nvPr/>
        </p:nvGrpSpPr>
        <p:grpSpPr>
          <a:xfrm>
            <a:off x="1981080" y="1558800"/>
            <a:ext cx="5543640" cy="3814920"/>
            <a:chOff x="1981080" y="1558800"/>
            <a:chExt cx="5543640" cy="3814920"/>
          </a:xfrm>
        </p:grpSpPr>
        <p:sp>
          <p:nvSpPr>
            <p:cNvPr id="1184" name="AutoShape 38"/>
            <p:cNvSpPr/>
            <p:nvPr/>
          </p:nvSpPr>
          <p:spPr>
            <a:xfrm>
              <a:off x="1981080" y="1558800"/>
              <a:ext cx="5543640" cy="614160"/>
            </a:xfrm>
            <a:prstGeom prst="roundRect">
              <a:avLst>
                <a:gd name="adj" fmla="val 14801"/>
              </a:avLst>
            </a:prstGeom>
            <a:solidFill>
              <a:srgbClr val="cae2ff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AutoShape 39"/>
            <p:cNvSpPr/>
            <p:nvPr/>
          </p:nvSpPr>
          <p:spPr>
            <a:xfrm>
              <a:off x="2022120" y="1607760"/>
              <a:ext cx="5445360" cy="493560"/>
            </a:xfrm>
            <a:prstGeom prst="roundRect">
              <a:avLst>
                <a:gd name="adj" fmla="val 11028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WordArt 40"/>
            <p:cNvSpPr txBox="1"/>
            <p:nvPr/>
          </p:nvSpPr>
          <p:spPr>
            <a:xfrm>
              <a:off x="2231640" y="1742760"/>
              <a:ext cx="1612800" cy="245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333333"/>
                  </a:solidFill>
                  <a:latin typeface="Arial Black"/>
                </a:rPr>
                <a:t>TITLE LIST</a:t>
              </a:r>
              <a:endParaRPr b="0" lang="en-US" sz="1400" spc="1" strike="noStrike">
                <a:ln w="0">
                  <a:noFill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187" name="WordArt 41"/>
            <p:cNvSpPr txBox="1"/>
            <p:nvPr/>
          </p:nvSpPr>
          <p:spPr>
            <a:xfrm>
              <a:off x="4147920" y="1804680"/>
              <a:ext cx="1512720" cy="122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1" strike="noStrike">
                  <a:ln w="0">
                    <a:noFill/>
                  </a:ln>
                  <a:solidFill>
                    <a:srgbClr val="333333"/>
                  </a:solidFill>
                  <a:latin typeface="Arial"/>
                </a:rPr>
                <a:t>CLICK TO ADD TITLE LIST !</a:t>
              </a:r>
              <a:endParaRPr b="0" lang="en-US" sz="800" spc="1" strike="noStrike">
                <a:ln w="0">
                  <a:noFill/>
                </a:ln>
                <a:solidFill>
                  <a:srgbClr val="333333"/>
                </a:solidFill>
                <a:latin typeface="Arial"/>
                <a:ea typeface="Arial"/>
              </a:endParaRPr>
            </a:p>
          </p:txBody>
        </p:sp>
        <p:sp>
          <p:nvSpPr>
            <p:cNvPr id="1188" name="Line 42"/>
            <p:cNvSpPr/>
            <p:nvPr/>
          </p:nvSpPr>
          <p:spPr>
            <a:xfrm flipH="1">
              <a:off x="3996720" y="1784160"/>
              <a:ext cx="4680" cy="20448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AutoShape 43"/>
            <p:cNvSpPr/>
            <p:nvPr/>
          </p:nvSpPr>
          <p:spPr>
            <a:xfrm>
              <a:off x="1981080" y="2357280"/>
              <a:ext cx="5543640" cy="614160"/>
            </a:xfrm>
            <a:prstGeom prst="roundRect">
              <a:avLst>
                <a:gd name="adj" fmla="val 14801"/>
              </a:avLst>
            </a:prstGeom>
            <a:solidFill>
              <a:srgbClr val="85d5d7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AutoShape 44"/>
            <p:cNvSpPr/>
            <p:nvPr/>
          </p:nvSpPr>
          <p:spPr>
            <a:xfrm>
              <a:off x="2030040" y="2419200"/>
              <a:ext cx="5445360" cy="492120"/>
            </a:xfrm>
            <a:prstGeom prst="roundRect">
              <a:avLst>
                <a:gd name="adj" fmla="val 11028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WordArt 45"/>
            <p:cNvSpPr txBox="1"/>
            <p:nvPr/>
          </p:nvSpPr>
          <p:spPr>
            <a:xfrm>
              <a:off x="2231640" y="2543040"/>
              <a:ext cx="1612800" cy="24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333333"/>
                  </a:solidFill>
                  <a:latin typeface="Arial Black"/>
                </a:rPr>
                <a:t>TITLE LIST</a:t>
              </a:r>
              <a:endParaRPr b="0" lang="en-US" sz="1400" spc="1" strike="noStrike">
                <a:ln w="0">
                  <a:noFill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192" name="WordArt 46"/>
            <p:cNvSpPr txBox="1"/>
            <p:nvPr/>
          </p:nvSpPr>
          <p:spPr>
            <a:xfrm>
              <a:off x="4147920" y="2603160"/>
              <a:ext cx="1512720" cy="122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1" strike="noStrike">
                  <a:ln w="0">
                    <a:noFill/>
                  </a:ln>
                  <a:solidFill>
                    <a:srgbClr val="333333"/>
                  </a:solidFill>
                  <a:latin typeface="Arial"/>
                </a:rPr>
                <a:t>CLICK TO ADD TITLE LIST !</a:t>
              </a:r>
              <a:endParaRPr b="0" lang="en-US" sz="800" spc="1" strike="noStrike">
                <a:ln w="0">
                  <a:noFill/>
                </a:ln>
                <a:solidFill>
                  <a:srgbClr val="333333"/>
                </a:solidFill>
                <a:latin typeface="Arial"/>
                <a:ea typeface="Arial"/>
              </a:endParaRPr>
            </a:p>
          </p:txBody>
        </p:sp>
        <p:sp>
          <p:nvSpPr>
            <p:cNvPr id="1193" name="Line 47"/>
            <p:cNvSpPr/>
            <p:nvPr/>
          </p:nvSpPr>
          <p:spPr>
            <a:xfrm>
              <a:off x="3997080" y="2543040"/>
              <a:ext cx="0" cy="24444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AutoShape 48"/>
            <p:cNvSpPr/>
            <p:nvPr/>
          </p:nvSpPr>
          <p:spPr>
            <a:xfrm>
              <a:off x="1981080" y="3159000"/>
              <a:ext cx="5543640" cy="614160"/>
            </a:xfrm>
            <a:prstGeom prst="roundRect">
              <a:avLst>
                <a:gd name="adj" fmla="val 14801"/>
              </a:avLst>
            </a:prstGeom>
            <a:solidFill>
              <a:srgbClr val="f8cb9a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AutoShape 49"/>
            <p:cNvSpPr/>
            <p:nvPr/>
          </p:nvSpPr>
          <p:spPr>
            <a:xfrm>
              <a:off x="2030040" y="3220920"/>
              <a:ext cx="5445360" cy="492120"/>
            </a:xfrm>
            <a:prstGeom prst="roundRect">
              <a:avLst>
                <a:gd name="adj" fmla="val 11028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WordArt 50"/>
            <p:cNvSpPr txBox="1"/>
            <p:nvPr/>
          </p:nvSpPr>
          <p:spPr>
            <a:xfrm>
              <a:off x="2231640" y="3344760"/>
              <a:ext cx="1612800" cy="24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333333"/>
                  </a:solidFill>
                  <a:latin typeface="Arial Black"/>
                </a:rPr>
                <a:t>TITLE LIST</a:t>
              </a:r>
              <a:endParaRPr b="0" lang="en-US" sz="1400" spc="1" strike="noStrike">
                <a:ln w="0">
                  <a:noFill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197" name="WordArt 51"/>
            <p:cNvSpPr txBox="1"/>
            <p:nvPr/>
          </p:nvSpPr>
          <p:spPr>
            <a:xfrm>
              <a:off x="4147920" y="3405240"/>
              <a:ext cx="1512720" cy="122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1" strike="noStrike">
                  <a:ln w="0">
                    <a:noFill/>
                  </a:ln>
                  <a:solidFill>
                    <a:srgbClr val="333333"/>
                  </a:solidFill>
                  <a:latin typeface="Arial"/>
                </a:rPr>
                <a:t>CLICK TO ADD TITLE LIST !</a:t>
              </a:r>
              <a:endParaRPr b="0" lang="en-US" sz="800" spc="1" strike="noStrike">
                <a:ln w="0">
                  <a:noFill/>
                </a:ln>
                <a:solidFill>
                  <a:srgbClr val="333333"/>
                </a:solidFill>
                <a:latin typeface="Arial"/>
                <a:ea typeface="Arial"/>
              </a:endParaRPr>
            </a:p>
          </p:txBody>
        </p:sp>
        <p:sp>
          <p:nvSpPr>
            <p:cNvPr id="1198" name="Line 52"/>
            <p:cNvSpPr/>
            <p:nvPr/>
          </p:nvSpPr>
          <p:spPr>
            <a:xfrm>
              <a:off x="3997080" y="3344760"/>
              <a:ext cx="0" cy="24444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AutoShape 53"/>
            <p:cNvSpPr/>
            <p:nvPr/>
          </p:nvSpPr>
          <p:spPr>
            <a:xfrm>
              <a:off x="1981080" y="3959280"/>
              <a:ext cx="5543640" cy="614160"/>
            </a:xfrm>
            <a:prstGeom prst="roundRect">
              <a:avLst>
                <a:gd name="adj" fmla="val 14801"/>
              </a:avLst>
            </a:prstGeom>
            <a:solidFill>
              <a:srgbClr val="b5d280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AutoShape 54"/>
            <p:cNvSpPr/>
            <p:nvPr/>
          </p:nvSpPr>
          <p:spPr>
            <a:xfrm>
              <a:off x="2030040" y="4019400"/>
              <a:ext cx="5445360" cy="492120"/>
            </a:xfrm>
            <a:prstGeom prst="roundRect">
              <a:avLst>
                <a:gd name="adj" fmla="val 11028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WordArt 55"/>
            <p:cNvSpPr txBox="1"/>
            <p:nvPr/>
          </p:nvSpPr>
          <p:spPr>
            <a:xfrm>
              <a:off x="2231640" y="4143600"/>
              <a:ext cx="1612800" cy="245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333333"/>
                  </a:solidFill>
                  <a:latin typeface="Arial Black"/>
                </a:rPr>
                <a:t>TITLE LIST</a:t>
              </a:r>
              <a:endParaRPr b="0" lang="en-US" sz="1400" spc="1" strike="noStrike">
                <a:ln w="0">
                  <a:noFill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202" name="WordArt 56"/>
            <p:cNvSpPr txBox="1"/>
            <p:nvPr/>
          </p:nvSpPr>
          <p:spPr>
            <a:xfrm>
              <a:off x="4147920" y="4203720"/>
              <a:ext cx="1512720" cy="122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1" strike="noStrike">
                  <a:ln w="0">
                    <a:noFill/>
                  </a:ln>
                  <a:solidFill>
                    <a:srgbClr val="333333"/>
                  </a:solidFill>
                  <a:latin typeface="Arial"/>
                </a:rPr>
                <a:t>CLICK TO ADD TITLE LIST !</a:t>
              </a:r>
              <a:endParaRPr b="0" lang="en-US" sz="800" spc="1" strike="noStrike">
                <a:ln w="0">
                  <a:noFill/>
                </a:ln>
                <a:solidFill>
                  <a:srgbClr val="333333"/>
                </a:solidFill>
                <a:latin typeface="Arial"/>
                <a:ea typeface="Arial"/>
              </a:endParaRPr>
            </a:p>
          </p:txBody>
        </p:sp>
        <p:sp>
          <p:nvSpPr>
            <p:cNvPr id="1203" name="Line 57"/>
            <p:cNvSpPr/>
            <p:nvPr/>
          </p:nvSpPr>
          <p:spPr>
            <a:xfrm>
              <a:off x="3997080" y="4143240"/>
              <a:ext cx="0" cy="24588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AutoShape 58"/>
            <p:cNvSpPr/>
            <p:nvPr/>
          </p:nvSpPr>
          <p:spPr>
            <a:xfrm>
              <a:off x="1981080" y="4759560"/>
              <a:ext cx="5543640" cy="614160"/>
            </a:xfrm>
            <a:prstGeom prst="roundRect">
              <a:avLst>
                <a:gd name="adj" fmla="val 14801"/>
              </a:avLst>
            </a:prstGeom>
            <a:solidFill>
              <a:srgbClr val="70b8ff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AutoShape 59"/>
            <p:cNvSpPr/>
            <p:nvPr/>
          </p:nvSpPr>
          <p:spPr>
            <a:xfrm>
              <a:off x="2030040" y="4784760"/>
              <a:ext cx="5445360" cy="493560"/>
            </a:xfrm>
            <a:prstGeom prst="roundRect">
              <a:avLst>
                <a:gd name="adj" fmla="val 11028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WordArt 60"/>
            <p:cNvSpPr txBox="1"/>
            <p:nvPr/>
          </p:nvSpPr>
          <p:spPr>
            <a:xfrm>
              <a:off x="2231640" y="4943520"/>
              <a:ext cx="1612800" cy="245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333333"/>
                  </a:solidFill>
                  <a:latin typeface="Arial Black"/>
                </a:rPr>
                <a:t>TITLE LIST</a:t>
              </a:r>
              <a:endParaRPr b="0" lang="en-US" sz="1400" spc="1" strike="noStrike">
                <a:ln w="0">
                  <a:noFill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207" name="WordArt 61"/>
            <p:cNvSpPr txBox="1"/>
            <p:nvPr/>
          </p:nvSpPr>
          <p:spPr>
            <a:xfrm>
              <a:off x="4147920" y="5005440"/>
              <a:ext cx="1512720" cy="120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1" strike="noStrike">
                  <a:ln w="0">
                    <a:noFill/>
                  </a:ln>
                  <a:solidFill>
                    <a:srgbClr val="333333"/>
                  </a:solidFill>
                  <a:latin typeface="Arial"/>
                </a:rPr>
                <a:t>CLICK TO ADD TITLE LIST !</a:t>
              </a:r>
              <a:endParaRPr b="0" lang="en-US" sz="800" spc="1" strike="noStrike">
                <a:ln w="0">
                  <a:noFill/>
                </a:ln>
                <a:solidFill>
                  <a:srgbClr val="333333"/>
                </a:solidFill>
                <a:latin typeface="Arial"/>
                <a:ea typeface="Arial"/>
              </a:endParaRPr>
            </a:p>
          </p:txBody>
        </p:sp>
        <p:sp>
          <p:nvSpPr>
            <p:cNvPr id="1208" name="Line 62"/>
            <p:cNvSpPr/>
            <p:nvPr/>
          </p:nvSpPr>
          <p:spPr>
            <a:xfrm>
              <a:off x="3997080" y="4943520"/>
              <a:ext cx="0" cy="24588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9" name="그룹 54"/>
          <p:cNvGrpSpPr/>
          <p:nvPr/>
        </p:nvGrpSpPr>
        <p:grpSpPr>
          <a:xfrm>
            <a:off x="1052640" y="1558800"/>
            <a:ext cx="785520" cy="3814920"/>
            <a:chOff x="1052640" y="1558800"/>
            <a:chExt cx="785520" cy="3814920"/>
          </a:xfrm>
        </p:grpSpPr>
        <p:sp>
          <p:nvSpPr>
            <p:cNvPr id="1210" name="AutoShape 38"/>
            <p:cNvSpPr/>
            <p:nvPr/>
          </p:nvSpPr>
          <p:spPr>
            <a:xfrm>
              <a:off x="1052640" y="1558800"/>
              <a:ext cx="785520" cy="614160"/>
            </a:xfrm>
            <a:prstGeom prst="roundRect">
              <a:avLst>
                <a:gd name="adj" fmla="val 14801"/>
              </a:avLst>
            </a:prstGeom>
            <a:solidFill>
              <a:srgbClr val="cae2ff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AutoShape 39"/>
            <p:cNvSpPr/>
            <p:nvPr/>
          </p:nvSpPr>
          <p:spPr>
            <a:xfrm>
              <a:off x="1058760" y="1607760"/>
              <a:ext cx="771480" cy="493560"/>
            </a:xfrm>
            <a:prstGeom prst="roundRect">
              <a:avLst>
                <a:gd name="adj" fmla="val 11028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AutoShape 43"/>
            <p:cNvSpPr/>
            <p:nvPr/>
          </p:nvSpPr>
          <p:spPr>
            <a:xfrm>
              <a:off x="1052640" y="2357280"/>
              <a:ext cx="785520" cy="614160"/>
            </a:xfrm>
            <a:prstGeom prst="roundRect">
              <a:avLst>
                <a:gd name="adj" fmla="val 14801"/>
              </a:avLst>
            </a:prstGeom>
            <a:solidFill>
              <a:srgbClr val="85d5d7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AutoShape 44"/>
            <p:cNvSpPr/>
            <p:nvPr/>
          </p:nvSpPr>
          <p:spPr>
            <a:xfrm>
              <a:off x="1058760" y="2419200"/>
              <a:ext cx="772920" cy="492120"/>
            </a:xfrm>
            <a:prstGeom prst="roundRect">
              <a:avLst>
                <a:gd name="adj" fmla="val 11028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AutoShape 48"/>
            <p:cNvSpPr/>
            <p:nvPr/>
          </p:nvSpPr>
          <p:spPr>
            <a:xfrm>
              <a:off x="1052640" y="3159000"/>
              <a:ext cx="785520" cy="614160"/>
            </a:xfrm>
            <a:prstGeom prst="roundRect">
              <a:avLst>
                <a:gd name="adj" fmla="val 14801"/>
              </a:avLst>
            </a:prstGeom>
            <a:solidFill>
              <a:srgbClr val="f8cb9a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AutoShape 49"/>
            <p:cNvSpPr/>
            <p:nvPr/>
          </p:nvSpPr>
          <p:spPr>
            <a:xfrm>
              <a:off x="1058760" y="3220920"/>
              <a:ext cx="772920" cy="492120"/>
            </a:xfrm>
            <a:prstGeom prst="roundRect">
              <a:avLst>
                <a:gd name="adj" fmla="val 11028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AutoShape 53"/>
            <p:cNvSpPr/>
            <p:nvPr/>
          </p:nvSpPr>
          <p:spPr>
            <a:xfrm>
              <a:off x="1052640" y="3959280"/>
              <a:ext cx="785520" cy="614160"/>
            </a:xfrm>
            <a:prstGeom prst="roundRect">
              <a:avLst>
                <a:gd name="adj" fmla="val 14801"/>
              </a:avLst>
            </a:prstGeom>
            <a:solidFill>
              <a:srgbClr val="b5d280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AutoShape 54"/>
            <p:cNvSpPr/>
            <p:nvPr/>
          </p:nvSpPr>
          <p:spPr>
            <a:xfrm>
              <a:off x="1058760" y="4019400"/>
              <a:ext cx="772920" cy="492120"/>
            </a:xfrm>
            <a:prstGeom prst="roundRect">
              <a:avLst>
                <a:gd name="adj" fmla="val 11028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AutoShape 58"/>
            <p:cNvSpPr/>
            <p:nvPr/>
          </p:nvSpPr>
          <p:spPr>
            <a:xfrm>
              <a:off x="1052640" y="4759560"/>
              <a:ext cx="785520" cy="614160"/>
            </a:xfrm>
            <a:prstGeom prst="roundRect">
              <a:avLst>
                <a:gd name="adj" fmla="val 14801"/>
              </a:avLst>
            </a:prstGeom>
            <a:solidFill>
              <a:srgbClr val="70b8ff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AutoShape 59"/>
            <p:cNvSpPr/>
            <p:nvPr/>
          </p:nvSpPr>
          <p:spPr>
            <a:xfrm>
              <a:off x="1058760" y="4784760"/>
              <a:ext cx="772920" cy="493560"/>
            </a:xfrm>
            <a:prstGeom prst="roundRect">
              <a:avLst>
                <a:gd name="adj" fmla="val 11028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0" name="TextBox 56"/>
          <p:cNvSpPr/>
          <p:nvPr/>
        </p:nvSpPr>
        <p:spPr>
          <a:xfrm>
            <a:off x="1247760" y="156672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Times New Roman"/>
                <a:ea typeface="Gulim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TextBox 57"/>
          <p:cNvSpPr/>
          <p:nvPr/>
        </p:nvSpPr>
        <p:spPr>
          <a:xfrm>
            <a:off x="1247760" y="240048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Times New Roman"/>
                <a:ea typeface="Gulim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TextBox 58"/>
          <p:cNvSpPr/>
          <p:nvPr/>
        </p:nvSpPr>
        <p:spPr>
          <a:xfrm>
            <a:off x="1247760" y="318132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Times New Roman"/>
                <a:ea typeface="Gulim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TextBox 59"/>
          <p:cNvSpPr/>
          <p:nvPr/>
        </p:nvSpPr>
        <p:spPr>
          <a:xfrm>
            <a:off x="1247760" y="398772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Times New Roman"/>
                <a:ea typeface="Gulim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TextBox 60"/>
          <p:cNvSpPr/>
          <p:nvPr/>
        </p:nvSpPr>
        <p:spPr>
          <a:xfrm>
            <a:off x="1247760" y="477504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Times New Roman"/>
                <a:ea typeface="Gulim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TextBox 1" descr=""/>
          <p:cNvPicPr/>
          <p:nvPr/>
        </p:nvPicPr>
        <p:blipFill>
          <a:blip r:embed="rId2"/>
          <a:stretch/>
        </p:blipFill>
        <p:spPr>
          <a:xfrm>
            <a:off x="2341440" y="2419200"/>
            <a:ext cx="4924440" cy="11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8:16:02Z</dcterms:created>
  <dc:creator>SUSAN</dc:creator>
  <dc:description/>
  <cp:keywords/>
  <dc:language>en-US</dc:language>
  <cp:lastModifiedBy>Sky123.Org</cp:lastModifiedBy>
  <dcterms:modified xsi:type="dcterms:W3CDTF">2015-07-27T09:28:29Z</dcterms:modified>
  <cp:revision>24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