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5.jpeg" ContentType="image/jpeg"/>
  <Override PartName="/ppt/media/image14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4F0-5AC5-45F1-AB83-3CB23EFB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16CB-78EB-4D2B-8B6F-C0096CCC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2ED2-01A7-40D9-BF73-1105701B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1531-45D6-47C6-B694-42652259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62F-80E0-42B4-A5D8-906F613D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373-C20E-42E2-8948-6F53310C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8F6-B81A-4B88-8CDD-E060B86C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F07-6768-4436-9E5E-59173EA2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732-5057-45C2-B3FA-6DCB2988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899-2AF8-4EE5-A884-85C164A2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6A7D-54DB-42FA-A603-C00E9D29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8B61-A043-4222-A537-F28B08F6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D84D-C50C-43A6-B548-16BC231BFB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5105;&#36873;&#25105;.ppt" TargetMode="Externa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4.xml"/><Relationship Id="rId7" Type="http://schemas.openxmlformats.org/officeDocument/2006/relationships/image" Target="../media/image4.png"/><Relationship Id="rId8" Type="http://schemas.openxmlformats.org/officeDocument/2006/relationships/slide" Target="slide5.xml"/><Relationship Id="rId9" Type="http://schemas.openxmlformats.org/officeDocument/2006/relationships/image" Target="../media/image5.png"/><Relationship Id="rId10" Type="http://schemas.openxmlformats.org/officeDocument/2006/relationships/slide" Target="slide6.xml"/><Relationship Id="rId11" Type="http://schemas.openxmlformats.org/officeDocument/2006/relationships/image" Target="../media/image6.png"/><Relationship Id="rId12" Type="http://schemas.openxmlformats.org/officeDocument/2006/relationships/slide" Target="slide7.xml"/><Relationship Id="rId13" Type="http://schemas.openxmlformats.org/officeDocument/2006/relationships/image" Target="../media/image7.png"/><Relationship Id="rId14" Type="http://schemas.openxmlformats.org/officeDocument/2006/relationships/slide" Target="slide8.xml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59280" y="333360"/>
            <a:ext cx="29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Arial"/>
                <a:ea typeface="楷体_GB2312"/>
              </a:rPr>
              <a:t>我会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619280" y="2349360"/>
            <a:ext cx="5832360" cy="3098160"/>
            <a:chOff x="1619280" y="2349360"/>
            <a:chExt cx="5832360" cy="3098160"/>
          </a:xfrm>
        </p:grpSpPr>
        <p:sp>
          <p:nvSpPr>
            <p:cNvPr id="44" name=""/>
            <p:cNvSpPr/>
            <p:nvPr/>
          </p:nvSpPr>
          <p:spPr>
            <a:xfrm>
              <a:off x="1619280" y="2421000"/>
              <a:ext cx="79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委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76720" y="2370240"/>
              <a:ext cx="79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补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03640" y="2349360"/>
              <a:ext cx="79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室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659640" y="2349360"/>
              <a:ext cx="79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宁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9280" y="4530600"/>
              <a:ext cx="79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愣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48000" y="4530600"/>
              <a:ext cx="79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76720" y="4508640"/>
              <a:ext cx="79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集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659640" y="4508640"/>
              <a:ext cx="79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掌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547640" y="1557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19280" y="1700280"/>
            <a:ext cx="1019160" cy="752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348000" y="1700280"/>
            <a:ext cx="863640" cy="752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03640" y="1700280"/>
            <a:ext cx="943200" cy="752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3640" y="1700280"/>
            <a:ext cx="1333440" cy="752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476360" y="3860640"/>
            <a:ext cx="1266840" cy="752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348000" y="3860640"/>
            <a:ext cx="914400" cy="752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5292720" y="3860640"/>
            <a:ext cx="581040" cy="752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6"/>
          <a:stretch/>
        </p:blipFill>
        <p:spPr>
          <a:xfrm>
            <a:off x="6372360" y="3860640"/>
            <a:ext cx="1724040" cy="752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96360" y="6165720"/>
            <a:ext cx="720720" cy="28764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4081" h="21600">
                <a:moveTo>
                  <a:pt x="0" y="0"/>
                </a:moveTo>
                <a:lnTo>
                  <a:pt x="54081" y="0"/>
                </a:lnTo>
                <a:lnTo>
                  <a:pt x="54081" y="21600"/>
                </a:lnTo>
                <a:lnTo>
                  <a:pt x="0" y="21600"/>
                </a:lnTo>
                <a:close/>
              </a:path>
              <a:path fill="lightenLess" w="54081" h="21600">
                <a:moveTo>
                  <a:pt x="0" y="0"/>
                </a:moveTo>
                <a:lnTo>
                  <a:pt x="54081" y="0"/>
                </a:lnTo>
                <a:lnTo>
                  <a:pt x="52681" y="1400"/>
                </a:lnTo>
                <a:lnTo>
                  <a:pt x="1400" y="1400"/>
                </a:lnTo>
                <a:close/>
              </a:path>
              <a:path fill="darken" w="54081" h="21600">
                <a:moveTo>
                  <a:pt x="54081" y="0"/>
                </a:moveTo>
                <a:lnTo>
                  <a:pt x="54081" y="21600"/>
                </a:lnTo>
                <a:lnTo>
                  <a:pt x="52681" y="20200"/>
                </a:lnTo>
                <a:lnTo>
                  <a:pt x="52681" y="1400"/>
                </a:lnTo>
                <a:close/>
              </a:path>
              <a:path fill="darkenLess" w="54081" h="21600">
                <a:moveTo>
                  <a:pt x="5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81" y="20200"/>
                </a:lnTo>
                <a:close/>
              </a:path>
              <a:path fill="lighten" w="5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81" h="21600">
                <a:moveTo>
                  <a:pt x="20034" y="3794"/>
                </a:moveTo>
                <a:lnTo>
                  <a:pt x="34047" y="10800"/>
                </a:lnTo>
                <a:lnTo>
                  <a:pt x="2003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55640" y="682560"/>
            <a:ext cx="712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895320" cy="37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4360" y="98100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916280"/>
            <a:ext cx="6119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委员   补选   教室  王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愣住   亲切   集体  掌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一样   响起   学校  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6877080" y="616572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396" h="21600">
                <a:moveTo>
                  <a:pt x="21692" y="3794"/>
                </a:moveTo>
                <a:lnTo>
                  <a:pt x="35705" y="10800"/>
                </a:lnTo>
                <a:lnTo>
                  <a:pt x="216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77080" y="5805360"/>
            <a:ext cx="1368360" cy="577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257480" cy="1655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24000" y="2708280"/>
            <a:ext cx="54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620640"/>
            <a:ext cx="698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读一读，想一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王宁选自己当劳动委员，课文是怎么写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55640" y="2276640"/>
            <a:ext cx="7559640" cy="2320560"/>
            <a:chOff x="755640" y="2276640"/>
            <a:chExt cx="7559640" cy="2320560"/>
          </a:xfrm>
        </p:grpSpPr>
        <p:sp>
          <p:nvSpPr>
            <p:cNvPr id="101" name=""/>
            <p:cNvSpPr/>
            <p:nvPr/>
          </p:nvSpPr>
          <p:spPr>
            <a:xfrm>
              <a:off x="755640" y="2276640"/>
              <a:ext cx="755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选谁呢？教室里静悄悄的，大家都在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5640" y="3213000"/>
              <a:ext cx="755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突然，王宁站起来说：“我选我。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5640" y="4076640"/>
              <a:ext cx="755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王宁说：“我和李小青是好朋友。他爱劳动，爱集体。我要像他一样热爱劳动，关心集体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5640" y="682560"/>
            <a:ext cx="712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588000" y="5734080"/>
            <a:ext cx="1368720" cy="577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765000"/>
            <a:ext cx="1336680" cy="1800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92360" y="260280"/>
            <a:ext cx="1942920" cy="1008000"/>
          </a:xfrm>
          <a:prstGeom prst="wedgeRoundRectCallout">
            <a:avLst>
              <a:gd name="adj1" fmla="val -56453"/>
              <a:gd name="adj2" fmla="val 994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76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帮帮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79280" y="131760"/>
            <a:ext cx="1296720" cy="633240"/>
            <a:chOff x="179280" y="131760"/>
            <a:chExt cx="1296720" cy="633240"/>
          </a:xfrm>
        </p:grpSpPr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179280" y="131760"/>
              <a:ext cx="44856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5"/>
            <a:stretch/>
          </p:blipFill>
          <p:spPr>
            <a:xfrm>
              <a:off x="627840" y="131760"/>
              <a:ext cx="44892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6"/>
            <a:stretch/>
          </p:blipFill>
          <p:spPr>
            <a:xfrm>
              <a:off x="1027440" y="131760"/>
              <a:ext cx="448560" cy="63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"/>
          <p:cNvSpPr/>
          <p:nvPr/>
        </p:nvSpPr>
        <p:spPr>
          <a:xfrm>
            <a:off x="1332000" y="249228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选谁呢？教室里静悄悄的，大家都在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357336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教室里静悄悄的，大家都在想：选谁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458136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教室里静悄悄的，选谁呢？大家都在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92360" y="260280"/>
            <a:ext cx="1942920" cy="1008000"/>
          </a:xfrm>
          <a:prstGeom prst="wedgeRoundRectCallout">
            <a:avLst>
              <a:gd name="adj1" fmla="val -56453"/>
              <a:gd name="adj2" fmla="val 994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1336680" cy="1800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979640" y="476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帮帮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79280" y="131760"/>
            <a:ext cx="1296720" cy="633240"/>
            <a:chOff x="179280" y="131760"/>
            <a:chExt cx="1296720" cy="63324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179280" y="131760"/>
              <a:ext cx="44856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627840" y="131760"/>
              <a:ext cx="44892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1027440" y="131760"/>
              <a:ext cx="448560" cy="63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900000" y="2492280"/>
            <a:ext cx="7344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49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林老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亲切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地说：“王宁，说说吧，你为什么选自己？”   王宁说：“我和李小青是好朋友。他爱劳动，爱集体。我要像他一样热爱劳动，关心集体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7308720" y="6021360"/>
            <a:ext cx="89532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692360" y="3284640"/>
            <a:ext cx="1942920" cy="1008000"/>
          </a:xfrm>
          <a:prstGeom prst="wedgeRoundRectCallout">
            <a:avLst>
              <a:gd name="adj1" fmla="val -56453"/>
              <a:gd name="adj2" fmla="val 994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1336680" cy="180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050920" y="350028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帮帮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79280" y="3156120"/>
            <a:ext cx="1296720" cy="633240"/>
            <a:chOff x="179280" y="3156120"/>
            <a:chExt cx="1296720" cy="633240"/>
          </a:xfrm>
        </p:grpSpPr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179280" y="3156120"/>
              <a:ext cx="44856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4"/>
            <a:stretch/>
          </p:blipFill>
          <p:spPr>
            <a:xfrm>
              <a:off x="627840" y="3156120"/>
              <a:ext cx="44892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5"/>
            <a:stretch/>
          </p:blipFill>
          <p:spPr>
            <a:xfrm>
              <a:off x="1027440" y="3156120"/>
              <a:ext cx="448560" cy="63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7667640" y="6093000"/>
            <a:ext cx="895320" cy="323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42920" y="1557360"/>
            <a:ext cx="763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4997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王宁的话刚说完，教室里响起一片掌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079640" y="2878200"/>
            <a:ext cx="7164360" cy="1224000"/>
            <a:chOff x="1079640" y="2878200"/>
            <a:chExt cx="7164360" cy="1224000"/>
          </a:xfrm>
        </p:grpSpPr>
        <p:grpSp>
          <p:nvGrpSpPr>
            <p:cNvPr id="139" name=""/>
            <p:cNvGrpSpPr/>
            <p:nvPr/>
          </p:nvGrpSpPr>
          <p:grpSpPr>
            <a:xfrm>
              <a:off x="1079640" y="2878200"/>
              <a:ext cx="1224000" cy="1224000"/>
              <a:chOff x="1079640" y="2878200"/>
              <a:chExt cx="1224000" cy="1224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1079640" y="2878200"/>
                <a:ext cx="1224000" cy="1224000"/>
                <a:chOff x="1079640" y="2878200"/>
                <a:chExt cx="1224000" cy="1224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079640" y="2878200"/>
                  <a:ext cx="1224000" cy="1224000"/>
                </a:xfrm>
                <a:prstGeom prst="rect">
                  <a:avLst/>
                </a:prstGeom>
                <a:solidFill>
                  <a:srgbClr val="bbe0e3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692360" y="2924280"/>
                  <a:ext cx="0" cy="115236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1116000" y="3465360"/>
                <a:ext cx="115416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059280" y="2878200"/>
              <a:ext cx="1223640" cy="1224000"/>
              <a:chOff x="3059280" y="2878200"/>
              <a:chExt cx="1223640" cy="122400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3059280" y="2878200"/>
                <a:ext cx="1223640" cy="1224000"/>
                <a:chOff x="3059280" y="2878200"/>
                <a:chExt cx="1223640" cy="12240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059280" y="2878200"/>
                  <a:ext cx="1223640" cy="1224000"/>
                </a:xfrm>
                <a:prstGeom prst="rect">
                  <a:avLst/>
                </a:prstGeom>
                <a:solidFill>
                  <a:srgbClr val="bbe0e3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671640" y="2924280"/>
                  <a:ext cx="0" cy="115236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3095280" y="3465360"/>
                <a:ext cx="115380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076720" y="2878200"/>
              <a:ext cx="1224000" cy="1224000"/>
              <a:chOff x="5076720" y="2878200"/>
              <a:chExt cx="1224000" cy="12240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5076720" y="2878200"/>
                <a:ext cx="1224000" cy="1224000"/>
                <a:chOff x="5076720" y="2878200"/>
                <a:chExt cx="1224000" cy="1224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076720" y="2878200"/>
                  <a:ext cx="1224000" cy="1224000"/>
                </a:xfrm>
                <a:prstGeom prst="rect">
                  <a:avLst/>
                </a:prstGeom>
                <a:solidFill>
                  <a:srgbClr val="bbe0e3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689440" y="2924280"/>
                  <a:ext cx="0" cy="115236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5113080" y="3465360"/>
                <a:ext cx="115416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7020000" y="2878200"/>
              <a:ext cx="1224000" cy="1224000"/>
              <a:chOff x="7020000" y="2878200"/>
              <a:chExt cx="1224000" cy="122400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7020000" y="2878200"/>
                <a:ext cx="1224000" cy="1224000"/>
                <a:chOff x="7020000" y="2878200"/>
                <a:chExt cx="1224000" cy="1224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020000" y="2878200"/>
                  <a:ext cx="1224000" cy="1224000"/>
                </a:xfrm>
                <a:prstGeom prst="rect">
                  <a:avLst/>
                </a:prstGeom>
                <a:solidFill>
                  <a:srgbClr val="bbe0e3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32720" y="2924280"/>
                  <a:ext cx="0" cy="115236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7056360" y="3465360"/>
                <a:ext cx="115416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411280" y="836640"/>
            <a:ext cx="1441440" cy="1050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708360" y="692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948360" y="5877000"/>
            <a:ext cx="1368720" cy="577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708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79640" y="2770200"/>
            <a:ext cx="7107120" cy="2147400"/>
            <a:chOff x="1079640" y="2770200"/>
            <a:chExt cx="7107120" cy="2147400"/>
          </a:xfrm>
        </p:grpSpPr>
        <p:sp>
          <p:nvSpPr>
            <p:cNvPr id="164" name=""/>
            <p:cNvSpPr/>
            <p:nvPr/>
          </p:nvSpPr>
          <p:spPr>
            <a:xfrm>
              <a:off x="1079640" y="2770200"/>
              <a:ext cx="1152360" cy="21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员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59280" y="2770200"/>
              <a:ext cx="1152360" cy="21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青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76720" y="2770200"/>
              <a:ext cx="1152720" cy="21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宁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34040" y="2770200"/>
              <a:ext cx="1152720" cy="21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室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516720" y="5946840"/>
            <a:ext cx="1368360" cy="577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843280" y="2133720"/>
            <a:ext cx="46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ff"/>
                </a:solidFill>
                <a:latin typeface="Arial"/>
                <a:ea typeface="华文行楷"/>
              </a:rPr>
              <a:t>谢谢大家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48000" y="328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7417080" cy="364500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1116000" y="1197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李小青是我们班的劳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委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员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7417080" cy="364500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1116000" y="765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今天开班会，林老师让大家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补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选一名劳动委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2492280"/>
            <a:ext cx="7417080" cy="4365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5640" y="682560"/>
            <a:ext cx="712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3" action="ppaction://hlinksldjump"/>
          </p:cNvPr>
          <p:cNvSpPr/>
          <p:nvPr/>
        </p:nvSpPr>
        <p:spPr>
          <a:xfrm>
            <a:off x="971640" y="539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选谁呢？教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室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里静悄悄的，大家都在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1979640" y="162864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宁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站起来说：“我选我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835280" y="2997360"/>
            <a:ext cx="55450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2556000" y="11253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大家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愣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住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619280" y="2492280"/>
            <a:ext cx="5472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1187280" y="981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林老师亲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切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地说：“王宁，说说吧，你为什么选自己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835280" y="2781360"/>
            <a:ext cx="5257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63640" y="2924280"/>
            <a:ext cx="5616720" cy="345600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684360" y="836640"/>
            <a:ext cx="78483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楷体_GB2312"/>
              </a:rPr>
              <a:t>王宁说：“我和李小青是好朋友。他爱劳动，爱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集</a:t>
            </a: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楷体_GB2312"/>
              </a:rPr>
              <a:t>体。我要像他一样热爱劳动，关心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集</a:t>
            </a: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楷体_GB2312"/>
              </a:rPr>
              <a:t>体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37440" cy="4365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55640" y="682560"/>
            <a:ext cx="712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3" action="ppaction://hlinksldjump"/>
          </p:cNvPr>
          <p:cNvSpPr/>
          <p:nvPr/>
        </p:nvSpPr>
        <p:spPr>
          <a:xfrm>
            <a:off x="1403280" y="1125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王宁的话刚说完，教室里响起一片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掌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7451640" y="6381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23:44:10Z</dcterms:created>
  <dc:creator>ernian</dc:creator>
  <dc:description/>
  <dc:language>en-US</dc:language>
  <cp:lastModifiedBy>微软用户</cp:lastModifiedBy>
  <dcterms:modified xsi:type="dcterms:W3CDTF">2010-06-24T14:03:49Z</dcterms:modified>
  <cp:revision>23</cp:revision>
  <dc:subject/>
  <dc:title>幻灯片 1</dc:title>
</cp:coreProperties>
</file>