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93F-F648-44D9-BC6C-A35371F2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515-0844-4DB2-A31C-E92A787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9F4-BAC8-479A-A593-F246E111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D96-CC68-4739-86C1-8447280B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D5D-FCF0-4931-A02F-7B3E40E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506-F550-454A-9D82-8BFD6B6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5AF-A36B-413B-A9A6-D88FDB3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DC4-FD45-4199-AB72-4DAC3454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918-A831-41C6-BA58-487E6A4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6AA-EDEC-4038-8968-07CE03C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AC2-8768-4BFD-9CA1-BCE2F16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7A5-BEA0-489E-A6A2-ACA283A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6F0C-3BEA-455E-B33B-957CD18E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43320" y="1757520"/>
            <a:ext cx="4257360" cy="3342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43640" y="3860640"/>
            <a:ext cx="649440" cy="576360"/>
          </a:xfrm>
          <a:custGeom>
            <a:avLst/>
            <a:gdLst>
              <a:gd name="textAreaLeft" fmla="*/ 36000 w 649440"/>
              <a:gd name="textAreaRight" fmla="*/ 613440 w 64944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87" y="1350"/>
                </a:lnTo>
                <a:lnTo>
                  <a:pt x="1350" y="135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87" y="20250"/>
                </a:lnTo>
                <a:lnTo>
                  <a:pt x="22987" y="135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87" y="2025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4400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28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35:32Z</dcterms:created>
  <dc:creator>LBDZ</dc:creator>
  <dc:description/>
  <dc:language>en-US</dc:language>
  <cp:lastModifiedBy>LBDZ</cp:lastModifiedBy>
  <dcterms:modified xsi:type="dcterms:W3CDTF">2015-08-29T03:27:32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