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png" ContentType="image/png"/>
  <Override PartName="/ppt/media/image54.jpeg" ContentType="image/jpe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6.png" ContentType="image/png"/>
  <Override PartName="/ppt/media/image15.png" ContentType="image/png"/>
  <Override PartName="/ppt/media/image80.png" ContentType="image/png"/>
  <Override PartName="/ppt/media/image49.png" ContentType="image/png"/>
  <Override PartName="/ppt/media/image65.jpeg" ContentType="image/jpe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1.jpeg" ContentType="image/jpeg"/>
  <Override PartName="/ppt/media/image72.png" ContentType="image/png"/>
  <Override PartName="/ppt/media/image24.png" ContentType="image/png"/>
  <Override PartName="/ppt/media/image61.png" ContentType="image/png"/>
  <Override PartName="/ppt/media/image79.png" ContentType="image/png"/>
  <Override PartName="/ppt/media/image68.jpeg" ContentType="image/jpeg"/>
  <Override PartName="/ppt/media/image14.png" ContentType="image/png"/>
  <Override PartName="/ppt/media/image69.png" ContentType="image/png"/>
  <Override PartName="/ppt/media/image67.jpeg" ContentType="image/jpeg"/>
  <Override PartName="/ppt/media/image3.wmf" ContentType="image/x-wmf"/>
  <Override PartName="/ppt/media/image5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F91-3E6A-444E-8DFE-FFCEDEDD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60F-40CF-4688-AB4F-86D7EDE9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1A8-F0F7-4EB3-9FEA-A8D6E554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25D-9F09-4FB2-A27D-98A96D95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BD2-5FC1-4103-8EAD-00AE528C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5D3-02A0-468A-96CC-9404CA0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225-94F2-4B08-BE8A-167AC621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405-3E2A-4244-B05B-B8D5BD1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8BB-D2E5-4A20-8FC0-F3BA857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AB4-42A9-47D9-B37B-FF0F28D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2C5-E044-403C-807B-D599337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67C-E5DF-4F40-A995-ABA8676C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1D0-AD86-4ACA-883C-3AB2D30230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jpe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3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73.png"/><Relationship Id="rId17" Type="http://schemas.openxmlformats.org/officeDocument/2006/relationships/image" Target="../media/image80.png"/><Relationship Id="rId18" Type="http://schemas.openxmlformats.org/officeDocument/2006/relationships/image" Target="../media/image81.png"/><Relationship Id="rId19" Type="http://schemas.openxmlformats.org/officeDocument/2006/relationships/image" Target="../media/image73.png"/><Relationship Id="rId20" Type="http://schemas.openxmlformats.org/officeDocument/2006/relationships/image" Target="../media/image80.png"/><Relationship Id="rId21" Type="http://schemas.openxmlformats.org/officeDocument/2006/relationships/image" Target="../media/image72.png"/><Relationship Id="rId22" Type="http://schemas.openxmlformats.org/officeDocument/2006/relationships/image" Target="../media/image72.png"/><Relationship Id="rId23" Type="http://schemas.openxmlformats.org/officeDocument/2006/relationships/image" Target="../media/image75.png"/><Relationship Id="rId24" Type="http://schemas.openxmlformats.org/officeDocument/2006/relationships/image" Target="../media/image73.png"/><Relationship Id="rId25" Type="http://schemas.openxmlformats.org/officeDocument/2006/relationships/image" Target="../media/image74.png"/><Relationship Id="rId26" Type="http://schemas.openxmlformats.org/officeDocument/2006/relationships/image" Target="../media/image75.png"/><Relationship Id="rId27" Type="http://schemas.openxmlformats.org/officeDocument/2006/relationships/image" Target="../media/image72.png"/><Relationship Id="rId28" Type="http://schemas.openxmlformats.org/officeDocument/2006/relationships/image" Target="../media/image82.png"/><Relationship Id="rId29" Type="http://schemas.openxmlformats.org/officeDocument/2006/relationships/image" Target="../media/image75.png"/><Relationship Id="rId30" Type="http://schemas.openxmlformats.org/officeDocument/2006/relationships/image" Target="../media/image75.png"/><Relationship Id="rId31" Type="http://schemas.openxmlformats.org/officeDocument/2006/relationships/image" Target="../media/image83.png"/><Relationship Id="rId32" Type="http://schemas.openxmlformats.org/officeDocument/2006/relationships/image" Target="../media/image73.png"/><Relationship Id="rId33" Type="http://schemas.openxmlformats.org/officeDocument/2006/relationships/image" Target="../media/image80.png"/><Relationship Id="rId34" Type="http://schemas.openxmlformats.org/officeDocument/2006/relationships/image" Target="../media/image81.png"/><Relationship Id="rId35" Type="http://schemas.openxmlformats.org/officeDocument/2006/relationships/image" Target="../media/image75.png"/><Relationship Id="rId36" Type="http://schemas.openxmlformats.org/officeDocument/2006/relationships/image" Target="../media/image84.png"/><Relationship Id="rId37" Type="http://schemas.openxmlformats.org/officeDocument/2006/relationships/image" Target="../media/image76.png"/><Relationship Id="rId38" Type="http://schemas.openxmlformats.org/officeDocument/2006/relationships/image" Target="../media/image65.jpeg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6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38.png"/><Relationship Id="rId7" Type="http://schemas.openxmlformats.org/officeDocument/2006/relationships/image" Target="../media/image42.png"/><Relationship Id="rId8" Type="http://schemas.openxmlformats.org/officeDocument/2006/relationships/image" Target="../media/image38.png"/><Relationship Id="rId9" Type="http://schemas.openxmlformats.org/officeDocument/2006/relationships/image" Target="../media/image43.png"/><Relationship Id="rId10" Type="http://schemas.openxmlformats.org/officeDocument/2006/relationships/image" Target="../media/image40.png"/><Relationship Id="rId11" Type="http://schemas.openxmlformats.org/officeDocument/2006/relationships/image" Target="../media/image44.png"/><Relationship Id="rId12" Type="http://schemas.openxmlformats.org/officeDocument/2006/relationships/image" Target="../media/image38.png"/><Relationship Id="rId13" Type="http://schemas.openxmlformats.org/officeDocument/2006/relationships/image" Target="../media/image45.png"/><Relationship Id="rId14" Type="http://schemas.openxmlformats.org/officeDocument/2006/relationships/image" Target="../media/image38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8.png"/><Relationship Id="rId20" Type="http://schemas.openxmlformats.org/officeDocument/2006/relationships/image" Target="../media/image38.png"/><Relationship Id="rId21" Type="http://schemas.openxmlformats.org/officeDocument/2006/relationships/image" Target="../media/image46.png"/><Relationship Id="rId22" Type="http://schemas.openxmlformats.org/officeDocument/2006/relationships/image" Target="../media/image38.png"/><Relationship Id="rId23" Type="http://schemas.openxmlformats.org/officeDocument/2006/relationships/image" Target="../media/image42.png"/><Relationship Id="rId24" Type="http://schemas.openxmlformats.org/officeDocument/2006/relationships/image" Target="../media/image47.png"/><Relationship Id="rId25" Type="http://schemas.openxmlformats.org/officeDocument/2006/relationships/image" Target="../media/image49.png"/><Relationship Id="rId26" Type="http://schemas.openxmlformats.org/officeDocument/2006/relationships/image" Target="../media/image40.png"/><Relationship Id="rId27" Type="http://schemas.openxmlformats.org/officeDocument/2006/relationships/image" Target="../media/image44.png"/><Relationship Id="rId28" Type="http://schemas.openxmlformats.org/officeDocument/2006/relationships/image" Target="../media/image40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50.png"/><Relationship Id="rId32" Type="http://schemas.openxmlformats.org/officeDocument/2006/relationships/image" Target="../media/image40.png"/><Relationship Id="rId33" Type="http://schemas.openxmlformats.org/officeDocument/2006/relationships/image" Target="../media/image51.png"/><Relationship Id="rId34" Type="http://schemas.openxmlformats.org/officeDocument/2006/relationships/image" Target="../media/image38.png"/><Relationship Id="rId35" Type="http://schemas.openxmlformats.org/officeDocument/2006/relationships/image" Target="../media/image52.png"/><Relationship Id="rId36" Type="http://schemas.openxmlformats.org/officeDocument/2006/relationships/image" Target="../media/image38.png"/><Relationship Id="rId37" Type="http://schemas.openxmlformats.org/officeDocument/2006/relationships/image" Target="../media/image53.png"/><Relationship Id="rId38" Type="http://schemas.openxmlformats.org/officeDocument/2006/relationships/image" Target="../media/image40.png"/><Relationship Id="rId39" Type="http://schemas.openxmlformats.org/officeDocument/2006/relationships/image" Target="../media/image43.png"/><Relationship Id="rId40" Type="http://schemas.openxmlformats.org/officeDocument/2006/relationships/image" Target="../media/image38.png"/><Relationship Id="rId4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5"/>
          <p:cNvSpPr/>
          <p:nvPr/>
        </p:nvSpPr>
        <p:spPr>
          <a:xfrm>
            <a:off x="4187880" y="1677960"/>
            <a:ext cx="49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终极理论梦之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6"/>
          <p:cNvSpPr/>
          <p:nvPr/>
        </p:nvSpPr>
        <p:spPr>
          <a:xfrm>
            <a:off x="5086800" y="2616120"/>
            <a:ext cx="16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3208320" y="2416320"/>
            <a:ext cx="5656320" cy="134640"/>
            <a:chOff x="3208320" y="2416320"/>
            <a:chExt cx="5656320" cy="13464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3208320" y="2416320"/>
              <a:ext cx="56563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3208320" y="2468880"/>
              <a:ext cx="5656320" cy="8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组合 21"/>
          <p:cNvGrpSpPr/>
          <p:nvPr/>
        </p:nvGrpSpPr>
        <p:grpSpPr>
          <a:xfrm>
            <a:off x="3208320" y="1584360"/>
            <a:ext cx="5656320" cy="135000"/>
            <a:chOff x="3208320" y="1584360"/>
            <a:chExt cx="5656320" cy="135000"/>
          </a:xfrm>
        </p:grpSpPr>
        <p:pic>
          <p:nvPicPr>
            <p:cNvPr id="47" name="Picture 2" descr=""/>
            <p:cNvPicPr/>
            <p:nvPr/>
          </p:nvPicPr>
          <p:blipFill>
            <a:blip r:embed="rId4"/>
            <a:stretch/>
          </p:blipFill>
          <p:spPr>
            <a:xfrm>
              <a:off x="3208320" y="1584360"/>
              <a:ext cx="56563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"/>
            <p:cNvPicPr/>
            <p:nvPr/>
          </p:nvPicPr>
          <p:blipFill>
            <a:blip r:embed="rId5"/>
            <a:stretch/>
          </p:blipFill>
          <p:spPr>
            <a:xfrm>
              <a:off x="3208320" y="1637640"/>
              <a:ext cx="5656320" cy="8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组合 24"/>
          <p:cNvGrpSpPr/>
          <p:nvPr/>
        </p:nvGrpSpPr>
        <p:grpSpPr>
          <a:xfrm>
            <a:off x="3208320" y="3276720"/>
            <a:ext cx="5656320" cy="145800"/>
            <a:chOff x="3208320" y="3276720"/>
            <a:chExt cx="5656320" cy="145800"/>
          </a:xfrm>
        </p:grpSpPr>
        <p:pic>
          <p:nvPicPr>
            <p:cNvPr id="50" name="Picture 2" descr=""/>
            <p:cNvPicPr/>
            <p:nvPr/>
          </p:nvPicPr>
          <p:blipFill>
            <a:blip r:embed="rId6"/>
            <a:stretch/>
          </p:blipFill>
          <p:spPr>
            <a:xfrm>
              <a:off x="3208320" y="3276720"/>
              <a:ext cx="56563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"/>
            <p:cNvPicPr/>
            <p:nvPr/>
          </p:nvPicPr>
          <p:blipFill>
            <a:blip r:embed="rId7"/>
            <a:stretch/>
          </p:blipFill>
          <p:spPr>
            <a:xfrm>
              <a:off x="3208320" y="3340440"/>
              <a:ext cx="5656320" cy="8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组合 45"/>
          <p:cNvGrpSpPr/>
          <p:nvPr/>
        </p:nvGrpSpPr>
        <p:grpSpPr>
          <a:xfrm>
            <a:off x="2327400" y="0"/>
            <a:ext cx="7746840" cy="4341960"/>
            <a:chOff x="2327400" y="0"/>
            <a:chExt cx="7746840" cy="4341960"/>
          </a:xfrm>
        </p:grpSpPr>
        <p:sp>
          <p:nvSpPr>
            <p:cNvPr id="53" name="直接连接符 46"/>
            <p:cNvSpPr/>
            <p:nvPr/>
          </p:nvSpPr>
          <p:spPr>
            <a:xfrm>
              <a:off x="7907400" y="0"/>
              <a:ext cx="0" cy="244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47"/>
            <p:cNvSpPr/>
            <p:nvPr/>
          </p:nvSpPr>
          <p:spPr>
            <a:xfrm>
              <a:off x="3941640" y="0"/>
              <a:ext cx="0" cy="22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8"/>
            <a:stretch/>
          </p:blipFill>
          <p:spPr>
            <a:xfrm>
              <a:off x="2327400" y="50400"/>
              <a:ext cx="7746840" cy="4291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4568E-006 L -0.05695 0.00061 E">
                                      <p:cBhvr>
                                        <p:cTn id="6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4568E-006 L -0.05695 0.00061 E">
                                      <p:cBhvr>
                                        <p:cTn id="12" dur="3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4568E-006 L -0.05695 0.00061 E">
                                      <p:cBhvr>
                                        <p:cTn id="18" dur="3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8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0139 -0.92339 L 0.00139 -0.05375 E">
                                      <p:cBhvr>
                                        <p:cTn id="34" dur="1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autoRev="1" nodeType="withEffect" fill="hold" presetClass="path" presetID="42" repeatCount="2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00139 -0.0537 L 0.00139 -0.00988 E">
                                      <p:cBhvr>
                                        <p:cTn id="36" dur="1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组合 1" descr=""/>
          <p:cNvPicPr/>
          <p:nvPr/>
        </p:nvPicPr>
        <p:blipFill>
          <a:blip r:embed="rId2"/>
          <a:stretch/>
        </p:blipFill>
        <p:spPr>
          <a:xfrm>
            <a:off x="2419200" y="974880"/>
            <a:ext cx="1335240" cy="1323720"/>
          </a:xfrm>
          <a:prstGeom prst="rect">
            <a:avLst/>
          </a:prstGeom>
          <a:ln w="0">
            <a:noFill/>
          </a:ln>
        </p:spPr>
      </p:pic>
      <p:pic>
        <p:nvPicPr>
          <p:cNvPr id="520" name="组合 6" descr=""/>
          <p:cNvPicPr/>
          <p:nvPr/>
        </p:nvPicPr>
        <p:blipFill>
          <a:blip r:embed="rId3"/>
          <a:stretch/>
        </p:blipFill>
        <p:spPr>
          <a:xfrm>
            <a:off x="2633760" y="118260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521" name="直接连接符 11"/>
          <p:cNvSpPr/>
          <p:nvPr/>
        </p:nvSpPr>
        <p:spPr>
          <a:xfrm>
            <a:off x="3083040" y="2357280"/>
            <a:ext cx="9360" cy="2853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2"/>
          <p:cNvSpPr/>
          <p:nvPr/>
        </p:nvSpPr>
        <p:spPr>
          <a:xfrm>
            <a:off x="4330080" y="3213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汉仪菱心体简"/>
                <a:ea typeface="汉仪菱心体简"/>
              </a:rPr>
              <a:t>我们的口号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7" dur="250" fill="hold"/>
                                        <p:tgtEl>
                                          <p:spTgt spid="519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69" dur="25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5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7" dur="250" fill="hold"/>
                                        <p:tgtEl>
                                          <p:spTgt spid="52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79" dur="25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5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5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3"/>
          <p:cNvSpPr/>
          <p:nvPr/>
        </p:nvSpPr>
        <p:spPr>
          <a:xfrm>
            <a:off x="1378080" y="2017800"/>
            <a:ext cx="1001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探索，揭开宇宙神秘面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寻梦，寻找终极理论梦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同心圆 22"/>
          <p:cNvGrpSpPr/>
          <p:nvPr/>
        </p:nvGrpSpPr>
        <p:grpSpPr>
          <a:xfrm>
            <a:off x="3541680" y="969840"/>
            <a:ext cx="5327640" cy="5334120"/>
            <a:chOff x="3541680" y="969840"/>
            <a:chExt cx="5327640" cy="5334120"/>
          </a:xfrm>
        </p:grpSpPr>
        <p:pic>
          <p:nvPicPr>
            <p:cNvPr id="525" name="同心圆 22" descr=""/>
            <p:cNvPicPr/>
            <p:nvPr/>
          </p:nvPicPr>
          <p:blipFill>
            <a:blip r:embed="rId2"/>
            <a:stretch/>
          </p:blipFill>
          <p:spPr>
            <a:xfrm>
              <a:off x="3541680" y="969840"/>
              <a:ext cx="532764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321080" y="1751040"/>
              <a:ext cx="3770280" cy="37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同心圆 24"/>
          <p:cNvGrpSpPr/>
          <p:nvPr/>
        </p:nvGrpSpPr>
        <p:grpSpPr>
          <a:xfrm>
            <a:off x="4651200" y="2073240"/>
            <a:ext cx="3060720" cy="3059280"/>
            <a:chOff x="4651200" y="2073240"/>
            <a:chExt cx="3060720" cy="3059280"/>
          </a:xfrm>
        </p:grpSpPr>
        <p:pic>
          <p:nvPicPr>
            <p:cNvPr id="528" name="同心圆 24" descr=""/>
            <p:cNvPicPr/>
            <p:nvPr/>
          </p:nvPicPr>
          <p:blipFill>
            <a:blip r:embed="rId3"/>
            <a:stretch/>
          </p:blipFill>
          <p:spPr>
            <a:xfrm>
              <a:off x="4651200" y="2073240"/>
              <a:ext cx="3060720" cy="30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097240" y="2522520"/>
              <a:ext cx="216396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同心圆 25"/>
          <p:cNvGrpSpPr/>
          <p:nvPr/>
        </p:nvGrpSpPr>
        <p:grpSpPr>
          <a:xfrm>
            <a:off x="5089680" y="2481120"/>
            <a:ext cx="2158920" cy="2151000"/>
            <a:chOff x="5089680" y="2481120"/>
            <a:chExt cx="2158920" cy="2151000"/>
          </a:xfrm>
        </p:grpSpPr>
        <p:pic>
          <p:nvPicPr>
            <p:cNvPr id="531" name="同心圆 25" descr=""/>
            <p:cNvPicPr/>
            <p:nvPr/>
          </p:nvPicPr>
          <p:blipFill>
            <a:blip r:embed="rId4"/>
            <a:stretch/>
          </p:blipFill>
          <p:spPr>
            <a:xfrm>
              <a:off x="5089680" y="2481120"/>
              <a:ext cx="215892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407200" y="2793960"/>
              <a:ext cx="1523880" cy="15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同心圆 27"/>
          <p:cNvGrpSpPr/>
          <p:nvPr/>
        </p:nvGrpSpPr>
        <p:grpSpPr>
          <a:xfrm>
            <a:off x="1884240" y="-700200"/>
            <a:ext cx="8570880" cy="8569440"/>
            <a:chOff x="1884240" y="-700200"/>
            <a:chExt cx="8570880" cy="8569440"/>
          </a:xfrm>
        </p:grpSpPr>
        <p:pic>
          <p:nvPicPr>
            <p:cNvPr id="534" name="同心圆 27" descr=""/>
            <p:cNvPicPr/>
            <p:nvPr/>
          </p:nvPicPr>
          <p:blipFill>
            <a:blip r:embed="rId5"/>
            <a:stretch/>
          </p:blipFill>
          <p:spPr>
            <a:xfrm>
              <a:off x="1884240" y="-700200"/>
              <a:ext cx="8570880" cy="85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139920" y="553680"/>
              <a:ext cx="6058080" cy="60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同心圆 30"/>
          <p:cNvGrpSpPr/>
          <p:nvPr/>
        </p:nvGrpSpPr>
        <p:grpSpPr>
          <a:xfrm>
            <a:off x="731880" y="-1846440"/>
            <a:ext cx="10807560" cy="10807920"/>
            <a:chOff x="731880" y="-1846440"/>
            <a:chExt cx="10807560" cy="10807920"/>
          </a:xfrm>
        </p:grpSpPr>
        <p:pic>
          <p:nvPicPr>
            <p:cNvPr id="537" name="同心圆 30" descr=""/>
            <p:cNvPicPr/>
            <p:nvPr/>
          </p:nvPicPr>
          <p:blipFill>
            <a:blip r:embed="rId6"/>
            <a:stretch/>
          </p:blipFill>
          <p:spPr>
            <a:xfrm>
              <a:off x="731880" y="-1846440"/>
              <a:ext cx="10807560" cy="10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313000" y="-263880"/>
              <a:ext cx="7643880" cy="76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同心圆 31"/>
          <p:cNvGrpSpPr/>
          <p:nvPr/>
        </p:nvGrpSpPr>
        <p:grpSpPr>
          <a:xfrm>
            <a:off x="2809800" y="201600"/>
            <a:ext cx="6772320" cy="6772320"/>
            <a:chOff x="2809800" y="201600"/>
            <a:chExt cx="6772320" cy="6772320"/>
          </a:xfrm>
        </p:grpSpPr>
        <p:pic>
          <p:nvPicPr>
            <p:cNvPr id="540" name="同心圆 31" descr=""/>
            <p:cNvPicPr/>
            <p:nvPr/>
          </p:nvPicPr>
          <p:blipFill>
            <a:blip r:embed="rId7"/>
            <a:stretch/>
          </p:blipFill>
          <p:spPr>
            <a:xfrm>
              <a:off x="2809800" y="201600"/>
              <a:ext cx="6772320" cy="67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3803400" y="1190520"/>
              <a:ext cx="478656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同心圆 32"/>
          <p:cNvGrpSpPr/>
          <p:nvPr/>
        </p:nvGrpSpPr>
        <p:grpSpPr>
          <a:xfrm>
            <a:off x="4029120" y="1457280"/>
            <a:ext cx="4297320" cy="4297320"/>
            <a:chOff x="4029120" y="1457280"/>
            <a:chExt cx="4297320" cy="4297320"/>
          </a:xfrm>
        </p:grpSpPr>
        <p:pic>
          <p:nvPicPr>
            <p:cNvPr id="543" name="同心圆 32" descr=""/>
            <p:cNvPicPr/>
            <p:nvPr/>
          </p:nvPicPr>
          <p:blipFill>
            <a:blip r:embed="rId8"/>
            <a:stretch/>
          </p:blipFill>
          <p:spPr>
            <a:xfrm>
              <a:off x="4029120" y="1457280"/>
              <a:ext cx="429732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659480" y="2084400"/>
              <a:ext cx="303984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6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6" presetSubtype="32" repeatCount="4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6" presetSubtype="32" repeatCount="4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10" dur="350" fill="hold"/>
                                        <p:tgtEl>
                                          <p:spTgt spid="5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12" dur="35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3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14" dur="35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20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21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6" presetSubtype="32" repeatCount="4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28" dur="350" fill="hold"/>
                                        <p:tgtEl>
                                          <p:spTgt spid="5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6" presetSubtype="32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6" presetSubtype="32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6" presetSubtype="32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2" dur="35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4" dur="35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6" repeatCount="5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6" dur="350" fill="hold"/>
                                        <p:tgtEl>
                                          <p:spTgt spid="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5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5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42"/>
          <p:cNvSpPr/>
          <p:nvPr/>
        </p:nvSpPr>
        <p:spPr>
          <a:xfrm>
            <a:off x="5260680" y="2757600"/>
            <a:ext cx="1632960" cy="926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ffa"/>
                </a:solidFill>
                <a:latin typeface="Impact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4"/>
          <p:cNvSpPr/>
          <p:nvPr/>
        </p:nvSpPr>
        <p:spPr>
          <a:xfrm>
            <a:off x="1103400" y="2757600"/>
            <a:ext cx="10032840" cy="928440"/>
          </a:xfrm>
          <a:prstGeom prst="rect">
            <a:avLst/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5"/>
          <p:cNvSpPr/>
          <p:nvPr/>
        </p:nvSpPr>
        <p:spPr>
          <a:xfrm>
            <a:off x="1487520" y="2808360"/>
            <a:ext cx="33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周三周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"/>
          <p:cNvSpPr/>
          <p:nvPr/>
        </p:nvSpPr>
        <p:spPr>
          <a:xfrm>
            <a:off x="4366440" y="37656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丫丫体简"/>
                <a:ea typeface="汉仪丫丫体简"/>
              </a:rPr>
              <a:t>我们相约 探讨未知的物理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7"/>
          <p:cNvSpPr/>
          <p:nvPr/>
        </p:nvSpPr>
        <p:spPr>
          <a:xfrm>
            <a:off x="6119640" y="2840040"/>
            <a:ext cx="555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9d9d9"/>
                </a:solidFill>
                <a:latin typeface="微软雅黑"/>
                <a:ea typeface="微软雅黑"/>
              </a:rPr>
              <a:t>下午自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任意多边形 9"/>
          <p:cNvSpPr/>
          <p:nvPr/>
        </p:nvSpPr>
        <p:spPr>
          <a:xfrm>
            <a:off x="1957320" y="-849240"/>
            <a:ext cx="696960" cy="2872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任意多边形 10"/>
          <p:cNvSpPr/>
          <p:nvPr/>
        </p:nvSpPr>
        <p:spPr>
          <a:xfrm>
            <a:off x="3821040" y="-2359080"/>
            <a:ext cx="513000" cy="461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任意多边形 11"/>
          <p:cNvSpPr/>
          <p:nvPr/>
        </p:nvSpPr>
        <p:spPr>
          <a:xfrm>
            <a:off x="3772080" y="-893880"/>
            <a:ext cx="452160" cy="596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2"/>
          <p:cNvSpPr/>
          <p:nvPr/>
        </p:nvSpPr>
        <p:spPr>
          <a:xfrm>
            <a:off x="2398680" y="-2287440"/>
            <a:ext cx="695520" cy="2872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13"/>
          <p:cNvSpPr/>
          <p:nvPr/>
        </p:nvSpPr>
        <p:spPr>
          <a:xfrm>
            <a:off x="7294680" y="-1085760"/>
            <a:ext cx="485640" cy="380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15"/>
          <p:cNvSpPr/>
          <p:nvPr/>
        </p:nvSpPr>
        <p:spPr>
          <a:xfrm>
            <a:off x="9396360" y="-2157480"/>
            <a:ext cx="452520" cy="542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任意多边形 16"/>
          <p:cNvSpPr/>
          <p:nvPr/>
        </p:nvSpPr>
        <p:spPr>
          <a:xfrm rot="5868600">
            <a:off x="5816160" y="-1041480"/>
            <a:ext cx="370080" cy="6652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7"/>
          <p:cNvSpPr/>
          <p:nvPr/>
        </p:nvSpPr>
        <p:spPr>
          <a:xfrm>
            <a:off x="7157880" y="-2187720"/>
            <a:ext cx="459000" cy="1936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18"/>
          <p:cNvSpPr/>
          <p:nvPr/>
        </p:nvSpPr>
        <p:spPr>
          <a:xfrm rot="9005400">
            <a:off x="6140160" y="-3075120"/>
            <a:ext cx="358560" cy="596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19"/>
          <p:cNvSpPr/>
          <p:nvPr/>
        </p:nvSpPr>
        <p:spPr>
          <a:xfrm>
            <a:off x="10585440" y="-1765440"/>
            <a:ext cx="452520" cy="54324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20"/>
          <p:cNvSpPr/>
          <p:nvPr/>
        </p:nvSpPr>
        <p:spPr>
          <a:xfrm>
            <a:off x="4819680" y="-1662120"/>
            <a:ext cx="452520" cy="542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21"/>
          <p:cNvSpPr/>
          <p:nvPr/>
        </p:nvSpPr>
        <p:spPr>
          <a:xfrm rot="9005400">
            <a:off x="8640360" y="-1464840"/>
            <a:ext cx="358920" cy="59832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任意多边形 22"/>
          <p:cNvSpPr/>
          <p:nvPr/>
        </p:nvSpPr>
        <p:spPr>
          <a:xfrm>
            <a:off x="10314000" y="-912960"/>
            <a:ext cx="695160" cy="28764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23"/>
          <p:cNvSpPr/>
          <p:nvPr/>
        </p:nvSpPr>
        <p:spPr>
          <a:xfrm>
            <a:off x="9818640" y="-3432240"/>
            <a:ext cx="512640" cy="461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24"/>
          <p:cNvSpPr/>
          <p:nvPr/>
        </p:nvSpPr>
        <p:spPr>
          <a:xfrm>
            <a:off x="5052960" y="-2786040"/>
            <a:ext cx="452520" cy="596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25"/>
          <p:cNvSpPr/>
          <p:nvPr/>
        </p:nvSpPr>
        <p:spPr>
          <a:xfrm>
            <a:off x="10753560" y="-2351160"/>
            <a:ext cx="696960" cy="2872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26"/>
          <p:cNvSpPr/>
          <p:nvPr/>
        </p:nvSpPr>
        <p:spPr>
          <a:xfrm>
            <a:off x="1019160" y="-3121200"/>
            <a:ext cx="485640" cy="38124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27"/>
          <p:cNvSpPr/>
          <p:nvPr/>
        </p:nvSpPr>
        <p:spPr>
          <a:xfrm rot="5868600">
            <a:off x="6384600" y="-1704600"/>
            <a:ext cx="368640" cy="66672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28"/>
          <p:cNvSpPr/>
          <p:nvPr/>
        </p:nvSpPr>
        <p:spPr>
          <a:xfrm>
            <a:off x="4079880" y="-3457440"/>
            <a:ext cx="452520" cy="5428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29"/>
          <p:cNvSpPr/>
          <p:nvPr/>
        </p:nvSpPr>
        <p:spPr>
          <a:xfrm rot="9005400">
            <a:off x="2125800" y="-3501360"/>
            <a:ext cx="358560" cy="598680"/>
          </a:xfrm>
          <a:custGeom>
            <a:avLst/>
            <a:gdLst/>
            <a:ahLst/>
            <a:rect l="l" t="t" r="r" b="b"/>
            <a:pathLst>
              <a:path w="532263" h="409433">
                <a:moveTo>
                  <a:pt x="27296" y="0"/>
                </a:moveTo>
                <a:lnTo>
                  <a:pt x="0" y="409433"/>
                </a:lnTo>
                <a:lnTo>
                  <a:pt x="532263" y="300251"/>
                </a:lnTo>
                <a:lnTo>
                  <a:pt x="464024" y="0"/>
                </a:lnTo>
                <a:lnTo>
                  <a:pt x="27296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30"/>
          <p:cNvGrpSpPr/>
          <p:nvPr/>
        </p:nvGrpSpPr>
        <p:grpSpPr>
          <a:xfrm>
            <a:off x="4659480" y="503280"/>
            <a:ext cx="2712960" cy="1768320"/>
            <a:chOff x="4659480" y="503280"/>
            <a:chExt cx="2712960" cy="1768320"/>
          </a:xfrm>
        </p:grpSpPr>
        <p:pic>
          <p:nvPicPr>
            <p:cNvPr id="571" name="图片 31" descr=""/>
            <p:cNvPicPr/>
            <p:nvPr/>
          </p:nvPicPr>
          <p:blipFill>
            <a:blip r:embed="rId2"/>
            <a:stretch/>
          </p:blipFill>
          <p:spPr>
            <a:xfrm>
              <a:off x="4659480" y="503280"/>
              <a:ext cx="27129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WordArt 62"/>
            <p:cNvSpPr txBox="1"/>
            <p:nvPr/>
          </p:nvSpPr>
          <p:spPr>
            <a:xfrm>
              <a:off x="5038200" y="736920"/>
              <a:ext cx="1888200" cy="1103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00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solidFill>
                    <a:srgbClr val="ffff00"/>
                  </a:solidFill>
                  <a:latin typeface="黑体"/>
                </a:rPr>
                <a:t>终极理论梦之社</a:t>
              </a:r>
              <a:endParaRPr b="0" lang="en-US" sz="2400" spc="-1" strike="noStrike">
                <a:ln w="0">
                  <a:noFill/>
                </a:ln>
                <a:solidFill>
                  <a:srgbClr val="ffff00"/>
                </a:solidFill>
                <a:latin typeface="黑体"/>
                <a:ea typeface="黑体"/>
              </a:endParaRPr>
            </a:p>
          </p:txBody>
        </p:sp>
        <p:pic>
          <p:nvPicPr>
            <p:cNvPr id="573" name="WordArt 64" descr=""/>
            <p:cNvPicPr/>
            <p:nvPr/>
          </p:nvPicPr>
          <p:blipFill>
            <a:blip r:embed="rId3"/>
            <a:stretch/>
          </p:blipFill>
          <p:spPr>
            <a:xfrm>
              <a:off x="4956120" y="835200"/>
              <a:ext cx="212760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6000">
    <p:randomBar dir="vert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9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3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7" dur="75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75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6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6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9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3" dur="75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75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25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25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5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9" dur="25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25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3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1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75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75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3" dur="6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6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7" dur="75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75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1" dur="25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25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5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7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7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7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7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7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8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8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8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8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0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0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0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3" descr="无限符号版副本.jpg"/>
          <p:cNvPicPr/>
          <p:nvPr/>
        </p:nvPicPr>
        <p:blipFill>
          <a:blip r:embed="rId1"/>
          <a:srcRect l="0" t="0" r="-23" b="0"/>
          <a:stretch/>
        </p:blipFill>
        <p:spPr>
          <a:xfrm>
            <a:off x="0" y="0"/>
            <a:ext cx="7824960" cy="355752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4" descr="无限符号版副本.jpg"/>
          <p:cNvPicPr/>
          <p:nvPr/>
        </p:nvPicPr>
        <p:blipFill>
          <a:blip r:embed="rId2"/>
          <a:srcRect l="0" t="0" r="-45" b="-88"/>
          <a:stretch/>
        </p:blipFill>
        <p:spPr>
          <a:xfrm>
            <a:off x="7194600" y="4292640"/>
            <a:ext cx="4997520" cy="2565360"/>
          </a:xfrm>
          <a:prstGeom prst="rect">
            <a:avLst/>
          </a:prstGeom>
          <a:ln w="0">
            <a:noFill/>
          </a:ln>
        </p:spPr>
      </p:pic>
      <p:pic>
        <p:nvPicPr>
          <p:cNvPr id="576" name="TextBox 6" descr=""/>
          <p:cNvPicPr/>
          <p:nvPr/>
        </p:nvPicPr>
        <p:blipFill>
          <a:blip r:embed="rId3"/>
          <a:stretch/>
        </p:blipFill>
        <p:spPr>
          <a:xfrm>
            <a:off x="1700280" y="2408400"/>
            <a:ext cx="9253440" cy="230328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8" descr=""/>
          <p:cNvPicPr/>
          <p:nvPr/>
        </p:nvPicPr>
        <p:blipFill>
          <a:blip r:embed="rId4"/>
          <a:stretch/>
        </p:blipFill>
        <p:spPr>
          <a:xfrm>
            <a:off x="0" y="383364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"/>
          <p:cNvPicPr/>
          <p:nvPr/>
        </p:nvPicPr>
        <p:blipFill>
          <a:blip r:embed="rId5"/>
          <a:stretch/>
        </p:blipFill>
        <p:spPr>
          <a:xfrm>
            <a:off x="4467240" y="4844880"/>
            <a:ext cx="482760" cy="479520"/>
          </a:xfrm>
          <a:prstGeom prst="rect">
            <a:avLst/>
          </a:prstGeom>
          <a:ln w="0">
            <a:noFill/>
          </a:ln>
        </p:spPr>
      </p:pic>
      <p:sp>
        <p:nvSpPr>
          <p:cNvPr id="579" name="TextBox 1"/>
          <p:cNvSpPr/>
          <p:nvPr/>
        </p:nvSpPr>
        <p:spPr>
          <a:xfrm>
            <a:off x="4906800" y="4932360"/>
            <a:ext cx="32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6 7009 3XXX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邵磊（社长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Oval 63"/>
          <p:cNvGrpSpPr/>
          <p:nvPr/>
        </p:nvGrpSpPr>
        <p:grpSpPr>
          <a:xfrm>
            <a:off x="-2108160" y="4486320"/>
            <a:ext cx="830160" cy="824040"/>
            <a:chOff x="-2108160" y="4486320"/>
            <a:chExt cx="830160" cy="824040"/>
          </a:xfrm>
        </p:grpSpPr>
        <p:pic>
          <p:nvPicPr>
            <p:cNvPr id="581" name="Oval 63" descr=""/>
            <p:cNvPicPr/>
            <p:nvPr/>
          </p:nvPicPr>
          <p:blipFill>
            <a:blip r:embed="rId6"/>
            <a:stretch/>
          </p:blipFill>
          <p:spPr>
            <a:xfrm>
              <a:off x="-2108160" y="4486320"/>
              <a:ext cx="830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-1989000" y="4605480"/>
              <a:ext cx="5871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Oval 64"/>
          <p:cNvGrpSpPr/>
          <p:nvPr/>
        </p:nvGrpSpPr>
        <p:grpSpPr>
          <a:xfrm>
            <a:off x="-1698480" y="933480"/>
            <a:ext cx="834840" cy="828720"/>
            <a:chOff x="-1698480" y="933480"/>
            <a:chExt cx="834840" cy="828720"/>
          </a:xfrm>
        </p:grpSpPr>
        <p:pic>
          <p:nvPicPr>
            <p:cNvPr id="584" name="Oval 64" descr=""/>
            <p:cNvPicPr/>
            <p:nvPr/>
          </p:nvPicPr>
          <p:blipFill>
            <a:blip r:embed="rId7"/>
            <a:stretch/>
          </p:blipFill>
          <p:spPr>
            <a:xfrm>
              <a:off x="-1698480" y="933480"/>
              <a:ext cx="834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-1574640" y="1050840"/>
              <a:ext cx="585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Oval 66"/>
          <p:cNvGrpSpPr/>
          <p:nvPr/>
        </p:nvGrpSpPr>
        <p:grpSpPr>
          <a:xfrm>
            <a:off x="-1790640" y="5407200"/>
            <a:ext cx="834840" cy="828360"/>
            <a:chOff x="-1790640" y="5407200"/>
            <a:chExt cx="834840" cy="828360"/>
          </a:xfrm>
        </p:grpSpPr>
        <p:pic>
          <p:nvPicPr>
            <p:cNvPr id="587" name="Oval 66" descr=""/>
            <p:cNvPicPr/>
            <p:nvPr/>
          </p:nvPicPr>
          <p:blipFill>
            <a:blip r:embed="rId8"/>
            <a:stretch/>
          </p:blipFill>
          <p:spPr>
            <a:xfrm>
              <a:off x="-1790640" y="5407200"/>
              <a:ext cx="8348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-1665360" y="5529240"/>
              <a:ext cx="5886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Oval 69"/>
          <p:cNvGrpSpPr/>
          <p:nvPr/>
        </p:nvGrpSpPr>
        <p:grpSpPr>
          <a:xfrm>
            <a:off x="-3765600" y="3554280"/>
            <a:ext cx="743040" cy="743040"/>
            <a:chOff x="-3765600" y="3554280"/>
            <a:chExt cx="743040" cy="743040"/>
          </a:xfrm>
        </p:grpSpPr>
        <p:pic>
          <p:nvPicPr>
            <p:cNvPr id="590" name="Oval 69" descr=""/>
            <p:cNvPicPr/>
            <p:nvPr/>
          </p:nvPicPr>
          <p:blipFill>
            <a:blip r:embed="rId9"/>
            <a:stretch/>
          </p:blipFill>
          <p:spPr>
            <a:xfrm>
              <a:off x="-3765600" y="355428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-3657600" y="3662280"/>
              <a:ext cx="5252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Oval 70"/>
          <p:cNvGrpSpPr/>
          <p:nvPr/>
        </p:nvGrpSpPr>
        <p:grpSpPr>
          <a:xfrm>
            <a:off x="-3357720" y="0"/>
            <a:ext cx="828720" cy="828720"/>
            <a:chOff x="-3357720" y="0"/>
            <a:chExt cx="828720" cy="828720"/>
          </a:xfrm>
        </p:grpSpPr>
        <p:pic>
          <p:nvPicPr>
            <p:cNvPr id="593" name="Oval 70" descr=""/>
            <p:cNvPicPr/>
            <p:nvPr/>
          </p:nvPicPr>
          <p:blipFill>
            <a:blip r:embed="rId10"/>
            <a:stretch/>
          </p:blipFill>
          <p:spPr>
            <a:xfrm>
              <a:off x="-3357720" y="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-3233880" y="120600"/>
              <a:ext cx="5857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Oval 71"/>
          <p:cNvGrpSpPr/>
          <p:nvPr/>
        </p:nvGrpSpPr>
        <p:grpSpPr>
          <a:xfrm>
            <a:off x="-2943360" y="2163600"/>
            <a:ext cx="835200" cy="824040"/>
            <a:chOff x="-2943360" y="2163600"/>
            <a:chExt cx="835200" cy="824040"/>
          </a:xfrm>
        </p:grpSpPr>
        <p:pic>
          <p:nvPicPr>
            <p:cNvPr id="596" name="Oval 71" descr=""/>
            <p:cNvPicPr/>
            <p:nvPr/>
          </p:nvPicPr>
          <p:blipFill>
            <a:blip r:embed="rId11"/>
            <a:stretch/>
          </p:blipFill>
          <p:spPr>
            <a:xfrm>
              <a:off x="-2943360" y="2163600"/>
              <a:ext cx="8352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-2818080" y="2282760"/>
              <a:ext cx="58608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Oval 72"/>
          <p:cNvGrpSpPr/>
          <p:nvPr/>
        </p:nvGrpSpPr>
        <p:grpSpPr>
          <a:xfrm>
            <a:off x="-4716360" y="1962000"/>
            <a:ext cx="669960" cy="658800"/>
            <a:chOff x="-4716360" y="1962000"/>
            <a:chExt cx="669960" cy="658800"/>
          </a:xfrm>
        </p:grpSpPr>
        <p:pic>
          <p:nvPicPr>
            <p:cNvPr id="599" name="Oval 72" descr=""/>
            <p:cNvPicPr/>
            <p:nvPr/>
          </p:nvPicPr>
          <p:blipFill>
            <a:blip r:embed="rId12"/>
            <a:stretch/>
          </p:blipFill>
          <p:spPr>
            <a:xfrm>
              <a:off x="-4716360" y="1962000"/>
              <a:ext cx="6699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-4618080" y="2057400"/>
              <a:ext cx="47160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Oval 73"/>
          <p:cNvGrpSpPr/>
          <p:nvPr/>
        </p:nvGrpSpPr>
        <p:grpSpPr>
          <a:xfrm>
            <a:off x="-3503520" y="4578480"/>
            <a:ext cx="834840" cy="828720"/>
            <a:chOff x="-3503520" y="4578480"/>
            <a:chExt cx="834840" cy="828720"/>
          </a:xfrm>
        </p:grpSpPr>
        <p:pic>
          <p:nvPicPr>
            <p:cNvPr id="602" name="Oval 73" descr=""/>
            <p:cNvPicPr/>
            <p:nvPr/>
          </p:nvPicPr>
          <p:blipFill>
            <a:blip r:embed="rId13"/>
            <a:stretch/>
          </p:blipFill>
          <p:spPr>
            <a:xfrm>
              <a:off x="-3503520" y="4578480"/>
              <a:ext cx="834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-3379680" y="470088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Oval 74"/>
          <p:cNvGrpSpPr/>
          <p:nvPr/>
        </p:nvGrpSpPr>
        <p:grpSpPr>
          <a:xfrm>
            <a:off x="-2108160" y="3657600"/>
            <a:ext cx="824040" cy="828720"/>
            <a:chOff x="-2108160" y="3657600"/>
            <a:chExt cx="824040" cy="828720"/>
          </a:xfrm>
        </p:grpSpPr>
        <p:pic>
          <p:nvPicPr>
            <p:cNvPr id="605" name="Oval 74" descr=""/>
            <p:cNvPicPr/>
            <p:nvPr/>
          </p:nvPicPr>
          <p:blipFill>
            <a:blip r:embed="rId14"/>
            <a:stretch/>
          </p:blipFill>
          <p:spPr>
            <a:xfrm>
              <a:off x="-2108160" y="3657600"/>
              <a:ext cx="824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-1989000" y="3780000"/>
              <a:ext cx="5857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Oval 76"/>
          <p:cNvGrpSpPr/>
          <p:nvPr/>
        </p:nvGrpSpPr>
        <p:grpSpPr>
          <a:xfrm>
            <a:off x="-3772080" y="2730600"/>
            <a:ext cx="706320" cy="701640"/>
            <a:chOff x="-3772080" y="2730600"/>
            <a:chExt cx="706320" cy="701640"/>
          </a:xfrm>
        </p:grpSpPr>
        <p:pic>
          <p:nvPicPr>
            <p:cNvPr id="608" name="Oval 76" descr=""/>
            <p:cNvPicPr/>
            <p:nvPr/>
          </p:nvPicPr>
          <p:blipFill>
            <a:blip r:embed="rId15"/>
            <a:stretch/>
          </p:blipFill>
          <p:spPr>
            <a:xfrm>
              <a:off x="-3772080" y="2730600"/>
              <a:ext cx="7063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-3666960" y="2832120"/>
              <a:ext cx="49860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Oval 77"/>
          <p:cNvGrpSpPr/>
          <p:nvPr/>
        </p:nvGrpSpPr>
        <p:grpSpPr>
          <a:xfrm>
            <a:off x="-2943360" y="1335240"/>
            <a:ext cx="835200" cy="828360"/>
            <a:chOff x="-2943360" y="1335240"/>
            <a:chExt cx="835200" cy="828360"/>
          </a:xfrm>
        </p:grpSpPr>
        <p:pic>
          <p:nvPicPr>
            <p:cNvPr id="611" name="Oval 77" descr=""/>
            <p:cNvPicPr/>
            <p:nvPr/>
          </p:nvPicPr>
          <p:blipFill>
            <a:blip r:embed="rId16"/>
            <a:stretch/>
          </p:blipFill>
          <p:spPr>
            <a:xfrm>
              <a:off x="-2943360" y="1335240"/>
              <a:ext cx="8352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-2820960" y="1454040"/>
              <a:ext cx="58896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Oval 78"/>
          <p:cNvGrpSpPr/>
          <p:nvPr/>
        </p:nvGrpSpPr>
        <p:grpSpPr>
          <a:xfrm>
            <a:off x="-4046400" y="981000"/>
            <a:ext cx="414360" cy="414360"/>
            <a:chOff x="-4046400" y="981000"/>
            <a:chExt cx="414360" cy="414360"/>
          </a:xfrm>
        </p:grpSpPr>
        <p:pic>
          <p:nvPicPr>
            <p:cNvPr id="614" name="Oval 78" descr=""/>
            <p:cNvPicPr/>
            <p:nvPr/>
          </p:nvPicPr>
          <p:blipFill>
            <a:blip r:embed="rId17"/>
            <a:stretch/>
          </p:blipFill>
          <p:spPr>
            <a:xfrm>
              <a:off x="-4046400" y="98100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-3987720" y="1039680"/>
              <a:ext cx="292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Oval 128"/>
          <p:cNvGrpSpPr/>
          <p:nvPr/>
        </p:nvGrpSpPr>
        <p:grpSpPr>
          <a:xfrm>
            <a:off x="-2108160" y="4486320"/>
            <a:ext cx="787320" cy="787320"/>
            <a:chOff x="-2108160" y="4486320"/>
            <a:chExt cx="787320" cy="787320"/>
          </a:xfrm>
        </p:grpSpPr>
        <p:pic>
          <p:nvPicPr>
            <p:cNvPr id="617" name="Oval 128" descr=""/>
            <p:cNvPicPr/>
            <p:nvPr/>
          </p:nvPicPr>
          <p:blipFill>
            <a:blip r:embed="rId18"/>
            <a:stretch/>
          </p:blipFill>
          <p:spPr>
            <a:xfrm>
              <a:off x="-2108160" y="4486320"/>
              <a:ext cx="787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-1995480" y="4600800"/>
              <a:ext cx="557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Oval 129"/>
          <p:cNvGrpSpPr/>
          <p:nvPr/>
        </p:nvGrpSpPr>
        <p:grpSpPr>
          <a:xfrm>
            <a:off x="-1698480" y="517680"/>
            <a:ext cx="834840" cy="830160"/>
            <a:chOff x="-1698480" y="517680"/>
            <a:chExt cx="834840" cy="830160"/>
          </a:xfrm>
        </p:grpSpPr>
        <p:pic>
          <p:nvPicPr>
            <p:cNvPr id="620" name="Oval 129" descr=""/>
            <p:cNvPicPr/>
            <p:nvPr/>
          </p:nvPicPr>
          <p:blipFill>
            <a:blip r:embed="rId19"/>
            <a:stretch/>
          </p:blipFill>
          <p:spPr>
            <a:xfrm>
              <a:off x="-1698480" y="517680"/>
              <a:ext cx="8348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-1574640" y="638280"/>
              <a:ext cx="5853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Oval 133"/>
          <p:cNvGrpSpPr/>
          <p:nvPr/>
        </p:nvGrpSpPr>
        <p:grpSpPr>
          <a:xfrm>
            <a:off x="-1278000" y="3505320"/>
            <a:ext cx="414360" cy="414360"/>
            <a:chOff x="-1278000" y="3505320"/>
            <a:chExt cx="414360" cy="414360"/>
          </a:xfrm>
        </p:grpSpPr>
        <p:pic>
          <p:nvPicPr>
            <p:cNvPr id="623" name="Oval 133" descr=""/>
            <p:cNvPicPr/>
            <p:nvPr/>
          </p:nvPicPr>
          <p:blipFill>
            <a:blip r:embed="rId20"/>
            <a:stretch/>
          </p:blipFill>
          <p:spPr>
            <a:xfrm>
              <a:off x="-1278000" y="35053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-1219320" y="3564000"/>
              <a:ext cx="295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Oval 137"/>
          <p:cNvGrpSpPr/>
          <p:nvPr/>
        </p:nvGrpSpPr>
        <p:grpSpPr>
          <a:xfrm>
            <a:off x="-2247840" y="2316240"/>
            <a:ext cx="828720" cy="823680"/>
            <a:chOff x="-2247840" y="2316240"/>
            <a:chExt cx="828720" cy="823680"/>
          </a:xfrm>
        </p:grpSpPr>
        <p:pic>
          <p:nvPicPr>
            <p:cNvPr id="626" name="Oval 137" descr=""/>
            <p:cNvPicPr/>
            <p:nvPr/>
          </p:nvPicPr>
          <p:blipFill>
            <a:blip r:embed="rId21"/>
            <a:stretch/>
          </p:blipFill>
          <p:spPr>
            <a:xfrm>
              <a:off x="-2247840" y="2316240"/>
              <a:ext cx="82872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-2127240" y="2438280"/>
              <a:ext cx="5889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Oval 63"/>
          <p:cNvGrpSpPr/>
          <p:nvPr/>
        </p:nvGrpSpPr>
        <p:grpSpPr>
          <a:xfrm>
            <a:off x="-2095560" y="4486320"/>
            <a:ext cx="828720" cy="824040"/>
            <a:chOff x="-2095560" y="4486320"/>
            <a:chExt cx="828720" cy="824040"/>
          </a:xfrm>
        </p:grpSpPr>
        <p:pic>
          <p:nvPicPr>
            <p:cNvPr id="629" name="Oval 63" descr=""/>
            <p:cNvPicPr/>
            <p:nvPr/>
          </p:nvPicPr>
          <p:blipFill>
            <a:blip r:embed="rId22"/>
            <a:stretch/>
          </p:blipFill>
          <p:spPr>
            <a:xfrm>
              <a:off x="-2095560" y="4486320"/>
              <a:ext cx="8287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-1973160" y="4605480"/>
              <a:ext cx="5857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Oval 64"/>
          <p:cNvGrpSpPr/>
          <p:nvPr/>
        </p:nvGrpSpPr>
        <p:grpSpPr>
          <a:xfrm>
            <a:off x="-1681200" y="933480"/>
            <a:ext cx="828720" cy="828720"/>
            <a:chOff x="-1681200" y="933480"/>
            <a:chExt cx="828720" cy="828720"/>
          </a:xfrm>
        </p:grpSpPr>
        <p:pic>
          <p:nvPicPr>
            <p:cNvPr id="632" name="Oval 64" descr=""/>
            <p:cNvPicPr/>
            <p:nvPr/>
          </p:nvPicPr>
          <p:blipFill>
            <a:blip r:embed="rId23"/>
            <a:stretch/>
          </p:blipFill>
          <p:spPr>
            <a:xfrm>
              <a:off x="-1681200" y="93348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-1560600" y="1050840"/>
              <a:ext cx="5875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Oval 66"/>
          <p:cNvGrpSpPr/>
          <p:nvPr/>
        </p:nvGrpSpPr>
        <p:grpSpPr>
          <a:xfrm>
            <a:off x="-1771560" y="5407200"/>
            <a:ext cx="834840" cy="828360"/>
            <a:chOff x="-1771560" y="5407200"/>
            <a:chExt cx="834840" cy="828360"/>
          </a:xfrm>
        </p:grpSpPr>
        <p:pic>
          <p:nvPicPr>
            <p:cNvPr id="635" name="Oval 66" descr=""/>
            <p:cNvPicPr/>
            <p:nvPr/>
          </p:nvPicPr>
          <p:blipFill>
            <a:blip r:embed="rId24"/>
            <a:stretch/>
          </p:blipFill>
          <p:spPr>
            <a:xfrm>
              <a:off x="-1771560" y="5407200"/>
              <a:ext cx="8348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-1650960" y="5529240"/>
              <a:ext cx="58860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Oval 69"/>
          <p:cNvGrpSpPr/>
          <p:nvPr/>
        </p:nvGrpSpPr>
        <p:grpSpPr>
          <a:xfrm>
            <a:off x="-3753000" y="3554280"/>
            <a:ext cx="743040" cy="743040"/>
            <a:chOff x="-3753000" y="3554280"/>
            <a:chExt cx="743040" cy="743040"/>
          </a:xfrm>
        </p:grpSpPr>
        <p:pic>
          <p:nvPicPr>
            <p:cNvPr id="638" name="Oval 69" descr=""/>
            <p:cNvPicPr/>
            <p:nvPr/>
          </p:nvPicPr>
          <p:blipFill>
            <a:blip r:embed="rId25"/>
            <a:stretch/>
          </p:blipFill>
          <p:spPr>
            <a:xfrm>
              <a:off x="-3753000" y="355428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-3643560" y="3662280"/>
              <a:ext cx="52704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Oval 70"/>
          <p:cNvGrpSpPr/>
          <p:nvPr/>
        </p:nvGrpSpPr>
        <p:grpSpPr>
          <a:xfrm>
            <a:off x="-3338640" y="0"/>
            <a:ext cx="828720" cy="828720"/>
            <a:chOff x="-3338640" y="0"/>
            <a:chExt cx="828720" cy="828720"/>
          </a:xfrm>
        </p:grpSpPr>
        <p:pic>
          <p:nvPicPr>
            <p:cNvPr id="641" name="Oval 70" descr=""/>
            <p:cNvPicPr/>
            <p:nvPr/>
          </p:nvPicPr>
          <p:blipFill>
            <a:blip r:embed="rId26"/>
            <a:stretch/>
          </p:blipFill>
          <p:spPr>
            <a:xfrm>
              <a:off x="-3338640" y="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-3218040" y="120600"/>
              <a:ext cx="584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Oval 71"/>
          <p:cNvGrpSpPr/>
          <p:nvPr/>
        </p:nvGrpSpPr>
        <p:grpSpPr>
          <a:xfrm>
            <a:off x="-2924280" y="2163600"/>
            <a:ext cx="828720" cy="824040"/>
            <a:chOff x="-2924280" y="2163600"/>
            <a:chExt cx="828720" cy="824040"/>
          </a:xfrm>
        </p:grpSpPr>
        <p:pic>
          <p:nvPicPr>
            <p:cNvPr id="644" name="Oval 71" descr=""/>
            <p:cNvPicPr/>
            <p:nvPr/>
          </p:nvPicPr>
          <p:blipFill>
            <a:blip r:embed="rId27"/>
            <a:stretch/>
          </p:blipFill>
          <p:spPr>
            <a:xfrm>
              <a:off x="-2924280" y="2163600"/>
              <a:ext cx="8287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-2803680" y="2282760"/>
              <a:ext cx="5875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Oval 72"/>
          <p:cNvGrpSpPr/>
          <p:nvPr/>
        </p:nvGrpSpPr>
        <p:grpSpPr>
          <a:xfrm>
            <a:off x="-4699080" y="1962000"/>
            <a:ext cx="665280" cy="658800"/>
            <a:chOff x="-4699080" y="1962000"/>
            <a:chExt cx="665280" cy="658800"/>
          </a:xfrm>
        </p:grpSpPr>
        <p:pic>
          <p:nvPicPr>
            <p:cNvPr id="647" name="Oval 72" descr=""/>
            <p:cNvPicPr/>
            <p:nvPr/>
          </p:nvPicPr>
          <p:blipFill>
            <a:blip r:embed="rId28"/>
            <a:stretch/>
          </p:blipFill>
          <p:spPr>
            <a:xfrm>
              <a:off x="-4699080" y="1962000"/>
              <a:ext cx="6652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-4602240" y="2057400"/>
              <a:ext cx="47160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Oval 73"/>
          <p:cNvGrpSpPr/>
          <p:nvPr/>
        </p:nvGrpSpPr>
        <p:grpSpPr>
          <a:xfrm>
            <a:off x="-3484440" y="4578480"/>
            <a:ext cx="828720" cy="828720"/>
            <a:chOff x="-3484440" y="4578480"/>
            <a:chExt cx="828720" cy="828720"/>
          </a:xfrm>
        </p:grpSpPr>
        <p:pic>
          <p:nvPicPr>
            <p:cNvPr id="650" name="Oval 73" descr=""/>
            <p:cNvPicPr/>
            <p:nvPr/>
          </p:nvPicPr>
          <p:blipFill>
            <a:blip r:embed="rId29"/>
            <a:stretch/>
          </p:blipFill>
          <p:spPr>
            <a:xfrm>
              <a:off x="-3484440" y="457848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-3363840" y="4700880"/>
              <a:ext cx="5857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Oval 74"/>
          <p:cNvGrpSpPr/>
          <p:nvPr/>
        </p:nvGrpSpPr>
        <p:grpSpPr>
          <a:xfrm>
            <a:off x="-2095560" y="3657600"/>
            <a:ext cx="828720" cy="828720"/>
            <a:chOff x="-2095560" y="3657600"/>
            <a:chExt cx="828720" cy="828720"/>
          </a:xfrm>
        </p:grpSpPr>
        <p:pic>
          <p:nvPicPr>
            <p:cNvPr id="653" name="Oval 74" descr=""/>
            <p:cNvPicPr/>
            <p:nvPr/>
          </p:nvPicPr>
          <p:blipFill>
            <a:blip r:embed="rId30"/>
            <a:stretch/>
          </p:blipFill>
          <p:spPr>
            <a:xfrm>
              <a:off x="-2095560" y="3657600"/>
              <a:ext cx="828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-1973160" y="3780000"/>
              <a:ext cx="58392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Oval 76"/>
          <p:cNvGrpSpPr/>
          <p:nvPr/>
        </p:nvGrpSpPr>
        <p:grpSpPr>
          <a:xfrm>
            <a:off x="-3753000" y="2730600"/>
            <a:ext cx="700200" cy="701640"/>
            <a:chOff x="-3753000" y="2730600"/>
            <a:chExt cx="700200" cy="701640"/>
          </a:xfrm>
        </p:grpSpPr>
        <p:pic>
          <p:nvPicPr>
            <p:cNvPr id="656" name="Oval 76" descr=""/>
            <p:cNvPicPr/>
            <p:nvPr/>
          </p:nvPicPr>
          <p:blipFill>
            <a:blip r:embed="rId31"/>
            <a:stretch/>
          </p:blipFill>
          <p:spPr>
            <a:xfrm>
              <a:off x="-3753000" y="2730600"/>
              <a:ext cx="7002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-3652920" y="2832120"/>
              <a:ext cx="4982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Oval 77"/>
          <p:cNvGrpSpPr/>
          <p:nvPr/>
        </p:nvGrpSpPr>
        <p:grpSpPr>
          <a:xfrm>
            <a:off x="-2930400" y="1335240"/>
            <a:ext cx="834840" cy="828360"/>
            <a:chOff x="-2930400" y="1335240"/>
            <a:chExt cx="834840" cy="828360"/>
          </a:xfrm>
        </p:grpSpPr>
        <p:pic>
          <p:nvPicPr>
            <p:cNvPr id="659" name="Oval 77" descr=""/>
            <p:cNvPicPr/>
            <p:nvPr/>
          </p:nvPicPr>
          <p:blipFill>
            <a:blip r:embed="rId32"/>
            <a:stretch/>
          </p:blipFill>
          <p:spPr>
            <a:xfrm>
              <a:off x="-2930400" y="1335240"/>
              <a:ext cx="83484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-2806560" y="1454040"/>
              <a:ext cx="5900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Oval 78"/>
          <p:cNvGrpSpPr/>
          <p:nvPr/>
        </p:nvGrpSpPr>
        <p:grpSpPr>
          <a:xfrm>
            <a:off x="-4033800" y="981000"/>
            <a:ext cx="414360" cy="414360"/>
            <a:chOff x="-4033800" y="981000"/>
            <a:chExt cx="414360" cy="414360"/>
          </a:xfrm>
        </p:grpSpPr>
        <p:pic>
          <p:nvPicPr>
            <p:cNvPr id="662" name="Oval 78" descr=""/>
            <p:cNvPicPr/>
            <p:nvPr/>
          </p:nvPicPr>
          <p:blipFill>
            <a:blip r:embed="rId33"/>
            <a:stretch/>
          </p:blipFill>
          <p:spPr>
            <a:xfrm>
              <a:off x="-4033800" y="98100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-3973320" y="1039680"/>
              <a:ext cx="293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Oval 128"/>
          <p:cNvGrpSpPr/>
          <p:nvPr/>
        </p:nvGrpSpPr>
        <p:grpSpPr>
          <a:xfrm>
            <a:off x="-2095560" y="4486320"/>
            <a:ext cx="785880" cy="787320"/>
            <a:chOff x="-2095560" y="4486320"/>
            <a:chExt cx="785880" cy="787320"/>
          </a:xfrm>
        </p:grpSpPr>
        <p:pic>
          <p:nvPicPr>
            <p:cNvPr id="665" name="Oval 128" descr=""/>
            <p:cNvPicPr/>
            <p:nvPr/>
          </p:nvPicPr>
          <p:blipFill>
            <a:blip r:embed="rId34"/>
            <a:stretch/>
          </p:blipFill>
          <p:spPr>
            <a:xfrm>
              <a:off x="-2095560" y="4486320"/>
              <a:ext cx="7858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-1979640" y="460080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Oval 129"/>
          <p:cNvGrpSpPr/>
          <p:nvPr/>
        </p:nvGrpSpPr>
        <p:grpSpPr>
          <a:xfrm>
            <a:off x="-1681200" y="517680"/>
            <a:ext cx="828720" cy="830160"/>
            <a:chOff x="-1681200" y="517680"/>
            <a:chExt cx="828720" cy="830160"/>
          </a:xfrm>
        </p:grpSpPr>
        <p:pic>
          <p:nvPicPr>
            <p:cNvPr id="668" name="Oval 129" descr=""/>
            <p:cNvPicPr/>
            <p:nvPr/>
          </p:nvPicPr>
          <p:blipFill>
            <a:blip r:embed="rId35"/>
            <a:stretch/>
          </p:blipFill>
          <p:spPr>
            <a:xfrm>
              <a:off x="-1681200" y="517680"/>
              <a:ext cx="82872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-1560600" y="638280"/>
              <a:ext cx="5875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Oval 133"/>
          <p:cNvGrpSpPr/>
          <p:nvPr/>
        </p:nvGrpSpPr>
        <p:grpSpPr>
          <a:xfrm>
            <a:off x="-1266840" y="3505320"/>
            <a:ext cx="420840" cy="414360"/>
            <a:chOff x="-1266840" y="3505320"/>
            <a:chExt cx="420840" cy="414360"/>
          </a:xfrm>
        </p:grpSpPr>
        <p:pic>
          <p:nvPicPr>
            <p:cNvPr id="671" name="Oval 133" descr=""/>
            <p:cNvPicPr/>
            <p:nvPr/>
          </p:nvPicPr>
          <p:blipFill>
            <a:blip r:embed="rId36"/>
            <a:stretch/>
          </p:blipFill>
          <p:spPr>
            <a:xfrm>
              <a:off x="-1266840" y="3505320"/>
              <a:ext cx="4208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-1204920" y="3564000"/>
              <a:ext cx="2952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Oval 137"/>
          <p:cNvGrpSpPr/>
          <p:nvPr/>
        </p:nvGrpSpPr>
        <p:grpSpPr>
          <a:xfrm>
            <a:off x="-4716360" y="0"/>
            <a:ext cx="834840" cy="822240"/>
            <a:chOff x="-4716360" y="0"/>
            <a:chExt cx="834840" cy="822240"/>
          </a:xfrm>
        </p:grpSpPr>
        <p:pic>
          <p:nvPicPr>
            <p:cNvPr id="674" name="Oval 137" descr=""/>
            <p:cNvPicPr/>
            <p:nvPr/>
          </p:nvPicPr>
          <p:blipFill>
            <a:blip r:embed="rId37"/>
            <a:stretch/>
          </p:blipFill>
          <p:spPr>
            <a:xfrm>
              <a:off x="-4716360" y="0"/>
              <a:ext cx="8348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-4595760" y="120600"/>
              <a:ext cx="5904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图片 46" descr=""/>
          <p:cNvPicPr/>
          <p:nvPr/>
        </p:nvPicPr>
        <p:blipFill>
          <a:blip r:embed="rId38"/>
          <a:stretch/>
        </p:blipFill>
        <p:spPr>
          <a:xfrm>
            <a:off x="9096480" y="193680"/>
            <a:ext cx="2712960" cy="17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4313 -0.0808 C 0.42082 -0.11731 0.70526 -0.28521 0.811 -0.29985 C 0.91674 -0.31449 0.91093 -0.20937 0.97766 -0.16846 C 1.04439 -0.12754 1.14078 -0.07304 1.21128 -0.05452 C 1.28177 -0.03601 1.36139 -0.05699 1.40083 -0.0577 E">
                                      <p:cBhvr>
                                        <p:cTn id="1118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19" dur="1" fill="hold">
                                    <p:stCondLst>
                                      <p:cond evt="end">
                                        <p:tn val="1117"/>
                                      </p:cond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2" dur="250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124" dur="5000" fill="hold"/>
                                        <p:tgtEl>
                                          <p:spTgt spid="58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33411 0.30335 C 0.39505 0.29934 0.61588 0.26323 0.70182 0.2799 C 0.78793 0.29656 0.79835 0.40644 0.85078 0.40274 C 0.90338 0.39872 0.95112 0.27712 1.0171 0.25644 C 1.08307 0.23607 1.19904 0.27434 1.24696 0.27866 E">
                                      <p:cBhvr>
                                        <p:cTn id="1126" dur="3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evt="end">
                                        <p:tn val="1125"/>
                                      </p:cond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1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132" dur="5900" fill="hold"/>
                                        <p:tgtEl>
                                          <p:spTgt spid="58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2272 -0.06357 C 0.38687 -0.09655 0.59222 -0.21701 0.70516 -0.26128 C 0.8181 -0.30555 0.92061 -0.30978 0.99991 -0.32901 C 1.07911 -0.34823 1.14294 -0.36692 1.18055 -0.3768 E">
                                      <p:cBhvr>
                                        <p:cTn id="1134" dur="3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39" dur="2000" fill="hold"/>
                                        <p:tgtEl>
                                          <p:spTgt spid="58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40" dur="1" fill="hold">
                                    <p:stCondLst>
                                      <p:cond evt="end">
                                        <p:tn val="1138"/>
                                      </p:cond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789 0.10995 C 0.41325 0.09672 0.48976 0.04804 0.54188 0.03093 C 0.59399 0.01347 0.63826 0.06903 0.70038 0.00589 C 0.76249 -0.05725 0.80773 -0.30328 0.91475 -0.34737 C 1.02178 -0.39146 1.25314 -0.27718 1.34222 -0.25884 E">
                                      <p:cBhvr>
                                        <p:cTn id="1142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6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8" dur="3000" fill="hold"/>
                                        <p:tgtEl>
                                          <p:spTgt spid="59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0368 0.10056 C 0.66235 0.09914 0.88415 0.13618 0.95786 0.09262 C 1.03158 0.0487 1.01213 -0.10597 1.04576 -0.1617 C 1.07929 -0.21743 1.11679 -0.22308 1.15945 -0.2423 C 1.20211 -0.26117 1.24499 -0.22396 1.30151 -0.27616 C 1.35803 -0.32837 1.45775 -0.4975 1.49891 -0.55588 E">
                                      <p:cBhvr>
                                        <p:cTn id="1150" dur="3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4" dur="250" autoRev="1" fill="hold"/>
                                        <p:tgtEl>
                                          <p:spTgt spid="6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56" dur="5500" fill="hold"/>
                                        <p:tgtEl>
                                          <p:spTgt spid="60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6199 0.00334 C 0.63968 -0.03317 0.92412 -0.20107 1.02986 -0.21571 C 1.1356 -0.23034 1.1602 -0.04022 1.19652 -0.08431 C 1.23295 -0.1284 1.21436 -0.40865 1.24843 -0.48043 C 1.28271 -0.55204 1.35954 -0.54357 1.40123 -0.5143 C 1.44314 -0.48502 1.47892 -0.34833 1.49934 -0.30459 E">
                                      <p:cBhvr>
                                        <p:cTn id="115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2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3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164" dur="5000" fill="hold"/>
                                        <p:tgtEl>
                                          <p:spTgt spid="58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6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2813 0.4149 C 0.58906 0.41102 0.81988 0.43783 0.89585 0.39145 C 0.97193 0.34506 0.94334 0.13695 0.98407 0.13695 C 1.0248 0.13695 1.09744 0.41067 1.13999 0.39145 C 1.18276 0.3724 1.19007 0.02284 1.24025 0.02266 C 1.29043 0.02249 1.39907 0.31385 1.44087 0.39039 E">
                                      <p:cBhvr>
                                        <p:cTn id="1166" dur="3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0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1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172" dur="5900" fill="hold"/>
                                        <p:tgtEl>
                                          <p:spTgt spid="59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9228 0.61443 C 0.75643 0.58145 0.96178 0.46099 1.07472 0.41672 C 1.18766 0.37245 1.29017 0.36822 1.36948 0.349 C 1.44867 0.32977 1.5125 0.31108 1.55011 0.3012 E">
                                      <p:cBhvr>
                                        <p:cTn id="1174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7" dur="250" autoRev="1" fill="hold"/>
                                        <p:tgtEl>
                                          <p:spTgt spid="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79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80" dur="1" fill="hold">
                                    <p:stCondLst>
                                      <p:cond evt="end">
                                        <p:tn val="1178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1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7401 -0.07303 C 0.64933 -0.0912 0.92002 -0.16739 1.02576 -0.18203 C 1.1315 -0.19667 1.13912 -0.18326 1.20854 -0.16069 C 1.27796 -0.13811 1.37166 -0.06527 1.44216 -0.04675 C 1.51265 -0.02824 1.59227 -0.04922 1.63171 -0.04993 E">
                                      <p:cBhvr>
                                        <p:cTn id="118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6" dur="25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188" dur="5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171 0.25819 C 0.64707 0.24497 0.72358 0.19629 0.77569 0.17918 C 0.82781 0.16172 0.85403 0.15043 0.93419 0.15414 C 1.01436 0.15784 1.14932 0.2455 1.25635 0.2014 C 1.36338 0.15731 1.50941 -0.04551 1.57604 -0.11059 E">
                                      <p:cBhvr>
                                        <p:cTn id="1190" dur="1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250" autoRev="1" fill="hold"/>
                                        <p:tgtEl>
                                          <p:spTgt spid="6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6" dur="3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9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73442 0.13585 C 0.81458 0.15067 1.10966 0.23903 1.2154 0.22439 C 1.32114 0.20975 1.33468 0.14344 1.36896 0.0482 C 1.40324 -0.04721 1.3868 -0.27614 1.42086 -0.3481 C 1.45514 -0.41953 1.53197 -0.41106 1.57366 -0.38178 C 1.61557 -0.35251 1.65136 -0.21582 1.67177 -0.17208 E">
                                      <p:cBhvr>
                                        <p:cTn id="1198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250" autoRev="1" fill="hold"/>
                                        <p:tgtEl>
                                          <p:spTgt spid="6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3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04" dur="5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74846 0.77182 C 0.81476 0.77428 1.03343 0.8309 1.14626 0.78663 C 1.25909 0.74236 1.34904 0.56106 1.42565 0.50638 C 1.50227 0.45171 1.56868 0.46846 1.60629 0.45859 E">
                                      <p:cBhvr>
                                        <p:cTn id="1206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9" dur="250" autoRev="1" fill="hold"/>
                                        <p:tgtEl>
                                          <p:spTgt spid="6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11" dur="2000" fill="hold"/>
                                        <p:tgtEl>
                                          <p:spTgt spid="6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12" dur="1" fill="hold">
                                    <p:stCondLst>
                                      <p:cond evt="end">
                                        <p:tn val="1210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13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5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17" dur="3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9371 0.75446 C 0.50467 0.79361 0.53701 0.93365 0.55947 0.98938 C 0.58193 1.04511 0.59783 1.08585 0.62824 1.08903 C 0.65865 1.0922 0.69927 1.02765 0.74193 1.00843 C 0.78459 0.98938 0.84402 1.01054 0.88399 0.97456 C 0.92407 0.93858 0.95319 0.86557 0.98221 0.79238 E">
                                      <p:cBhvr>
                                        <p:cTn id="1219" dur="55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0" dur="1" fill="hold">
                                    <p:stCondLst>
                                      <p:cond evt="end">
                                        <p:tn val="1218"/>
                                      </p:cond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21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3" dur="250" autoRev="1" fill="hold"/>
                                        <p:tgtEl>
                                          <p:spTgt spid="6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4" nodeType="withEffect" fill="hold" presetClass="emph" presetID="6" repeatCount="indefinite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225" dur="5500" fill="hold"/>
                                        <p:tgtEl>
                                          <p:spTgt spid="62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251 -0.1631 C 0.35057 -0.17157 0.42611 -0.2273 0.47963 -0.2139 C 0.53314 -0.20049 0.60997 -0.03841 0.64629 -0.08251 C 0.68272 -0.1266 0.66413 -0.40684 0.69819 -0.47863 C 0.73247 -0.55023 0.80931 -0.54176 0.851 -0.51249 C 0.8928 -0.48321 0.92869 -0.34653 0.94911 -0.30279 E">
                                      <p:cBhvr>
                                        <p:cTn id="1227" dur="5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8" dur="1" fill="hold">
                                    <p:stCondLst>
                                      <p:cond evt="end">
                                        <p:tn val="1226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29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250" autoRev="1" fill="hold"/>
                                        <p:tgtEl>
                                          <p:spTgt spid="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2" nodeType="withEffect" fill="hold" presetClass="emph" presetID="6" repeatCount="indefinite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233" dur="5000" fill="hold"/>
                                        <p:tgtEl>
                                          <p:spTgt spid="6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2748 0.33933 C 0.33844 0.29047 0.35896 0.10952 0.39152 0.04603 C 0.42408 -0.01746 0.48211 -0.04162 0.52284 -0.04162 C 0.56356 -0.04162 0.60021 0.09294 0.63577 0.04603 C 0.67134 -0.000879999999999999 0.70336 -0.32416 0.73592 -0.32275 C 0.76859 -0.32134 0.81157 -0.02416 0.83135 0.05467 E">
                                      <p:cBhvr>
                                        <p:cTn id="1235" dur="59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36" dur="1" fill="hold">
                                    <p:stCondLst>
                                      <p:cond evt="end">
                                        <p:tn val="1234"/>
                                      </p:cond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7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241" dur="5900" fill="hold"/>
                                        <p:tgtEl>
                                          <p:spTgt spid="6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965 0.08872 C 0.30284 0.08872 0.30005 0.09295 0.3325 0.0889 C 0.36495 0.08484 0.43663 0.11412 0.491 0.06403 C 0.54527 0.01394 0.62339 -0.15431 0.65831 -0.21198 E">
                                      <p:cBhvr>
                                        <p:cTn id="1243" dur="15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44" dur="1" fill="hold">
                                    <p:stCondLst>
                                      <p:cond evt="end">
                                        <p:tn val="1242"/>
                                      </p:cond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4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4196 -0.0808 C 0.41965 -0.11731 0.70409 -0.28521 0.80983 -0.29985 C 0.91557 -0.31449 0.90976 -0.20937 0.97649 -0.16846 C 1.04322 -0.12754 1.13961 -0.07304 1.21011 -0.05452 C 1.2806 -0.03601 1.36022 -0.05699 1.39966 -0.0577 E">
                                      <p:cBhvr>
                                        <p:cTn id="124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evt="end">
                                        <p:tn val="1245"/>
                                      </p:cond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4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0" dur="250" autoRev="1" fill="hold"/>
                                        <p:tgtEl>
                                          <p:spTgt spid="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1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52" dur="5000" fill="hold"/>
                                        <p:tgtEl>
                                          <p:spTgt spid="62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5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33294 0.30335 C 0.39388 0.29934 0.61471 0.26323 0.70065 0.2799 C 0.78676 0.29656 0.79718 0.40644 0.84961 0.40274 C 0.90221 0.39872 0.94995 0.27712 1.01593 0.25644 C 1.0819 0.23607 1.19787 0.27434 1.24579 0.27866 E">
                                      <p:cBhvr>
                                        <p:cTn id="1254" dur="3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5" dur="1" fill="hold">
                                    <p:stCondLst>
                                      <p:cond evt="end">
                                        <p:tn val="1253"/>
                                      </p:cond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8" dur="250" autoRev="1" fill="hold"/>
                                        <p:tgtEl>
                                          <p:spTgt spid="6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60" dur="5900" fill="hold"/>
                                        <p:tgtEl>
                                          <p:spTgt spid="63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32155 -0.06357 C 0.3857 -0.09655 0.59105 -0.21701 0.70399 -0.26128 C 0.81693 -0.30555 0.91944 -0.30978 0.99874 -0.32901 C 1.07794 -0.34823 1.14177 -0.36692 1.17938 -0.3768 E">
                                      <p:cBhvr>
                                        <p:cTn id="1262" dur="3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5" dur="250" autoRev="1" fill="hold"/>
                                        <p:tgtEl>
                                          <p:spTgt spid="6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67" dur="2000" fill="hold"/>
                                        <p:tgtEl>
                                          <p:spTgt spid="6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evt="end">
                                        <p:tn val="1266"/>
                                      </p:cond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72 0.10995 C 0.41208 0.09672 0.48859 0.04804 0.54071 0.03093 C 0.59282 0.01347 0.63709 0.06903 0.69921 0.00589 C 0.76132 -0.05725 0.80656 -0.30328 0.91358 -0.34737 C 1.02061 -0.39146 1.25197 -0.27718 1.34105 -0.25884 E">
                                      <p:cBhvr>
                                        <p:cTn id="1270" dur="10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1" dur="1" fill="hold">
                                    <p:stCondLst>
                                      <p:cond evt="end">
                                        <p:tn val="1269"/>
                                      </p:cond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7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4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6" dur="3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7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0251 0.10056 C 0.66118 0.09914 0.88298 0.13618 0.95669 0.09262 C 1.03041 0.0487 1.01096 -0.10597 1.04459 -0.1617 C 1.07812 -0.21743 1.11562 -0.22308 1.15828 -0.2423 C 1.20094 -0.26117 1.24382 -0.22396 1.30034 -0.27616 C 1.35686 -0.32837 1.45658 -0.4975 1.49774 -0.55588 E">
                                      <p:cBhvr>
                                        <p:cTn id="1278" dur="3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9" dur="1" fill="hold">
                                    <p:stCondLst>
                                      <p:cond evt="end">
                                        <p:tn val="1277"/>
                                      </p:cond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2" dur="250" autoRev="1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84" dur="5500" fill="hold"/>
                                        <p:tgtEl>
                                          <p:spTgt spid="64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6082 0.00334 C 0.63851 -0.03317 0.92295 -0.20107 1.02869 -0.21571 C 1.13443 -0.23034 1.15903 -0.04022 1.19535 -0.08431 C 1.23178 -0.1284 1.21319 -0.40865 1.24726 -0.48043 C 1.28154 -0.55204 1.35837 -0.54357 1.40006 -0.5143 C 1.44197 -0.48502 1.47775 -0.34833 1.49817 -0.30459 E">
                                      <p:cBhvr>
                                        <p:cTn id="1286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7" dur="1" fill="hold">
                                    <p:stCondLst>
                                      <p:cond evt="end">
                                        <p:tn val="1285"/>
                                      </p:cond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0" dur="250" autoRev="1" fill="hold"/>
                                        <p:tgtEl>
                                          <p:spTgt spid="6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92" dur="5000" fill="hold"/>
                                        <p:tgtEl>
                                          <p:spTgt spid="63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9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2696 0.4149 C 0.58789 0.41102 0.81871 0.43783 0.89468 0.39145 C 0.97076 0.34506 0.94217 0.13695 0.9829 0.13695 C 1.02363 0.13695 1.09627 0.41067 1.13882 0.39145 C 1.18159 0.3724 1.1889 0.02284 1.23908 0.02266 C 1.28926 0.02249 1.3979 0.31385 1.4397 0.39039 E">
                                      <p:cBhvr>
                                        <p:cTn id="1294" dur="3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95" dur="1" fill="hold">
                                    <p:stCondLst>
                                      <p:cond evt="end">
                                        <p:tn val="1293"/>
                                      </p:cond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8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00" dur="5900" fill="hold"/>
                                        <p:tgtEl>
                                          <p:spTgt spid="64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69111 0.61443 C 0.75526 0.58145 0.96061 0.46099 1.07355 0.41672 C 1.18649 0.37245 1.289 0.36822 1.36831 0.349 C 1.4475 0.32977 1.51133 0.31108 1.54894 0.3012 E">
                                      <p:cBhvr>
                                        <p:cTn id="1302" dur="1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5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07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evt="end">
                                        <p:tn val="1306"/>
                                      </p:cond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0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57284 -0.07303 C 0.64816 -0.0912 0.91885 -0.16739 1.02459 -0.18203 C 1.13033 -0.19667 1.13795 -0.18326 1.20737 -0.16069 C 1.27679 -0.13811 1.37049 -0.06527 1.44099 -0.04675 C 1.51148 -0.02824 1.5911 -0.04922 1.63054 -0.04993 E">
                                      <p:cBhvr>
                                        <p:cTn id="131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11" dur="1" fill="hold">
                                    <p:stCondLst>
                                      <p:cond evt="end">
                                        <p:tn val="1309"/>
                                      </p:cond>
                                    </p:stCondLst>
                                  </p:cTn>
                                  <p:tgtEl>
                                    <p:spTgt spid="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4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16" dur="5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054 0.25819 C 0.6459 0.24497 0.72241 0.19629 0.77452 0.17918 C 0.82664 0.16172 0.85286 0.15043 0.93302 0.15414 C 1.01319 0.15784 1.14815 0.2455 1.25518 0.2014 C 1.36221 0.15731 1.50824 -0.04551 1.57487 -0.11059 E">
                                      <p:cBhvr>
                                        <p:cTn id="1318" dur="1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19" dur="1" fill="hold">
                                    <p:stCondLst>
                                      <p:cond evt="end">
                                        <p:tn val="1317"/>
                                      </p:cond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2" dur="250" autoRev="1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4" dur="3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73325 0.13585 C 0.81341 0.15067 1.10849 0.23903 1.21423 0.22439 C 1.31997 0.20975 1.33351 0.14344 1.36779 0.0482 C 1.40207 -0.04721 1.38563 -0.27614 1.41969 -0.3481 C 1.45397 -0.41953 1.5308 -0.41106 1.57249 -0.38178 C 1.6144 -0.35251 1.65019 -0.21582 1.6706 -0.17208 E">
                                      <p:cBhvr>
                                        <p:cTn id="1326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27" dur="1" fill="hold">
                                    <p:stCondLst>
                                      <p:cond evt="end">
                                        <p:tn val="1325"/>
                                      </p:cond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0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6" repeatCount="indefinite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332" dur="5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74729 0.77182 C 0.81359 0.77428 1.03226 0.8309 1.14509 0.78663 C 1.25792 0.74236 1.34787 0.56106 1.42448 0.50638 C 1.5011 0.45171 1.56751 0.46846 1.60512 0.45859 E">
                                      <p:cBhvr>
                                        <p:cTn id="1334" dur="1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7" dur="250" autoRev="1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8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39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evt="end">
                                        <p:tn val="1338"/>
                                      </p:cond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1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3" dur="250" autoRev="1" fill="hold"/>
                                        <p:tgtEl>
                                          <p:spTgt spid="6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45" dur="3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69614 1.09203 C 0.7071 1.13118 0.73944 1.27122 0.7619 1.32695 C 0.78436 1.38268 0.80026 1.42342 0.83067 1.4266 C 0.86108 1.42977 0.9017 1.36522 0.94436 1.346 C 0.98702 1.32695 1.04645 1.34811 1.08642 1.31213 C 1.1265 1.27615 1.15562 1.20314 1.18464 1.12995 E">
                                      <p:cBhvr>
                                        <p:cTn id="1347" dur="55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evt="end">
                                        <p:tn val="1346"/>
                                      </p:cond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49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1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2" nodeType="withEffect" fill="hold" presetClass="emph" presetID="6" repeatCount="indefinite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353" dur="5500" fill="hold"/>
                                        <p:tgtEl>
                                          <p:spTgt spid="67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54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2393 -0.1631 C 0.3494 -0.17157 0.42494 -0.2273 0.47846 -0.2139 C 0.53197 -0.20049 0.6088 -0.03841 0.64512 -0.08251 C 0.68155 -0.1266 0.66296 -0.40684 0.69702 -0.47863 C 0.7313 -0.55023 0.80814 -0.54176 0.84983 -0.51249 C 0.89163 -0.48321 0.92752 -0.34653 0.94794 -0.30279 E">
                                      <p:cBhvr>
                                        <p:cTn id="1355" dur="5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56" dur="1" fill="hold">
                                    <p:stCondLst>
                                      <p:cond evt="end">
                                        <p:tn val="1354"/>
                                      </p:cond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57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9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6" repeatCount="indefinite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1361" dur="5000" fill="hold"/>
                                        <p:tgtEl>
                                          <p:spTgt spid="6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6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2631 0.33933 C 0.33727 0.29047 0.35779 0.10952 0.39035 0.04603 C 0.42291 -0.01746 0.48094 -0.04162 0.52167 -0.04162 C 0.56239 -0.04162 0.59904 0.09294 0.6346 0.04603 C 0.67017 -0.000879999999999999 0.70219 -0.32416 0.73475 -0.32275 C 0.76742 -0.32134 0.8104 -0.02416 0.83018 0.05467 E">
                                      <p:cBhvr>
                                        <p:cTn id="1363" dur="59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4" dur="1" fill="hold">
                                    <p:stCondLst>
                                      <p:cond evt="end">
                                        <p:tn val="1362"/>
                                      </p:cond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6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7" dur="250" autoRev="1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8" nodeType="withEffect" fill="hold" presetClass="emph" presetID="6" repeatCount="indefinite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369" dur="5900" fill="hold"/>
                                        <p:tgtEl>
                                          <p:spTgt spid="66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7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9533 0.08872 C 0.30167 0.08872 0.29888 0.09295 0.33133 0.0889 C 0.36378 0.08484 0.43546 0.11412 0.48983 0.06403 C 0.5441 0.01394 0.62222 -0.15431 0.65714 -0.21198 E">
                                      <p:cBhvr>
                                        <p:cTn id="1371" dur="1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evt="end">
                                        <p:tn val="1370"/>
                                      </p:cond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20"/>
          <p:cNvGrpSpPr/>
          <p:nvPr/>
        </p:nvGrpSpPr>
        <p:grpSpPr>
          <a:xfrm>
            <a:off x="4699080" y="1878120"/>
            <a:ext cx="3892320" cy="1776240"/>
            <a:chOff x="4699080" y="1878120"/>
            <a:chExt cx="3892320" cy="1776240"/>
          </a:xfrm>
        </p:grpSpPr>
        <p:grpSp>
          <p:nvGrpSpPr>
            <p:cNvPr id="57" name="直角三角形 3"/>
            <p:cNvGrpSpPr/>
            <p:nvPr/>
          </p:nvGrpSpPr>
          <p:grpSpPr>
            <a:xfrm>
              <a:off x="4764960" y="2685960"/>
              <a:ext cx="701640" cy="695160"/>
              <a:chOff x="4764960" y="2685960"/>
              <a:chExt cx="701640" cy="695160"/>
            </a:xfrm>
          </p:grpSpPr>
          <p:pic>
            <p:nvPicPr>
              <p:cNvPr id="58" name="直角三角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4960" y="2685960"/>
                <a:ext cx="70164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18360000">
                <a:off x="5047920" y="3089520"/>
                <a:ext cx="2379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直角三角形 4"/>
            <p:cNvGrpSpPr/>
            <p:nvPr/>
          </p:nvGrpSpPr>
          <p:grpSpPr>
            <a:xfrm>
              <a:off x="4699080" y="2502000"/>
              <a:ext cx="767520" cy="594000"/>
              <a:chOff x="4699080" y="2502000"/>
              <a:chExt cx="767520" cy="594000"/>
            </a:xfrm>
          </p:grpSpPr>
          <p:pic>
            <p:nvPicPr>
              <p:cNvPr id="61" name="直角三角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9080" y="2502000"/>
                <a:ext cx="767520" cy="5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120000">
                <a:off x="4820400" y="2851560"/>
                <a:ext cx="33876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直角三角形 5"/>
            <p:cNvGrpSpPr/>
            <p:nvPr/>
          </p:nvGrpSpPr>
          <p:grpSpPr>
            <a:xfrm>
              <a:off x="4710960" y="2169000"/>
              <a:ext cx="989640" cy="837720"/>
              <a:chOff x="4710960" y="2169000"/>
              <a:chExt cx="989640" cy="837720"/>
            </a:xfrm>
          </p:grpSpPr>
          <p:pic>
            <p:nvPicPr>
              <p:cNvPr id="64" name="直角三角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0960" y="2169000"/>
                <a:ext cx="989640" cy="83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 rot="1680000">
                <a:off x="4817160" y="2547360"/>
                <a:ext cx="41580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直角三角形 6"/>
            <p:cNvGrpSpPr/>
            <p:nvPr/>
          </p:nvGrpSpPr>
          <p:grpSpPr>
            <a:xfrm>
              <a:off x="4944960" y="1913760"/>
              <a:ext cx="935640" cy="1087200"/>
              <a:chOff x="4944960" y="1913760"/>
              <a:chExt cx="935640" cy="1087200"/>
            </a:xfrm>
          </p:grpSpPr>
          <p:pic>
            <p:nvPicPr>
              <p:cNvPr id="67" name="直角三角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4944960" y="1913760"/>
                <a:ext cx="93564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 rot="3540000">
                <a:off x="4987080" y="2302920"/>
                <a:ext cx="4762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直角三角形 7"/>
            <p:cNvGrpSpPr/>
            <p:nvPr/>
          </p:nvGrpSpPr>
          <p:grpSpPr>
            <a:xfrm>
              <a:off x="5370840" y="1878120"/>
              <a:ext cx="575640" cy="1122840"/>
              <a:chOff x="5370840" y="1878120"/>
              <a:chExt cx="575640" cy="1122840"/>
            </a:xfrm>
          </p:grpSpPr>
          <p:pic>
            <p:nvPicPr>
              <p:cNvPr id="70" name="直角三角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0840" y="1878120"/>
                <a:ext cx="575640" cy="112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 rot="5204400">
                <a:off x="5261760" y="2190600"/>
                <a:ext cx="5331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直角三角形 8"/>
            <p:cNvGrpSpPr/>
            <p:nvPr/>
          </p:nvGrpSpPr>
          <p:grpSpPr>
            <a:xfrm>
              <a:off x="5430600" y="1890000"/>
              <a:ext cx="911520" cy="1289160"/>
              <a:chOff x="5430600" y="1890000"/>
              <a:chExt cx="911520" cy="1289160"/>
            </a:xfrm>
          </p:grpSpPr>
          <p:pic>
            <p:nvPicPr>
              <p:cNvPr id="73" name="直角三角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0600" y="1890000"/>
                <a:ext cx="911520" cy="128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 rot="6693600">
                <a:off x="5554440" y="2229480"/>
                <a:ext cx="58320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直角三角形 9"/>
            <p:cNvGrpSpPr/>
            <p:nvPr/>
          </p:nvGrpSpPr>
          <p:grpSpPr>
            <a:xfrm>
              <a:off x="5436720" y="2068200"/>
              <a:ext cx="1271520" cy="1259640"/>
              <a:chOff x="5436720" y="2068200"/>
              <a:chExt cx="1271520" cy="1259640"/>
            </a:xfrm>
          </p:grpSpPr>
          <p:pic>
            <p:nvPicPr>
              <p:cNvPr id="76" name="直角三角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436720" y="2068200"/>
                <a:ext cx="1271520" cy="12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 rot="8095200">
                <a:off x="5822280" y="2386800"/>
                <a:ext cx="6310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直角三角形 10"/>
            <p:cNvGrpSpPr/>
            <p:nvPr/>
          </p:nvGrpSpPr>
          <p:grpSpPr>
            <a:xfrm>
              <a:off x="5442480" y="2424600"/>
              <a:ext cx="1469160" cy="1004040"/>
              <a:chOff x="5442480" y="2424600"/>
              <a:chExt cx="1469160" cy="1004040"/>
            </a:xfrm>
          </p:grpSpPr>
          <p:pic>
            <p:nvPicPr>
              <p:cNvPr id="79" name="直角三角形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5442480" y="2424600"/>
                <a:ext cx="146916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9398400">
                <a:off x="5999760" y="2646720"/>
                <a:ext cx="68040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椭圆 12"/>
            <p:cNvGrpSpPr/>
            <p:nvPr/>
          </p:nvGrpSpPr>
          <p:grpSpPr>
            <a:xfrm>
              <a:off x="5388840" y="2911680"/>
              <a:ext cx="113760" cy="112680"/>
              <a:chOff x="5388840" y="2911680"/>
              <a:chExt cx="113760" cy="112680"/>
            </a:xfrm>
          </p:grpSpPr>
          <p:pic>
            <p:nvPicPr>
              <p:cNvPr id="82" name="椭圆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5388840" y="2911680"/>
                <a:ext cx="11376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5420160" y="2943000"/>
                <a:ext cx="5004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矩形 13"/>
            <p:cNvGrpSpPr/>
            <p:nvPr/>
          </p:nvGrpSpPr>
          <p:grpSpPr>
            <a:xfrm>
              <a:off x="5406840" y="3018600"/>
              <a:ext cx="77760" cy="279000"/>
              <a:chOff x="5406840" y="3018600"/>
              <a:chExt cx="77760" cy="279000"/>
            </a:xfrm>
          </p:grpSpPr>
          <p:pic>
            <p:nvPicPr>
              <p:cNvPr id="85" name="矩形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06840" y="3018600"/>
                <a:ext cx="77760" cy="27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5422680" y="3034080"/>
                <a:ext cx="45000" cy="25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文本框 14" descr=""/>
            <p:cNvPicPr/>
            <p:nvPr/>
          </p:nvPicPr>
          <p:blipFill>
            <a:blip r:embed="rId11"/>
            <a:stretch/>
          </p:blipFill>
          <p:spPr>
            <a:xfrm>
              <a:off x="4806720" y="3262320"/>
              <a:ext cx="215640" cy="39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文本框 15"/>
            <p:cNvGrpSpPr/>
            <p:nvPr/>
          </p:nvGrpSpPr>
          <p:grpSpPr>
            <a:xfrm>
              <a:off x="5454720" y="2876040"/>
              <a:ext cx="3136680" cy="659520"/>
              <a:chOff x="5454720" y="2876040"/>
              <a:chExt cx="3136680" cy="659520"/>
            </a:xfrm>
          </p:grpSpPr>
          <p:pic>
            <p:nvPicPr>
              <p:cNvPr id="89" name="文本框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54720" y="2876040"/>
                <a:ext cx="3136680" cy="6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970960" y="2892600"/>
                <a:ext cx="210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Calibri"/>
                  </a:rPr>
                  <a:t>终极理论梦之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25"/>
          <p:cNvSpPr/>
          <p:nvPr/>
        </p:nvSpPr>
        <p:spPr>
          <a:xfrm rot="20401800">
            <a:off x="6041880" y="925200"/>
            <a:ext cx="2820960" cy="1400040"/>
          </a:xfrm>
          <a:custGeom>
            <a:avLst/>
            <a:gdLst/>
            <a:ahLst/>
            <a:rect l="l" t="t" r="r" b="b"/>
            <a:pathLst>
              <a:path w="2822048" h="1399818">
                <a:moveTo>
                  <a:pt x="777027" y="559211"/>
                </a:moveTo>
                <a:cubicBezTo>
                  <a:pt x="740105" y="555283"/>
                  <a:pt x="700827" y="596133"/>
                  <a:pt x="673332" y="606345"/>
                </a:cubicBezTo>
                <a:cubicBezTo>
                  <a:pt x="645837" y="616557"/>
                  <a:pt x="638767" y="600061"/>
                  <a:pt x="612058" y="620486"/>
                </a:cubicBezTo>
                <a:cubicBezTo>
                  <a:pt x="585349" y="640911"/>
                  <a:pt x="539786" y="688830"/>
                  <a:pt x="513077" y="728894"/>
                </a:cubicBezTo>
                <a:cubicBezTo>
                  <a:pt x="486368" y="768958"/>
                  <a:pt x="465943" y="825519"/>
                  <a:pt x="451803" y="860869"/>
                </a:cubicBezTo>
                <a:cubicBezTo>
                  <a:pt x="437663" y="896219"/>
                  <a:pt x="404358" y="935572"/>
                  <a:pt x="423522" y="950424"/>
                </a:cubicBezTo>
                <a:cubicBezTo>
                  <a:pt x="442686" y="965276"/>
                  <a:pt x="516514" y="946839"/>
                  <a:pt x="566790" y="949981"/>
                </a:cubicBezTo>
                <a:cubicBezTo>
                  <a:pt x="617066" y="953123"/>
                  <a:pt x="673644" y="977059"/>
                  <a:pt x="725180" y="969277"/>
                </a:cubicBezTo>
                <a:cubicBezTo>
                  <a:pt x="776716" y="961495"/>
                  <a:pt x="845372" y="933927"/>
                  <a:pt x="876009" y="903290"/>
                </a:cubicBezTo>
                <a:cubicBezTo>
                  <a:pt x="906646" y="872653"/>
                  <a:pt x="905861" y="831018"/>
                  <a:pt x="909003" y="785455"/>
                </a:cubicBezTo>
                <a:cubicBezTo>
                  <a:pt x="912145" y="739892"/>
                  <a:pt x="916858" y="667619"/>
                  <a:pt x="894862" y="629912"/>
                </a:cubicBezTo>
                <a:cubicBezTo>
                  <a:pt x="872866" y="592205"/>
                  <a:pt x="813949" y="563139"/>
                  <a:pt x="777027" y="559211"/>
                </a:cubicBezTo>
                <a:close/>
                <a:moveTo>
                  <a:pt x="589845" y="89"/>
                </a:moveTo>
                <a:cubicBezTo>
                  <a:pt x="624370" y="-561"/>
                  <a:pt x="666226" y="2362"/>
                  <a:pt x="711040" y="7743"/>
                </a:cubicBezTo>
                <a:cubicBezTo>
                  <a:pt x="800669" y="18504"/>
                  <a:pt x="965564" y="44664"/>
                  <a:pt x="1050405" y="78444"/>
                </a:cubicBezTo>
                <a:cubicBezTo>
                  <a:pt x="1135246" y="112223"/>
                  <a:pt x="1220087" y="210420"/>
                  <a:pt x="1220087" y="210420"/>
                </a:cubicBezTo>
                <a:cubicBezTo>
                  <a:pt x="1301000" y="274051"/>
                  <a:pt x="1435332" y="388744"/>
                  <a:pt x="1535885" y="460230"/>
                </a:cubicBezTo>
                <a:cubicBezTo>
                  <a:pt x="1636438" y="531716"/>
                  <a:pt x="1758201" y="612630"/>
                  <a:pt x="1823403" y="639339"/>
                </a:cubicBezTo>
                <a:cubicBezTo>
                  <a:pt x="1888605" y="666048"/>
                  <a:pt x="1908829" y="631995"/>
                  <a:pt x="1927097" y="620486"/>
                </a:cubicBezTo>
                <a:cubicBezTo>
                  <a:pt x="1945365" y="608977"/>
                  <a:pt x="1918087" y="583638"/>
                  <a:pt x="1933013" y="570283"/>
                </a:cubicBezTo>
                <a:cubicBezTo>
                  <a:pt x="1947939" y="556928"/>
                  <a:pt x="1950353" y="562391"/>
                  <a:pt x="2016652" y="540358"/>
                </a:cubicBezTo>
                <a:lnTo>
                  <a:pt x="2330806" y="438087"/>
                </a:lnTo>
                <a:cubicBezTo>
                  <a:pt x="2402293" y="415306"/>
                  <a:pt x="2412141" y="402172"/>
                  <a:pt x="2445572" y="403669"/>
                </a:cubicBezTo>
                <a:cubicBezTo>
                  <a:pt x="2479003" y="405166"/>
                  <a:pt x="2492973" y="406416"/>
                  <a:pt x="2531393" y="447070"/>
                </a:cubicBezTo>
                <a:cubicBezTo>
                  <a:pt x="2566744" y="512272"/>
                  <a:pt x="2613061" y="687422"/>
                  <a:pt x="2657675" y="794881"/>
                </a:cubicBezTo>
                <a:cubicBezTo>
                  <a:pt x="2702289" y="902340"/>
                  <a:pt x="2772368" y="1027410"/>
                  <a:pt x="2799077" y="1091826"/>
                </a:cubicBezTo>
                <a:cubicBezTo>
                  <a:pt x="2825786" y="1156242"/>
                  <a:pt x="2824805" y="1151676"/>
                  <a:pt x="2817930" y="1181380"/>
                </a:cubicBezTo>
                <a:cubicBezTo>
                  <a:pt x="2786507" y="1204947"/>
                  <a:pt x="2617395" y="1227923"/>
                  <a:pt x="2521556" y="1257775"/>
                </a:cubicBezTo>
                <a:cubicBezTo>
                  <a:pt x="2425717" y="1287627"/>
                  <a:pt x="2345724" y="1320911"/>
                  <a:pt x="2242895" y="1360490"/>
                </a:cubicBezTo>
                <a:cubicBezTo>
                  <a:pt x="2179955" y="1354042"/>
                  <a:pt x="2188691" y="1235585"/>
                  <a:pt x="2143914" y="1219088"/>
                </a:cubicBezTo>
                <a:cubicBezTo>
                  <a:pt x="2099137" y="1202591"/>
                  <a:pt x="2056715" y="1234799"/>
                  <a:pt x="1974231" y="1261508"/>
                </a:cubicBezTo>
                <a:cubicBezTo>
                  <a:pt x="1891747" y="1288217"/>
                  <a:pt x="1740133" y="1356562"/>
                  <a:pt x="1649007" y="1379343"/>
                </a:cubicBezTo>
                <a:cubicBezTo>
                  <a:pt x="1557881" y="1402124"/>
                  <a:pt x="1500535" y="1401339"/>
                  <a:pt x="1427477" y="1398197"/>
                </a:cubicBezTo>
                <a:cubicBezTo>
                  <a:pt x="1354419" y="1395055"/>
                  <a:pt x="1289217" y="1383272"/>
                  <a:pt x="1210660" y="1360490"/>
                </a:cubicBezTo>
                <a:cubicBezTo>
                  <a:pt x="1132103" y="1337709"/>
                  <a:pt x="1030766" y="1285075"/>
                  <a:pt x="956137" y="1261508"/>
                </a:cubicBezTo>
                <a:cubicBezTo>
                  <a:pt x="881508" y="1237941"/>
                  <a:pt x="844586" y="1227729"/>
                  <a:pt x="762887" y="1219088"/>
                </a:cubicBezTo>
                <a:cubicBezTo>
                  <a:pt x="681188" y="1210447"/>
                  <a:pt x="540683" y="1213115"/>
                  <a:pt x="465943" y="1209661"/>
                </a:cubicBezTo>
                <a:cubicBezTo>
                  <a:pt x="391203" y="1206208"/>
                  <a:pt x="355298" y="1207008"/>
                  <a:pt x="314449" y="1198367"/>
                </a:cubicBezTo>
                <a:cubicBezTo>
                  <a:pt x="273599" y="1189726"/>
                  <a:pt x="235661" y="1184211"/>
                  <a:pt x="220846" y="1157813"/>
                </a:cubicBezTo>
                <a:cubicBezTo>
                  <a:pt x="206031" y="1131415"/>
                  <a:pt x="218563" y="1080168"/>
                  <a:pt x="225559" y="1039978"/>
                </a:cubicBezTo>
                <a:cubicBezTo>
                  <a:pt x="232555" y="999788"/>
                  <a:pt x="253160" y="954378"/>
                  <a:pt x="262824" y="916671"/>
                </a:cubicBezTo>
                <a:cubicBezTo>
                  <a:pt x="272488" y="878964"/>
                  <a:pt x="294468" y="819107"/>
                  <a:pt x="283544" y="813735"/>
                </a:cubicBezTo>
                <a:cubicBezTo>
                  <a:pt x="272620" y="808363"/>
                  <a:pt x="233726" y="859024"/>
                  <a:pt x="197279" y="884436"/>
                </a:cubicBezTo>
                <a:cubicBezTo>
                  <a:pt x="160832" y="909848"/>
                  <a:pt x="97690" y="967195"/>
                  <a:pt x="64860" y="966209"/>
                </a:cubicBezTo>
                <a:cubicBezTo>
                  <a:pt x="32030" y="965223"/>
                  <a:pt x="-3631" y="910692"/>
                  <a:pt x="297" y="878521"/>
                </a:cubicBezTo>
                <a:cubicBezTo>
                  <a:pt x="4225" y="846350"/>
                  <a:pt x="42243" y="821485"/>
                  <a:pt x="88428" y="773181"/>
                </a:cubicBezTo>
                <a:cubicBezTo>
                  <a:pt x="134613" y="724877"/>
                  <a:pt x="231770" y="634569"/>
                  <a:pt x="277407" y="588695"/>
                </a:cubicBezTo>
                <a:cubicBezTo>
                  <a:pt x="323044" y="542821"/>
                  <a:pt x="370889" y="509135"/>
                  <a:pt x="362248" y="497937"/>
                </a:cubicBezTo>
                <a:cubicBezTo>
                  <a:pt x="353607" y="486739"/>
                  <a:pt x="273900" y="513411"/>
                  <a:pt x="225559" y="521504"/>
                </a:cubicBezTo>
                <a:cubicBezTo>
                  <a:pt x="177218" y="529597"/>
                  <a:pt x="101102" y="560598"/>
                  <a:pt x="72200" y="546495"/>
                </a:cubicBezTo>
                <a:cubicBezTo>
                  <a:pt x="43298" y="532392"/>
                  <a:pt x="15370" y="471612"/>
                  <a:pt x="52144" y="436884"/>
                </a:cubicBezTo>
                <a:cubicBezTo>
                  <a:pt x="88918" y="402156"/>
                  <a:pt x="223966" y="367612"/>
                  <a:pt x="292843" y="338124"/>
                </a:cubicBezTo>
                <a:cubicBezTo>
                  <a:pt x="361720" y="308636"/>
                  <a:pt x="415619" y="280768"/>
                  <a:pt x="465405" y="259958"/>
                </a:cubicBezTo>
                <a:cubicBezTo>
                  <a:pt x="515191" y="239149"/>
                  <a:pt x="543550" y="224702"/>
                  <a:pt x="591559" y="213267"/>
                </a:cubicBezTo>
                <a:cubicBezTo>
                  <a:pt x="639568" y="201832"/>
                  <a:pt x="744545" y="202032"/>
                  <a:pt x="753460" y="191345"/>
                </a:cubicBezTo>
                <a:cubicBezTo>
                  <a:pt x="762375" y="180658"/>
                  <a:pt x="683107" y="161914"/>
                  <a:pt x="645052" y="149145"/>
                </a:cubicBezTo>
                <a:cubicBezTo>
                  <a:pt x="606997" y="136376"/>
                  <a:pt x="547199" y="137272"/>
                  <a:pt x="525129" y="114728"/>
                </a:cubicBezTo>
                <a:cubicBezTo>
                  <a:pt x="503059" y="92184"/>
                  <a:pt x="481648" y="31711"/>
                  <a:pt x="512633" y="13880"/>
                </a:cubicBezTo>
                <a:cubicBezTo>
                  <a:pt x="528126" y="4964"/>
                  <a:pt x="555320" y="740"/>
                  <a:pt x="589845" y="8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41"/>
          <p:cNvGrpSpPr/>
          <p:nvPr/>
        </p:nvGrpSpPr>
        <p:grpSpPr>
          <a:xfrm>
            <a:off x="4697280" y="1909800"/>
            <a:ext cx="3905280" cy="1776240"/>
            <a:chOff x="4697280" y="1909800"/>
            <a:chExt cx="3905280" cy="1776240"/>
          </a:xfrm>
        </p:grpSpPr>
        <p:grpSp>
          <p:nvGrpSpPr>
            <p:cNvPr id="93" name="直角三角形 28"/>
            <p:cNvGrpSpPr/>
            <p:nvPr/>
          </p:nvGrpSpPr>
          <p:grpSpPr>
            <a:xfrm>
              <a:off x="4763160" y="2720520"/>
              <a:ext cx="701640" cy="697320"/>
              <a:chOff x="4763160" y="2720520"/>
              <a:chExt cx="701640" cy="697320"/>
            </a:xfrm>
          </p:grpSpPr>
          <p:pic>
            <p:nvPicPr>
              <p:cNvPr id="94" name="直角三角形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763160" y="2720520"/>
                <a:ext cx="70164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18360000">
                <a:off x="5044680" y="3121200"/>
                <a:ext cx="2386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直角三角形 29"/>
            <p:cNvGrpSpPr/>
            <p:nvPr/>
          </p:nvGrpSpPr>
          <p:grpSpPr>
            <a:xfrm>
              <a:off x="4697280" y="2529720"/>
              <a:ext cx="767880" cy="596160"/>
              <a:chOff x="4697280" y="2529720"/>
              <a:chExt cx="767880" cy="596160"/>
            </a:xfrm>
          </p:grpSpPr>
          <p:pic>
            <p:nvPicPr>
              <p:cNvPr id="97" name="直角三角形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97280" y="2529720"/>
                <a:ext cx="767880" cy="59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1120000">
                <a:off x="4816800" y="2881800"/>
                <a:ext cx="3391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直角三角形 30"/>
            <p:cNvGrpSpPr/>
            <p:nvPr/>
          </p:nvGrpSpPr>
          <p:grpSpPr>
            <a:xfrm>
              <a:off x="4703040" y="2195640"/>
              <a:ext cx="995760" cy="840600"/>
              <a:chOff x="4703040" y="2195640"/>
              <a:chExt cx="995760" cy="840600"/>
            </a:xfrm>
          </p:grpSpPr>
          <p:pic>
            <p:nvPicPr>
              <p:cNvPr id="100" name="直角三角形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03040" y="2195640"/>
                <a:ext cx="995760" cy="84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 rot="1680000">
                <a:off x="4813560" y="2576880"/>
                <a:ext cx="415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直角三角形 31"/>
            <p:cNvGrpSpPr/>
            <p:nvPr/>
          </p:nvGrpSpPr>
          <p:grpSpPr>
            <a:xfrm>
              <a:off x="4937040" y="1939320"/>
              <a:ext cx="941760" cy="1096920"/>
              <a:chOff x="4937040" y="1939320"/>
              <a:chExt cx="941760" cy="1096920"/>
            </a:xfrm>
          </p:grpSpPr>
          <p:pic>
            <p:nvPicPr>
              <p:cNvPr id="103" name="直角三角形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4937040" y="1939320"/>
                <a:ext cx="94176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3540000">
                <a:off x="4983120" y="2331000"/>
                <a:ext cx="47772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直角三角形 32"/>
            <p:cNvGrpSpPr/>
            <p:nvPr/>
          </p:nvGrpSpPr>
          <p:grpSpPr>
            <a:xfrm>
              <a:off x="5369040" y="1909800"/>
              <a:ext cx="569880" cy="1120680"/>
              <a:chOff x="5369040" y="1909800"/>
              <a:chExt cx="569880" cy="1120680"/>
            </a:xfrm>
          </p:grpSpPr>
          <p:pic>
            <p:nvPicPr>
              <p:cNvPr id="106" name="直角三角形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69040" y="1909800"/>
                <a:ext cx="569880" cy="112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5204400">
                <a:off x="5257080" y="2219040"/>
                <a:ext cx="53532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直角三角形 33"/>
            <p:cNvGrpSpPr/>
            <p:nvPr/>
          </p:nvGrpSpPr>
          <p:grpSpPr>
            <a:xfrm>
              <a:off x="5429160" y="1915560"/>
              <a:ext cx="911880" cy="1293480"/>
              <a:chOff x="5429160" y="1915560"/>
              <a:chExt cx="911880" cy="1293480"/>
            </a:xfrm>
          </p:grpSpPr>
          <p:pic>
            <p:nvPicPr>
              <p:cNvPr id="109" name="直角三角形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5429160" y="1915560"/>
                <a:ext cx="911880" cy="129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6693600">
                <a:off x="5550480" y="2257200"/>
                <a:ext cx="5853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直角三角形 34"/>
            <p:cNvGrpSpPr/>
            <p:nvPr/>
          </p:nvGrpSpPr>
          <p:grpSpPr>
            <a:xfrm>
              <a:off x="5434920" y="2100240"/>
              <a:ext cx="1271880" cy="1263600"/>
              <a:chOff x="5434920" y="2100240"/>
              <a:chExt cx="1271880" cy="1263600"/>
            </a:xfrm>
          </p:grpSpPr>
          <p:pic>
            <p:nvPicPr>
              <p:cNvPr id="112" name="直角三角形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34920" y="2100240"/>
                <a:ext cx="127188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8095200">
                <a:off x="5817960" y="2414880"/>
                <a:ext cx="63288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直角三角形 35"/>
            <p:cNvGrpSpPr/>
            <p:nvPr/>
          </p:nvGrpSpPr>
          <p:grpSpPr>
            <a:xfrm>
              <a:off x="5441040" y="2451960"/>
              <a:ext cx="1469520" cy="1007280"/>
              <a:chOff x="5441040" y="2451960"/>
              <a:chExt cx="1469520" cy="1007280"/>
            </a:xfrm>
          </p:grpSpPr>
          <p:pic>
            <p:nvPicPr>
              <p:cNvPr id="115" name="直角三角形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5441040" y="2451960"/>
                <a:ext cx="1469520" cy="10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9398400">
                <a:off x="5996520" y="2676240"/>
                <a:ext cx="6804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矩形 37"/>
            <p:cNvGrpSpPr/>
            <p:nvPr/>
          </p:nvGrpSpPr>
          <p:grpSpPr>
            <a:xfrm>
              <a:off x="5405040" y="3048480"/>
              <a:ext cx="71640" cy="285840"/>
              <a:chOff x="5405040" y="3048480"/>
              <a:chExt cx="71640" cy="285840"/>
            </a:xfrm>
          </p:grpSpPr>
          <p:pic>
            <p:nvPicPr>
              <p:cNvPr id="118" name="矩形 37" descr=""/>
              <p:cNvPicPr/>
              <p:nvPr/>
            </p:nvPicPr>
            <p:blipFill>
              <a:blip r:embed="rId21"/>
              <a:stretch/>
            </p:blipFill>
            <p:spPr>
              <a:xfrm>
                <a:off x="5405040" y="3048480"/>
                <a:ext cx="7164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5419440" y="3065400"/>
                <a:ext cx="45000" cy="2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0" name="文本框 38" descr=""/>
            <p:cNvPicPr/>
            <p:nvPr/>
          </p:nvPicPr>
          <p:blipFill>
            <a:blip r:embed="rId22"/>
            <a:stretch/>
          </p:blipFill>
          <p:spPr>
            <a:xfrm>
              <a:off x="4804920" y="3298680"/>
              <a:ext cx="209880" cy="38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文本框 39"/>
            <p:cNvGrpSpPr/>
            <p:nvPr/>
          </p:nvGrpSpPr>
          <p:grpSpPr>
            <a:xfrm>
              <a:off x="5465160" y="2875320"/>
              <a:ext cx="3137400" cy="661680"/>
              <a:chOff x="5465160" y="2875320"/>
              <a:chExt cx="3137400" cy="661680"/>
            </a:xfrm>
          </p:grpSpPr>
          <p:pic>
            <p:nvPicPr>
              <p:cNvPr id="122" name="文本框 39" descr=""/>
              <p:cNvPicPr/>
              <p:nvPr/>
            </p:nvPicPr>
            <p:blipFill>
              <a:blip r:embed="rId23"/>
              <a:stretch/>
            </p:blipFill>
            <p:spPr>
              <a:xfrm>
                <a:off x="5465160" y="2875320"/>
                <a:ext cx="3137400" cy="66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5981040" y="2891160"/>
                <a:ext cx="210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Calibri"/>
                  </a:rPr>
                  <a:t>终极理论梦之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任意多边形 26"/>
          <p:cNvSpPr/>
          <p:nvPr/>
        </p:nvSpPr>
        <p:spPr>
          <a:xfrm rot="20833800">
            <a:off x="5911920" y="941040"/>
            <a:ext cx="3078000" cy="1411200"/>
          </a:xfrm>
          <a:custGeom>
            <a:avLst/>
            <a:gdLst/>
            <a:ahLst/>
            <a:rect l="l" t="t" r="r" b="b"/>
            <a:pathLst>
              <a:path w="3078151" h="1410795">
                <a:moveTo>
                  <a:pt x="2757050" y="301656"/>
                </a:moveTo>
                <a:cubicBezTo>
                  <a:pt x="2856627" y="373319"/>
                  <a:pt x="3038997" y="477751"/>
                  <a:pt x="3077907" y="541791"/>
                </a:cubicBezTo>
                <a:cubicBezTo>
                  <a:pt x="3081983" y="614539"/>
                  <a:pt x="3034262" y="628645"/>
                  <a:pt x="2990513" y="685899"/>
                </a:cubicBezTo>
                <a:cubicBezTo>
                  <a:pt x="2946765" y="743153"/>
                  <a:pt x="2862093" y="831160"/>
                  <a:pt x="2815416" y="885316"/>
                </a:cubicBezTo>
                <a:cubicBezTo>
                  <a:pt x="2768739" y="939472"/>
                  <a:pt x="2753883" y="977072"/>
                  <a:pt x="2710449" y="1010833"/>
                </a:cubicBezTo>
                <a:cubicBezTo>
                  <a:pt x="2669917" y="1021371"/>
                  <a:pt x="2610663" y="946768"/>
                  <a:pt x="2572224" y="948546"/>
                </a:cubicBezTo>
                <a:cubicBezTo>
                  <a:pt x="2533785" y="950324"/>
                  <a:pt x="2534268" y="981782"/>
                  <a:pt x="2479811" y="1021503"/>
                </a:cubicBezTo>
                <a:cubicBezTo>
                  <a:pt x="2425354" y="1061224"/>
                  <a:pt x="2335973" y="1134156"/>
                  <a:pt x="2245483" y="1186873"/>
                </a:cubicBezTo>
                <a:cubicBezTo>
                  <a:pt x="2154993" y="1239590"/>
                  <a:pt x="2016168" y="1301327"/>
                  <a:pt x="1936869" y="1337806"/>
                </a:cubicBezTo>
                <a:cubicBezTo>
                  <a:pt x="1857571" y="1374285"/>
                  <a:pt x="1842950" y="1396044"/>
                  <a:pt x="1769692" y="1405746"/>
                </a:cubicBezTo>
                <a:cubicBezTo>
                  <a:pt x="1696434" y="1415448"/>
                  <a:pt x="1597837" y="1410610"/>
                  <a:pt x="1497318" y="1396018"/>
                </a:cubicBezTo>
                <a:cubicBezTo>
                  <a:pt x="1396799" y="1381427"/>
                  <a:pt x="1260611" y="1335220"/>
                  <a:pt x="1166577" y="1318197"/>
                </a:cubicBezTo>
                <a:cubicBezTo>
                  <a:pt x="1072543" y="1301174"/>
                  <a:pt x="1005260" y="1292257"/>
                  <a:pt x="933113" y="1293878"/>
                </a:cubicBezTo>
                <a:cubicBezTo>
                  <a:pt x="860966" y="1295499"/>
                  <a:pt x="796115" y="1322251"/>
                  <a:pt x="733696" y="1327925"/>
                </a:cubicBezTo>
                <a:cubicBezTo>
                  <a:pt x="671277" y="1333599"/>
                  <a:pt x="602242" y="1331821"/>
                  <a:pt x="558599" y="1327925"/>
                </a:cubicBezTo>
                <a:cubicBezTo>
                  <a:pt x="514956" y="1324029"/>
                  <a:pt x="490338" y="1325795"/>
                  <a:pt x="471837" y="1304548"/>
                </a:cubicBezTo>
                <a:cubicBezTo>
                  <a:pt x="453336" y="1283301"/>
                  <a:pt x="436038" y="1232727"/>
                  <a:pt x="447595" y="1200445"/>
                </a:cubicBezTo>
                <a:cubicBezTo>
                  <a:pt x="459152" y="1168163"/>
                  <a:pt x="508743" y="1135007"/>
                  <a:pt x="541181" y="1110858"/>
                </a:cubicBezTo>
                <a:cubicBezTo>
                  <a:pt x="573619" y="1086709"/>
                  <a:pt x="588083" y="1067370"/>
                  <a:pt x="642226" y="1055550"/>
                </a:cubicBezTo>
                <a:cubicBezTo>
                  <a:pt x="696369" y="1043730"/>
                  <a:pt x="809452" y="1043182"/>
                  <a:pt x="866040" y="1039940"/>
                </a:cubicBezTo>
                <a:cubicBezTo>
                  <a:pt x="922628" y="1036698"/>
                  <a:pt x="947875" y="1046464"/>
                  <a:pt x="981752" y="1036095"/>
                </a:cubicBezTo>
                <a:cubicBezTo>
                  <a:pt x="1015629" y="1025727"/>
                  <a:pt x="1049035" y="1014208"/>
                  <a:pt x="1069301" y="977729"/>
                </a:cubicBezTo>
                <a:cubicBezTo>
                  <a:pt x="1089567" y="941250"/>
                  <a:pt x="1110644" y="869103"/>
                  <a:pt x="1103348" y="817222"/>
                </a:cubicBezTo>
                <a:cubicBezTo>
                  <a:pt x="1096052" y="765341"/>
                  <a:pt x="1064437" y="713775"/>
                  <a:pt x="1025526" y="666444"/>
                </a:cubicBezTo>
                <a:cubicBezTo>
                  <a:pt x="986615" y="619113"/>
                  <a:pt x="929060" y="571337"/>
                  <a:pt x="869884" y="533237"/>
                </a:cubicBezTo>
                <a:cubicBezTo>
                  <a:pt x="810707" y="495137"/>
                  <a:pt x="732886" y="455364"/>
                  <a:pt x="670467" y="437844"/>
                </a:cubicBezTo>
                <a:cubicBezTo>
                  <a:pt x="608048" y="420324"/>
                  <a:pt x="552924" y="421631"/>
                  <a:pt x="495369" y="428116"/>
                </a:cubicBezTo>
                <a:cubicBezTo>
                  <a:pt x="437814" y="434601"/>
                  <a:pt x="387724" y="459561"/>
                  <a:pt x="325135" y="476754"/>
                </a:cubicBezTo>
                <a:cubicBezTo>
                  <a:pt x="262546" y="493947"/>
                  <a:pt x="171559" y="528843"/>
                  <a:pt x="119835" y="531275"/>
                </a:cubicBezTo>
                <a:cubicBezTo>
                  <a:pt x="68111" y="533707"/>
                  <a:pt x="33280" y="512919"/>
                  <a:pt x="14792" y="491346"/>
                </a:cubicBezTo>
                <a:cubicBezTo>
                  <a:pt x="-3696" y="469773"/>
                  <a:pt x="-3904" y="426155"/>
                  <a:pt x="8909" y="401836"/>
                </a:cubicBezTo>
                <a:cubicBezTo>
                  <a:pt x="21722" y="377517"/>
                  <a:pt x="47884" y="366991"/>
                  <a:pt x="91671" y="345431"/>
                </a:cubicBezTo>
                <a:cubicBezTo>
                  <a:pt x="135458" y="323871"/>
                  <a:pt x="220563" y="291928"/>
                  <a:pt x="271633" y="272473"/>
                </a:cubicBezTo>
                <a:cubicBezTo>
                  <a:pt x="322703" y="253018"/>
                  <a:pt x="382690" y="239237"/>
                  <a:pt x="398092" y="228699"/>
                </a:cubicBezTo>
                <a:cubicBezTo>
                  <a:pt x="413494" y="218161"/>
                  <a:pt x="372151" y="221403"/>
                  <a:pt x="364045" y="209244"/>
                </a:cubicBezTo>
                <a:cubicBezTo>
                  <a:pt x="355939" y="197085"/>
                  <a:pt x="342158" y="171144"/>
                  <a:pt x="349454" y="155742"/>
                </a:cubicBezTo>
                <a:cubicBezTo>
                  <a:pt x="356750" y="140340"/>
                  <a:pt x="377826" y="124127"/>
                  <a:pt x="407820" y="116831"/>
                </a:cubicBezTo>
                <a:cubicBezTo>
                  <a:pt x="437814" y="109535"/>
                  <a:pt x="494559" y="111967"/>
                  <a:pt x="529416" y="111967"/>
                </a:cubicBezTo>
                <a:cubicBezTo>
                  <a:pt x="564273" y="111967"/>
                  <a:pt x="610480" y="116831"/>
                  <a:pt x="616965" y="116831"/>
                </a:cubicBezTo>
                <a:cubicBezTo>
                  <a:pt x="623450" y="116831"/>
                  <a:pt x="571569" y="119263"/>
                  <a:pt x="568326" y="111967"/>
                </a:cubicBezTo>
                <a:cubicBezTo>
                  <a:pt x="565083" y="104671"/>
                  <a:pt x="570758" y="79541"/>
                  <a:pt x="597509" y="73056"/>
                </a:cubicBezTo>
                <a:cubicBezTo>
                  <a:pt x="624260" y="66571"/>
                  <a:pt x="687490" y="69003"/>
                  <a:pt x="728833" y="73056"/>
                </a:cubicBezTo>
                <a:cubicBezTo>
                  <a:pt x="770176" y="77109"/>
                  <a:pt x="827731" y="97376"/>
                  <a:pt x="845565" y="97376"/>
                </a:cubicBezTo>
                <a:cubicBezTo>
                  <a:pt x="863399" y="97376"/>
                  <a:pt x="842322" y="84405"/>
                  <a:pt x="835837" y="73056"/>
                </a:cubicBezTo>
                <a:cubicBezTo>
                  <a:pt x="829352" y="61707"/>
                  <a:pt x="801790" y="41441"/>
                  <a:pt x="806654" y="29282"/>
                </a:cubicBezTo>
                <a:cubicBezTo>
                  <a:pt x="811518" y="17122"/>
                  <a:pt x="832595" y="-1522"/>
                  <a:pt x="865020" y="99"/>
                </a:cubicBezTo>
                <a:cubicBezTo>
                  <a:pt x="897445" y="1720"/>
                  <a:pt x="954190" y="19555"/>
                  <a:pt x="1001207" y="39010"/>
                </a:cubicBezTo>
                <a:cubicBezTo>
                  <a:pt x="1048224" y="58465"/>
                  <a:pt x="1070922" y="70625"/>
                  <a:pt x="1147122" y="116831"/>
                </a:cubicBezTo>
                <a:cubicBezTo>
                  <a:pt x="1223322" y="163037"/>
                  <a:pt x="1353024" y="252208"/>
                  <a:pt x="1458407" y="316248"/>
                </a:cubicBezTo>
                <a:cubicBezTo>
                  <a:pt x="1563790" y="380288"/>
                  <a:pt x="1699167" y="455677"/>
                  <a:pt x="1779420" y="501073"/>
                </a:cubicBezTo>
                <a:cubicBezTo>
                  <a:pt x="1859673" y="546469"/>
                  <a:pt x="1899394" y="581326"/>
                  <a:pt x="1939926" y="588622"/>
                </a:cubicBezTo>
                <a:cubicBezTo>
                  <a:pt x="1980458" y="595918"/>
                  <a:pt x="1999913" y="561061"/>
                  <a:pt x="2022611" y="544848"/>
                </a:cubicBezTo>
                <a:cubicBezTo>
                  <a:pt x="2045309" y="528635"/>
                  <a:pt x="2050173" y="521340"/>
                  <a:pt x="2076113" y="491346"/>
                </a:cubicBezTo>
                <a:cubicBezTo>
                  <a:pt x="2100432" y="468648"/>
                  <a:pt x="2178254" y="364886"/>
                  <a:pt x="2178254" y="364886"/>
                </a:cubicBezTo>
                <a:cubicBezTo>
                  <a:pt x="2228514" y="302467"/>
                  <a:pt x="2337950" y="163848"/>
                  <a:pt x="2377671" y="116831"/>
                </a:cubicBezTo>
                <a:cubicBezTo>
                  <a:pt x="2414489" y="93037"/>
                  <a:pt x="2438686" y="90189"/>
                  <a:pt x="2480445" y="111813"/>
                </a:cubicBezTo>
                <a:cubicBezTo>
                  <a:pt x="2522204" y="133437"/>
                  <a:pt x="2657473" y="229993"/>
                  <a:pt x="2757050" y="30165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5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"/>
                            </p:stCondLst>
                            <p:childTnLst>
                              <p:par>
                                <p:cTn id="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64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4.44444E-006 L -2.91667E-006 0.00209 E">
                                      <p:cBhvr>
                                        <p:cTn id="66" dur="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2150"/>
                                  </p:stCondLst>
                                  <p:childTnLst>
                                    <p:animMotion origin="layout" path="M 0.00209 0.00255 L -0.03177 0.02014 E">
                                      <p:cBhvr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3078000" y="1425600"/>
            <a:ext cx="6104160" cy="411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椭圆 2" descr=""/>
          <p:cNvPicPr/>
          <p:nvPr/>
        </p:nvPicPr>
        <p:blipFill>
          <a:blip r:embed="rId1"/>
          <a:stretch/>
        </p:blipFill>
        <p:spPr>
          <a:xfrm>
            <a:off x="6272280" y="-992160"/>
            <a:ext cx="946080" cy="9446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342"/>
          <p:cNvGrpSpPr/>
          <p:nvPr/>
        </p:nvGrpSpPr>
        <p:grpSpPr>
          <a:xfrm>
            <a:off x="6140520" y="3487680"/>
            <a:ext cx="1036440" cy="1038240"/>
            <a:chOff x="6140520" y="3487680"/>
            <a:chExt cx="1036440" cy="1038240"/>
          </a:xfrm>
        </p:grpSpPr>
        <p:grpSp>
          <p:nvGrpSpPr>
            <p:cNvPr id="128" name="组合 141"/>
            <p:cNvGrpSpPr/>
            <p:nvPr/>
          </p:nvGrpSpPr>
          <p:grpSpPr>
            <a:xfrm>
              <a:off x="6140520" y="3487680"/>
              <a:ext cx="1036440" cy="1038240"/>
              <a:chOff x="6140520" y="3487680"/>
              <a:chExt cx="1036440" cy="1038240"/>
            </a:xfrm>
          </p:grpSpPr>
          <p:sp>
            <p:nvSpPr>
              <p:cNvPr id="129" name="矩形 142"/>
              <p:cNvSpPr/>
              <p:nvPr/>
            </p:nvSpPr>
            <p:spPr>
              <a:xfrm>
                <a:off x="6140520" y="348768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矩形 143"/>
              <p:cNvSpPr/>
              <p:nvPr/>
            </p:nvSpPr>
            <p:spPr>
              <a:xfrm>
                <a:off x="6195960" y="3543120"/>
                <a:ext cx="9255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任意多边形 98"/>
            <p:cNvSpPr/>
            <p:nvPr/>
          </p:nvSpPr>
          <p:spPr>
            <a:xfrm>
              <a:off x="6396120" y="3773520"/>
              <a:ext cx="585720" cy="555480"/>
            </a:xfrm>
            <a:custGeom>
              <a:avLst/>
              <a:gdLst/>
              <a:ahLst/>
              <a:rect l="l" t="t" r="r" b="b"/>
              <a:pathLst>
                <a:path w="586853" h="554441">
                  <a:moveTo>
                    <a:pt x="425832" y="146480"/>
                  </a:moveTo>
                  <a:cubicBezTo>
                    <a:pt x="396009" y="146480"/>
                    <a:pt x="371832" y="170657"/>
                    <a:pt x="371832" y="200480"/>
                  </a:cubicBezTo>
                  <a:cubicBezTo>
                    <a:pt x="371832" y="230303"/>
                    <a:pt x="396009" y="254480"/>
                    <a:pt x="425832" y="254480"/>
                  </a:cubicBezTo>
                  <a:cubicBezTo>
                    <a:pt x="455655" y="254480"/>
                    <a:pt x="479832" y="230303"/>
                    <a:pt x="479832" y="200480"/>
                  </a:cubicBezTo>
                  <a:cubicBezTo>
                    <a:pt x="479832" y="170657"/>
                    <a:pt x="455655" y="146480"/>
                    <a:pt x="425832" y="146480"/>
                  </a:cubicBezTo>
                  <a:close/>
                  <a:moveTo>
                    <a:pt x="276307" y="146480"/>
                  </a:moveTo>
                  <a:cubicBezTo>
                    <a:pt x="246484" y="146480"/>
                    <a:pt x="222307" y="170657"/>
                    <a:pt x="222307" y="200480"/>
                  </a:cubicBezTo>
                  <a:cubicBezTo>
                    <a:pt x="222307" y="230303"/>
                    <a:pt x="246484" y="254480"/>
                    <a:pt x="276307" y="254480"/>
                  </a:cubicBezTo>
                  <a:cubicBezTo>
                    <a:pt x="306130" y="254480"/>
                    <a:pt x="330307" y="230303"/>
                    <a:pt x="330307" y="200480"/>
                  </a:cubicBezTo>
                  <a:cubicBezTo>
                    <a:pt x="330307" y="170657"/>
                    <a:pt x="306130" y="146480"/>
                    <a:pt x="276307" y="146480"/>
                  </a:cubicBezTo>
                  <a:close/>
                  <a:moveTo>
                    <a:pt x="132534" y="146480"/>
                  </a:moveTo>
                  <a:cubicBezTo>
                    <a:pt x="102711" y="146480"/>
                    <a:pt x="78534" y="170657"/>
                    <a:pt x="78534" y="200480"/>
                  </a:cubicBezTo>
                  <a:cubicBezTo>
                    <a:pt x="78534" y="230303"/>
                    <a:pt x="102711" y="254480"/>
                    <a:pt x="132534" y="254480"/>
                  </a:cubicBezTo>
                  <a:cubicBezTo>
                    <a:pt x="162357" y="254480"/>
                    <a:pt x="186534" y="230303"/>
                    <a:pt x="186534" y="200480"/>
                  </a:cubicBezTo>
                  <a:cubicBezTo>
                    <a:pt x="186534" y="170657"/>
                    <a:pt x="162357" y="146480"/>
                    <a:pt x="132534" y="146480"/>
                  </a:cubicBezTo>
                  <a:close/>
                  <a:moveTo>
                    <a:pt x="65966" y="0"/>
                  </a:moveTo>
                  <a:lnTo>
                    <a:pt x="342331" y="0"/>
                  </a:lnTo>
                  <a:lnTo>
                    <a:pt x="489044" y="0"/>
                  </a:lnTo>
                  <a:lnTo>
                    <a:pt x="520887" y="0"/>
                  </a:lnTo>
                  <a:cubicBezTo>
                    <a:pt x="557319" y="0"/>
                    <a:pt x="586853" y="29534"/>
                    <a:pt x="586853" y="65966"/>
                  </a:cubicBezTo>
                  <a:lnTo>
                    <a:pt x="586853" y="230875"/>
                  </a:lnTo>
                  <a:lnTo>
                    <a:pt x="586853" y="329820"/>
                  </a:lnTo>
                  <a:cubicBezTo>
                    <a:pt x="586853" y="366252"/>
                    <a:pt x="557319" y="395786"/>
                    <a:pt x="520887" y="395786"/>
                  </a:cubicBezTo>
                  <a:lnTo>
                    <a:pt x="489044" y="395786"/>
                  </a:lnTo>
                  <a:lnTo>
                    <a:pt x="348591" y="554441"/>
                  </a:lnTo>
                  <a:lnTo>
                    <a:pt x="342331" y="395786"/>
                  </a:lnTo>
                  <a:lnTo>
                    <a:pt x="65966" y="395786"/>
                  </a:lnTo>
                  <a:cubicBezTo>
                    <a:pt x="29534" y="395786"/>
                    <a:pt x="0" y="366252"/>
                    <a:pt x="0" y="329820"/>
                  </a:cubicBezTo>
                  <a:lnTo>
                    <a:pt x="0" y="230875"/>
                  </a:lnTo>
                  <a:lnTo>
                    <a:pt x="0" y="65966"/>
                  </a:lnTo>
                  <a:cubicBezTo>
                    <a:pt x="0" y="29534"/>
                    <a:pt x="29534" y="0"/>
                    <a:pt x="6596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335"/>
          <p:cNvGrpSpPr/>
          <p:nvPr/>
        </p:nvGrpSpPr>
        <p:grpSpPr>
          <a:xfrm>
            <a:off x="6140520" y="2459160"/>
            <a:ext cx="1036440" cy="1036440"/>
            <a:chOff x="6140520" y="2459160"/>
            <a:chExt cx="1036440" cy="1036440"/>
          </a:xfrm>
        </p:grpSpPr>
        <p:grpSp>
          <p:nvGrpSpPr>
            <p:cNvPr id="133" name="组合 138"/>
            <p:cNvGrpSpPr/>
            <p:nvPr/>
          </p:nvGrpSpPr>
          <p:grpSpPr>
            <a:xfrm>
              <a:off x="6140520" y="2459160"/>
              <a:ext cx="1036440" cy="1036440"/>
              <a:chOff x="6140520" y="2459160"/>
              <a:chExt cx="1036440" cy="1036440"/>
            </a:xfrm>
          </p:grpSpPr>
          <p:sp>
            <p:nvSpPr>
              <p:cNvPr id="134" name="矩形 139"/>
              <p:cNvSpPr/>
              <p:nvPr/>
            </p:nvSpPr>
            <p:spPr>
              <a:xfrm>
                <a:off x="6140520" y="2459160"/>
                <a:ext cx="103644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140"/>
              <p:cNvSpPr/>
              <p:nvPr/>
            </p:nvSpPr>
            <p:spPr>
              <a:xfrm>
                <a:off x="6195960" y="2514600"/>
                <a:ext cx="92556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任意多边形 173"/>
            <p:cNvSpPr/>
            <p:nvPr/>
          </p:nvSpPr>
          <p:spPr>
            <a:xfrm>
              <a:off x="6343560" y="2663640"/>
              <a:ext cx="603000" cy="603000"/>
            </a:xfrm>
            <a:custGeom>
              <a:avLst/>
              <a:gdLst/>
              <a:ahLst/>
              <a:rect l="l" t="t" r="r" b="b"/>
              <a:pathLst>
                <a:path w="603882" h="603882">
                  <a:moveTo>
                    <a:pt x="364344" y="256601"/>
                  </a:moveTo>
                  <a:cubicBezTo>
                    <a:pt x="353678" y="258734"/>
                    <a:pt x="335546" y="260867"/>
                    <a:pt x="309948" y="263001"/>
                  </a:cubicBezTo>
                  <a:cubicBezTo>
                    <a:pt x="287549" y="265134"/>
                    <a:pt x="274217" y="265667"/>
                    <a:pt x="269950" y="264601"/>
                  </a:cubicBezTo>
                  <a:cubicBezTo>
                    <a:pt x="266750" y="264601"/>
                    <a:pt x="264084" y="264067"/>
                    <a:pt x="261951" y="263001"/>
                  </a:cubicBezTo>
                  <a:cubicBezTo>
                    <a:pt x="257684" y="260867"/>
                    <a:pt x="254484" y="259801"/>
                    <a:pt x="252351" y="259801"/>
                  </a:cubicBezTo>
                  <a:cubicBezTo>
                    <a:pt x="239552" y="264067"/>
                    <a:pt x="232619" y="272067"/>
                    <a:pt x="231553" y="283799"/>
                  </a:cubicBezTo>
                  <a:cubicBezTo>
                    <a:pt x="233686" y="288066"/>
                    <a:pt x="235286" y="289132"/>
                    <a:pt x="236352" y="286999"/>
                  </a:cubicBezTo>
                  <a:cubicBezTo>
                    <a:pt x="245952" y="286999"/>
                    <a:pt x="255551" y="285933"/>
                    <a:pt x="265150" y="283799"/>
                  </a:cubicBezTo>
                  <a:cubicBezTo>
                    <a:pt x="287549" y="279533"/>
                    <a:pt x="317947" y="277933"/>
                    <a:pt x="356345" y="279000"/>
                  </a:cubicBezTo>
                  <a:cubicBezTo>
                    <a:pt x="356345" y="281133"/>
                    <a:pt x="356345" y="282200"/>
                    <a:pt x="356345" y="282200"/>
                  </a:cubicBezTo>
                  <a:cubicBezTo>
                    <a:pt x="309414" y="330197"/>
                    <a:pt x="268350" y="367528"/>
                    <a:pt x="233152" y="394193"/>
                  </a:cubicBezTo>
                  <a:cubicBezTo>
                    <a:pt x="232086" y="396326"/>
                    <a:pt x="229419" y="397926"/>
                    <a:pt x="225153" y="398992"/>
                  </a:cubicBezTo>
                  <a:cubicBezTo>
                    <a:pt x="220887" y="401126"/>
                    <a:pt x="218753" y="402726"/>
                    <a:pt x="218753" y="403792"/>
                  </a:cubicBezTo>
                  <a:cubicBezTo>
                    <a:pt x="215554" y="406992"/>
                    <a:pt x="214487" y="409658"/>
                    <a:pt x="215554" y="411792"/>
                  </a:cubicBezTo>
                  <a:cubicBezTo>
                    <a:pt x="217687" y="419258"/>
                    <a:pt x="221420" y="426724"/>
                    <a:pt x="226753" y="434190"/>
                  </a:cubicBezTo>
                  <a:cubicBezTo>
                    <a:pt x="227819" y="435257"/>
                    <a:pt x="229953" y="435790"/>
                    <a:pt x="233152" y="435790"/>
                  </a:cubicBezTo>
                  <a:cubicBezTo>
                    <a:pt x="244885" y="432590"/>
                    <a:pt x="265150" y="430457"/>
                    <a:pt x="293949" y="429391"/>
                  </a:cubicBezTo>
                  <a:cubicBezTo>
                    <a:pt x="300348" y="430457"/>
                    <a:pt x="308348" y="431524"/>
                    <a:pt x="317947" y="432590"/>
                  </a:cubicBezTo>
                  <a:cubicBezTo>
                    <a:pt x="339279" y="434724"/>
                    <a:pt x="354745" y="435790"/>
                    <a:pt x="364344" y="435790"/>
                  </a:cubicBezTo>
                  <a:cubicBezTo>
                    <a:pt x="379277" y="434724"/>
                    <a:pt x="392076" y="425657"/>
                    <a:pt x="402742" y="408592"/>
                  </a:cubicBezTo>
                  <a:cubicBezTo>
                    <a:pt x="401676" y="407525"/>
                    <a:pt x="401142" y="406459"/>
                    <a:pt x="401142" y="405392"/>
                  </a:cubicBezTo>
                  <a:cubicBezTo>
                    <a:pt x="381943" y="411792"/>
                    <a:pt x="340879" y="414458"/>
                    <a:pt x="277950" y="413392"/>
                  </a:cubicBezTo>
                  <a:cubicBezTo>
                    <a:pt x="263017" y="412325"/>
                    <a:pt x="252885" y="411792"/>
                    <a:pt x="247552" y="411792"/>
                  </a:cubicBezTo>
                  <a:cubicBezTo>
                    <a:pt x="245418" y="410725"/>
                    <a:pt x="245418" y="409658"/>
                    <a:pt x="247552" y="408592"/>
                  </a:cubicBezTo>
                  <a:cubicBezTo>
                    <a:pt x="250751" y="405392"/>
                    <a:pt x="257151" y="399526"/>
                    <a:pt x="266750" y="390993"/>
                  </a:cubicBezTo>
                  <a:cubicBezTo>
                    <a:pt x="321147" y="338729"/>
                    <a:pt x="355812" y="307798"/>
                    <a:pt x="370744" y="298199"/>
                  </a:cubicBezTo>
                  <a:cubicBezTo>
                    <a:pt x="371811" y="298199"/>
                    <a:pt x="373944" y="297132"/>
                    <a:pt x="377144" y="294999"/>
                  </a:cubicBezTo>
                  <a:cubicBezTo>
                    <a:pt x="383543" y="291799"/>
                    <a:pt x="387810" y="289132"/>
                    <a:pt x="389943" y="286999"/>
                  </a:cubicBezTo>
                  <a:cubicBezTo>
                    <a:pt x="389943" y="286999"/>
                    <a:pt x="389943" y="286466"/>
                    <a:pt x="389943" y="285399"/>
                  </a:cubicBezTo>
                  <a:cubicBezTo>
                    <a:pt x="389943" y="283266"/>
                    <a:pt x="389943" y="281666"/>
                    <a:pt x="389943" y="280600"/>
                  </a:cubicBezTo>
                  <a:cubicBezTo>
                    <a:pt x="383543" y="267800"/>
                    <a:pt x="377144" y="259801"/>
                    <a:pt x="370744" y="256601"/>
                  </a:cubicBezTo>
                  <a:cubicBezTo>
                    <a:pt x="369677" y="256601"/>
                    <a:pt x="368611" y="256601"/>
                    <a:pt x="367544" y="256601"/>
                  </a:cubicBezTo>
                  <a:cubicBezTo>
                    <a:pt x="365411" y="256601"/>
                    <a:pt x="364344" y="256601"/>
                    <a:pt x="364344" y="256601"/>
                  </a:cubicBezTo>
                  <a:close/>
                  <a:moveTo>
                    <a:pt x="301941" y="0"/>
                  </a:moveTo>
                  <a:lnTo>
                    <a:pt x="397332" y="195766"/>
                  </a:lnTo>
                  <a:lnTo>
                    <a:pt x="603882" y="230663"/>
                  </a:lnTo>
                  <a:lnTo>
                    <a:pt x="456287" y="386549"/>
                  </a:lnTo>
                  <a:lnTo>
                    <a:pt x="488551" y="603882"/>
                  </a:lnTo>
                  <a:lnTo>
                    <a:pt x="301941" y="504459"/>
                  </a:lnTo>
                  <a:lnTo>
                    <a:pt x="115331" y="603882"/>
                  </a:lnTo>
                  <a:lnTo>
                    <a:pt x="147595" y="386549"/>
                  </a:lnTo>
                  <a:lnTo>
                    <a:pt x="0" y="230663"/>
                  </a:lnTo>
                  <a:lnTo>
                    <a:pt x="206550" y="195766"/>
                  </a:lnTo>
                  <a:lnTo>
                    <a:pt x="30194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40"/>
          <p:cNvGrpSpPr/>
          <p:nvPr/>
        </p:nvGrpSpPr>
        <p:grpSpPr>
          <a:xfrm>
            <a:off x="4071960" y="3487680"/>
            <a:ext cx="1038240" cy="1038240"/>
            <a:chOff x="4071960" y="3487680"/>
            <a:chExt cx="1038240" cy="1038240"/>
          </a:xfrm>
        </p:grpSpPr>
        <p:grpSp>
          <p:nvGrpSpPr>
            <p:cNvPr id="138" name="组合 117"/>
            <p:cNvGrpSpPr/>
            <p:nvPr/>
          </p:nvGrpSpPr>
          <p:grpSpPr>
            <a:xfrm>
              <a:off x="4071960" y="3487680"/>
              <a:ext cx="1038240" cy="1038240"/>
              <a:chOff x="4071960" y="3487680"/>
              <a:chExt cx="1038240" cy="1038240"/>
            </a:xfrm>
          </p:grpSpPr>
          <p:sp>
            <p:nvSpPr>
              <p:cNvPr id="139" name="矩形 118"/>
              <p:cNvSpPr/>
              <p:nvPr/>
            </p:nvSpPr>
            <p:spPr>
              <a:xfrm>
                <a:off x="4071960" y="348768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119"/>
              <p:cNvSpPr/>
              <p:nvPr/>
            </p:nvSpPr>
            <p:spPr>
              <a:xfrm>
                <a:off x="4127400" y="354312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任意多边形 178"/>
            <p:cNvSpPr/>
            <p:nvPr/>
          </p:nvSpPr>
          <p:spPr>
            <a:xfrm>
              <a:off x="4281480" y="3679560"/>
              <a:ext cx="655560" cy="655560"/>
            </a:xfrm>
            <a:custGeom>
              <a:avLst/>
              <a:gdLst/>
              <a:ahLst/>
              <a:rect l="l" t="t" r="r" b="b"/>
              <a:pathLst>
                <a:path w="812801" h="812801">
                  <a:moveTo>
                    <a:pt x="406400" y="219864"/>
                  </a:moveTo>
                  <a:cubicBezTo>
                    <a:pt x="331659" y="219864"/>
                    <a:pt x="271069" y="280454"/>
                    <a:pt x="271069" y="355195"/>
                  </a:cubicBezTo>
                  <a:cubicBezTo>
                    <a:pt x="271069" y="373880"/>
                    <a:pt x="274856" y="391681"/>
                    <a:pt x="281704" y="407872"/>
                  </a:cubicBezTo>
                  <a:lnTo>
                    <a:pt x="300924" y="436379"/>
                  </a:lnTo>
                  <a:lnTo>
                    <a:pt x="257056" y="495600"/>
                  </a:lnTo>
                  <a:cubicBezTo>
                    <a:pt x="219376" y="562820"/>
                    <a:pt x="198672" y="639556"/>
                    <a:pt x="198672" y="719157"/>
                  </a:cubicBezTo>
                  <a:lnTo>
                    <a:pt x="283741" y="719157"/>
                  </a:lnTo>
                  <a:cubicBezTo>
                    <a:pt x="283741" y="648985"/>
                    <a:pt x="291690" y="576832"/>
                    <a:pt x="314603" y="513068"/>
                  </a:cubicBezTo>
                  <a:lnTo>
                    <a:pt x="337783" y="469144"/>
                  </a:lnTo>
                  <a:lnTo>
                    <a:pt x="353723" y="479891"/>
                  </a:lnTo>
                  <a:cubicBezTo>
                    <a:pt x="369914" y="486739"/>
                    <a:pt x="387715" y="490526"/>
                    <a:pt x="406400" y="490526"/>
                  </a:cubicBezTo>
                  <a:cubicBezTo>
                    <a:pt x="481141" y="490526"/>
                    <a:pt x="541731" y="429936"/>
                    <a:pt x="541731" y="355195"/>
                  </a:cubicBezTo>
                  <a:cubicBezTo>
                    <a:pt x="541731" y="280454"/>
                    <a:pt x="481141" y="219864"/>
                    <a:pt x="406400" y="219864"/>
                  </a:cubicBezTo>
                  <a:close/>
                  <a:moveTo>
                    <a:pt x="395077" y="112995"/>
                  </a:moveTo>
                  <a:cubicBezTo>
                    <a:pt x="346164" y="115282"/>
                    <a:pt x="297942" y="132352"/>
                    <a:pt x="257451" y="163876"/>
                  </a:cubicBezTo>
                  <a:cubicBezTo>
                    <a:pt x="176469" y="226923"/>
                    <a:pt x="143954" y="334128"/>
                    <a:pt x="176269" y="431539"/>
                  </a:cubicBezTo>
                  <a:lnTo>
                    <a:pt x="222719" y="416129"/>
                  </a:lnTo>
                  <a:cubicBezTo>
                    <a:pt x="196926" y="338380"/>
                    <a:pt x="222878" y="252813"/>
                    <a:pt x="287515" y="202491"/>
                  </a:cubicBezTo>
                  <a:cubicBezTo>
                    <a:pt x="352152" y="152170"/>
                    <a:pt x="441471" y="147994"/>
                    <a:pt x="510520" y="192066"/>
                  </a:cubicBezTo>
                  <a:cubicBezTo>
                    <a:pt x="579570" y="236140"/>
                    <a:pt x="613392" y="318911"/>
                    <a:pt x="594965" y="398728"/>
                  </a:cubicBezTo>
                  <a:cubicBezTo>
                    <a:pt x="576538" y="478545"/>
                    <a:pt x="509854" y="538114"/>
                    <a:pt x="428473" y="547457"/>
                  </a:cubicBezTo>
                  <a:lnTo>
                    <a:pt x="434053" y="596077"/>
                  </a:lnTo>
                  <a:cubicBezTo>
                    <a:pt x="536015" y="584371"/>
                    <a:pt x="619562" y="509738"/>
                    <a:pt x="642648" y="409737"/>
                  </a:cubicBezTo>
                  <a:cubicBezTo>
                    <a:pt x="665736" y="309736"/>
                    <a:pt x="623361" y="206032"/>
                    <a:pt x="536850" y="150814"/>
                  </a:cubicBezTo>
                  <a:cubicBezTo>
                    <a:pt x="493594" y="123205"/>
                    <a:pt x="443990" y="110709"/>
                    <a:pt x="395077" y="112995"/>
                  </a:cubicBezTo>
                  <a:close/>
                  <a:moveTo>
                    <a:pt x="135470" y="0"/>
                  </a:moveTo>
                  <a:lnTo>
                    <a:pt x="677331" y="0"/>
                  </a:lnTo>
                  <a:cubicBezTo>
                    <a:pt x="752149" y="0"/>
                    <a:pt x="812801" y="60652"/>
                    <a:pt x="812801" y="135470"/>
                  </a:cubicBezTo>
                  <a:lnTo>
                    <a:pt x="812801" y="677331"/>
                  </a:lnTo>
                  <a:cubicBezTo>
                    <a:pt x="812801" y="752149"/>
                    <a:pt x="752149" y="812801"/>
                    <a:pt x="677331" y="812801"/>
                  </a:cubicBezTo>
                  <a:lnTo>
                    <a:pt x="135470" y="812801"/>
                  </a:lnTo>
                  <a:cubicBezTo>
                    <a:pt x="60652" y="812801"/>
                    <a:pt x="0" y="752149"/>
                    <a:pt x="0" y="677331"/>
                  </a:cubicBezTo>
                  <a:lnTo>
                    <a:pt x="0" y="135470"/>
                  </a:lnTo>
                  <a:cubicBezTo>
                    <a:pt x="0" y="60652"/>
                    <a:pt x="60652" y="0"/>
                    <a:pt x="13547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327"/>
          <p:cNvGrpSpPr/>
          <p:nvPr/>
        </p:nvGrpSpPr>
        <p:grpSpPr>
          <a:xfrm>
            <a:off x="3043080" y="1427040"/>
            <a:ext cx="1036800" cy="1038240"/>
            <a:chOff x="3043080" y="1427040"/>
            <a:chExt cx="1036800" cy="1038240"/>
          </a:xfrm>
        </p:grpSpPr>
        <p:grpSp>
          <p:nvGrpSpPr>
            <p:cNvPr id="143" name="组合 101"/>
            <p:cNvGrpSpPr/>
            <p:nvPr/>
          </p:nvGrpSpPr>
          <p:grpSpPr>
            <a:xfrm>
              <a:off x="3043080" y="1427040"/>
              <a:ext cx="1036800" cy="1038240"/>
              <a:chOff x="3043080" y="1427040"/>
              <a:chExt cx="1036800" cy="1038240"/>
            </a:xfrm>
          </p:grpSpPr>
          <p:sp>
            <p:nvSpPr>
              <p:cNvPr id="144" name="矩形 12"/>
              <p:cNvSpPr/>
              <p:nvPr/>
            </p:nvSpPr>
            <p:spPr>
              <a:xfrm>
                <a:off x="3043080" y="142704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矩形 13"/>
              <p:cNvSpPr/>
              <p:nvPr/>
            </p:nvSpPr>
            <p:spPr>
              <a:xfrm>
                <a:off x="3098520" y="1482480"/>
                <a:ext cx="92592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6" name="图片 227" descr=""/>
            <p:cNvPicPr/>
            <p:nvPr/>
          </p:nvPicPr>
          <p:blipFill>
            <a:blip r:embed="rId2"/>
            <a:stretch/>
          </p:blipFill>
          <p:spPr>
            <a:xfrm>
              <a:off x="3233520" y="1727640"/>
              <a:ext cx="608040" cy="46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组合 348"/>
          <p:cNvGrpSpPr/>
          <p:nvPr/>
        </p:nvGrpSpPr>
        <p:grpSpPr>
          <a:xfrm>
            <a:off x="5105520" y="4516560"/>
            <a:ext cx="1038240" cy="1038240"/>
            <a:chOff x="5105520" y="4516560"/>
            <a:chExt cx="1038240" cy="1038240"/>
          </a:xfrm>
        </p:grpSpPr>
        <p:grpSp>
          <p:nvGrpSpPr>
            <p:cNvPr id="148" name="组合 132"/>
            <p:cNvGrpSpPr/>
            <p:nvPr/>
          </p:nvGrpSpPr>
          <p:grpSpPr>
            <a:xfrm>
              <a:off x="5105520" y="4516560"/>
              <a:ext cx="1038240" cy="1038240"/>
              <a:chOff x="5105520" y="4516560"/>
              <a:chExt cx="1038240" cy="1038240"/>
            </a:xfrm>
          </p:grpSpPr>
          <p:sp>
            <p:nvSpPr>
              <p:cNvPr id="149" name="矩形 133"/>
              <p:cNvSpPr/>
              <p:nvPr/>
            </p:nvSpPr>
            <p:spPr>
              <a:xfrm>
                <a:off x="510552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134"/>
              <p:cNvSpPr/>
              <p:nvPr/>
            </p:nvSpPr>
            <p:spPr>
              <a:xfrm>
                <a:off x="5160960" y="457200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图片 228" descr=""/>
            <p:cNvPicPr/>
            <p:nvPr/>
          </p:nvPicPr>
          <p:blipFill>
            <a:blip r:embed="rId3"/>
            <a:stretch/>
          </p:blipFill>
          <p:spPr>
            <a:xfrm>
              <a:off x="5263920" y="4848120"/>
              <a:ext cx="750240" cy="43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组合 341"/>
          <p:cNvGrpSpPr/>
          <p:nvPr/>
        </p:nvGrpSpPr>
        <p:grpSpPr>
          <a:xfrm>
            <a:off x="5105520" y="3487680"/>
            <a:ext cx="1038240" cy="1038240"/>
            <a:chOff x="5105520" y="3487680"/>
            <a:chExt cx="1038240" cy="1038240"/>
          </a:xfrm>
        </p:grpSpPr>
        <p:grpSp>
          <p:nvGrpSpPr>
            <p:cNvPr id="153" name="组合 129"/>
            <p:cNvGrpSpPr/>
            <p:nvPr/>
          </p:nvGrpSpPr>
          <p:grpSpPr>
            <a:xfrm>
              <a:off x="5105520" y="3487680"/>
              <a:ext cx="1038240" cy="1038240"/>
              <a:chOff x="5105520" y="3487680"/>
              <a:chExt cx="1038240" cy="1038240"/>
            </a:xfrm>
          </p:grpSpPr>
          <p:sp>
            <p:nvSpPr>
              <p:cNvPr id="154" name="矩形 130"/>
              <p:cNvSpPr/>
              <p:nvPr/>
            </p:nvSpPr>
            <p:spPr>
              <a:xfrm>
                <a:off x="5105520" y="348768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131"/>
              <p:cNvSpPr/>
              <p:nvPr/>
            </p:nvSpPr>
            <p:spPr>
              <a:xfrm>
                <a:off x="5160960" y="354312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组合 241"/>
            <p:cNvGrpSpPr/>
            <p:nvPr/>
          </p:nvGrpSpPr>
          <p:grpSpPr>
            <a:xfrm>
              <a:off x="5293080" y="3715920"/>
              <a:ext cx="607320" cy="607320"/>
              <a:chOff x="5293080" y="3715920"/>
              <a:chExt cx="607320" cy="607320"/>
            </a:xfrm>
          </p:grpSpPr>
          <p:sp>
            <p:nvSpPr>
              <p:cNvPr id="157" name="椭圆 230"/>
              <p:cNvSpPr/>
              <p:nvPr/>
            </p:nvSpPr>
            <p:spPr>
              <a:xfrm>
                <a:off x="5293080" y="3715920"/>
                <a:ext cx="607320" cy="607320"/>
              </a:xfrm>
              <a:prstGeom prst="ellipse">
                <a:avLst/>
              </a:prstGeom>
              <a:solidFill>
                <a:srgbClr val="7f7f7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232"/>
              <p:cNvSpPr/>
              <p:nvPr/>
            </p:nvSpPr>
            <p:spPr>
              <a:xfrm>
                <a:off x="5342040" y="3720600"/>
                <a:ext cx="204480" cy="451440"/>
              </a:xfrm>
              <a:custGeom>
                <a:avLst/>
                <a:gdLst/>
                <a:ahLst/>
                <a:rect l="l" t="t" r="r" b="b"/>
                <a:pathLst>
                  <a:path w="955025" h="2092894">
                    <a:moveTo>
                      <a:pt x="942465" y="0"/>
                    </a:moveTo>
                    <a:cubicBezTo>
                      <a:pt x="951209" y="238593"/>
                      <a:pt x="964724" y="461508"/>
                      <a:pt x="944380" y="668828"/>
                    </a:cubicBezTo>
                    <a:cubicBezTo>
                      <a:pt x="924036" y="876148"/>
                      <a:pt x="917835" y="1046550"/>
                      <a:pt x="820399" y="1243920"/>
                    </a:cubicBezTo>
                    <a:cubicBezTo>
                      <a:pt x="722963" y="1441291"/>
                      <a:pt x="496497" y="1711555"/>
                      <a:pt x="359764" y="1853051"/>
                    </a:cubicBezTo>
                    <a:cubicBezTo>
                      <a:pt x="223031" y="1994547"/>
                      <a:pt x="109928" y="2042926"/>
                      <a:pt x="0" y="2092894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任意多边形 233"/>
              <p:cNvSpPr/>
              <p:nvPr/>
            </p:nvSpPr>
            <p:spPr>
              <a:xfrm>
                <a:off x="5638680" y="3720600"/>
                <a:ext cx="225000" cy="442080"/>
              </a:xfrm>
              <a:custGeom>
                <a:avLst/>
                <a:gdLst/>
                <a:ahLst/>
                <a:rect l="l" t="t" r="r" b="b"/>
                <a:pathLst>
                  <a:path w="1046488" h="2045321">
                    <a:moveTo>
                      <a:pt x="48189" y="0"/>
                    </a:moveTo>
                    <a:cubicBezTo>
                      <a:pt x="21995" y="115887"/>
                      <a:pt x="-4198" y="242157"/>
                      <a:pt x="564" y="402983"/>
                    </a:cubicBezTo>
                    <a:cubicBezTo>
                      <a:pt x="5326" y="563809"/>
                      <a:pt x="27551" y="788746"/>
                      <a:pt x="76764" y="964958"/>
                    </a:cubicBezTo>
                    <a:cubicBezTo>
                      <a:pt x="125977" y="1141171"/>
                      <a:pt x="191064" y="1307858"/>
                      <a:pt x="295839" y="1460258"/>
                    </a:cubicBezTo>
                    <a:cubicBezTo>
                      <a:pt x="400614" y="1612658"/>
                      <a:pt x="611879" y="1797634"/>
                      <a:pt x="705414" y="1879358"/>
                    </a:cubicBezTo>
                    <a:cubicBezTo>
                      <a:pt x="798949" y="1961082"/>
                      <a:pt x="1020485" y="2029605"/>
                      <a:pt x="1046488" y="2045321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234"/>
              <p:cNvSpPr/>
              <p:nvPr/>
            </p:nvSpPr>
            <p:spPr>
              <a:xfrm>
                <a:off x="5392800" y="4006800"/>
                <a:ext cx="207720" cy="236880"/>
              </a:xfrm>
              <a:custGeom>
                <a:avLst/>
                <a:gdLst/>
                <a:ahLst/>
                <a:rect l="l" t="t" r="r" b="b"/>
                <a:pathLst>
                  <a:path w="960360" h="1099660">
                    <a:moveTo>
                      <a:pt x="960360" y="0"/>
                    </a:moveTo>
                    <a:cubicBezTo>
                      <a:pt x="899241" y="134937"/>
                      <a:pt x="839433" y="270312"/>
                      <a:pt x="741285" y="409575"/>
                    </a:cubicBezTo>
                    <a:cubicBezTo>
                      <a:pt x="643138" y="548838"/>
                      <a:pt x="495022" y="720566"/>
                      <a:pt x="371475" y="835580"/>
                    </a:cubicBezTo>
                    <a:cubicBezTo>
                      <a:pt x="247928" y="950594"/>
                      <a:pt x="124618" y="1024254"/>
                      <a:pt x="0" y="109966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任意多边形 235"/>
              <p:cNvSpPr/>
              <p:nvPr/>
            </p:nvSpPr>
            <p:spPr>
              <a:xfrm>
                <a:off x="5600880" y="4010040"/>
                <a:ext cx="196560" cy="233640"/>
              </a:xfrm>
              <a:custGeom>
                <a:avLst/>
                <a:gdLst/>
                <a:ahLst/>
                <a:rect l="l" t="t" r="r" b="b"/>
                <a:pathLst>
                  <a:path w="911780" h="1084704">
                    <a:moveTo>
                      <a:pt x="911780" y="1084704"/>
                    </a:moveTo>
                    <a:cubicBezTo>
                      <a:pt x="855667" y="1052608"/>
                      <a:pt x="799555" y="1020513"/>
                      <a:pt x="704796" y="940601"/>
                    </a:cubicBezTo>
                    <a:cubicBezTo>
                      <a:pt x="610037" y="860689"/>
                      <a:pt x="441480" y="717459"/>
                      <a:pt x="343228" y="605233"/>
                    </a:cubicBezTo>
                    <a:cubicBezTo>
                      <a:pt x="244976" y="493007"/>
                      <a:pt x="172488" y="368118"/>
                      <a:pt x="115283" y="267246"/>
                    </a:cubicBezTo>
                    <a:cubicBezTo>
                      <a:pt x="58078" y="166374"/>
                      <a:pt x="29039" y="8318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组合 336"/>
          <p:cNvGrpSpPr/>
          <p:nvPr/>
        </p:nvGrpSpPr>
        <p:grpSpPr>
          <a:xfrm>
            <a:off x="5105520" y="2459160"/>
            <a:ext cx="1038240" cy="1036440"/>
            <a:chOff x="5105520" y="2459160"/>
            <a:chExt cx="1038240" cy="1036440"/>
          </a:xfrm>
        </p:grpSpPr>
        <p:grpSp>
          <p:nvGrpSpPr>
            <p:cNvPr id="163" name="组合 126"/>
            <p:cNvGrpSpPr/>
            <p:nvPr/>
          </p:nvGrpSpPr>
          <p:grpSpPr>
            <a:xfrm>
              <a:off x="5105520" y="2459160"/>
              <a:ext cx="1038240" cy="1036440"/>
              <a:chOff x="5105520" y="2459160"/>
              <a:chExt cx="1038240" cy="1036440"/>
            </a:xfrm>
          </p:grpSpPr>
          <p:sp>
            <p:nvSpPr>
              <p:cNvPr id="164" name="矩形 127"/>
              <p:cNvSpPr/>
              <p:nvPr/>
            </p:nvSpPr>
            <p:spPr>
              <a:xfrm>
                <a:off x="5105520" y="2459160"/>
                <a:ext cx="103824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128"/>
              <p:cNvSpPr/>
              <p:nvPr/>
            </p:nvSpPr>
            <p:spPr>
              <a:xfrm>
                <a:off x="5160960" y="2514600"/>
                <a:ext cx="92736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264"/>
            <p:cNvGrpSpPr/>
            <p:nvPr/>
          </p:nvGrpSpPr>
          <p:grpSpPr>
            <a:xfrm>
              <a:off x="5283000" y="2703240"/>
              <a:ext cx="756000" cy="565920"/>
              <a:chOff x="5283000" y="2703240"/>
              <a:chExt cx="756000" cy="565920"/>
            </a:xfrm>
          </p:grpSpPr>
          <p:sp>
            <p:nvSpPr>
              <p:cNvPr id="167" name="任意多边形 251"/>
              <p:cNvSpPr/>
              <p:nvPr/>
            </p:nvSpPr>
            <p:spPr>
              <a:xfrm>
                <a:off x="5383080" y="2703240"/>
                <a:ext cx="655920" cy="545400"/>
              </a:xfrm>
              <a:custGeom>
                <a:avLst/>
                <a:gdLst/>
                <a:ahLst/>
                <a:rect l="l" t="t" r="r" b="b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任意多边形 249"/>
              <p:cNvSpPr/>
              <p:nvPr/>
            </p:nvSpPr>
            <p:spPr>
              <a:xfrm>
                <a:off x="5283000" y="2703240"/>
                <a:ext cx="681480" cy="565920"/>
              </a:xfrm>
              <a:custGeom>
                <a:avLst/>
                <a:gdLst/>
                <a:ahLst/>
                <a:rect l="l" t="t" r="r" b="b"/>
                <a:pathLst>
                  <a:path w="847068" h="705678">
                    <a:moveTo>
                      <a:pt x="423534" y="0"/>
                    </a:moveTo>
                    <a:cubicBezTo>
                      <a:pt x="552531" y="0"/>
                      <a:pt x="657104" y="104573"/>
                      <a:pt x="657104" y="233570"/>
                    </a:cubicBezTo>
                    <a:cubicBezTo>
                      <a:pt x="657104" y="330318"/>
                      <a:pt x="598282" y="413327"/>
                      <a:pt x="514450" y="448785"/>
                    </a:cubicBezTo>
                    <a:lnTo>
                      <a:pt x="503048" y="452324"/>
                    </a:lnTo>
                    <a:lnTo>
                      <a:pt x="503048" y="485103"/>
                    </a:lnTo>
                    <a:lnTo>
                      <a:pt x="552433" y="490086"/>
                    </a:lnTo>
                    <a:cubicBezTo>
                      <a:pt x="674590" y="515446"/>
                      <a:pt x="773581" y="575902"/>
                      <a:pt x="822934" y="653783"/>
                    </a:cubicBezTo>
                    <a:lnTo>
                      <a:pt x="847068" y="705678"/>
                    </a:lnTo>
                    <a:lnTo>
                      <a:pt x="0" y="705678"/>
                    </a:lnTo>
                    <a:lnTo>
                      <a:pt x="24134" y="653783"/>
                    </a:lnTo>
                    <a:cubicBezTo>
                      <a:pt x="73487" y="575902"/>
                      <a:pt x="172478" y="515446"/>
                      <a:pt x="294635" y="490086"/>
                    </a:cubicBezTo>
                    <a:lnTo>
                      <a:pt x="344021" y="485103"/>
                    </a:lnTo>
                    <a:lnTo>
                      <a:pt x="344021" y="452324"/>
                    </a:lnTo>
                    <a:lnTo>
                      <a:pt x="332618" y="448785"/>
                    </a:lnTo>
                    <a:cubicBezTo>
                      <a:pt x="248786" y="413327"/>
                      <a:pt x="189964" y="330318"/>
                      <a:pt x="189964" y="233570"/>
                    </a:cubicBezTo>
                    <a:cubicBezTo>
                      <a:pt x="189964" y="104573"/>
                      <a:pt x="294537" y="0"/>
                      <a:pt x="42353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组合 328"/>
          <p:cNvGrpSpPr/>
          <p:nvPr/>
        </p:nvGrpSpPr>
        <p:grpSpPr>
          <a:xfrm>
            <a:off x="4071960" y="1427040"/>
            <a:ext cx="1038240" cy="1038240"/>
            <a:chOff x="4071960" y="1427040"/>
            <a:chExt cx="1038240" cy="1038240"/>
          </a:xfrm>
        </p:grpSpPr>
        <p:grpSp>
          <p:nvGrpSpPr>
            <p:cNvPr id="170" name="组合 111"/>
            <p:cNvGrpSpPr/>
            <p:nvPr/>
          </p:nvGrpSpPr>
          <p:grpSpPr>
            <a:xfrm>
              <a:off x="4071960" y="1427040"/>
              <a:ext cx="1038240" cy="1038240"/>
              <a:chOff x="4071960" y="1427040"/>
              <a:chExt cx="1038240" cy="1038240"/>
            </a:xfrm>
          </p:grpSpPr>
          <p:sp>
            <p:nvSpPr>
              <p:cNvPr id="171" name="矩形 112"/>
              <p:cNvSpPr/>
              <p:nvPr/>
            </p:nvSpPr>
            <p:spPr>
              <a:xfrm>
                <a:off x="407196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矩形 113"/>
              <p:cNvSpPr/>
              <p:nvPr/>
            </p:nvSpPr>
            <p:spPr>
              <a:xfrm>
                <a:off x="4127400" y="148248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任意多边形 261"/>
            <p:cNvSpPr/>
            <p:nvPr/>
          </p:nvSpPr>
          <p:spPr>
            <a:xfrm>
              <a:off x="4209840" y="1717560"/>
              <a:ext cx="746280" cy="546120"/>
            </a:xfrm>
            <a:custGeom>
              <a:avLst/>
              <a:gdLst/>
              <a:ahLst/>
              <a:rect l="l" t="t" r="r" b="b"/>
              <a:pathLst>
                <a:path w="745435" h="546652">
                  <a:moveTo>
                    <a:pt x="295104" y="100255"/>
                  </a:moveTo>
                  <a:cubicBezTo>
                    <a:pt x="334869" y="100255"/>
                    <a:pt x="367104" y="132490"/>
                    <a:pt x="367104" y="172255"/>
                  </a:cubicBezTo>
                  <a:cubicBezTo>
                    <a:pt x="367104" y="212020"/>
                    <a:pt x="334869" y="244255"/>
                    <a:pt x="295104" y="244255"/>
                  </a:cubicBezTo>
                  <a:cubicBezTo>
                    <a:pt x="255339" y="244255"/>
                    <a:pt x="223104" y="212020"/>
                    <a:pt x="223104" y="172255"/>
                  </a:cubicBezTo>
                  <a:cubicBezTo>
                    <a:pt x="223104" y="132490"/>
                    <a:pt x="255339" y="100255"/>
                    <a:pt x="295104" y="100255"/>
                  </a:cubicBezTo>
                  <a:close/>
                  <a:moveTo>
                    <a:pt x="128030" y="35834"/>
                  </a:moveTo>
                  <a:cubicBezTo>
                    <a:pt x="84308" y="35834"/>
                    <a:pt x="48864" y="71278"/>
                    <a:pt x="48864" y="115000"/>
                  </a:cubicBezTo>
                  <a:lnTo>
                    <a:pt x="48864" y="431652"/>
                  </a:lnTo>
                  <a:lnTo>
                    <a:pt x="53010" y="452186"/>
                  </a:lnTo>
                  <a:lnTo>
                    <a:pt x="53825" y="450965"/>
                  </a:lnTo>
                  <a:cubicBezTo>
                    <a:pt x="94975" y="402163"/>
                    <a:pt x="179625" y="346870"/>
                    <a:pt x="215973" y="340341"/>
                  </a:cubicBezTo>
                  <a:cubicBezTo>
                    <a:pt x="274129" y="366717"/>
                    <a:pt x="346910" y="426493"/>
                    <a:pt x="395499" y="457189"/>
                  </a:cubicBezTo>
                  <a:cubicBezTo>
                    <a:pt x="437952" y="423448"/>
                    <a:pt x="452222" y="294159"/>
                    <a:pt x="528995" y="257562"/>
                  </a:cubicBezTo>
                  <a:cubicBezTo>
                    <a:pt x="579960" y="279749"/>
                    <a:pt x="624919" y="313996"/>
                    <a:pt x="658005" y="357430"/>
                  </a:cubicBezTo>
                  <a:lnTo>
                    <a:pt x="696570" y="426556"/>
                  </a:lnTo>
                  <a:lnTo>
                    <a:pt x="696570" y="115000"/>
                  </a:lnTo>
                  <a:cubicBezTo>
                    <a:pt x="696570" y="71278"/>
                    <a:pt x="661126" y="35834"/>
                    <a:pt x="617404" y="35834"/>
                  </a:cubicBezTo>
                  <a:lnTo>
                    <a:pt x="128030" y="35834"/>
                  </a:lnTo>
                  <a:close/>
                  <a:moveTo>
                    <a:pt x="91110" y="0"/>
                  </a:moveTo>
                  <a:lnTo>
                    <a:pt x="654325" y="0"/>
                  </a:lnTo>
                  <a:cubicBezTo>
                    <a:pt x="704644" y="0"/>
                    <a:pt x="745435" y="40791"/>
                    <a:pt x="745435" y="91110"/>
                  </a:cubicBezTo>
                  <a:lnTo>
                    <a:pt x="745435" y="455542"/>
                  </a:lnTo>
                  <a:cubicBezTo>
                    <a:pt x="745435" y="505861"/>
                    <a:pt x="704644" y="546652"/>
                    <a:pt x="654325" y="546652"/>
                  </a:cubicBezTo>
                  <a:lnTo>
                    <a:pt x="91110" y="546652"/>
                  </a:lnTo>
                  <a:cubicBezTo>
                    <a:pt x="40791" y="546652"/>
                    <a:pt x="0" y="505861"/>
                    <a:pt x="0" y="455542"/>
                  </a:cubicBezTo>
                  <a:lnTo>
                    <a:pt x="0" y="91110"/>
                  </a:lnTo>
                  <a:cubicBezTo>
                    <a:pt x="0" y="40791"/>
                    <a:pt x="40791" y="0"/>
                    <a:pt x="91110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344"/>
          <p:cNvGrpSpPr/>
          <p:nvPr/>
        </p:nvGrpSpPr>
        <p:grpSpPr>
          <a:xfrm>
            <a:off x="8207280" y="3487680"/>
            <a:ext cx="1038240" cy="1038240"/>
            <a:chOff x="8207280" y="3487680"/>
            <a:chExt cx="1038240" cy="1038240"/>
          </a:xfrm>
        </p:grpSpPr>
        <p:grpSp>
          <p:nvGrpSpPr>
            <p:cNvPr id="175" name="组合 165"/>
            <p:cNvGrpSpPr/>
            <p:nvPr/>
          </p:nvGrpSpPr>
          <p:grpSpPr>
            <a:xfrm>
              <a:off x="8207280" y="3487680"/>
              <a:ext cx="1038240" cy="1038240"/>
              <a:chOff x="8207280" y="3487680"/>
              <a:chExt cx="1038240" cy="1038240"/>
            </a:xfrm>
          </p:grpSpPr>
          <p:sp>
            <p:nvSpPr>
              <p:cNvPr id="176" name="矩形 166"/>
              <p:cNvSpPr/>
              <p:nvPr/>
            </p:nvSpPr>
            <p:spPr>
              <a:xfrm>
                <a:off x="8207280" y="348768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167"/>
              <p:cNvSpPr/>
              <p:nvPr/>
            </p:nvSpPr>
            <p:spPr>
              <a:xfrm>
                <a:off x="8262720" y="354312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任意多边形 263"/>
            <p:cNvSpPr/>
            <p:nvPr/>
          </p:nvSpPr>
          <p:spPr>
            <a:xfrm rot="5400000">
              <a:off x="8449920" y="3673440"/>
              <a:ext cx="546120" cy="746280"/>
            </a:xfrm>
            <a:custGeom>
              <a:avLst/>
              <a:gdLst/>
              <a:ahLst/>
              <a:rect l="l" t="t" r="r" b="b"/>
              <a:pathLst>
                <a:path w="546652" h="745435">
                  <a:moveTo>
                    <a:pt x="71060" y="482494"/>
                  </a:moveTo>
                  <a:lnTo>
                    <a:pt x="266322" y="177694"/>
                  </a:lnTo>
                  <a:lnTo>
                    <a:pt x="461584" y="482494"/>
                  </a:lnTo>
                  <a:lnTo>
                    <a:pt x="71060" y="482494"/>
                  </a:lnTo>
                  <a:close/>
                  <a:moveTo>
                    <a:pt x="35834" y="617405"/>
                  </a:moveTo>
                  <a:cubicBezTo>
                    <a:pt x="35834" y="661127"/>
                    <a:pt x="71278" y="696571"/>
                    <a:pt x="115000" y="696571"/>
                  </a:cubicBezTo>
                  <a:lnTo>
                    <a:pt x="431652" y="696571"/>
                  </a:lnTo>
                  <a:cubicBezTo>
                    <a:pt x="475374" y="696571"/>
                    <a:pt x="510818" y="661127"/>
                    <a:pt x="510818" y="617405"/>
                  </a:cubicBezTo>
                  <a:lnTo>
                    <a:pt x="510818" y="128031"/>
                  </a:lnTo>
                  <a:cubicBezTo>
                    <a:pt x="510818" y="84309"/>
                    <a:pt x="475374" y="48865"/>
                    <a:pt x="431652" y="48865"/>
                  </a:cubicBezTo>
                  <a:lnTo>
                    <a:pt x="115000" y="48865"/>
                  </a:lnTo>
                  <a:cubicBezTo>
                    <a:pt x="71278" y="48865"/>
                    <a:pt x="35834" y="84309"/>
                    <a:pt x="35834" y="128031"/>
                  </a:cubicBezTo>
                  <a:lnTo>
                    <a:pt x="35834" y="617405"/>
                  </a:lnTo>
                  <a:close/>
                  <a:moveTo>
                    <a:pt x="0" y="654325"/>
                  </a:moveTo>
                  <a:lnTo>
                    <a:pt x="0" y="91110"/>
                  </a:lnTo>
                  <a:cubicBezTo>
                    <a:pt x="0" y="40791"/>
                    <a:pt x="40791" y="0"/>
                    <a:pt x="91110" y="0"/>
                  </a:cubicBezTo>
                  <a:lnTo>
                    <a:pt x="455542" y="0"/>
                  </a:lnTo>
                  <a:cubicBezTo>
                    <a:pt x="505861" y="0"/>
                    <a:pt x="546652" y="40791"/>
                    <a:pt x="546652" y="91110"/>
                  </a:cubicBezTo>
                  <a:lnTo>
                    <a:pt x="546652" y="654325"/>
                  </a:lnTo>
                  <a:cubicBezTo>
                    <a:pt x="546652" y="704644"/>
                    <a:pt x="505861" y="745435"/>
                    <a:pt x="455542" y="745435"/>
                  </a:cubicBezTo>
                  <a:lnTo>
                    <a:pt x="91110" y="745435"/>
                  </a:lnTo>
                  <a:cubicBezTo>
                    <a:pt x="40791" y="745435"/>
                    <a:pt x="0" y="704644"/>
                    <a:pt x="0" y="65432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343"/>
          <p:cNvGrpSpPr/>
          <p:nvPr/>
        </p:nvGrpSpPr>
        <p:grpSpPr>
          <a:xfrm>
            <a:off x="7174080" y="3487680"/>
            <a:ext cx="1037880" cy="1038240"/>
            <a:chOff x="7174080" y="3487680"/>
            <a:chExt cx="1037880" cy="1038240"/>
          </a:xfrm>
        </p:grpSpPr>
        <p:grpSp>
          <p:nvGrpSpPr>
            <p:cNvPr id="180" name="组合 153"/>
            <p:cNvGrpSpPr/>
            <p:nvPr/>
          </p:nvGrpSpPr>
          <p:grpSpPr>
            <a:xfrm>
              <a:off x="7174080" y="3487680"/>
              <a:ext cx="1037880" cy="1038240"/>
              <a:chOff x="7174080" y="3487680"/>
              <a:chExt cx="1037880" cy="1038240"/>
            </a:xfrm>
          </p:grpSpPr>
          <p:sp>
            <p:nvSpPr>
              <p:cNvPr id="181" name="矩形 154"/>
              <p:cNvSpPr/>
              <p:nvPr/>
            </p:nvSpPr>
            <p:spPr>
              <a:xfrm>
                <a:off x="7174080" y="348768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155"/>
              <p:cNvSpPr/>
              <p:nvPr/>
            </p:nvSpPr>
            <p:spPr>
              <a:xfrm>
                <a:off x="7229520" y="3543120"/>
                <a:ext cx="92700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269"/>
            <p:cNvSpPr/>
            <p:nvPr/>
          </p:nvSpPr>
          <p:spPr>
            <a:xfrm>
              <a:off x="7472520" y="3821040"/>
              <a:ext cx="485640" cy="444600"/>
            </a:xfrm>
            <a:custGeom>
              <a:avLst/>
              <a:gdLst/>
              <a:ahLst/>
              <a:rect l="l" t="t" r="r" b="b"/>
              <a:pathLst>
                <a:path w="912945" h="835978">
                  <a:moveTo>
                    <a:pt x="815585" y="389371"/>
                  </a:moveTo>
                  <a:lnTo>
                    <a:pt x="912945" y="392239"/>
                  </a:lnTo>
                  <a:cubicBezTo>
                    <a:pt x="905781" y="635437"/>
                    <a:pt x="709407" y="830423"/>
                    <a:pt x="466164" y="835862"/>
                  </a:cubicBezTo>
                  <a:cubicBezTo>
                    <a:pt x="222921" y="841301"/>
                    <a:pt x="18028" y="655288"/>
                    <a:pt x="0" y="412653"/>
                  </a:cubicBezTo>
                  <a:lnTo>
                    <a:pt x="97134" y="405437"/>
                  </a:lnTo>
                  <a:cubicBezTo>
                    <a:pt x="111321" y="596381"/>
                    <a:pt x="272564" y="742766"/>
                    <a:pt x="463987" y="738485"/>
                  </a:cubicBezTo>
                  <a:cubicBezTo>
                    <a:pt x="655409" y="734205"/>
                    <a:pt x="809948" y="580758"/>
                    <a:pt x="815585" y="389371"/>
                  </a:cubicBezTo>
                  <a:close/>
                  <a:moveTo>
                    <a:pt x="653281" y="0"/>
                  </a:moveTo>
                  <a:cubicBezTo>
                    <a:pt x="694286" y="0"/>
                    <a:pt x="727528" y="33242"/>
                    <a:pt x="727528" y="74247"/>
                  </a:cubicBezTo>
                  <a:cubicBezTo>
                    <a:pt x="727528" y="115252"/>
                    <a:pt x="694286" y="148494"/>
                    <a:pt x="653281" y="148494"/>
                  </a:cubicBezTo>
                  <a:cubicBezTo>
                    <a:pt x="612276" y="148494"/>
                    <a:pt x="579034" y="115252"/>
                    <a:pt x="579034" y="74247"/>
                  </a:cubicBezTo>
                  <a:cubicBezTo>
                    <a:pt x="579034" y="33242"/>
                    <a:pt x="612276" y="0"/>
                    <a:pt x="653281" y="0"/>
                  </a:cubicBezTo>
                  <a:close/>
                  <a:moveTo>
                    <a:pt x="258604" y="0"/>
                  </a:moveTo>
                  <a:cubicBezTo>
                    <a:pt x="299609" y="0"/>
                    <a:pt x="332851" y="33242"/>
                    <a:pt x="332851" y="74247"/>
                  </a:cubicBezTo>
                  <a:cubicBezTo>
                    <a:pt x="332851" y="115252"/>
                    <a:pt x="299609" y="148494"/>
                    <a:pt x="258604" y="148494"/>
                  </a:cubicBezTo>
                  <a:cubicBezTo>
                    <a:pt x="217599" y="148494"/>
                    <a:pt x="184357" y="115252"/>
                    <a:pt x="184357" y="74247"/>
                  </a:cubicBezTo>
                  <a:cubicBezTo>
                    <a:pt x="184357" y="33242"/>
                    <a:pt x="217599" y="0"/>
                    <a:pt x="25860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34"/>
          <p:cNvGrpSpPr/>
          <p:nvPr/>
        </p:nvGrpSpPr>
        <p:grpSpPr>
          <a:xfrm>
            <a:off x="7174080" y="2459160"/>
            <a:ext cx="1037880" cy="1036440"/>
            <a:chOff x="7174080" y="2459160"/>
            <a:chExt cx="1037880" cy="1036440"/>
          </a:xfrm>
        </p:grpSpPr>
        <p:grpSp>
          <p:nvGrpSpPr>
            <p:cNvPr id="185" name="组合 150"/>
            <p:cNvGrpSpPr/>
            <p:nvPr/>
          </p:nvGrpSpPr>
          <p:grpSpPr>
            <a:xfrm>
              <a:off x="7174080" y="2459160"/>
              <a:ext cx="1037880" cy="1036440"/>
              <a:chOff x="7174080" y="2459160"/>
              <a:chExt cx="1037880" cy="1036440"/>
            </a:xfrm>
          </p:grpSpPr>
          <p:sp>
            <p:nvSpPr>
              <p:cNvPr id="186" name="矩形 151"/>
              <p:cNvSpPr/>
              <p:nvPr/>
            </p:nvSpPr>
            <p:spPr>
              <a:xfrm>
                <a:off x="7174080" y="2459160"/>
                <a:ext cx="103788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52"/>
              <p:cNvSpPr/>
              <p:nvPr/>
            </p:nvSpPr>
            <p:spPr>
              <a:xfrm>
                <a:off x="7229520" y="2514600"/>
                <a:ext cx="92700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组合 270" descr=""/>
            <p:cNvPicPr/>
            <p:nvPr/>
          </p:nvPicPr>
          <p:blipFill>
            <a:blip r:embed="rId4"/>
            <a:stretch/>
          </p:blipFill>
          <p:spPr>
            <a:xfrm>
              <a:off x="7473600" y="2749320"/>
              <a:ext cx="420480" cy="51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组合 338"/>
          <p:cNvGrpSpPr/>
          <p:nvPr/>
        </p:nvGrpSpPr>
        <p:grpSpPr>
          <a:xfrm>
            <a:off x="3043080" y="2459160"/>
            <a:ext cx="1036800" cy="1036440"/>
            <a:chOff x="3043080" y="2459160"/>
            <a:chExt cx="1036800" cy="1036440"/>
          </a:xfrm>
        </p:grpSpPr>
        <p:grpSp>
          <p:nvGrpSpPr>
            <p:cNvPr id="190" name="组合 102"/>
            <p:cNvGrpSpPr/>
            <p:nvPr/>
          </p:nvGrpSpPr>
          <p:grpSpPr>
            <a:xfrm>
              <a:off x="3043080" y="2459160"/>
              <a:ext cx="1036800" cy="1036440"/>
              <a:chOff x="3043080" y="2459160"/>
              <a:chExt cx="1036800" cy="1036440"/>
            </a:xfrm>
          </p:grpSpPr>
          <p:sp>
            <p:nvSpPr>
              <p:cNvPr id="191" name="矩形 103"/>
              <p:cNvSpPr/>
              <p:nvPr/>
            </p:nvSpPr>
            <p:spPr>
              <a:xfrm>
                <a:off x="3043080" y="2459160"/>
                <a:ext cx="103680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104"/>
              <p:cNvSpPr/>
              <p:nvPr/>
            </p:nvSpPr>
            <p:spPr>
              <a:xfrm>
                <a:off x="3098520" y="2514600"/>
                <a:ext cx="92592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任意多边形 280"/>
            <p:cNvSpPr/>
            <p:nvPr/>
          </p:nvSpPr>
          <p:spPr>
            <a:xfrm>
              <a:off x="3203280" y="2749680"/>
              <a:ext cx="694080" cy="476280"/>
            </a:xfrm>
            <a:custGeom>
              <a:avLst/>
              <a:gdLst/>
              <a:ahLst/>
              <a:rect l="l" t="t" r="r" b="b"/>
              <a:pathLst>
                <a:path w="984738" h="675249">
                  <a:moveTo>
                    <a:pt x="431767" y="453435"/>
                  </a:moveTo>
                  <a:lnTo>
                    <a:pt x="431767" y="580044"/>
                  </a:lnTo>
                  <a:lnTo>
                    <a:pt x="811594" y="580044"/>
                  </a:lnTo>
                  <a:lnTo>
                    <a:pt x="811594" y="453435"/>
                  </a:lnTo>
                  <a:lnTo>
                    <a:pt x="431767" y="453435"/>
                  </a:lnTo>
                  <a:close/>
                  <a:moveTo>
                    <a:pt x="431767" y="270555"/>
                  </a:moveTo>
                  <a:lnTo>
                    <a:pt x="431767" y="397164"/>
                  </a:lnTo>
                  <a:lnTo>
                    <a:pt x="811594" y="397164"/>
                  </a:lnTo>
                  <a:lnTo>
                    <a:pt x="811594" y="270555"/>
                  </a:lnTo>
                  <a:lnTo>
                    <a:pt x="431767" y="270555"/>
                  </a:lnTo>
                  <a:close/>
                  <a:moveTo>
                    <a:pt x="150413" y="102810"/>
                  </a:moveTo>
                  <a:lnTo>
                    <a:pt x="150413" y="581111"/>
                  </a:lnTo>
                  <a:lnTo>
                    <a:pt x="347360" y="581111"/>
                  </a:lnTo>
                  <a:lnTo>
                    <a:pt x="347360" y="102810"/>
                  </a:lnTo>
                  <a:lnTo>
                    <a:pt x="150413" y="102810"/>
                  </a:lnTo>
                  <a:close/>
                  <a:moveTo>
                    <a:pt x="431767" y="87675"/>
                  </a:moveTo>
                  <a:lnTo>
                    <a:pt x="431767" y="214284"/>
                  </a:lnTo>
                  <a:lnTo>
                    <a:pt x="811594" y="214284"/>
                  </a:lnTo>
                  <a:lnTo>
                    <a:pt x="811594" y="87675"/>
                  </a:lnTo>
                  <a:lnTo>
                    <a:pt x="431767" y="87675"/>
                  </a:lnTo>
                  <a:close/>
                  <a:moveTo>
                    <a:pt x="112544" y="0"/>
                  </a:moveTo>
                  <a:lnTo>
                    <a:pt x="872194" y="0"/>
                  </a:lnTo>
                  <a:cubicBezTo>
                    <a:pt x="934350" y="0"/>
                    <a:pt x="984738" y="50388"/>
                    <a:pt x="984738" y="112544"/>
                  </a:cubicBezTo>
                  <a:lnTo>
                    <a:pt x="984738" y="562705"/>
                  </a:lnTo>
                  <a:cubicBezTo>
                    <a:pt x="984738" y="624861"/>
                    <a:pt x="934350" y="675249"/>
                    <a:pt x="872194" y="675249"/>
                  </a:cubicBezTo>
                  <a:lnTo>
                    <a:pt x="112544" y="675249"/>
                  </a:lnTo>
                  <a:cubicBezTo>
                    <a:pt x="50388" y="675249"/>
                    <a:pt x="0" y="624861"/>
                    <a:pt x="0" y="562705"/>
                  </a:cubicBezTo>
                  <a:lnTo>
                    <a:pt x="0" y="112544"/>
                  </a:lnTo>
                  <a:cubicBezTo>
                    <a:pt x="0" y="50388"/>
                    <a:pt x="50388" y="0"/>
                    <a:pt x="11254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31"/>
          <p:cNvGrpSpPr/>
          <p:nvPr/>
        </p:nvGrpSpPr>
        <p:grpSpPr>
          <a:xfrm>
            <a:off x="7174080" y="1427040"/>
            <a:ext cx="1037880" cy="1038240"/>
            <a:chOff x="7174080" y="1427040"/>
            <a:chExt cx="1037880" cy="1038240"/>
          </a:xfrm>
        </p:grpSpPr>
        <p:grpSp>
          <p:nvGrpSpPr>
            <p:cNvPr id="195" name="组合 147"/>
            <p:cNvGrpSpPr/>
            <p:nvPr/>
          </p:nvGrpSpPr>
          <p:grpSpPr>
            <a:xfrm>
              <a:off x="7174080" y="1427040"/>
              <a:ext cx="1037880" cy="1038240"/>
              <a:chOff x="7174080" y="1427040"/>
              <a:chExt cx="1037880" cy="1038240"/>
            </a:xfrm>
          </p:grpSpPr>
          <p:sp>
            <p:nvSpPr>
              <p:cNvPr id="196" name="矩形 148"/>
              <p:cNvSpPr/>
              <p:nvPr/>
            </p:nvSpPr>
            <p:spPr>
              <a:xfrm>
                <a:off x="7174080" y="142704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149"/>
              <p:cNvSpPr/>
              <p:nvPr/>
            </p:nvSpPr>
            <p:spPr>
              <a:xfrm>
                <a:off x="7229520" y="1482480"/>
                <a:ext cx="92700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任意多边形 285"/>
            <p:cNvSpPr/>
            <p:nvPr/>
          </p:nvSpPr>
          <p:spPr>
            <a:xfrm rot="1939200">
              <a:off x="7427880" y="1649160"/>
              <a:ext cx="612720" cy="612720"/>
            </a:xfrm>
            <a:custGeom>
              <a:avLst/>
              <a:gdLst/>
              <a:ahLst/>
              <a:rect l="l" t="t" r="r" b="b"/>
              <a:pathLst>
                <a:path w="1685366" h="1685366">
                  <a:moveTo>
                    <a:pt x="590754" y="1093695"/>
                  </a:moveTo>
                  <a:lnTo>
                    <a:pt x="824754" y="1577789"/>
                  </a:lnTo>
                  <a:lnTo>
                    <a:pt x="1058754" y="1093695"/>
                  </a:lnTo>
                  <a:lnTo>
                    <a:pt x="590754" y="1093695"/>
                  </a:lnTo>
                  <a:close/>
                  <a:moveTo>
                    <a:pt x="590754" y="473999"/>
                  </a:moveTo>
                  <a:lnTo>
                    <a:pt x="590754" y="1049999"/>
                  </a:lnTo>
                  <a:lnTo>
                    <a:pt x="1058754" y="1049999"/>
                  </a:lnTo>
                  <a:lnTo>
                    <a:pt x="1058754" y="473999"/>
                  </a:lnTo>
                  <a:lnTo>
                    <a:pt x="590754" y="473999"/>
                  </a:lnTo>
                  <a:close/>
                  <a:moveTo>
                    <a:pt x="590754" y="215151"/>
                  </a:moveTo>
                  <a:lnTo>
                    <a:pt x="590754" y="430304"/>
                  </a:lnTo>
                  <a:lnTo>
                    <a:pt x="1058754" y="430304"/>
                  </a:lnTo>
                  <a:lnTo>
                    <a:pt x="1058754" y="215151"/>
                  </a:lnTo>
                  <a:lnTo>
                    <a:pt x="590754" y="215151"/>
                  </a:lnTo>
                  <a:close/>
                  <a:moveTo>
                    <a:pt x="842683" y="0"/>
                  </a:moveTo>
                  <a:cubicBezTo>
                    <a:pt x="1308084" y="0"/>
                    <a:pt x="1685366" y="377282"/>
                    <a:pt x="1685366" y="842683"/>
                  </a:cubicBezTo>
                  <a:cubicBezTo>
                    <a:pt x="1685366" y="1308084"/>
                    <a:pt x="1308084" y="1685366"/>
                    <a:pt x="842683" y="1685366"/>
                  </a:cubicBezTo>
                  <a:cubicBezTo>
                    <a:pt x="377282" y="1685366"/>
                    <a:pt x="0" y="1308084"/>
                    <a:pt x="0" y="842683"/>
                  </a:cubicBezTo>
                  <a:cubicBezTo>
                    <a:pt x="0" y="377282"/>
                    <a:pt x="377282" y="0"/>
                    <a:pt x="842683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329"/>
          <p:cNvGrpSpPr/>
          <p:nvPr/>
        </p:nvGrpSpPr>
        <p:grpSpPr>
          <a:xfrm>
            <a:off x="5105520" y="1427040"/>
            <a:ext cx="1038240" cy="1038240"/>
            <a:chOff x="5105520" y="1427040"/>
            <a:chExt cx="1038240" cy="1038240"/>
          </a:xfrm>
        </p:grpSpPr>
        <p:grpSp>
          <p:nvGrpSpPr>
            <p:cNvPr id="200" name="组合 123"/>
            <p:cNvGrpSpPr/>
            <p:nvPr/>
          </p:nvGrpSpPr>
          <p:grpSpPr>
            <a:xfrm>
              <a:off x="5105520" y="1427040"/>
              <a:ext cx="1038240" cy="1038240"/>
              <a:chOff x="5105520" y="1427040"/>
              <a:chExt cx="1038240" cy="1038240"/>
            </a:xfrm>
          </p:grpSpPr>
          <p:sp>
            <p:nvSpPr>
              <p:cNvPr id="201" name="矩形 124"/>
              <p:cNvSpPr/>
              <p:nvPr/>
            </p:nvSpPr>
            <p:spPr>
              <a:xfrm>
                <a:off x="510552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矩形 125"/>
              <p:cNvSpPr/>
              <p:nvPr/>
            </p:nvSpPr>
            <p:spPr>
              <a:xfrm>
                <a:off x="5160960" y="148248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文本框 286" descr=""/>
            <p:cNvPicPr/>
            <p:nvPr/>
          </p:nvPicPr>
          <p:blipFill>
            <a:blip r:embed="rId5"/>
            <a:stretch/>
          </p:blipFill>
          <p:spPr>
            <a:xfrm>
              <a:off x="5242680" y="1481040"/>
              <a:ext cx="786600" cy="92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组合 333"/>
          <p:cNvGrpSpPr/>
          <p:nvPr/>
        </p:nvGrpSpPr>
        <p:grpSpPr>
          <a:xfrm>
            <a:off x="8207280" y="2459160"/>
            <a:ext cx="1038240" cy="1036440"/>
            <a:chOff x="8207280" y="2459160"/>
            <a:chExt cx="1038240" cy="1036440"/>
          </a:xfrm>
        </p:grpSpPr>
        <p:grpSp>
          <p:nvGrpSpPr>
            <p:cNvPr id="205" name="组合 162"/>
            <p:cNvGrpSpPr/>
            <p:nvPr/>
          </p:nvGrpSpPr>
          <p:grpSpPr>
            <a:xfrm>
              <a:off x="8207280" y="2459160"/>
              <a:ext cx="1038240" cy="1036440"/>
              <a:chOff x="8207280" y="2459160"/>
              <a:chExt cx="1038240" cy="1036440"/>
            </a:xfrm>
          </p:grpSpPr>
          <p:sp>
            <p:nvSpPr>
              <p:cNvPr id="206" name="矩形 163"/>
              <p:cNvSpPr/>
              <p:nvPr/>
            </p:nvSpPr>
            <p:spPr>
              <a:xfrm>
                <a:off x="8207280" y="2459160"/>
                <a:ext cx="103824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164"/>
              <p:cNvSpPr/>
              <p:nvPr/>
            </p:nvSpPr>
            <p:spPr>
              <a:xfrm>
                <a:off x="8262720" y="2514600"/>
                <a:ext cx="92736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任意多边形 289"/>
            <p:cNvSpPr/>
            <p:nvPr/>
          </p:nvSpPr>
          <p:spPr>
            <a:xfrm>
              <a:off x="8528040" y="2739960"/>
              <a:ext cx="401760" cy="466560"/>
            </a:xfrm>
            <a:custGeom>
              <a:avLst/>
              <a:gdLst/>
              <a:ahLst/>
              <a:rect l="l" t="t" r="r" b="b"/>
              <a:pathLst>
                <a:path w="735495" h="853235">
                  <a:moveTo>
                    <a:pt x="466553" y="261413"/>
                  </a:moveTo>
                  <a:cubicBezTo>
                    <a:pt x="357482" y="357036"/>
                    <a:pt x="248412" y="452660"/>
                    <a:pt x="233471" y="512425"/>
                  </a:cubicBezTo>
                  <a:cubicBezTo>
                    <a:pt x="218530" y="572190"/>
                    <a:pt x="296224" y="667813"/>
                    <a:pt x="376906" y="620001"/>
                  </a:cubicBezTo>
                  <a:cubicBezTo>
                    <a:pt x="457588" y="572189"/>
                    <a:pt x="705612" y="327154"/>
                    <a:pt x="717565" y="225554"/>
                  </a:cubicBezTo>
                  <a:cubicBezTo>
                    <a:pt x="729518" y="123954"/>
                    <a:pt x="568153" y="-43387"/>
                    <a:pt x="448624" y="10401"/>
                  </a:cubicBezTo>
                  <a:cubicBezTo>
                    <a:pt x="329095" y="64189"/>
                    <a:pt x="12342" y="407836"/>
                    <a:pt x="389" y="548283"/>
                  </a:cubicBezTo>
                  <a:cubicBezTo>
                    <a:pt x="-11564" y="688730"/>
                    <a:pt x="254388" y="859059"/>
                    <a:pt x="376906" y="853083"/>
                  </a:cubicBezTo>
                  <a:cubicBezTo>
                    <a:pt x="499424" y="847107"/>
                    <a:pt x="617459" y="679766"/>
                    <a:pt x="735495" y="512425"/>
                  </a:cubicBezTo>
                </a:path>
              </a:pathLst>
            </a:custGeom>
            <a:noFill/>
            <a:ln w="57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330"/>
          <p:cNvGrpSpPr/>
          <p:nvPr/>
        </p:nvGrpSpPr>
        <p:grpSpPr>
          <a:xfrm>
            <a:off x="6140520" y="1427040"/>
            <a:ext cx="1036440" cy="1038240"/>
            <a:chOff x="6140520" y="1427040"/>
            <a:chExt cx="1036440" cy="1038240"/>
          </a:xfrm>
        </p:grpSpPr>
        <p:grpSp>
          <p:nvGrpSpPr>
            <p:cNvPr id="210" name="组合 135"/>
            <p:cNvGrpSpPr/>
            <p:nvPr/>
          </p:nvGrpSpPr>
          <p:grpSpPr>
            <a:xfrm>
              <a:off x="6140520" y="1427040"/>
              <a:ext cx="1036440" cy="1038240"/>
              <a:chOff x="6140520" y="1427040"/>
              <a:chExt cx="1036440" cy="1038240"/>
            </a:xfrm>
          </p:grpSpPr>
          <p:sp>
            <p:nvSpPr>
              <p:cNvPr id="211" name="矩形 136"/>
              <p:cNvSpPr/>
              <p:nvPr/>
            </p:nvSpPr>
            <p:spPr>
              <a:xfrm>
                <a:off x="6140520" y="142704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137"/>
              <p:cNvSpPr/>
              <p:nvPr/>
            </p:nvSpPr>
            <p:spPr>
              <a:xfrm>
                <a:off x="6195960" y="1482480"/>
                <a:ext cx="9255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组合 294"/>
            <p:cNvGrpSpPr/>
            <p:nvPr/>
          </p:nvGrpSpPr>
          <p:grpSpPr>
            <a:xfrm>
              <a:off x="6381000" y="1656000"/>
              <a:ext cx="531000" cy="573480"/>
              <a:chOff x="6381000" y="1656000"/>
              <a:chExt cx="531000" cy="573480"/>
            </a:xfrm>
          </p:grpSpPr>
          <p:sp>
            <p:nvSpPr>
              <p:cNvPr id="214" name="任意多边形 290"/>
              <p:cNvSpPr/>
              <p:nvPr/>
            </p:nvSpPr>
            <p:spPr>
              <a:xfrm rot="2338800">
                <a:off x="6618600" y="1709640"/>
                <a:ext cx="250560" cy="225000"/>
              </a:xfrm>
              <a:custGeom>
                <a:avLst/>
                <a:gdLst/>
                <a:ahLst/>
                <a:rect l="l" t="t" r="r" b="b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任意多边形 291"/>
              <p:cNvSpPr/>
              <p:nvPr/>
            </p:nvSpPr>
            <p:spPr>
              <a:xfrm rot="2338800">
                <a:off x="6618240" y="1822680"/>
                <a:ext cx="360" cy="285120"/>
              </a:xfrm>
              <a:custGeom>
                <a:avLst/>
                <a:gdLst/>
                <a:ahLst/>
                <a:rect l="l" t="t" r="r" b="b"/>
                <a:pathLst>
                  <a:path w="0" h="699247">
                    <a:moveTo>
                      <a:pt x="0" y="0"/>
                    </a:moveTo>
                    <a:lnTo>
                      <a:pt x="0" y="699247"/>
                    </a:lnTo>
                  </a:path>
                </a:pathLst>
              </a:custGeom>
              <a:noFill/>
              <a:ln w="7632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292"/>
              <p:cNvSpPr/>
              <p:nvPr/>
            </p:nvSpPr>
            <p:spPr>
              <a:xfrm flipV="1" rot="2338200">
                <a:off x="6423840" y="1950480"/>
                <a:ext cx="250560" cy="225000"/>
              </a:xfrm>
              <a:custGeom>
                <a:avLst/>
                <a:gdLst/>
                <a:ahLst/>
                <a:rect l="l" t="t" r="r" b="b"/>
                <a:pathLst>
                  <a:path w="609600" h="545775">
                    <a:moveTo>
                      <a:pt x="0" y="545775"/>
                    </a:moveTo>
                    <a:cubicBezTo>
                      <a:pt x="32871" y="354528"/>
                      <a:pt x="65742" y="163281"/>
                      <a:pt x="143436" y="79610"/>
                    </a:cubicBezTo>
                    <a:cubicBezTo>
                      <a:pt x="221130" y="-4061"/>
                      <a:pt x="388471" y="-30955"/>
                      <a:pt x="466165" y="43751"/>
                    </a:cubicBezTo>
                    <a:cubicBezTo>
                      <a:pt x="543859" y="118457"/>
                      <a:pt x="576729" y="323151"/>
                      <a:pt x="609600" y="527845"/>
                    </a:cubicBezTo>
                  </a:path>
                </a:pathLst>
              </a:custGeom>
              <a:noFill/>
              <a:ln w="3816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组合 347"/>
          <p:cNvGrpSpPr/>
          <p:nvPr/>
        </p:nvGrpSpPr>
        <p:grpSpPr>
          <a:xfrm>
            <a:off x="6140520" y="4516560"/>
            <a:ext cx="1036440" cy="1038240"/>
            <a:chOff x="6140520" y="4516560"/>
            <a:chExt cx="1036440" cy="1038240"/>
          </a:xfrm>
        </p:grpSpPr>
        <p:grpSp>
          <p:nvGrpSpPr>
            <p:cNvPr id="218" name="组合 144"/>
            <p:cNvGrpSpPr/>
            <p:nvPr/>
          </p:nvGrpSpPr>
          <p:grpSpPr>
            <a:xfrm>
              <a:off x="6140520" y="4516560"/>
              <a:ext cx="1036440" cy="1038240"/>
              <a:chOff x="6140520" y="4516560"/>
              <a:chExt cx="1036440" cy="1038240"/>
            </a:xfrm>
          </p:grpSpPr>
          <p:sp>
            <p:nvSpPr>
              <p:cNvPr id="219" name="矩形 145"/>
              <p:cNvSpPr/>
              <p:nvPr/>
            </p:nvSpPr>
            <p:spPr>
              <a:xfrm>
                <a:off x="6140520" y="4516560"/>
                <a:ext cx="10364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矩形 146"/>
              <p:cNvSpPr/>
              <p:nvPr/>
            </p:nvSpPr>
            <p:spPr>
              <a:xfrm>
                <a:off x="6195960" y="4572000"/>
                <a:ext cx="9255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任意多边形 298"/>
            <p:cNvSpPr/>
            <p:nvPr/>
          </p:nvSpPr>
          <p:spPr>
            <a:xfrm>
              <a:off x="6462720" y="4759200"/>
              <a:ext cx="404640" cy="539640"/>
            </a:xfrm>
            <a:custGeom>
              <a:avLst/>
              <a:gdLst/>
              <a:ahLst/>
              <a:rect l="l" t="t" r="r" b="b"/>
              <a:pathLst>
                <a:path w="296885" h="396000">
                  <a:moveTo>
                    <a:pt x="237508" y="134743"/>
                  </a:moveTo>
                  <a:lnTo>
                    <a:pt x="296885" y="134743"/>
                  </a:lnTo>
                  <a:lnTo>
                    <a:pt x="296885" y="396000"/>
                  </a:lnTo>
                  <a:lnTo>
                    <a:pt x="237508" y="396000"/>
                  </a:lnTo>
                  <a:lnTo>
                    <a:pt x="237508" y="134743"/>
                  </a:lnTo>
                  <a:close/>
                  <a:moveTo>
                    <a:pt x="0" y="134743"/>
                  </a:moveTo>
                  <a:lnTo>
                    <a:pt x="59377" y="134743"/>
                  </a:lnTo>
                  <a:lnTo>
                    <a:pt x="59377" y="396000"/>
                  </a:lnTo>
                  <a:lnTo>
                    <a:pt x="0" y="396000"/>
                  </a:lnTo>
                  <a:lnTo>
                    <a:pt x="0" y="134743"/>
                  </a:lnTo>
                  <a:close/>
                  <a:moveTo>
                    <a:pt x="118754" y="0"/>
                  </a:moveTo>
                  <a:lnTo>
                    <a:pt x="178131" y="0"/>
                  </a:lnTo>
                  <a:lnTo>
                    <a:pt x="178131" y="396000"/>
                  </a:lnTo>
                  <a:lnTo>
                    <a:pt x="118754" y="396000"/>
                  </a:lnTo>
                  <a:lnTo>
                    <a:pt x="11875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346"/>
          <p:cNvGrpSpPr/>
          <p:nvPr/>
        </p:nvGrpSpPr>
        <p:grpSpPr>
          <a:xfrm>
            <a:off x="7174080" y="4516560"/>
            <a:ext cx="1037880" cy="1038240"/>
            <a:chOff x="7174080" y="4516560"/>
            <a:chExt cx="1037880" cy="1038240"/>
          </a:xfrm>
        </p:grpSpPr>
        <p:grpSp>
          <p:nvGrpSpPr>
            <p:cNvPr id="223" name="组合 156"/>
            <p:cNvGrpSpPr/>
            <p:nvPr/>
          </p:nvGrpSpPr>
          <p:grpSpPr>
            <a:xfrm>
              <a:off x="7174080" y="4516560"/>
              <a:ext cx="1037880" cy="1038240"/>
              <a:chOff x="7174080" y="4516560"/>
              <a:chExt cx="1037880" cy="1038240"/>
            </a:xfrm>
          </p:grpSpPr>
          <p:sp>
            <p:nvSpPr>
              <p:cNvPr id="224" name="矩形 157"/>
              <p:cNvSpPr/>
              <p:nvPr/>
            </p:nvSpPr>
            <p:spPr>
              <a:xfrm>
                <a:off x="7174080" y="4516560"/>
                <a:ext cx="103788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矩形 158"/>
              <p:cNvSpPr/>
              <p:nvPr/>
            </p:nvSpPr>
            <p:spPr>
              <a:xfrm>
                <a:off x="7229520" y="4572000"/>
                <a:ext cx="92700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6" name="图片 303" descr=""/>
            <p:cNvPicPr/>
            <p:nvPr/>
          </p:nvPicPr>
          <p:blipFill>
            <a:blip r:embed="rId6"/>
            <a:stretch/>
          </p:blipFill>
          <p:spPr>
            <a:xfrm>
              <a:off x="7396920" y="4784040"/>
              <a:ext cx="63504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组合 350"/>
          <p:cNvGrpSpPr/>
          <p:nvPr/>
        </p:nvGrpSpPr>
        <p:grpSpPr>
          <a:xfrm>
            <a:off x="3043080" y="4516560"/>
            <a:ext cx="1036800" cy="1038240"/>
            <a:chOff x="3043080" y="4516560"/>
            <a:chExt cx="1036800" cy="1038240"/>
          </a:xfrm>
        </p:grpSpPr>
        <p:grpSp>
          <p:nvGrpSpPr>
            <p:cNvPr id="228" name="组合 108"/>
            <p:cNvGrpSpPr/>
            <p:nvPr/>
          </p:nvGrpSpPr>
          <p:grpSpPr>
            <a:xfrm>
              <a:off x="3043080" y="4516560"/>
              <a:ext cx="1036800" cy="1038240"/>
              <a:chOff x="3043080" y="4516560"/>
              <a:chExt cx="1036800" cy="1038240"/>
            </a:xfrm>
          </p:grpSpPr>
          <p:sp>
            <p:nvSpPr>
              <p:cNvPr id="229" name="矩形 109"/>
              <p:cNvSpPr/>
              <p:nvPr/>
            </p:nvSpPr>
            <p:spPr>
              <a:xfrm>
                <a:off x="3043080" y="451656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10"/>
              <p:cNvSpPr/>
              <p:nvPr/>
            </p:nvSpPr>
            <p:spPr>
              <a:xfrm>
                <a:off x="3098520" y="4572000"/>
                <a:ext cx="92592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任意多边形 307"/>
            <p:cNvSpPr/>
            <p:nvPr/>
          </p:nvSpPr>
          <p:spPr>
            <a:xfrm>
              <a:off x="3362040" y="4759200"/>
              <a:ext cx="465120" cy="533520"/>
            </a:xfrm>
            <a:custGeom>
              <a:avLst/>
              <a:gdLst/>
              <a:ahLst/>
              <a:rect l="l" t="t" r="r" b="b"/>
              <a:pathLst>
                <a:path w="712519" h="817615">
                  <a:moveTo>
                    <a:pt x="308757" y="0"/>
                  </a:moveTo>
                  <a:lnTo>
                    <a:pt x="403760" y="0"/>
                  </a:lnTo>
                  <a:lnTo>
                    <a:pt x="403760" y="83127"/>
                  </a:lnTo>
                  <a:lnTo>
                    <a:pt x="558140" y="83127"/>
                  </a:lnTo>
                  <a:lnTo>
                    <a:pt x="712519" y="237506"/>
                  </a:lnTo>
                  <a:lnTo>
                    <a:pt x="558140" y="391885"/>
                  </a:lnTo>
                  <a:lnTo>
                    <a:pt x="403760" y="391885"/>
                  </a:lnTo>
                  <a:lnTo>
                    <a:pt x="403760" y="771896"/>
                  </a:lnTo>
                  <a:lnTo>
                    <a:pt x="546263" y="771896"/>
                  </a:lnTo>
                  <a:lnTo>
                    <a:pt x="546263" y="817615"/>
                  </a:lnTo>
                  <a:lnTo>
                    <a:pt x="178128" y="817615"/>
                  </a:lnTo>
                  <a:lnTo>
                    <a:pt x="178128" y="771896"/>
                  </a:lnTo>
                  <a:lnTo>
                    <a:pt x="308757" y="771896"/>
                  </a:lnTo>
                  <a:lnTo>
                    <a:pt x="308757" y="391885"/>
                  </a:lnTo>
                  <a:lnTo>
                    <a:pt x="0" y="391885"/>
                  </a:lnTo>
                  <a:lnTo>
                    <a:pt x="0" y="83127"/>
                  </a:lnTo>
                  <a:lnTo>
                    <a:pt x="308757" y="83127"/>
                  </a:lnTo>
                  <a:lnTo>
                    <a:pt x="30875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339"/>
          <p:cNvGrpSpPr/>
          <p:nvPr/>
        </p:nvGrpSpPr>
        <p:grpSpPr>
          <a:xfrm>
            <a:off x="3043080" y="3487680"/>
            <a:ext cx="1036800" cy="1038240"/>
            <a:chOff x="3043080" y="3487680"/>
            <a:chExt cx="1036800" cy="1038240"/>
          </a:xfrm>
        </p:grpSpPr>
        <p:grpSp>
          <p:nvGrpSpPr>
            <p:cNvPr id="233" name="组合 105"/>
            <p:cNvGrpSpPr/>
            <p:nvPr/>
          </p:nvGrpSpPr>
          <p:grpSpPr>
            <a:xfrm>
              <a:off x="3043080" y="3487680"/>
              <a:ext cx="1036800" cy="1038240"/>
              <a:chOff x="3043080" y="3487680"/>
              <a:chExt cx="1036800" cy="1038240"/>
            </a:xfrm>
          </p:grpSpPr>
          <p:sp>
            <p:nvSpPr>
              <p:cNvPr id="234" name="矩形 106"/>
              <p:cNvSpPr/>
              <p:nvPr/>
            </p:nvSpPr>
            <p:spPr>
              <a:xfrm>
                <a:off x="3043080" y="3487680"/>
                <a:ext cx="103680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107"/>
              <p:cNvSpPr/>
              <p:nvPr/>
            </p:nvSpPr>
            <p:spPr>
              <a:xfrm>
                <a:off x="3098520" y="3543120"/>
                <a:ext cx="92592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任意多边形 312"/>
            <p:cNvSpPr/>
            <p:nvPr/>
          </p:nvSpPr>
          <p:spPr>
            <a:xfrm>
              <a:off x="3282840" y="3786120"/>
              <a:ext cx="506520" cy="452520"/>
            </a:xfrm>
            <a:custGeom>
              <a:avLst/>
              <a:gdLst/>
              <a:ahLst/>
              <a:rect l="l" t="t" r="r" b="b"/>
              <a:pathLst>
                <a:path w="546265" h="486888">
                  <a:moveTo>
                    <a:pt x="190005" y="201880"/>
                  </a:moveTo>
                  <a:lnTo>
                    <a:pt x="190005" y="320633"/>
                  </a:lnTo>
                  <a:lnTo>
                    <a:pt x="344384" y="320633"/>
                  </a:lnTo>
                  <a:lnTo>
                    <a:pt x="344384" y="201880"/>
                  </a:lnTo>
                  <a:lnTo>
                    <a:pt x="190005" y="201880"/>
                  </a:lnTo>
                  <a:close/>
                  <a:moveTo>
                    <a:pt x="118753" y="0"/>
                  </a:moveTo>
                  <a:lnTo>
                    <a:pt x="190005" y="0"/>
                  </a:lnTo>
                  <a:lnTo>
                    <a:pt x="190005" y="142504"/>
                  </a:lnTo>
                  <a:lnTo>
                    <a:pt x="344384" y="142504"/>
                  </a:lnTo>
                  <a:lnTo>
                    <a:pt x="344384" y="0"/>
                  </a:lnTo>
                  <a:lnTo>
                    <a:pt x="415636" y="0"/>
                  </a:lnTo>
                  <a:lnTo>
                    <a:pt x="415636" y="142504"/>
                  </a:lnTo>
                  <a:lnTo>
                    <a:pt x="546265" y="142504"/>
                  </a:lnTo>
                  <a:lnTo>
                    <a:pt x="546265" y="201880"/>
                  </a:lnTo>
                  <a:lnTo>
                    <a:pt x="415636" y="201880"/>
                  </a:lnTo>
                  <a:lnTo>
                    <a:pt x="415636" y="320633"/>
                  </a:lnTo>
                  <a:lnTo>
                    <a:pt x="546265" y="320633"/>
                  </a:lnTo>
                  <a:lnTo>
                    <a:pt x="546265" y="380009"/>
                  </a:lnTo>
                  <a:lnTo>
                    <a:pt x="415636" y="380009"/>
                  </a:lnTo>
                  <a:lnTo>
                    <a:pt x="415636" y="486888"/>
                  </a:lnTo>
                  <a:lnTo>
                    <a:pt x="344384" y="486888"/>
                  </a:lnTo>
                  <a:lnTo>
                    <a:pt x="344384" y="380009"/>
                  </a:lnTo>
                  <a:lnTo>
                    <a:pt x="190005" y="380009"/>
                  </a:lnTo>
                  <a:lnTo>
                    <a:pt x="190005" y="486888"/>
                  </a:lnTo>
                  <a:lnTo>
                    <a:pt x="118753" y="486888"/>
                  </a:lnTo>
                  <a:lnTo>
                    <a:pt x="118753" y="380009"/>
                  </a:lnTo>
                  <a:lnTo>
                    <a:pt x="0" y="380009"/>
                  </a:lnTo>
                  <a:lnTo>
                    <a:pt x="0" y="320633"/>
                  </a:lnTo>
                  <a:lnTo>
                    <a:pt x="118753" y="320633"/>
                  </a:lnTo>
                  <a:lnTo>
                    <a:pt x="118753" y="201880"/>
                  </a:lnTo>
                  <a:lnTo>
                    <a:pt x="0" y="201880"/>
                  </a:lnTo>
                  <a:lnTo>
                    <a:pt x="0" y="142504"/>
                  </a:lnTo>
                  <a:lnTo>
                    <a:pt x="118753" y="142504"/>
                  </a:lnTo>
                  <a:lnTo>
                    <a:pt x="11875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345"/>
          <p:cNvGrpSpPr/>
          <p:nvPr/>
        </p:nvGrpSpPr>
        <p:grpSpPr>
          <a:xfrm>
            <a:off x="8207280" y="4516560"/>
            <a:ext cx="1038240" cy="1038240"/>
            <a:chOff x="8207280" y="4516560"/>
            <a:chExt cx="1038240" cy="1038240"/>
          </a:xfrm>
        </p:grpSpPr>
        <p:grpSp>
          <p:nvGrpSpPr>
            <p:cNvPr id="238" name="组合 168"/>
            <p:cNvGrpSpPr/>
            <p:nvPr/>
          </p:nvGrpSpPr>
          <p:grpSpPr>
            <a:xfrm>
              <a:off x="8207280" y="4516560"/>
              <a:ext cx="1038240" cy="1038240"/>
              <a:chOff x="8207280" y="4516560"/>
              <a:chExt cx="1038240" cy="1038240"/>
            </a:xfrm>
          </p:grpSpPr>
          <p:sp>
            <p:nvSpPr>
              <p:cNvPr id="239" name="矩形 169"/>
              <p:cNvSpPr/>
              <p:nvPr/>
            </p:nvSpPr>
            <p:spPr>
              <a:xfrm>
                <a:off x="820728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矩形 170"/>
              <p:cNvSpPr/>
              <p:nvPr/>
            </p:nvSpPr>
            <p:spPr>
              <a:xfrm>
                <a:off x="8262720" y="457200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任意多边形 317"/>
            <p:cNvSpPr/>
            <p:nvPr/>
          </p:nvSpPr>
          <p:spPr>
            <a:xfrm>
              <a:off x="8451720" y="4748400"/>
              <a:ext cx="506520" cy="523800"/>
            </a:xfrm>
            <a:custGeom>
              <a:avLst/>
              <a:gdLst/>
              <a:ahLst/>
              <a:rect l="l" t="t" r="r" b="b"/>
              <a:pathLst>
                <a:path w="566233" h="584686">
                  <a:moveTo>
                    <a:pt x="279246" y="0"/>
                  </a:moveTo>
                  <a:cubicBezTo>
                    <a:pt x="288299" y="0"/>
                    <a:pt x="297351" y="3453"/>
                    <a:pt x="304258" y="10360"/>
                  </a:cubicBezTo>
                  <a:lnTo>
                    <a:pt x="305456" y="11558"/>
                  </a:lnTo>
                  <a:lnTo>
                    <a:pt x="311998" y="14268"/>
                  </a:lnTo>
                  <a:lnTo>
                    <a:pt x="555874" y="258143"/>
                  </a:lnTo>
                  <a:cubicBezTo>
                    <a:pt x="569687" y="271956"/>
                    <a:pt x="569687" y="294353"/>
                    <a:pt x="555874" y="308167"/>
                  </a:cubicBezTo>
                  <a:lnTo>
                    <a:pt x="538720" y="325320"/>
                  </a:lnTo>
                  <a:cubicBezTo>
                    <a:pt x="524907" y="339134"/>
                    <a:pt x="502510" y="339134"/>
                    <a:pt x="488697" y="325320"/>
                  </a:cubicBezTo>
                  <a:lnTo>
                    <a:pt x="432933" y="269557"/>
                  </a:lnTo>
                  <a:lnTo>
                    <a:pt x="432933" y="584686"/>
                  </a:lnTo>
                  <a:lnTo>
                    <a:pt x="387214" y="584686"/>
                  </a:lnTo>
                  <a:lnTo>
                    <a:pt x="387214" y="234730"/>
                  </a:lnTo>
                  <a:lnTo>
                    <a:pt x="398106" y="234730"/>
                  </a:lnTo>
                  <a:lnTo>
                    <a:pt x="281162" y="117786"/>
                  </a:lnTo>
                  <a:lnTo>
                    <a:pt x="162000" y="236949"/>
                  </a:lnTo>
                  <a:lnTo>
                    <a:pt x="162000" y="584686"/>
                  </a:lnTo>
                  <a:lnTo>
                    <a:pt x="116281" y="584686"/>
                  </a:lnTo>
                  <a:lnTo>
                    <a:pt x="116281" y="282668"/>
                  </a:lnTo>
                  <a:lnTo>
                    <a:pt x="77536" y="321412"/>
                  </a:lnTo>
                  <a:cubicBezTo>
                    <a:pt x="63723" y="335226"/>
                    <a:pt x="41326" y="335226"/>
                    <a:pt x="27513" y="321412"/>
                  </a:cubicBezTo>
                  <a:lnTo>
                    <a:pt x="10359" y="304259"/>
                  </a:lnTo>
                  <a:cubicBezTo>
                    <a:pt x="-3454" y="290445"/>
                    <a:pt x="-3454" y="268048"/>
                    <a:pt x="10359" y="254235"/>
                  </a:cubicBezTo>
                  <a:lnTo>
                    <a:pt x="254235" y="10360"/>
                  </a:lnTo>
                  <a:cubicBezTo>
                    <a:pt x="261141" y="3453"/>
                    <a:pt x="270194" y="0"/>
                    <a:pt x="279246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349"/>
          <p:cNvGrpSpPr/>
          <p:nvPr/>
        </p:nvGrpSpPr>
        <p:grpSpPr>
          <a:xfrm>
            <a:off x="4071960" y="4516560"/>
            <a:ext cx="1038240" cy="1038240"/>
            <a:chOff x="4071960" y="4516560"/>
            <a:chExt cx="1038240" cy="1038240"/>
          </a:xfrm>
        </p:grpSpPr>
        <p:grpSp>
          <p:nvGrpSpPr>
            <p:cNvPr id="243" name="组合 120"/>
            <p:cNvGrpSpPr/>
            <p:nvPr/>
          </p:nvGrpSpPr>
          <p:grpSpPr>
            <a:xfrm>
              <a:off x="4071960" y="4516560"/>
              <a:ext cx="1038240" cy="1038240"/>
              <a:chOff x="4071960" y="4516560"/>
              <a:chExt cx="1038240" cy="1038240"/>
            </a:xfrm>
          </p:grpSpPr>
          <p:sp>
            <p:nvSpPr>
              <p:cNvPr id="244" name="矩形 121"/>
              <p:cNvSpPr/>
              <p:nvPr/>
            </p:nvSpPr>
            <p:spPr>
              <a:xfrm>
                <a:off x="4071960" y="451656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矩形 122"/>
              <p:cNvSpPr/>
              <p:nvPr/>
            </p:nvSpPr>
            <p:spPr>
              <a:xfrm>
                <a:off x="4127400" y="457200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任意多边形 323"/>
            <p:cNvSpPr/>
            <p:nvPr/>
          </p:nvSpPr>
          <p:spPr>
            <a:xfrm>
              <a:off x="4270320" y="4803840"/>
              <a:ext cx="658800" cy="560520"/>
            </a:xfrm>
            <a:custGeom>
              <a:avLst/>
              <a:gdLst/>
              <a:ahLst/>
              <a:rect l="l" t="t" r="r" b="b"/>
              <a:pathLst>
                <a:path w="903111" h="767647">
                  <a:moveTo>
                    <a:pt x="203806" y="371709"/>
                  </a:moveTo>
                  <a:lnTo>
                    <a:pt x="694460" y="371709"/>
                  </a:lnTo>
                  <a:lnTo>
                    <a:pt x="694460" y="429696"/>
                  </a:lnTo>
                  <a:lnTo>
                    <a:pt x="203806" y="429696"/>
                  </a:lnTo>
                  <a:lnTo>
                    <a:pt x="203806" y="371709"/>
                  </a:lnTo>
                  <a:close/>
                  <a:moveTo>
                    <a:pt x="203806" y="193289"/>
                  </a:moveTo>
                  <a:lnTo>
                    <a:pt x="694460" y="193289"/>
                  </a:lnTo>
                  <a:lnTo>
                    <a:pt x="694460" y="251276"/>
                  </a:lnTo>
                  <a:lnTo>
                    <a:pt x="203806" y="251276"/>
                  </a:lnTo>
                  <a:lnTo>
                    <a:pt x="203806" y="193289"/>
                  </a:lnTo>
                  <a:close/>
                  <a:moveTo>
                    <a:pt x="131964" y="38158"/>
                  </a:moveTo>
                  <a:cubicBezTo>
                    <a:pt x="80493" y="38158"/>
                    <a:pt x="38767" y="79884"/>
                    <a:pt x="38767" y="131355"/>
                  </a:cubicBezTo>
                  <a:lnTo>
                    <a:pt x="38767" y="364341"/>
                  </a:lnTo>
                  <a:lnTo>
                    <a:pt x="38767" y="504131"/>
                  </a:lnTo>
                  <a:cubicBezTo>
                    <a:pt x="38767" y="555602"/>
                    <a:pt x="80493" y="597328"/>
                    <a:pt x="131964" y="597328"/>
                  </a:cubicBezTo>
                  <a:lnTo>
                    <a:pt x="176299" y="597328"/>
                  </a:lnTo>
                  <a:lnTo>
                    <a:pt x="359173" y="726070"/>
                  </a:lnTo>
                  <a:lnTo>
                    <a:pt x="337993" y="606249"/>
                  </a:lnTo>
                  <a:lnTo>
                    <a:pt x="770761" y="597328"/>
                  </a:lnTo>
                  <a:cubicBezTo>
                    <a:pt x="822232" y="597328"/>
                    <a:pt x="863958" y="555602"/>
                    <a:pt x="863958" y="504131"/>
                  </a:cubicBezTo>
                  <a:lnTo>
                    <a:pt x="863958" y="364341"/>
                  </a:lnTo>
                  <a:lnTo>
                    <a:pt x="863958" y="131355"/>
                  </a:lnTo>
                  <a:cubicBezTo>
                    <a:pt x="863958" y="79884"/>
                    <a:pt x="822232" y="38158"/>
                    <a:pt x="770761" y="38158"/>
                  </a:cubicBezTo>
                  <a:lnTo>
                    <a:pt x="382597" y="38158"/>
                  </a:lnTo>
                  <a:lnTo>
                    <a:pt x="176299" y="38158"/>
                  </a:lnTo>
                  <a:lnTo>
                    <a:pt x="131964" y="38158"/>
                  </a:lnTo>
                  <a:close/>
                  <a:moveTo>
                    <a:pt x="105365" y="0"/>
                  </a:moveTo>
                  <a:lnTo>
                    <a:pt x="150519" y="0"/>
                  </a:lnTo>
                  <a:lnTo>
                    <a:pt x="376296" y="0"/>
                  </a:lnTo>
                  <a:lnTo>
                    <a:pt x="797746" y="0"/>
                  </a:lnTo>
                  <a:cubicBezTo>
                    <a:pt x="855937" y="0"/>
                    <a:pt x="903111" y="47174"/>
                    <a:pt x="903111" y="105365"/>
                  </a:cubicBezTo>
                  <a:lnTo>
                    <a:pt x="903111" y="368771"/>
                  </a:lnTo>
                  <a:lnTo>
                    <a:pt x="903111" y="526813"/>
                  </a:lnTo>
                  <a:cubicBezTo>
                    <a:pt x="903111" y="585004"/>
                    <a:pt x="855937" y="632178"/>
                    <a:pt x="797746" y="632178"/>
                  </a:cubicBezTo>
                  <a:lnTo>
                    <a:pt x="376296" y="632178"/>
                  </a:lnTo>
                  <a:lnTo>
                    <a:pt x="387588" y="767647"/>
                  </a:lnTo>
                  <a:lnTo>
                    <a:pt x="150519" y="632178"/>
                  </a:lnTo>
                  <a:lnTo>
                    <a:pt x="105365" y="632178"/>
                  </a:lnTo>
                  <a:cubicBezTo>
                    <a:pt x="47174" y="632178"/>
                    <a:pt x="0" y="585004"/>
                    <a:pt x="0" y="526813"/>
                  </a:cubicBezTo>
                  <a:lnTo>
                    <a:pt x="0" y="368771"/>
                  </a:lnTo>
                  <a:lnTo>
                    <a:pt x="0" y="105365"/>
                  </a:lnTo>
                  <a:cubicBezTo>
                    <a:pt x="0" y="47174"/>
                    <a:pt x="47174" y="0"/>
                    <a:pt x="105365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32"/>
          <p:cNvGrpSpPr/>
          <p:nvPr/>
        </p:nvGrpSpPr>
        <p:grpSpPr>
          <a:xfrm>
            <a:off x="8207280" y="1427040"/>
            <a:ext cx="1038240" cy="1038240"/>
            <a:chOff x="8207280" y="1427040"/>
            <a:chExt cx="1038240" cy="1038240"/>
          </a:xfrm>
        </p:grpSpPr>
        <p:grpSp>
          <p:nvGrpSpPr>
            <p:cNvPr id="248" name="组合 159"/>
            <p:cNvGrpSpPr/>
            <p:nvPr/>
          </p:nvGrpSpPr>
          <p:grpSpPr>
            <a:xfrm>
              <a:off x="8207280" y="1427040"/>
              <a:ext cx="1038240" cy="1038240"/>
              <a:chOff x="8207280" y="1427040"/>
              <a:chExt cx="1038240" cy="1038240"/>
            </a:xfrm>
          </p:grpSpPr>
          <p:sp>
            <p:nvSpPr>
              <p:cNvPr id="249" name="矩形 160"/>
              <p:cNvSpPr/>
              <p:nvPr/>
            </p:nvSpPr>
            <p:spPr>
              <a:xfrm>
                <a:off x="8207280" y="1427040"/>
                <a:ext cx="1038240" cy="103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161"/>
              <p:cNvSpPr/>
              <p:nvPr/>
            </p:nvSpPr>
            <p:spPr>
              <a:xfrm>
                <a:off x="8262720" y="1482480"/>
                <a:ext cx="927360" cy="927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任意多边形 326"/>
            <p:cNvSpPr/>
            <p:nvPr/>
          </p:nvSpPr>
          <p:spPr>
            <a:xfrm>
              <a:off x="8440560" y="1674720"/>
              <a:ext cx="577800" cy="577800"/>
            </a:xfrm>
            <a:custGeom>
              <a:avLst/>
              <a:gdLst/>
              <a:ahLst/>
              <a:rect l="l" t="t" r="r" b="b"/>
              <a:pathLst>
                <a:path w="577516" h="577516">
                  <a:moveTo>
                    <a:pt x="297086" y="287686"/>
                  </a:moveTo>
                  <a:cubicBezTo>
                    <a:pt x="303353" y="287686"/>
                    <a:pt x="308686" y="288586"/>
                    <a:pt x="313085" y="290385"/>
                  </a:cubicBezTo>
                  <a:cubicBezTo>
                    <a:pt x="317485" y="292185"/>
                    <a:pt x="321018" y="294852"/>
                    <a:pt x="323685" y="298385"/>
                  </a:cubicBezTo>
                  <a:cubicBezTo>
                    <a:pt x="326351" y="301918"/>
                    <a:pt x="328284" y="306251"/>
                    <a:pt x="329484" y="311384"/>
                  </a:cubicBezTo>
                  <a:cubicBezTo>
                    <a:pt x="330684" y="316517"/>
                    <a:pt x="331284" y="322483"/>
                    <a:pt x="331284" y="329283"/>
                  </a:cubicBezTo>
                  <a:cubicBezTo>
                    <a:pt x="331284" y="335816"/>
                    <a:pt x="330484" y="341849"/>
                    <a:pt x="328884" y="347382"/>
                  </a:cubicBezTo>
                  <a:cubicBezTo>
                    <a:pt x="327285" y="352915"/>
                    <a:pt x="324951" y="357748"/>
                    <a:pt x="321885" y="361881"/>
                  </a:cubicBezTo>
                  <a:cubicBezTo>
                    <a:pt x="318818" y="366014"/>
                    <a:pt x="314985" y="369214"/>
                    <a:pt x="310386" y="371480"/>
                  </a:cubicBezTo>
                  <a:cubicBezTo>
                    <a:pt x="305786" y="373747"/>
                    <a:pt x="300420" y="374880"/>
                    <a:pt x="294287" y="374880"/>
                  </a:cubicBezTo>
                  <a:cubicBezTo>
                    <a:pt x="288020" y="374880"/>
                    <a:pt x="282521" y="373714"/>
                    <a:pt x="277788" y="371380"/>
                  </a:cubicBezTo>
                  <a:cubicBezTo>
                    <a:pt x="273054" y="369047"/>
                    <a:pt x="269121" y="365081"/>
                    <a:pt x="265988" y="359481"/>
                  </a:cubicBezTo>
                  <a:cubicBezTo>
                    <a:pt x="262855" y="353882"/>
                    <a:pt x="260489" y="346315"/>
                    <a:pt x="258889" y="336783"/>
                  </a:cubicBezTo>
                  <a:cubicBezTo>
                    <a:pt x="257289" y="327250"/>
                    <a:pt x="256489" y="315351"/>
                    <a:pt x="256489" y="301085"/>
                  </a:cubicBezTo>
                  <a:cubicBezTo>
                    <a:pt x="259289" y="299218"/>
                    <a:pt x="262288" y="297452"/>
                    <a:pt x="265488" y="295785"/>
                  </a:cubicBezTo>
                  <a:cubicBezTo>
                    <a:pt x="268688" y="294119"/>
                    <a:pt x="272021" y="292685"/>
                    <a:pt x="275488" y="291485"/>
                  </a:cubicBezTo>
                  <a:cubicBezTo>
                    <a:pt x="278954" y="290285"/>
                    <a:pt x="282487" y="289352"/>
                    <a:pt x="286087" y="288686"/>
                  </a:cubicBezTo>
                  <a:cubicBezTo>
                    <a:pt x="289687" y="288019"/>
                    <a:pt x="293353" y="287686"/>
                    <a:pt x="297086" y="287686"/>
                  </a:cubicBezTo>
                  <a:close/>
                  <a:moveTo>
                    <a:pt x="315285" y="147494"/>
                  </a:moveTo>
                  <a:cubicBezTo>
                    <a:pt x="299286" y="147494"/>
                    <a:pt x="285454" y="149627"/>
                    <a:pt x="273788" y="153894"/>
                  </a:cubicBezTo>
                  <a:cubicBezTo>
                    <a:pt x="262122" y="158160"/>
                    <a:pt x="252189" y="163926"/>
                    <a:pt x="243990" y="171193"/>
                  </a:cubicBezTo>
                  <a:cubicBezTo>
                    <a:pt x="235790" y="178459"/>
                    <a:pt x="229091" y="186925"/>
                    <a:pt x="223891" y="196591"/>
                  </a:cubicBezTo>
                  <a:cubicBezTo>
                    <a:pt x="218691" y="206257"/>
                    <a:pt x="214658" y="216423"/>
                    <a:pt x="211792" y="227089"/>
                  </a:cubicBezTo>
                  <a:cubicBezTo>
                    <a:pt x="208925" y="237755"/>
                    <a:pt x="206992" y="248621"/>
                    <a:pt x="205992" y="259687"/>
                  </a:cubicBezTo>
                  <a:cubicBezTo>
                    <a:pt x="204992" y="270753"/>
                    <a:pt x="204492" y="281353"/>
                    <a:pt x="204492" y="291485"/>
                  </a:cubicBezTo>
                  <a:cubicBezTo>
                    <a:pt x="204492" y="303618"/>
                    <a:pt x="204959" y="315084"/>
                    <a:pt x="205892" y="325883"/>
                  </a:cubicBezTo>
                  <a:cubicBezTo>
                    <a:pt x="206825" y="336683"/>
                    <a:pt x="208525" y="346682"/>
                    <a:pt x="210992" y="355881"/>
                  </a:cubicBezTo>
                  <a:cubicBezTo>
                    <a:pt x="213458" y="365081"/>
                    <a:pt x="216758" y="373347"/>
                    <a:pt x="220891" y="380680"/>
                  </a:cubicBezTo>
                  <a:cubicBezTo>
                    <a:pt x="225024" y="388013"/>
                    <a:pt x="230357" y="394246"/>
                    <a:pt x="236890" y="399379"/>
                  </a:cubicBezTo>
                  <a:cubicBezTo>
                    <a:pt x="243423" y="404512"/>
                    <a:pt x="251156" y="408445"/>
                    <a:pt x="260089" y="411178"/>
                  </a:cubicBezTo>
                  <a:cubicBezTo>
                    <a:pt x="269021" y="413911"/>
                    <a:pt x="279487" y="415278"/>
                    <a:pt x="291487" y="415278"/>
                  </a:cubicBezTo>
                  <a:cubicBezTo>
                    <a:pt x="306286" y="415278"/>
                    <a:pt x="319352" y="412978"/>
                    <a:pt x="330684" y="408378"/>
                  </a:cubicBezTo>
                  <a:cubicBezTo>
                    <a:pt x="342017" y="403778"/>
                    <a:pt x="351550" y="397446"/>
                    <a:pt x="359283" y="389379"/>
                  </a:cubicBezTo>
                  <a:cubicBezTo>
                    <a:pt x="367015" y="381313"/>
                    <a:pt x="372882" y="371714"/>
                    <a:pt x="376882" y="360581"/>
                  </a:cubicBezTo>
                  <a:cubicBezTo>
                    <a:pt x="380881" y="349448"/>
                    <a:pt x="382881" y="337349"/>
                    <a:pt x="382881" y="324283"/>
                  </a:cubicBezTo>
                  <a:cubicBezTo>
                    <a:pt x="382881" y="312684"/>
                    <a:pt x="381481" y="302151"/>
                    <a:pt x="378681" y="292685"/>
                  </a:cubicBezTo>
                  <a:cubicBezTo>
                    <a:pt x="375882" y="283219"/>
                    <a:pt x="371515" y="275153"/>
                    <a:pt x="365582" y="268487"/>
                  </a:cubicBezTo>
                  <a:cubicBezTo>
                    <a:pt x="359649" y="261820"/>
                    <a:pt x="352016" y="256687"/>
                    <a:pt x="342684" y="253088"/>
                  </a:cubicBezTo>
                  <a:cubicBezTo>
                    <a:pt x="333351" y="249488"/>
                    <a:pt x="322152" y="247688"/>
                    <a:pt x="309086" y="247688"/>
                  </a:cubicBezTo>
                  <a:cubicBezTo>
                    <a:pt x="303219" y="247688"/>
                    <a:pt x="297686" y="248121"/>
                    <a:pt x="292487" y="248988"/>
                  </a:cubicBezTo>
                  <a:cubicBezTo>
                    <a:pt x="287287" y="249855"/>
                    <a:pt x="282454" y="250954"/>
                    <a:pt x="277988" y="252288"/>
                  </a:cubicBezTo>
                  <a:cubicBezTo>
                    <a:pt x="273521" y="253621"/>
                    <a:pt x="269388" y="255221"/>
                    <a:pt x="265588" y="257087"/>
                  </a:cubicBezTo>
                  <a:cubicBezTo>
                    <a:pt x="261789" y="258954"/>
                    <a:pt x="258422" y="260821"/>
                    <a:pt x="255489" y="262687"/>
                  </a:cubicBezTo>
                  <a:cubicBezTo>
                    <a:pt x="255622" y="252554"/>
                    <a:pt x="256756" y="242955"/>
                    <a:pt x="258889" y="233889"/>
                  </a:cubicBezTo>
                  <a:cubicBezTo>
                    <a:pt x="261022" y="224823"/>
                    <a:pt x="264422" y="216857"/>
                    <a:pt x="269088" y="209990"/>
                  </a:cubicBezTo>
                  <a:cubicBezTo>
                    <a:pt x="273754" y="203124"/>
                    <a:pt x="279821" y="197691"/>
                    <a:pt x="287287" y="193691"/>
                  </a:cubicBezTo>
                  <a:cubicBezTo>
                    <a:pt x="294753" y="189692"/>
                    <a:pt x="303886" y="187692"/>
                    <a:pt x="314685" y="187692"/>
                  </a:cubicBezTo>
                  <a:cubicBezTo>
                    <a:pt x="321085" y="187692"/>
                    <a:pt x="326718" y="188092"/>
                    <a:pt x="331584" y="188892"/>
                  </a:cubicBezTo>
                  <a:cubicBezTo>
                    <a:pt x="336451" y="189692"/>
                    <a:pt x="340684" y="190625"/>
                    <a:pt x="344284" y="191691"/>
                  </a:cubicBezTo>
                  <a:cubicBezTo>
                    <a:pt x="347883" y="192758"/>
                    <a:pt x="350950" y="193725"/>
                    <a:pt x="353483" y="194591"/>
                  </a:cubicBezTo>
                  <a:cubicBezTo>
                    <a:pt x="356016" y="195458"/>
                    <a:pt x="358083" y="195891"/>
                    <a:pt x="359683" y="195891"/>
                  </a:cubicBezTo>
                  <a:cubicBezTo>
                    <a:pt x="361016" y="195891"/>
                    <a:pt x="362149" y="195558"/>
                    <a:pt x="363082" y="194891"/>
                  </a:cubicBezTo>
                  <a:cubicBezTo>
                    <a:pt x="364016" y="194225"/>
                    <a:pt x="364749" y="193125"/>
                    <a:pt x="365282" y="191591"/>
                  </a:cubicBezTo>
                  <a:cubicBezTo>
                    <a:pt x="365816" y="190058"/>
                    <a:pt x="366182" y="187925"/>
                    <a:pt x="366382" y="185192"/>
                  </a:cubicBezTo>
                  <a:cubicBezTo>
                    <a:pt x="366582" y="182459"/>
                    <a:pt x="366682" y="179026"/>
                    <a:pt x="366682" y="174892"/>
                  </a:cubicBezTo>
                  <a:cubicBezTo>
                    <a:pt x="366682" y="172226"/>
                    <a:pt x="366615" y="169959"/>
                    <a:pt x="366482" y="168093"/>
                  </a:cubicBezTo>
                  <a:cubicBezTo>
                    <a:pt x="366349" y="166226"/>
                    <a:pt x="366116" y="164660"/>
                    <a:pt x="365782" y="163393"/>
                  </a:cubicBezTo>
                  <a:cubicBezTo>
                    <a:pt x="365449" y="162127"/>
                    <a:pt x="365016" y="160960"/>
                    <a:pt x="364482" y="159893"/>
                  </a:cubicBezTo>
                  <a:cubicBezTo>
                    <a:pt x="363949" y="158827"/>
                    <a:pt x="363182" y="157860"/>
                    <a:pt x="362182" y="156994"/>
                  </a:cubicBezTo>
                  <a:cubicBezTo>
                    <a:pt x="361182" y="156127"/>
                    <a:pt x="359149" y="155094"/>
                    <a:pt x="356083" y="153894"/>
                  </a:cubicBezTo>
                  <a:cubicBezTo>
                    <a:pt x="353016" y="152694"/>
                    <a:pt x="349283" y="151627"/>
                    <a:pt x="344883" y="150694"/>
                  </a:cubicBezTo>
                  <a:cubicBezTo>
                    <a:pt x="340484" y="149761"/>
                    <a:pt x="335717" y="148994"/>
                    <a:pt x="330584" y="148394"/>
                  </a:cubicBezTo>
                  <a:cubicBezTo>
                    <a:pt x="325451" y="147794"/>
                    <a:pt x="320352" y="147494"/>
                    <a:pt x="315285" y="147494"/>
                  </a:cubicBezTo>
                  <a:close/>
                  <a:moveTo>
                    <a:pt x="288758" y="0"/>
                  </a:moveTo>
                  <a:lnTo>
                    <a:pt x="385012" y="144377"/>
                  </a:lnTo>
                  <a:lnTo>
                    <a:pt x="577516" y="144379"/>
                  </a:lnTo>
                  <a:lnTo>
                    <a:pt x="481266" y="288758"/>
                  </a:lnTo>
                  <a:lnTo>
                    <a:pt x="577516" y="433137"/>
                  </a:lnTo>
                  <a:lnTo>
                    <a:pt x="385012" y="433139"/>
                  </a:lnTo>
                  <a:lnTo>
                    <a:pt x="288758" y="577516"/>
                  </a:lnTo>
                  <a:lnTo>
                    <a:pt x="192504" y="433139"/>
                  </a:lnTo>
                  <a:lnTo>
                    <a:pt x="0" y="433137"/>
                  </a:lnTo>
                  <a:lnTo>
                    <a:pt x="96250" y="288758"/>
                  </a:lnTo>
                  <a:lnTo>
                    <a:pt x="0" y="144379"/>
                  </a:lnTo>
                  <a:lnTo>
                    <a:pt x="192504" y="144377"/>
                  </a:lnTo>
                  <a:lnTo>
                    <a:pt x="28875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5"/>
          <p:cNvGrpSpPr/>
          <p:nvPr/>
        </p:nvGrpSpPr>
        <p:grpSpPr>
          <a:xfrm>
            <a:off x="4071960" y="2459160"/>
            <a:ext cx="1038240" cy="1036440"/>
            <a:chOff x="4071960" y="2459160"/>
            <a:chExt cx="1038240" cy="1036440"/>
          </a:xfrm>
        </p:grpSpPr>
        <p:grpSp>
          <p:nvGrpSpPr>
            <p:cNvPr id="253" name="组合 114"/>
            <p:cNvGrpSpPr/>
            <p:nvPr/>
          </p:nvGrpSpPr>
          <p:grpSpPr>
            <a:xfrm>
              <a:off x="4071960" y="2459160"/>
              <a:ext cx="1038240" cy="1036440"/>
              <a:chOff x="4071960" y="2459160"/>
              <a:chExt cx="1038240" cy="1036440"/>
            </a:xfrm>
          </p:grpSpPr>
          <p:sp>
            <p:nvSpPr>
              <p:cNvPr id="254" name="矩形 115"/>
              <p:cNvSpPr/>
              <p:nvPr/>
            </p:nvSpPr>
            <p:spPr>
              <a:xfrm>
                <a:off x="4071960" y="2459160"/>
                <a:ext cx="1038240" cy="103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116"/>
              <p:cNvSpPr/>
              <p:nvPr/>
            </p:nvSpPr>
            <p:spPr>
              <a:xfrm>
                <a:off x="4127400" y="2514600"/>
                <a:ext cx="927360" cy="92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组合 4"/>
            <p:cNvGrpSpPr/>
            <p:nvPr/>
          </p:nvGrpSpPr>
          <p:grpSpPr>
            <a:xfrm>
              <a:off x="4281480" y="2759400"/>
              <a:ext cx="592560" cy="576000"/>
              <a:chOff x="4281480" y="2759400"/>
              <a:chExt cx="592560" cy="576000"/>
            </a:xfrm>
          </p:grpSpPr>
          <p:sp>
            <p:nvSpPr>
              <p:cNvPr id="257" name="任意多边形 172"/>
              <p:cNvSpPr/>
              <p:nvPr/>
            </p:nvSpPr>
            <p:spPr>
              <a:xfrm>
                <a:off x="4281480" y="2759400"/>
                <a:ext cx="521280" cy="493560"/>
              </a:xfrm>
              <a:custGeom>
                <a:avLst/>
                <a:gdLst/>
                <a:ahLst/>
                <a:rect l="l" t="t" r="r" b="b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任意多边形 174"/>
              <p:cNvSpPr/>
              <p:nvPr/>
            </p:nvSpPr>
            <p:spPr>
              <a:xfrm flipH="1">
                <a:off x="4460760" y="2945160"/>
                <a:ext cx="413280" cy="390240"/>
              </a:xfrm>
              <a:custGeom>
                <a:avLst/>
                <a:gdLst/>
                <a:ahLst/>
                <a:rect l="l" t="t" r="r" b="b"/>
                <a:pathLst>
                  <a:path w="723474" h="685816">
                    <a:moveTo>
                      <a:pt x="481465" y="177437"/>
                    </a:moveTo>
                    <a:cubicBezTo>
                      <a:pt x="441700" y="177437"/>
                      <a:pt x="409465" y="209672"/>
                      <a:pt x="409465" y="249437"/>
                    </a:cubicBezTo>
                    <a:cubicBezTo>
                      <a:pt x="409465" y="289202"/>
                      <a:pt x="441700" y="321437"/>
                      <a:pt x="481465" y="321437"/>
                    </a:cubicBezTo>
                    <a:cubicBezTo>
                      <a:pt x="521230" y="321437"/>
                      <a:pt x="553465" y="289202"/>
                      <a:pt x="553465" y="249437"/>
                    </a:cubicBezTo>
                    <a:cubicBezTo>
                      <a:pt x="553465" y="209672"/>
                      <a:pt x="521230" y="177437"/>
                      <a:pt x="481465" y="177437"/>
                    </a:cubicBezTo>
                    <a:close/>
                    <a:moveTo>
                      <a:pt x="222158" y="177437"/>
                    </a:moveTo>
                    <a:cubicBezTo>
                      <a:pt x="182393" y="177437"/>
                      <a:pt x="150158" y="209672"/>
                      <a:pt x="150158" y="249437"/>
                    </a:cubicBezTo>
                    <a:cubicBezTo>
                      <a:pt x="150158" y="289202"/>
                      <a:pt x="182393" y="321437"/>
                      <a:pt x="222158" y="321437"/>
                    </a:cubicBezTo>
                    <a:cubicBezTo>
                      <a:pt x="261923" y="321437"/>
                      <a:pt x="294158" y="289202"/>
                      <a:pt x="294158" y="249437"/>
                    </a:cubicBezTo>
                    <a:cubicBezTo>
                      <a:pt x="294158" y="209672"/>
                      <a:pt x="261923" y="177437"/>
                      <a:pt x="222158" y="177437"/>
                    </a:cubicBezTo>
                    <a:close/>
                    <a:moveTo>
                      <a:pt x="383715" y="527"/>
                    </a:moveTo>
                    <a:cubicBezTo>
                      <a:pt x="421498" y="2348"/>
                      <a:pt x="459345" y="8903"/>
                      <a:pt x="495880" y="20470"/>
                    </a:cubicBezTo>
                    <a:cubicBezTo>
                      <a:pt x="689042" y="81626"/>
                      <a:pt x="777454" y="258985"/>
                      <a:pt x="689183" y="408243"/>
                    </a:cubicBezTo>
                    <a:cubicBezTo>
                      <a:pt x="618660" y="527490"/>
                      <a:pt x="454664" y="593305"/>
                      <a:pt x="291628" y="567791"/>
                    </a:cubicBezTo>
                    <a:lnTo>
                      <a:pt x="156416" y="685816"/>
                    </a:lnTo>
                    <a:lnTo>
                      <a:pt x="163815" y="526516"/>
                    </a:lnTo>
                    <a:cubicBezTo>
                      <a:pt x="-16551" y="433087"/>
                      <a:pt x="-54456" y="236186"/>
                      <a:pt x="82551" y="104389"/>
                    </a:cubicBezTo>
                    <a:cubicBezTo>
                      <a:pt x="157598" y="32196"/>
                      <a:pt x="270367" y="-4938"/>
                      <a:pt x="383715" y="527"/>
                    </a:cubicBezTo>
                    <a:close/>
                  </a:path>
                </a:pathLst>
              </a:custGeom>
              <a:solidFill>
                <a:srgbClr val="7f7f7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文本框 9"/>
          <p:cNvSpPr/>
          <p:nvPr/>
        </p:nvSpPr>
        <p:spPr>
          <a:xfrm>
            <a:off x="4445280" y="57085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来到高中，在全新的平台上，我们广泛交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4.07407E-006 L 4.79167E-006 0.53149 E">
                                      <p:cBhvr>
                                        <p:cTn id="87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9" dur="15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8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1" nodeType="withEffect" fill="hold" presetClass="entr" presetID="23" presetSubtype="32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96" dur="1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9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9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9" presetSubtype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9" presetSubtype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9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9" presetSubtype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175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2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3"/>
          <p:cNvSpPr/>
          <p:nvPr/>
        </p:nvSpPr>
        <p:spPr>
          <a:xfrm>
            <a:off x="-6537240" y="2138400"/>
            <a:ext cx="18729360" cy="2220840"/>
          </a:xfrm>
          <a:custGeom>
            <a:avLst/>
            <a:gdLst/>
            <a:ahLst/>
            <a:rect l="l" t="t" r="r" b="b"/>
            <a:pathLst>
              <a:path w="18730843" h="2057331">
                <a:moveTo>
                  <a:pt x="0" y="2057331"/>
                </a:moveTo>
                <a:cubicBezTo>
                  <a:pt x="1134394" y="1336834"/>
                  <a:pt x="2208978" y="823945"/>
                  <a:pt x="3308322" y="494504"/>
                </a:cubicBezTo>
                <a:cubicBezTo>
                  <a:pt x="4407666" y="165063"/>
                  <a:pt x="5165136" y="110763"/>
                  <a:pt x="6334816" y="0"/>
                </a:cubicBezTo>
                <a:lnTo>
                  <a:pt x="18730843" y="12170"/>
                </a:ln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"/>
          <p:cNvSpPr/>
          <p:nvPr/>
        </p:nvSpPr>
        <p:spPr>
          <a:xfrm>
            <a:off x="0" y="-295200"/>
            <a:ext cx="290340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"/>
          <p:cNvSpPr/>
          <p:nvPr/>
        </p:nvSpPr>
        <p:spPr>
          <a:xfrm>
            <a:off x="3727440" y="1355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36"/>
          <p:cNvSpPr/>
          <p:nvPr/>
        </p:nvSpPr>
        <p:spPr>
          <a:xfrm>
            <a:off x="5064120" y="13557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专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7"/>
          <p:cNvSpPr/>
          <p:nvPr/>
        </p:nvSpPr>
        <p:spPr>
          <a:xfrm>
            <a:off x="6944760" y="1357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8"/>
          <p:cNvSpPr/>
          <p:nvPr/>
        </p:nvSpPr>
        <p:spPr>
          <a:xfrm>
            <a:off x="8328960" y="1336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兴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2914560" y="2184480"/>
            <a:ext cx="353700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0"/>
          <p:cNvSpPr/>
          <p:nvPr/>
        </p:nvSpPr>
        <p:spPr>
          <a:xfrm>
            <a:off x="4920840" y="2287440"/>
            <a:ext cx="29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养自己的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兴趣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激发探索的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欲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燕尾形 31"/>
          <p:cNvSpPr/>
          <p:nvPr/>
        </p:nvSpPr>
        <p:spPr>
          <a:xfrm>
            <a:off x="3535200" y="250344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燕尾形 32"/>
          <p:cNvSpPr/>
          <p:nvPr/>
        </p:nvSpPr>
        <p:spPr>
          <a:xfrm>
            <a:off x="3438360" y="250344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燕尾形 33"/>
          <p:cNvSpPr/>
          <p:nvPr/>
        </p:nvSpPr>
        <p:spPr>
          <a:xfrm>
            <a:off x="334008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燕尾形 34"/>
          <p:cNvSpPr/>
          <p:nvPr/>
        </p:nvSpPr>
        <p:spPr>
          <a:xfrm>
            <a:off x="324180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燕尾形 35"/>
          <p:cNvSpPr/>
          <p:nvPr/>
        </p:nvSpPr>
        <p:spPr>
          <a:xfrm>
            <a:off x="3143160" y="250344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燕尾形 39"/>
          <p:cNvSpPr/>
          <p:nvPr/>
        </p:nvSpPr>
        <p:spPr>
          <a:xfrm>
            <a:off x="958536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燕尾形 40"/>
          <p:cNvSpPr/>
          <p:nvPr/>
        </p:nvSpPr>
        <p:spPr>
          <a:xfrm>
            <a:off x="948708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燕尾形 41"/>
          <p:cNvSpPr/>
          <p:nvPr/>
        </p:nvSpPr>
        <p:spPr>
          <a:xfrm>
            <a:off x="9388440" y="250344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燕尾形 42"/>
          <p:cNvSpPr/>
          <p:nvPr/>
        </p:nvSpPr>
        <p:spPr>
          <a:xfrm>
            <a:off x="9291600" y="250344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燕尾形 43"/>
          <p:cNvSpPr/>
          <p:nvPr/>
        </p:nvSpPr>
        <p:spPr>
          <a:xfrm>
            <a:off x="9193320" y="250344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2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-3.33333E-006 L -0.02356 -0.00046 E">
                                      <p:cBhvr>
                                        <p:cTn id="212" dur="325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95833E-006 -3.33333E-006 L -0.02356 -0.00046 E">
                                      <p:cBhvr>
                                        <p:cTn id="219" dur="3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7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5">
                                  <p:stCondLst>
                                    <p:cond delay="1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58333E-006 -3.33333E-006 L -0.02356 -0.00046 E">
                                      <p:cBhvr>
                                        <p:cTn id="226" dur="275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9167E-006 -3.33333E-006 L -0.02357 -0.00046 E">
                                      <p:cBhvr>
                                        <p:cTn id="233" dur="2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875E-006 4.07407E-006 L 0.02044 0.00046 E">
                                      <p:cBhvr>
                                        <p:cTn id="23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25E-006 2.22222E-006 L 0.01328 2.22222E-006 E">
                                      <p:cBhvr>
                                        <p:cTn id="243" dur="25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245" dur="3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1.66667E-006 2.22222E-006 L 0.01328 2.22222E-006 E">
                                      <p:cBhvr>
                                        <p:cTn id="253" dur="25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255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58333E-006 2.22222E-006 L 0.01328 2.22222E-006 E">
                                      <p:cBhvr>
                                        <p:cTn id="263" dur="25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1328 2.22222E-006 L 0.03033 2.22222E-006 E">
                                      <p:cBhvr>
                                        <p:cTn id="265" dur="3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2.5E-006 2.22222E-006 L 0.01328 2.22222E-006 E">
                                      <p:cBhvr>
                                        <p:cTn id="273" dur="25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275" dur="3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08333E-007 2.22222E-006 L 0.01328 2.22222E-006 E">
                                      <p:cBhvr>
                                        <p:cTn id="283" dur="25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285" dur="3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1.25E-006 2.22222E-006 L 0.01328 2.22222E-006 E">
                                      <p:cBhvr>
                                        <p:cTn id="293" dur="25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295" dur="3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66667E-006 2.22222E-006 L 0.01328 2.22222E-006 E">
                                      <p:cBhvr>
                                        <p:cTn id="303" dur="25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305" dur="3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58333E-006 2.22222E-006 L 0.01328 2.22222E-006 E">
                                      <p:cBhvr>
                                        <p:cTn id="313" dur="25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1328 2.22222E-006 L 0.03033 2.22222E-006 E">
                                      <p:cBhvr>
                                        <p:cTn id="315" dur="3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2.5E-006 2.22222E-006 L 0.01328 2.22222E-006 E">
                                      <p:cBhvr>
                                        <p:cTn id="323" dur="25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325" dur="3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08333E-007 2.22222E-006 L 0.01328 2.22222E-006 E">
                                      <p:cBhvr>
                                        <p:cTn id="333" dur="25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63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1328 2.22222E-006 L 0.03034 2.22222E-006 E">
                                      <p:cBhvr>
                                        <p:cTn id="335" dur="3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7"/>
          <p:cNvSpPr/>
          <p:nvPr/>
        </p:nvSpPr>
        <p:spPr>
          <a:xfrm>
            <a:off x="4560840" y="-20520"/>
            <a:ext cx="779400" cy="277020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5329080" y="-38160"/>
            <a:ext cx="779760" cy="3321000"/>
          </a:xfrm>
          <a:prstGeom prst="rect">
            <a:avLst/>
          </a:prstGeom>
          <a:solidFill>
            <a:srgbClr val="3a9d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6076800" y="-20520"/>
            <a:ext cx="773280" cy="4011480"/>
          </a:xfrm>
          <a:prstGeom prst="rect">
            <a:avLst/>
          </a:prstGeom>
          <a:solidFill>
            <a:srgbClr val="5cb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0"/>
          <p:cNvSpPr/>
          <p:nvPr/>
        </p:nvSpPr>
        <p:spPr>
          <a:xfrm>
            <a:off x="6821640" y="-23760"/>
            <a:ext cx="779400" cy="459900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4367160" y="223848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"/>
          <p:cNvSpPr/>
          <p:nvPr/>
        </p:nvSpPr>
        <p:spPr>
          <a:xfrm>
            <a:off x="5311080" y="2279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6070680" y="2287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6819840" y="2274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3"/>
          <p:cNvSpPr/>
          <p:nvPr/>
        </p:nvSpPr>
        <p:spPr>
          <a:xfrm>
            <a:off x="6819840" y="4557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4"/>
          <p:cNvSpPr/>
          <p:nvPr/>
        </p:nvSpPr>
        <p:spPr>
          <a:xfrm>
            <a:off x="6064200" y="3900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5"/>
          <p:cNvSpPr/>
          <p:nvPr/>
        </p:nvSpPr>
        <p:spPr>
          <a:xfrm>
            <a:off x="5311080" y="3235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4367160" y="2728800"/>
            <a:ext cx="9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377" dur="2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379" dur="2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381" dur="2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383" dur="2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00"/>
                            </p:stCondLst>
                            <p:childTnLst>
                              <p:par>
                                <p:cTn id="385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1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1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9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411" dur="2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413" dur="2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415" dur="2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417" dur="2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2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1"/>
          <p:cNvSpPr/>
          <p:nvPr/>
        </p:nvSpPr>
        <p:spPr>
          <a:xfrm rot="20949000">
            <a:off x="2770200" y="1260000"/>
            <a:ext cx="6091200" cy="720720"/>
          </a:xfrm>
          <a:prstGeom prst="rect">
            <a:avLst/>
          </a:prstGeom>
          <a:solidFill>
            <a:srgbClr val="ff425d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宙学     黑洞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6"/>
          <p:cNvSpPr/>
          <p:nvPr/>
        </p:nvSpPr>
        <p:spPr>
          <a:xfrm rot="20949000">
            <a:off x="3642840" y="1976040"/>
            <a:ext cx="6089760" cy="722520"/>
          </a:xfrm>
          <a:prstGeom prst="rect">
            <a:avLst/>
          </a:prstGeom>
          <a:solidFill>
            <a:srgbClr val="ff425d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量子力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7"/>
          <p:cNvSpPr/>
          <p:nvPr/>
        </p:nvSpPr>
        <p:spPr>
          <a:xfrm rot="20949000">
            <a:off x="4308120" y="2715840"/>
            <a:ext cx="6089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义相对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8"/>
          <p:cNvSpPr/>
          <p:nvPr/>
        </p:nvSpPr>
        <p:spPr>
          <a:xfrm rot="20949000">
            <a:off x="3560400" y="3663720"/>
            <a:ext cx="6089760" cy="722160"/>
          </a:xfrm>
          <a:prstGeom prst="rect">
            <a:avLst/>
          </a:prstGeom>
          <a:solidFill>
            <a:srgbClr val="ff425d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统、弦理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9"/>
          <p:cNvSpPr/>
          <p:nvPr/>
        </p:nvSpPr>
        <p:spPr>
          <a:xfrm rot="20949000">
            <a:off x="2844720" y="4701960"/>
            <a:ext cx="6091200" cy="720720"/>
          </a:xfrm>
          <a:prstGeom prst="rect">
            <a:avLst/>
          </a:prstGeom>
          <a:solidFill>
            <a:srgbClr val="ff425d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现代物理学分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矩形 12" descr=""/>
          <p:cNvPicPr/>
          <p:nvPr/>
        </p:nvPicPr>
        <p:blipFill>
          <a:blip r:embed="rId1"/>
          <a:stretch/>
        </p:blipFill>
        <p:spPr>
          <a:xfrm>
            <a:off x="1566720" y="1719360"/>
            <a:ext cx="1017720" cy="927000"/>
          </a:xfrm>
          <a:prstGeom prst="rect">
            <a:avLst/>
          </a:prstGeom>
          <a:ln w="0">
            <a:noFill/>
          </a:ln>
        </p:spPr>
      </p:pic>
      <p:pic>
        <p:nvPicPr>
          <p:cNvPr id="296" name="矩形 13" descr=""/>
          <p:cNvPicPr/>
          <p:nvPr/>
        </p:nvPicPr>
        <p:blipFill>
          <a:blip r:embed="rId2"/>
          <a:stretch/>
        </p:blipFill>
        <p:spPr>
          <a:xfrm>
            <a:off x="2432160" y="2481120"/>
            <a:ext cx="1017360" cy="920880"/>
          </a:xfrm>
          <a:prstGeom prst="rect">
            <a:avLst/>
          </a:prstGeom>
          <a:ln w="0">
            <a:noFill/>
          </a:ln>
        </p:spPr>
      </p:pic>
      <p:pic>
        <p:nvPicPr>
          <p:cNvPr id="297" name="矩形 14" descr=""/>
          <p:cNvPicPr/>
          <p:nvPr/>
        </p:nvPicPr>
        <p:blipFill>
          <a:blip r:embed="rId3"/>
          <a:stretch/>
        </p:blipFill>
        <p:spPr>
          <a:xfrm>
            <a:off x="3176640" y="3187800"/>
            <a:ext cx="1011240" cy="920520"/>
          </a:xfrm>
          <a:prstGeom prst="rect">
            <a:avLst/>
          </a:prstGeom>
          <a:ln w="0">
            <a:noFill/>
          </a:ln>
        </p:spPr>
      </p:pic>
      <p:pic>
        <p:nvPicPr>
          <p:cNvPr id="298" name="矩形 15" descr=""/>
          <p:cNvPicPr/>
          <p:nvPr/>
        </p:nvPicPr>
        <p:blipFill>
          <a:blip r:embed="rId4"/>
          <a:stretch/>
        </p:blipFill>
        <p:spPr>
          <a:xfrm>
            <a:off x="2408400" y="4108320"/>
            <a:ext cx="1011240" cy="920880"/>
          </a:xfrm>
          <a:prstGeom prst="rect">
            <a:avLst/>
          </a:prstGeom>
          <a:ln w="0">
            <a:noFill/>
          </a:ln>
        </p:spPr>
      </p:pic>
      <p:pic>
        <p:nvPicPr>
          <p:cNvPr id="299" name="矩形 16" descr=""/>
          <p:cNvPicPr/>
          <p:nvPr/>
        </p:nvPicPr>
        <p:blipFill>
          <a:blip r:embed="rId5"/>
          <a:stretch/>
        </p:blipFill>
        <p:spPr>
          <a:xfrm>
            <a:off x="1663560" y="5102280"/>
            <a:ext cx="101916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9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reeform 88"/>
          <p:cNvSpPr/>
          <p:nvPr/>
        </p:nvSpPr>
        <p:spPr>
          <a:xfrm>
            <a:off x="1490760" y="0"/>
            <a:ext cx="4389480" cy="2665440"/>
          </a:xfrm>
          <a:custGeom>
            <a:avLst/>
            <a:gdLst>
              <a:gd name="textAreaLeft" fmla="*/ 0 w 4389480"/>
              <a:gd name="textAreaRight" fmla="*/ 4389840 w 4389480"/>
              <a:gd name="textAreaTop" fmla="*/ 0 h 2665440"/>
              <a:gd name="textAreaBottom" fmla="*/ 2665800 h 2665440"/>
            </a:gdLst>
            <a:ahLst/>
            <a:rect l="textAreaLeft" t="textAreaTop" r="textAreaRight" b="textAreaBottom"/>
            <a:pathLst>
              <a:path w="1474" h="1194">
                <a:moveTo>
                  <a:pt x="1330" y="121"/>
                </a:moveTo>
                <a:cubicBezTo>
                  <a:pt x="1271" y="165"/>
                  <a:pt x="1205" y="196"/>
                  <a:pt x="1138" y="229"/>
                </a:cubicBezTo>
                <a:cubicBezTo>
                  <a:pt x="1073" y="262"/>
                  <a:pt x="1005" y="307"/>
                  <a:pt x="966" y="375"/>
                </a:cubicBezTo>
                <a:cubicBezTo>
                  <a:pt x="927" y="443"/>
                  <a:pt x="918" y="518"/>
                  <a:pt x="893" y="586"/>
                </a:cubicBezTo>
                <a:cubicBezTo>
                  <a:pt x="871" y="654"/>
                  <a:pt x="830" y="719"/>
                  <a:pt x="765" y="746"/>
                </a:cubicBezTo>
                <a:cubicBezTo>
                  <a:pt x="700" y="774"/>
                  <a:pt x="625" y="762"/>
                  <a:pt x="554" y="747"/>
                </a:cubicBezTo>
                <a:cubicBezTo>
                  <a:pt x="489" y="736"/>
                  <a:pt x="421" y="717"/>
                  <a:pt x="351" y="728"/>
                </a:cubicBezTo>
                <a:cubicBezTo>
                  <a:pt x="317" y="733"/>
                  <a:pt x="283" y="750"/>
                  <a:pt x="258" y="775"/>
                </a:cubicBezTo>
                <a:cubicBezTo>
                  <a:pt x="234" y="800"/>
                  <a:pt x="216" y="828"/>
                  <a:pt x="195" y="854"/>
                </a:cubicBezTo>
                <a:cubicBezTo>
                  <a:pt x="154" y="907"/>
                  <a:pt x="113" y="959"/>
                  <a:pt x="69" y="1010"/>
                </a:cubicBezTo>
                <a:cubicBezTo>
                  <a:pt x="47" y="1035"/>
                  <a:pt x="25" y="1062"/>
                  <a:pt x="13" y="1094"/>
                </a:cubicBezTo>
                <a:cubicBezTo>
                  <a:pt x="0" y="1126"/>
                  <a:pt x="1" y="1161"/>
                  <a:pt x="7" y="1194"/>
                </a:cubicBezTo>
                <a:cubicBezTo>
                  <a:pt x="2" y="1162"/>
                  <a:pt x="3" y="1128"/>
                  <a:pt x="15" y="1098"/>
                </a:cubicBezTo>
                <a:cubicBezTo>
                  <a:pt x="27" y="1068"/>
                  <a:pt x="47" y="1043"/>
                  <a:pt x="70" y="1019"/>
                </a:cubicBezTo>
                <a:cubicBezTo>
                  <a:pt x="113" y="971"/>
                  <a:pt x="156" y="922"/>
                  <a:pt x="197" y="872"/>
                </a:cubicBezTo>
                <a:cubicBezTo>
                  <a:pt x="239" y="823"/>
                  <a:pt x="273" y="762"/>
                  <a:pt x="336" y="750"/>
                </a:cubicBezTo>
                <a:cubicBezTo>
                  <a:pt x="397" y="736"/>
                  <a:pt x="461" y="753"/>
                  <a:pt x="524" y="767"/>
                </a:cubicBezTo>
                <a:cubicBezTo>
                  <a:pt x="597" y="781"/>
                  <a:pt x="675" y="800"/>
                  <a:pt x="752" y="777"/>
                </a:cubicBezTo>
                <a:cubicBezTo>
                  <a:pt x="831" y="756"/>
                  <a:pt x="884" y="683"/>
                  <a:pt x="910" y="613"/>
                </a:cubicBezTo>
                <a:cubicBezTo>
                  <a:pt x="938" y="541"/>
                  <a:pt x="948" y="465"/>
                  <a:pt x="980" y="401"/>
                </a:cubicBezTo>
                <a:cubicBezTo>
                  <a:pt x="1013" y="336"/>
                  <a:pt x="1073" y="291"/>
                  <a:pt x="1139" y="257"/>
                </a:cubicBezTo>
                <a:cubicBezTo>
                  <a:pt x="1205" y="224"/>
                  <a:pt x="1274" y="192"/>
                  <a:pt x="1337" y="147"/>
                </a:cubicBezTo>
                <a:cubicBezTo>
                  <a:pt x="1392" y="109"/>
                  <a:pt x="1440" y="58"/>
                  <a:pt x="1474" y="0"/>
                </a:cubicBezTo>
                <a:cubicBezTo>
                  <a:pt x="1445" y="0"/>
                  <a:pt x="1445" y="0"/>
                  <a:pt x="1445" y="0"/>
                </a:cubicBezTo>
                <a:cubicBezTo>
                  <a:pt x="1415" y="47"/>
                  <a:pt x="1375" y="88"/>
                  <a:pt x="1330" y="121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89"/>
          <p:cNvSpPr/>
          <p:nvPr/>
        </p:nvSpPr>
        <p:spPr>
          <a:xfrm>
            <a:off x="6456240" y="0"/>
            <a:ext cx="4505400" cy="2638440"/>
          </a:xfrm>
          <a:custGeom>
            <a:avLst/>
            <a:gdLst>
              <a:gd name="textAreaLeft" fmla="*/ 0 w 4505400"/>
              <a:gd name="textAreaRight" fmla="*/ 4505760 w 4505400"/>
              <a:gd name="textAreaTop" fmla="*/ 0 h 2638440"/>
              <a:gd name="textAreaBottom" fmla="*/ 2638800 h 2638440"/>
            </a:gdLst>
            <a:ahLst/>
            <a:rect l="textAreaLeft" t="textAreaTop" r="textAreaRight" b="textAreaBottom"/>
            <a:pathLst>
              <a:path w="1513" h="1182">
                <a:moveTo>
                  <a:pt x="1460" y="764"/>
                </a:moveTo>
                <a:cubicBezTo>
                  <a:pt x="1445" y="731"/>
                  <a:pt x="1426" y="698"/>
                  <a:pt x="1394" y="675"/>
                </a:cubicBezTo>
                <a:cubicBezTo>
                  <a:pt x="1363" y="651"/>
                  <a:pt x="1322" y="643"/>
                  <a:pt x="1285" y="645"/>
                </a:cubicBezTo>
                <a:cubicBezTo>
                  <a:pt x="1209" y="651"/>
                  <a:pt x="1143" y="681"/>
                  <a:pt x="1078" y="699"/>
                </a:cubicBezTo>
                <a:cubicBezTo>
                  <a:pt x="1042" y="710"/>
                  <a:pt x="1000" y="722"/>
                  <a:pt x="972" y="716"/>
                </a:cubicBezTo>
                <a:cubicBezTo>
                  <a:pt x="944" y="711"/>
                  <a:pt x="926" y="681"/>
                  <a:pt x="915" y="645"/>
                </a:cubicBezTo>
                <a:cubicBezTo>
                  <a:pt x="892" y="573"/>
                  <a:pt x="892" y="491"/>
                  <a:pt x="873" y="408"/>
                </a:cubicBezTo>
                <a:cubicBezTo>
                  <a:pt x="868" y="387"/>
                  <a:pt x="862" y="366"/>
                  <a:pt x="850" y="345"/>
                </a:cubicBezTo>
                <a:cubicBezTo>
                  <a:pt x="836" y="323"/>
                  <a:pt x="822" y="308"/>
                  <a:pt x="804" y="293"/>
                </a:cubicBezTo>
                <a:cubicBezTo>
                  <a:pt x="769" y="264"/>
                  <a:pt x="728" y="247"/>
                  <a:pt x="687" y="235"/>
                </a:cubicBezTo>
                <a:cubicBezTo>
                  <a:pt x="604" y="211"/>
                  <a:pt x="527" y="208"/>
                  <a:pt x="457" y="173"/>
                </a:cubicBezTo>
                <a:cubicBezTo>
                  <a:pt x="385" y="142"/>
                  <a:pt x="316" y="98"/>
                  <a:pt x="239" y="65"/>
                </a:cubicBezTo>
                <a:cubicBezTo>
                  <a:pt x="185" y="46"/>
                  <a:pt x="134" y="26"/>
                  <a:pt x="89" y="0"/>
                </a:cubicBezTo>
                <a:cubicBezTo>
                  <a:pt x="0" y="0"/>
                  <a:pt x="0" y="0"/>
                  <a:pt x="0" y="0"/>
                </a:cubicBezTo>
                <a:cubicBezTo>
                  <a:pt x="63" y="51"/>
                  <a:pt x="140" y="83"/>
                  <a:pt x="210" y="108"/>
                </a:cubicBezTo>
                <a:cubicBezTo>
                  <a:pt x="282" y="136"/>
                  <a:pt x="349" y="178"/>
                  <a:pt x="424" y="213"/>
                </a:cubicBezTo>
                <a:cubicBezTo>
                  <a:pt x="461" y="230"/>
                  <a:pt x="500" y="245"/>
                  <a:pt x="541" y="254"/>
                </a:cubicBezTo>
                <a:cubicBezTo>
                  <a:pt x="582" y="262"/>
                  <a:pt x="620" y="269"/>
                  <a:pt x="657" y="278"/>
                </a:cubicBezTo>
                <a:cubicBezTo>
                  <a:pt x="730" y="296"/>
                  <a:pt x="803" y="335"/>
                  <a:pt x="820" y="401"/>
                </a:cubicBezTo>
                <a:cubicBezTo>
                  <a:pt x="841" y="473"/>
                  <a:pt x="841" y="554"/>
                  <a:pt x="860" y="636"/>
                </a:cubicBezTo>
                <a:cubicBezTo>
                  <a:pt x="871" y="675"/>
                  <a:pt x="884" y="722"/>
                  <a:pt x="930" y="752"/>
                </a:cubicBezTo>
                <a:cubicBezTo>
                  <a:pt x="953" y="766"/>
                  <a:pt x="980" y="769"/>
                  <a:pt x="1003" y="767"/>
                </a:cubicBezTo>
                <a:cubicBezTo>
                  <a:pt x="1025" y="764"/>
                  <a:pt x="1046" y="759"/>
                  <a:pt x="1066" y="754"/>
                </a:cubicBezTo>
                <a:cubicBezTo>
                  <a:pt x="1137" y="732"/>
                  <a:pt x="1202" y="698"/>
                  <a:pt x="1269" y="685"/>
                </a:cubicBezTo>
                <a:cubicBezTo>
                  <a:pt x="1302" y="678"/>
                  <a:pt x="1335" y="679"/>
                  <a:pt x="1364" y="692"/>
                </a:cubicBezTo>
                <a:cubicBezTo>
                  <a:pt x="1392" y="706"/>
                  <a:pt x="1415" y="733"/>
                  <a:pt x="1431" y="762"/>
                </a:cubicBezTo>
                <a:cubicBezTo>
                  <a:pt x="1496" y="887"/>
                  <a:pt x="1488" y="1040"/>
                  <a:pt x="1481" y="1182"/>
                </a:cubicBezTo>
                <a:cubicBezTo>
                  <a:pt x="1495" y="1044"/>
                  <a:pt x="1513" y="900"/>
                  <a:pt x="1460" y="76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90"/>
          <p:cNvSpPr/>
          <p:nvPr/>
        </p:nvSpPr>
        <p:spPr>
          <a:xfrm>
            <a:off x="4444920" y="663480"/>
            <a:ext cx="169920" cy="647640"/>
          </a:xfrm>
          <a:custGeom>
            <a:avLst/>
            <a:gdLst>
              <a:gd name="textAreaLeft" fmla="*/ 0 w 169920"/>
              <a:gd name="textAreaRight" fmla="*/ 170280 w 169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57" h="290">
                <a:moveTo>
                  <a:pt x="40" y="0"/>
                </a:moveTo>
                <a:cubicBezTo>
                  <a:pt x="57" y="18"/>
                  <a:pt x="57" y="18"/>
                  <a:pt x="57" y="18"/>
                </a:cubicBezTo>
                <a:cubicBezTo>
                  <a:pt x="33" y="39"/>
                  <a:pt x="26" y="70"/>
                  <a:pt x="31" y="103"/>
                </a:cubicBezTo>
                <a:cubicBezTo>
                  <a:pt x="34" y="136"/>
                  <a:pt x="46" y="170"/>
                  <a:pt x="47" y="208"/>
                </a:cubicBezTo>
                <a:cubicBezTo>
                  <a:pt x="45" y="240"/>
                  <a:pt x="29" y="272"/>
                  <a:pt x="4" y="290"/>
                </a:cubicBezTo>
                <a:cubicBezTo>
                  <a:pt x="24" y="265"/>
                  <a:pt x="28" y="234"/>
                  <a:pt x="22" y="206"/>
                </a:cubicBezTo>
                <a:cubicBezTo>
                  <a:pt x="21" y="173"/>
                  <a:pt x="10" y="141"/>
                  <a:pt x="6" y="105"/>
                </a:cubicBezTo>
                <a:cubicBezTo>
                  <a:pt x="0" y="69"/>
                  <a:pt x="11" y="25"/>
                  <a:pt x="40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91"/>
          <p:cNvSpPr/>
          <p:nvPr/>
        </p:nvSpPr>
        <p:spPr>
          <a:xfrm>
            <a:off x="1604880" y="1576440"/>
            <a:ext cx="973080" cy="426960"/>
          </a:xfrm>
          <a:custGeom>
            <a:avLst/>
            <a:gdLst>
              <a:gd name="textAreaLeft" fmla="*/ 0 w 973080"/>
              <a:gd name="textAreaRight" fmla="*/ 973440 w 9730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27" h="191">
                <a:moveTo>
                  <a:pt x="325" y="23"/>
                </a:moveTo>
                <a:cubicBezTo>
                  <a:pt x="327" y="35"/>
                  <a:pt x="327" y="35"/>
                  <a:pt x="327" y="35"/>
                </a:cubicBezTo>
                <a:cubicBezTo>
                  <a:pt x="273" y="46"/>
                  <a:pt x="217" y="38"/>
                  <a:pt x="165" y="26"/>
                </a:cubicBezTo>
                <a:cubicBezTo>
                  <a:pt x="139" y="19"/>
                  <a:pt x="113" y="12"/>
                  <a:pt x="88" y="14"/>
                </a:cubicBezTo>
                <a:cubicBezTo>
                  <a:pt x="62" y="15"/>
                  <a:pt x="42" y="33"/>
                  <a:pt x="35" y="58"/>
                </a:cubicBezTo>
                <a:cubicBezTo>
                  <a:pt x="19" y="100"/>
                  <a:pt x="24" y="151"/>
                  <a:pt x="0" y="191"/>
                </a:cubicBezTo>
                <a:cubicBezTo>
                  <a:pt x="20" y="147"/>
                  <a:pt x="10" y="98"/>
                  <a:pt x="25" y="50"/>
                </a:cubicBezTo>
                <a:cubicBezTo>
                  <a:pt x="33" y="22"/>
                  <a:pt x="61" y="0"/>
                  <a:pt x="90" y="1"/>
                </a:cubicBezTo>
                <a:cubicBezTo>
                  <a:pt x="118" y="0"/>
                  <a:pt x="145" y="8"/>
                  <a:pt x="170" y="14"/>
                </a:cubicBezTo>
                <a:cubicBezTo>
                  <a:pt x="221" y="26"/>
                  <a:pt x="274" y="33"/>
                  <a:pt x="325" y="23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92"/>
          <p:cNvSpPr/>
          <p:nvPr/>
        </p:nvSpPr>
        <p:spPr>
          <a:xfrm>
            <a:off x="1957320" y="1830240"/>
            <a:ext cx="227160" cy="598680"/>
          </a:xfrm>
          <a:custGeom>
            <a:avLst/>
            <a:gdLst>
              <a:gd name="textAreaLeft" fmla="*/ 0 w 227160"/>
              <a:gd name="textAreaRight" fmla="*/ 227520 w 2271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76" h="268">
                <a:moveTo>
                  <a:pt x="64" y="0"/>
                </a:moveTo>
                <a:cubicBezTo>
                  <a:pt x="76" y="3"/>
                  <a:pt x="76" y="3"/>
                  <a:pt x="76" y="3"/>
                </a:cubicBezTo>
                <a:cubicBezTo>
                  <a:pt x="54" y="67"/>
                  <a:pt x="8" y="118"/>
                  <a:pt x="14" y="185"/>
                </a:cubicBezTo>
                <a:cubicBezTo>
                  <a:pt x="12" y="212"/>
                  <a:pt x="12" y="242"/>
                  <a:pt x="1" y="268"/>
                </a:cubicBezTo>
                <a:cubicBezTo>
                  <a:pt x="9" y="240"/>
                  <a:pt x="4" y="211"/>
                  <a:pt x="1" y="182"/>
                </a:cubicBezTo>
                <a:cubicBezTo>
                  <a:pt x="0" y="149"/>
                  <a:pt x="9" y="116"/>
                  <a:pt x="24" y="86"/>
                </a:cubicBezTo>
                <a:cubicBezTo>
                  <a:pt x="38" y="57"/>
                  <a:pt x="55" y="30"/>
                  <a:pt x="64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93"/>
          <p:cNvSpPr/>
          <p:nvPr/>
        </p:nvSpPr>
        <p:spPr>
          <a:xfrm>
            <a:off x="4338720" y="824040"/>
            <a:ext cx="974520" cy="1042920"/>
          </a:xfrm>
          <a:custGeom>
            <a:avLst/>
            <a:gdLst>
              <a:gd name="textAreaLeft" fmla="*/ 0 w 974520"/>
              <a:gd name="textAreaRight" fmla="*/ 974880 w 97452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327" h="467">
                <a:moveTo>
                  <a:pt x="304" y="0"/>
                </a:moveTo>
                <a:cubicBezTo>
                  <a:pt x="327" y="10"/>
                  <a:pt x="327" y="10"/>
                  <a:pt x="327" y="10"/>
                </a:cubicBezTo>
                <a:cubicBezTo>
                  <a:pt x="270" y="138"/>
                  <a:pt x="150" y="214"/>
                  <a:pt x="73" y="316"/>
                </a:cubicBezTo>
                <a:cubicBezTo>
                  <a:pt x="35" y="357"/>
                  <a:pt x="12" y="411"/>
                  <a:pt x="0" y="467"/>
                </a:cubicBezTo>
                <a:cubicBezTo>
                  <a:pt x="4" y="409"/>
                  <a:pt x="20" y="347"/>
                  <a:pt x="56" y="297"/>
                </a:cubicBezTo>
                <a:cubicBezTo>
                  <a:pt x="139" y="192"/>
                  <a:pt x="252" y="118"/>
                  <a:pt x="304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94"/>
          <p:cNvSpPr/>
          <p:nvPr/>
        </p:nvSpPr>
        <p:spPr>
          <a:xfrm>
            <a:off x="4967280" y="1193760"/>
            <a:ext cx="271440" cy="639720"/>
          </a:xfrm>
          <a:custGeom>
            <a:avLst/>
            <a:gdLst>
              <a:gd name="textAreaLeft" fmla="*/ 0 w 271440"/>
              <a:gd name="textAreaRight" fmla="*/ 271800 w 271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91" h="286">
                <a:moveTo>
                  <a:pt x="12" y="0"/>
                </a:moveTo>
                <a:cubicBezTo>
                  <a:pt x="37" y="4"/>
                  <a:pt x="37" y="4"/>
                  <a:pt x="37" y="4"/>
                </a:cubicBezTo>
                <a:cubicBezTo>
                  <a:pt x="25" y="69"/>
                  <a:pt x="76" y="127"/>
                  <a:pt x="89" y="200"/>
                </a:cubicBezTo>
                <a:cubicBezTo>
                  <a:pt x="91" y="234"/>
                  <a:pt x="76" y="266"/>
                  <a:pt x="53" y="286"/>
                </a:cubicBezTo>
                <a:cubicBezTo>
                  <a:pt x="70" y="259"/>
                  <a:pt x="73" y="228"/>
                  <a:pt x="64" y="201"/>
                </a:cubicBezTo>
                <a:cubicBezTo>
                  <a:pt x="54" y="139"/>
                  <a:pt x="0" y="79"/>
                  <a:pt x="12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95"/>
          <p:cNvSpPr/>
          <p:nvPr/>
        </p:nvSpPr>
        <p:spPr>
          <a:xfrm>
            <a:off x="3892680" y="2000160"/>
            <a:ext cx="711000" cy="433440"/>
          </a:xfrm>
          <a:custGeom>
            <a:avLst/>
            <a:gdLst>
              <a:gd name="textAreaLeft" fmla="*/ 0 w 711000"/>
              <a:gd name="textAreaRight" fmla="*/ 711360 w 711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39" h="194">
                <a:moveTo>
                  <a:pt x="231" y="0"/>
                </a:moveTo>
                <a:cubicBezTo>
                  <a:pt x="239" y="23"/>
                  <a:pt x="239" y="23"/>
                  <a:pt x="239" y="23"/>
                </a:cubicBezTo>
                <a:cubicBezTo>
                  <a:pt x="202" y="36"/>
                  <a:pt x="164" y="42"/>
                  <a:pt x="131" y="55"/>
                </a:cubicBezTo>
                <a:cubicBezTo>
                  <a:pt x="98" y="66"/>
                  <a:pt x="67" y="90"/>
                  <a:pt x="60" y="121"/>
                </a:cubicBezTo>
                <a:cubicBezTo>
                  <a:pt x="53" y="135"/>
                  <a:pt x="50" y="152"/>
                  <a:pt x="41" y="167"/>
                </a:cubicBezTo>
                <a:cubicBezTo>
                  <a:pt x="33" y="184"/>
                  <a:pt x="16" y="193"/>
                  <a:pt x="0" y="194"/>
                </a:cubicBezTo>
                <a:cubicBezTo>
                  <a:pt x="37" y="183"/>
                  <a:pt x="31" y="146"/>
                  <a:pt x="37" y="111"/>
                </a:cubicBezTo>
                <a:cubicBezTo>
                  <a:pt x="50" y="70"/>
                  <a:pt x="87" y="44"/>
                  <a:pt x="123" y="31"/>
                </a:cubicBezTo>
                <a:cubicBezTo>
                  <a:pt x="160" y="17"/>
                  <a:pt x="197" y="11"/>
                  <a:pt x="231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96"/>
          <p:cNvSpPr/>
          <p:nvPr/>
        </p:nvSpPr>
        <p:spPr>
          <a:xfrm>
            <a:off x="5875200" y="968400"/>
            <a:ext cx="571680" cy="530280"/>
          </a:xfrm>
          <a:custGeom>
            <a:avLst/>
            <a:gdLst>
              <a:gd name="textAreaLeft" fmla="*/ 0 w 571680"/>
              <a:gd name="textAreaRight" fmla="*/ 572040 w 5716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192" h="237">
                <a:moveTo>
                  <a:pt x="158" y="5"/>
                </a:moveTo>
                <a:cubicBezTo>
                  <a:pt x="182" y="0"/>
                  <a:pt x="182" y="0"/>
                  <a:pt x="182" y="0"/>
                </a:cubicBezTo>
                <a:cubicBezTo>
                  <a:pt x="190" y="41"/>
                  <a:pt x="192" y="82"/>
                  <a:pt x="179" y="124"/>
                </a:cubicBezTo>
                <a:cubicBezTo>
                  <a:pt x="173" y="145"/>
                  <a:pt x="158" y="167"/>
                  <a:pt x="135" y="176"/>
                </a:cubicBezTo>
                <a:cubicBezTo>
                  <a:pt x="114" y="184"/>
                  <a:pt x="93" y="185"/>
                  <a:pt x="74" y="188"/>
                </a:cubicBezTo>
                <a:cubicBezTo>
                  <a:pt x="58" y="189"/>
                  <a:pt x="41" y="189"/>
                  <a:pt x="27" y="196"/>
                </a:cubicBezTo>
                <a:cubicBezTo>
                  <a:pt x="12" y="202"/>
                  <a:pt x="5" y="219"/>
                  <a:pt x="6" y="237"/>
                </a:cubicBezTo>
                <a:cubicBezTo>
                  <a:pt x="0" y="220"/>
                  <a:pt x="4" y="197"/>
                  <a:pt x="21" y="184"/>
                </a:cubicBezTo>
                <a:cubicBezTo>
                  <a:pt x="38" y="172"/>
                  <a:pt x="57" y="168"/>
                  <a:pt x="74" y="163"/>
                </a:cubicBezTo>
                <a:cubicBezTo>
                  <a:pt x="94" y="161"/>
                  <a:pt x="113" y="159"/>
                  <a:pt x="128" y="152"/>
                </a:cubicBezTo>
                <a:cubicBezTo>
                  <a:pt x="142" y="146"/>
                  <a:pt x="151" y="132"/>
                  <a:pt x="156" y="115"/>
                </a:cubicBezTo>
                <a:cubicBezTo>
                  <a:pt x="166" y="81"/>
                  <a:pt x="165" y="41"/>
                  <a:pt x="158" y="5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97"/>
          <p:cNvSpPr/>
          <p:nvPr/>
        </p:nvSpPr>
        <p:spPr>
          <a:xfrm>
            <a:off x="6521400" y="1257480"/>
            <a:ext cx="503280" cy="906120"/>
          </a:xfrm>
          <a:custGeom>
            <a:avLst/>
            <a:gdLst>
              <a:gd name="textAreaLeft" fmla="*/ 0 w 503280"/>
              <a:gd name="textAreaRight" fmla="*/ 503640 w 50328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169" h="406">
                <a:moveTo>
                  <a:pt x="0" y="2"/>
                </a:moveTo>
                <a:cubicBezTo>
                  <a:pt x="25" y="0"/>
                  <a:pt x="25" y="0"/>
                  <a:pt x="25" y="0"/>
                </a:cubicBezTo>
                <a:cubicBezTo>
                  <a:pt x="28" y="53"/>
                  <a:pt x="80" y="80"/>
                  <a:pt x="124" y="118"/>
                </a:cubicBezTo>
                <a:cubicBezTo>
                  <a:pt x="147" y="138"/>
                  <a:pt x="167" y="164"/>
                  <a:pt x="168" y="198"/>
                </a:cubicBezTo>
                <a:cubicBezTo>
                  <a:pt x="169" y="231"/>
                  <a:pt x="156" y="259"/>
                  <a:pt x="143" y="284"/>
                </a:cubicBezTo>
                <a:cubicBezTo>
                  <a:pt x="116" y="327"/>
                  <a:pt x="83" y="362"/>
                  <a:pt x="61" y="406"/>
                </a:cubicBezTo>
                <a:cubicBezTo>
                  <a:pt x="76" y="357"/>
                  <a:pt x="105" y="314"/>
                  <a:pt x="123" y="269"/>
                </a:cubicBezTo>
                <a:cubicBezTo>
                  <a:pt x="134" y="245"/>
                  <a:pt x="146" y="219"/>
                  <a:pt x="143" y="196"/>
                </a:cubicBezTo>
                <a:cubicBezTo>
                  <a:pt x="141" y="173"/>
                  <a:pt x="126" y="151"/>
                  <a:pt x="106" y="135"/>
                </a:cubicBezTo>
                <a:cubicBezTo>
                  <a:pt x="87" y="117"/>
                  <a:pt x="62" y="103"/>
                  <a:pt x="41" y="82"/>
                </a:cubicBezTo>
                <a:cubicBezTo>
                  <a:pt x="19" y="63"/>
                  <a:pt x="3" y="33"/>
                  <a:pt x="0" y="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8"/>
          <p:cNvSpPr/>
          <p:nvPr/>
        </p:nvSpPr>
        <p:spPr>
          <a:xfrm>
            <a:off x="5824440" y="2000160"/>
            <a:ext cx="209520" cy="465120"/>
          </a:xfrm>
          <a:custGeom>
            <a:avLst/>
            <a:gdLst>
              <a:gd name="textAreaLeft" fmla="*/ 0 w 209520"/>
              <a:gd name="textAreaRight" fmla="*/ 209880 w 2095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70" h="208">
                <a:moveTo>
                  <a:pt x="21" y="0"/>
                </a:moveTo>
                <a:cubicBezTo>
                  <a:pt x="45" y="4"/>
                  <a:pt x="45" y="4"/>
                  <a:pt x="45" y="4"/>
                </a:cubicBezTo>
                <a:cubicBezTo>
                  <a:pt x="36" y="52"/>
                  <a:pt x="70" y="101"/>
                  <a:pt x="57" y="163"/>
                </a:cubicBezTo>
                <a:cubicBezTo>
                  <a:pt x="44" y="188"/>
                  <a:pt x="21" y="201"/>
                  <a:pt x="0" y="208"/>
                </a:cubicBezTo>
                <a:cubicBezTo>
                  <a:pt x="19" y="193"/>
                  <a:pt x="33" y="174"/>
                  <a:pt x="34" y="154"/>
                </a:cubicBezTo>
                <a:cubicBezTo>
                  <a:pt x="44" y="110"/>
                  <a:pt x="12" y="58"/>
                  <a:pt x="21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99"/>
          <p:cNvSpPr/>
          <p:nvPr/>
        </p:nvSpPr>
        <p:spPr>
          <a:xfrm>
            <a:off x="6665760" y="285840"/>
            <a:ext cx="586080" cy="676080"/>
          </a:xfrm>
          <a:custGeom>
            <a:avLst/>
            <a:gdLst>
              <a:gd name="textAreaLeft" fmla="*/ 0 w 586080"/>
              <a:gd name="textAreaRight" fmla="*/ 586440 w 5860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197" h="303">
                <a:moveTo>
                  <a:pt x="2" y="0"/>
                </a:moveTo>
                <a:cubicBezTo>
                  <a:pt x="27" y="1"/>
                  <a:pt x="27" y="1"/>
                  <a:pt x="27" y="1"/>
                </a:cubicBezTo>
                <a:cubicBezTo>
                  <a:pt x="26" y="22"/>
                  <a:pt x="32" y="40"/>
                  <a:pt x="47" y="52"/>
                </a:cubicBezTo>
                <a:cubicBezTo>
                  <a:pt x="62" y="65"/>
                  <a:pt x="83" y="73"/>
                  <a:pt x="104" y="81"/>
                </a:cubicBezTo>
                <a:cubicBezTo>
                  <a:pt x="125" y="89"/>
                  <a:pt x="148" y="97"/>
                  <a:pt x="168" y="114"/>
                </a:cubicBezTo>
                <a:cubicBezTo>
                  <a:pt x="191" y="131"/>
                  <a:pt x="197" y="161"/>
                  <a:pt x="197" y="184"/>
                </a:cubicBezTo>
                <a:cubicBezTo>
                  <a:pt x="193" y="226"/>
                  <a:pt x="178" y="263"/>
                  <a:pt x="185" y="303"/>
                </a:cubicBezTo>
                <a:cubicBezTo>
                  <a:pt x="170" y="264"/>
                  <a:pt x="178" y="219"/>
                  <a:pt x="172" y="181"/>
                </a:cubicBezTo>
                <a:cubicBezTo>
                  <a:pt x="175" y="136"/>
                  <a:pt x="137" y="118"/>
                  <a:pt x="93" y="103"/>
                </a:cubicBezTo>
                <a:cubicBezTo>
                  <a:pt x="72" y="95"/>
                  <a:pt x="50" y="87"/>
                  <a:pt x="30" y="71"/>
                </a:cubicBezTo>
                <a:cubicBezTo>
                  <a:pt x="9" y="53"/>
                  <a:pt x="0" y="24"/>
                  <a:pt x="2" y="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00"/>
          <p:cNvSpPr/>
          <p:nvPr/>
        </p:nvSpPr>
        <p:spPr>
          <a:xfrm>
            <a:off x="7297560" y="1379520"/>
            <a:ext cx="781200" cy="954000"/>
          </a:xfrm>
          <a:custGeom>
            <a:avLst/>
            <a:gdLst>
              <a:gd name="textAreaLeft" fmla="*/ 0 w 781200"/>
              <a:gd name="textAreaRight" fmla="*/ 781560 w 78120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62" h="427">
                <a:moveTo>
                  <a:pt x="0" y="22"/>
                </a:moveTo>
                <a:cubicBezTo>
                  <a:pt x="13" y="0"/>
                  <a:pt x="13" y="0"/>
                  <a:pt x="13" y="0"/>
                </a:cubicBezTo>
                <a:cubicBezTo>
                  <a:pt x="70" y="31"/>
                  <a:pt x="141" y="43"/>
                  <a:pt x="204" y="80"/>
                </a:cubicBezTo>
                <a:cubicBezTo>
                  <a:pt x="219" y="89"/>
                  <a:pt x="235" y="100"/>
                  <a:pt x="246" y="117"/>
                </a:cubicBezTo>
                <a:cubicBezTo>
                  <a:pt x="258" y="133"/>
                  <a:pt x="262" y="157"/>
                  <a:pt x="257" y="176"/>
                </a:cubicBezTo>
                <a:cubicBezTo>
                  <a:pt x="245" y="215"/>
                  <a:pt x="220" y="239"/>
                  <a:pt x="201" y="268"/>
                </a:cubicBezTo>
                <a:cubicBezTo>
                  <a:pt x="182" y="291"/>
                  <a:pt x="163" y="313"/>
                  <a:pt x="159" y="341"/>
                </a:cubicBezTo>
                <a:cubicBezTo>
                  <a:pt x="155" y="369"/>
                  <a:pt x="165" y="399"/>
                  <a:pt x="177" y="427"/>
                </a:cubicBezTo>
                <a:cubicBezTo>
                  <a:pt x="161" y="400"/>
                  <a:pt x="146" y="371"/>
                  <a:pt x="147" y="337"/>
                </a:cubicBezTo>
                <a:cubicBezTo>
                  <a:pt x="149" y="303"/>
                  <a:pt x="168" y="274"/>
                  <a:pt x="184" y="249"/>
                </a:cubicBezTo>
                <a:cubicBezTo>
                  <a:pt x="203" y="221"/>
                  <a:pt x="228" y="194"/>
                  <a:pt x="234" y="167"/>
                </a:cubicBezTo>
                <a:cubicBezTo>
                  <a:pt x="240" y="139"/>
                  <a:pt x="216" y="115"/>
                  <a:pt x="188" y="99"/>
                </a:cubicBezTo>
                <a:cubicBezTo>
                  <a:pt x="131" y="66"/>
                  <a:pt x="64" y="55"/>
                  <a:pt x="0" y="2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01"/>
          <p:cNvSpPr/>
          <p:nvPr/>
        </p:nvSpPr>
        <p:spPr>
          <a:xfrm>
            <a:off x="8386920" y="517680"/>
            <a:ext cx="1660320" cy="52200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558" h="234">
                <a:moveTo>
                  <a:pt x="0" y="24"/>
                </a:moveTo>
                <a:cubicBezTo>
                  <a:pt x="5" y="0"/>
                  <a:pt x="5" y="0"/>
                  <a:pt x="5" y="0"/>
                </a:cubicBezTo>
                <a:cubicBezTo>
                  <a:pt x="46" y="9"/>
                  <a:pt x="79" y="30"/>
                  <a:pt x="113" y="44"/>
                </a:cubicBezTo>
                <a:cubicBezTo>
                  <a:pt x="148" y="58"/>
                  <a:pt x="184" y="69"/>
                  <a:pt x="220" y="75"/>
                </a:cubicBezTo>
                <a:cubicBezTo>
                  <a:pt x="295" y="89"/>
                  <a:pt x="370" y="87"/>
                  <a:pt x="448" y="90"/>
                </a:cubicBezTo>
                <a:cubicBezTo>
                  <a:pt x="480" y="95"/>
                  <a:pt x="520" y="102"/>
                  <a:pt x="540" y="135"/>
                </a:cubicBezTo>
                <a:cubicBezTo>
                  <a:pt x="558" y="167"/>
                  <a:pt x="552" y="202"/>
                  <a:pt x="546" y="234"/>
                </a:cubicBezTo>
                <a:cubicBezTo>
                  <a:pt x="548" y="201"/>
                  <a:pt x="548" y="163"/>
                  <a:pt x="528" y="140"/>
                </a:cubicBezTo>
                <a:cubicBezTo>
                  <a:pt x="508" y="116"/>
                  <a:pt x="472" y="115"/>
                  <a:pt x="440" y="114"/>
                </a:cubicBezTo>
                <a:cubicBezTo>
                  <a:pt x="366" y="113"/>
                  <a:pt x="288" y="113"/>
                  <a:pt x="213" y="99"/>
                </a:cubicBezTo>
                <a:cubicBezTo>
                  <a:pt x="175" y="92"/>
                  <a:pt x="138" y="81"/>
                  <a:pt x="102" y="66"/>
                </a:cubicBezTo>
                <a:cubicBezTo>
                  <a:pt x="67" y="51"/>
                  <a:pt x="34" y="32"/>
                  <a:pt x="0" y="24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02"/>
          <p:cNvSpPr/>
          <p:nvPr/>
        </p:nvSpPr>
        <p:spPr>
          <a:xfrm>
            <a:off x="8996400" y="1201680"/>
            <a:ext cx="488880" cy="1006560"/>
          </a:xfrm>
          <a:custGeom>
            <a:avLst/>
            <a:gdLst>
              <a:gd name="textAreaLeft" fmla="*/ 0 w 488880"/>
              <a:gd name="textAreaRight" fmla="*/ 489240 w 48888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164" h="451">
                <a:moveTo>
                  <a:pt x="0" y="11"/>
                </a:moveTo>
                <a:cubicBezTo>
                  <a:pt x="22" y="0"/>
                  <a:pt x="22" y="0"/>
                  <a:pt x="22" y="0"/>
                </a:cubicBezTo>
                <a:cubicBezTo>
                  <a:pt x="77" y="105"/>
                  <a:pt x="60" y="226"/>
                  <a:pt x="94" y="328"/>
                </a:cubicBezTo>
                <a:cubicBezTo>
                  <a:pt x="105" y="373"/>
                  <a:pt x="130" y="416"/>
                  <a:pt x="164" y="451"/>
                </a:cubicBezTo>
                <a:cubicBezTo>
                  <a:pt x="123" y="422"/>
                  <a:pt x="89" y="380"/>
                  <a:pt x="69" y="332"/>
                </a:cubicBezTo>
                <a:cubicBezTo>
                  <a:pt x="35" y="222"/>
                  <a:pt x="51" y="107"/>
                  <a:pt x="0" y="11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03"/>
          <p:cNvSpPr/>
          <p:nvPr/>
        </p:nvSpPr>
        <p:spPr>
          <a:xfrm>
            <a:off x="10383840" y="1498680"/>
            <a:ext cx="307800" cy="674640"/>
          </a:xfrm>
          <a:custGeom>
            <a:avLst/>
            <a:gdLst>
              <a:gd name="textAreaLeft" fmla="*/ 0 w 307800"/>
              <a:gd name="textAreaRight" fmla="*/ 308160 w 30780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103" h="302">
                <a:moveTo>
                  <a:pt x="52" y="17"/>
                </a:moveTo>
                <a:cubicBezTo>
                  <a:pt x="70" y="0"/>
                  <a:pt x="70" y="0"/>
                  <a:pt x="70" y="0"/>
                </a:cubicBezTo>
                <a:cubicBezTo>
                  <a:pt x="83" y="14"/>
                  <a:pt x="95" y="33"/>
                  <a:pt x="99" y="55"/>
                </a:cubicBezTo>
                <a:cubicBezTo>
                  <a:pt x="103" y="77"/>
                  <a:pt x="97" y="98"/>
                  <a:pt x="88" y="116"/>
                </a:cubicBezTo>
                <a:cubicBezTo>
                  <a:pt x="72" y="152"/>
                  <a:pt x="42" y="180"/>
                  <a:pt x="32" y="210"/>
                </a:cubicBezTo>
                <a:cubicBezTo>
                  <a:pt x="19" y="235"/>
                  <a:pt x="24" y="270"/>
                  <a:pt x="24" y="302"/>
                </a:cubicBezTo>
                <a:cubicBezTo>
                  <a:pt x="17" y="270"/>
                  <a:pt x="0" y="238"/>
                  <a:pt x="9" y="199"/>
                </a:cubicBezTo>
                <a:cubicBezTo>
                  <a:pt x="25" y="160"/>
                  <a:pt x="53" y="136"/>
                  <a:pt x="66" y="104"/>
                </a:cubicBezTo>
                <a:cubicBezTo>
                  <a:pt x="82" y="74"/>
                  <a:pt x="76" y="41"/>
                  <a:pt x="52" y="17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04"/>
          <p:cNvSpPr/>
          <p:nvPr/>
        </p:nvSpPr>
        <p:spPr>
          <a:xfrm>
            <a:off x="5657760" y="0"/>
            <a:ext cx="1052640" cy="266400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w="353" h="1193">
                <a:moveTo>
                  <a:pt x="78" y="142"/>
                </a:moveTo>
                <a:cubicBezTo>
                  <a:pt x="133" y="232"/>
                  <a:pt x="218" y="314"/>
                  <a:pt x="217" y="414"/>
                </a:cubicBezTo>
                <a:cubicBezTo>
                  <a:pt x="219" y="441"/>
                  <a:pt x="220" y="469"/>
                  <a:pt x="231" y="500"/>
                </a:cubicBezTo>
                <a:cubicBezTo>
                  <a:pt x="242" y="531"/>
                  <a:pt x="260" y="553"/>
                  <a:pt x="272" y="574"/>
                </a:cubicBezTo>
                <a:cubicBezTo>
                  <a:pt x="297" y="611"/>
                  <a:pt x="286" y="661"/>
                  <a:pt x="259" y="701"/>
                </a:cubicBezTo>
                <a:cubicBezTo>
                  <a:pt x="248" y="720"/>
                  <a:pt x="233" y="738"/>
                  <a:pt x="218" y="757"/>
                </a:cubicBezTo>
                <a:cubicBezTo>
                  <a:pt x="205" y="771"/>
                  <a:pt x="185" y="786"/>
                  <a:pt x="166" y="801"/>
                </a:cubicBezTo>
                <a:cubicBezTo>
                  <a:pt x="146" y="816"/>
                  <a:pt x="126" y="832"/>
                  <a:pt x="108" y="850"/>
                </a:cubicBezTo>
                <a:cubicBezTo>
                  <a:pt x="90" y="868"/>
                  <a:pt x="70" y="890"/>
                  <a:pt x="68" y="922"/>
                </a:cubicBezTo>
                <a:cubicBezTo>
                  <a:pt x="66" y="981"/>
                  <a:pt x="107" y="1020"/>
                  <a:pt x="131" y="1059"/>
                </a:cubicBezTo>
                <a:cubicBezTo>
                  <a:pt x="159" y="1098"/>
                  <a:pt x="176" y="1147"/>
                  <a:pt x="157" y="1193"/>
                </a:cubicBezTo>
                <a:cubicBezTo>
                  <a:pt x="179" y="1150"/>
                  <a:pt x="168" y="1098"/>
                  <a:pt x="144" y="1057"/>
                </a:cubicBezTo>
                <a:cubicBezTo>
                  <a:pt x="123" y="1015"/>
                  <a:pt x="91" y="975"/>
                  <a:pt x="92" y="932"/>
                </a:cubicBezTo>
                <a:cubicBezTo>
                  <a:pt x="93" y="891"/>
                  <a:pt x="139" y="865"/>
                  <a:pt x="176" y="839"/>
                </a:cubicBezTo>
                <a:cubicBezTo>
                  <a:pt x="196" y="826"/>
                  <a:pt x="216" y="814"/>
                  <a:pt x="236" y="799"/>
                </a:cubicBezTo>
                <a:cubicBezTo>
                  <a:pt x="258" y="780"/>
                  <a:pt x="272" y="764"/>
                  <a:pt x="289" y="744"/>
                </a:cubicBezTo>
                <a:cubicBezTo>
                  <a:pt x="324" y="699"/>
                  <a:pt x="353" y="631"/>
                  <a:pt x="324" y="566"/>
                </a:cubicBezTo>
                <a:cubicBezTo>
                  <a:pt x="310" y="538"/>
                  <a:pt x="292" y="516"/>
                  <a:pt x="282" y="495"/>
                </a:cubicBezTo>
                <a:cubicBezTo>
                  <a:pt x="272" y="476"/>
                  <a:pt x="270" y="451"/>
                  <a:pt x="267" y="424"/>
                </a:cubicBezTo>
                <a:cubicBezTo>
                  <a:pt x="265" y="396"/>
                  <a:pt x="264" y="370"/>
                  <a:pt x="255" y="336"/>
                </a:cubicBezTo>
                <a:cubicBezTo>
                  <a:pt x="245" y="309"/>
                  <a:pt x="232" y="283"/>
                  <a:pt x="217" y="258"/>
                </a:cubicBezTo>
                <a:cubicBezTo>
                  <a:pt x="185" y="209"/>
                  <a:pt x="156" y="168"/>
                  <a:pt x="124" y="121"/>
                </a:cubicBezTo>
                <a:cubicBezTo>
                  <a:pt x="96" y="81"/>
                  <a:pt x="66" y="41"/>
                  <a:pt x="52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57"/>
                  <a:pt x="49" y="100"/>
                  <a:pt x="78" y="142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05"/>
          <p:cNvSpPr/>
          <p:nvPr/>
        </p:nvSpPr>
        <p:spPr>
          <a:xfrm>
            <a:off x="3490920" y="0"/>
            <a:ext cx="2662200" cy="267660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894" h="1199">
                <a:moveTo>
                  <a:pt x="746" y="207"/>
                </a:moveTo>
                <a:cubicBezTo>
                  <a:pt x="661" y="282"/>
                  <a:pt x="560" y="371"/>
                  <a:pt x="515" y="490"/>
                </a:cubicBezTo>
                <a:cubicBezTo>
                  <a:pt x="463" y="604"/>
                  <a:pt x="467" y="735"/>
                  <a:pt x="412" y="829"/>
                </a:cubicBezTo>
                <a:cubicBezTo>
                  <a:pt x="389" y="872"/>
                  <a:pt x="349" y="902"/>
                  <a:pt x="300" y="917"/>
                </a:cubicBezTo>
                <a:cubicBezTo>
                  <a:pt x="252" y="932"/>
                  <a:pt x="197" y="933"/>
                  <a:pt x="142" y="941"/>
                </a:cubicBezTo>
                <a:cubicBezTo>
                  <a:pt x="115" y="945"/>
                  <a:pt x="86" y="952"/>
                  <a:pt x="60" y="967"/>
                </a:cubicBezTo>
                <a:cubicBezTo>
                  <a:pt x="34" y="981"/>
                  <a:pt x="14" y="1008"/>
                  <a:pt x="9" y="1037"/>
                </a:cubicBezTo>
                <a:cubicBezTo>
                  <a:pt x="0" y="1095"/>
                  <a:pt x="20" y="1148"/>
                  <a:pt x="37" y="1199"/>
                </a:cubicBezTo>
                <a:cubicBezTo>
                  <a:pt x="24" y="1149"/>
                  <a:pt x="10" y="1095"/>
                  <a:pt x="20" y="1044"/>
                </a:cubicBezTo>
                <a:cubicBezTo>
                  <a:pt x="30" y="991"/>
                  <a:pt x="86" y="970"/>
                  <a:pt x="135" y="967"/>
                </a:cubicBezTo>
                <a:cubicBezTo>
                  <a:pt x="186" y="963"/>
                  <a:pt x="239" y="966"/>
                  <a:pt x="294" y="957"/>
                </a:cubicBezTo>
                <a:cubicBezTo>
                  <a:pt x="348" y="948"/>
                  <a:pt x="405" y="921"/>
                  <a:pt x="441" y="874"/>
                </a:cubicBezTo>
                <a:cubicBezTo>
                  <a:pt x="481" y="818"/>
                  <a:pt x="497" y="755"/>
                  <a:pt x="509" y="695"/>
                </a:cubicBezTo>
                <a:cubicBezTo>
                  <a:pt x="521" y="635"/>
                  <a:pt x="534" y="577"/>
                  <a:pt x="555" y="523"/>
                </a:cubicBezTo>
                <a:cubicBezTo>
                  <a:pt x="595" y="411"/>
                  <a:pt x="680" y="331"/>
                  <a:pt x="774" y="249"/>
                </a:cubicBezTo>
                <a:cubicBezTo>
                  <a:pt x="820" y="204"/>
                  <a:pt x="856" y="147"/>
                  <a:pt x="875" y="86"/>
                </a:cubicBezTo>
                <a:cubicBezTo>
                  <a:pt x="884" y="57"/>
                  <a:pt x="890" y="29"/>
                  <a:pt x="894" y="0"/>
                </a:cubicBezTo>
                <a:cubicBezTo>
                  <a:pt x="844" y="0"/>
                  <a:pt x="844" y="0"/>
                  <a:pt x="844" y="0"/>
                </a:cubicBezTo>
                <a:cubicBezTo>
                  <a:pt x="831" y="79"/>
                  <a:pt x="802" y="151"/>
                  <a:pt x="746" y="207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06"/>
          <p:cNvSpPr/>
          <p:nvPr/>
        </p:nvSpPr>
        <p:spPr>
          <a:xfrm>
            <a:off x="6622920" y="0"/>
            <a:ext cx="1954440" cy="2649600"/>
          </a:xfrm>
          <a:custGeom>
            <a:avLst/>
            <a:gdLst>
              <a:gd name="textAreaLeft" fmla="*/ 0 w 1954440"/>
              <a:gd name="textAreaRight" fmla="*/ 1954800 w 1954440"/>
              <a:gd name="textAreaTop" fmla="*/ 0 h 2649600"/>
              <a:gd name="textAreaBottom" fmla="*/ 2649960 h 2649600"/>
            </a:gdLst>
            <a:ahLst/>
            <a:rect l="textAreaLeft" t="textAreaTop" r="textAreaRight" b="textAreaBottom"/>
            <a:pathLst>
              <a:path w="656" h="1187">
                <a:moveTo>
                  <a:pt x="4" y="178"/>
                </a:moveTo>
                <a:cubicBezTo>
                  <a:pt x="8" y="297"/>
                  <a:pt x="12" y="428"/>
                  <a:pt x="82" y="540"/>
                </a:cubicBezTo>
                <a:cubicBezTo>
                  <a:pt x="117" y="595"/>
                  <a:pt x="171" y="638"/>
                  <a:pt x="230" y="663"/>
                </a:cubicBezTo>
                <a:cubicBezTo>
                  <a:pt x="289" y="690"/>
                  <a:pt x="351" y="700"/>
                  <a:pt x="411" y="710"/>
                </a:cubicBezTo>
                <a:cubicBezTo>
                  <a:pt x="465" y="717"/>
                  <a:pt x="519" y="722"/>
                  <a:pt x="564" y="742"/>
                </a:cubicBezTo>
                <a:cubicBezTo>
                  <a:pt x="611" y="761"/>
                  <a:pt x="632" y="808"/>
                  <a:pt x="626" y="861"/>
                </a:cubicBezTo>
                <a:cubicBezTo>
                  <a:pt x="621" y="912"/>
                  <a:pt x="607" y="968"/>
                  <a:pt x="605" y="1023"/>
                </a:cubicBezTo>
                <a:cubicBezTo>
                  <a:pt x="602" y="1078"/>
                  <a:pt x="609" y="1134"/>
                  <a:pt x="625" y="1187"/>
                </a:cubicBezTo>
                <a:cubicBezTo>
                  <a:pt x="599" y="1081"/>
                  <a:pt x="623" y="977"/>
                  <a:pt x="650" y="874"/>
                </a:cubicBezTo>
                <a:cubicBezTo>
                  <a:pt x="655" y="847"/>
                  <a:pt x="656" y="818"/>
                  <a:pt x="648" y="789"/>
                </a:cubicBezTo>
                <a:cubicBezTo>
                  <a:pt x="641" y="760"/>
                  <a:pt x="621" y="734"/>
                  <a:pt x="596" y="718"/>
                </a:cubicBezTo>
                <a:cubicBezTo>
                  <a:pt x="547" y="685"/>
                  <a:pt x="491" y="676"/>
                  <a:pt x="439" y="664"/>
                </a:cubicBezTo>
                <a:cubicBezTo>
                  <a:pt x="320" y="648"/>
                  <a:pt x="198" y="620"/>
                  <a:pt x="132" y="525"/>
                </a:cubicBezTo>
                <a:cubicBezTo>
                  <a:pt x="66" y="432"/>
                  <a:pt x="58" y="306"/>
                  <a:pt x="54" y="187"/>
                </a:cubicBezTo>
                <a:cubicBezTo>
                  <a:pt x="48" y="127"/>
                  <a:pt x="63" y="70"/>
                  <a:pt x="58" y="2"/>
                </a:cubicBezTo>
                <a:cubicBezTo>
                  <a:pt x="58" y="1"/>
                  <a:pt x="58" y="1"/>
                  <a:pt x="58" y="0"/>
                </a:cubicBezTo>
                <a:cubicBezTo>
                  <a:pt x="8" y="0"/>
                  <a:pt x="8" y="0"/>
                  <a:pt x="8" y="0"/>
                </a:cubicBezTo>
                <a:cubicBezTo>
                  <a:pt x="15" y="53"/>
                  <a:pt x="0" y="115"/>
                  <a:pt x="4" y="17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6"/>
          <p:cNvSpPr/>
          <p:nvPr/>
        </p:nvSpPr>
        <p:spPr>
          <a:xfrm>
            <a:off x="976932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2"/>
          <p:cNvSpPr/>
          <p:nvPr/>
        </p:nvSpPr>
        <p:spPr>
          <a:xfrm>
            <a:off x="26028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13"/>
          <p:cNvSpPr/>
          <p:nvPr/>
        </p:nvSpPr>
        <p:spPr>
          <a:xfrm>
            <a:off x="2625840" y="2708280"/>
            <a:ext cx="20872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4"/>
          <p:cNvSpPr/>
          <p:nvPr/>
        </p:nvSpPr>
        <p:spPr>
          <a:xfrm>
            <a:off x="5006880" y="2708280"/>
            <a:ext cx="2087640" cy="13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5"/>
          <p:cNvSpPr/>
          <p:nvPr/>
        </p:nvSpPr>
        <p:spPr>
          <a:xfrm>
            <a:off x="7388280" y="2708280"/>
            <a:ext cx="2087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54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40"/>
          <p:cNvGrpSpPr/>
          <p:nvPr/>
        </p:nvGrpSpPr>
        <p:grpSpPr>
          <a:xfrm>
            <a:off x="659520" y="2633760"/>
            <a:ext cx="10347480" cy="1434600"/>
            <a:chOff x="659520" y="2633760"/>
            <a:chExt cx="10347480" cy="1434600"/>
          </a:xfrm>
        </p:grpSpPr>
        <p:sp>
          <p:nvSpPr>
            <p:cNvPr id="325" name="TextBox 1"/>
            <p:cNvSpPr/>
            <p:nvPr/>
          </p:nvSpPr>
          <p:spPr>
            <a:xfrm>
              <a:off x="659520" y="26337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放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衰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"/>
            <p:cNvSpPr/>
            <p:nvPr/>
          </p:nvSpPr>
          <p:spPr>
            <a:xfrm>
              <a:off x="3072600" y="2739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基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公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7"/>
            <p:cNvSpPr/>
            <p:nvPr/>
          </p:nvSpPr>
          <p:spPr>
            <a:xfrm>
              <a:off x="5496840" y="27396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著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实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38"/>
            <p:cNvSpPr/>
            <p:nvPr/>
          </p:nvSpPr>
          <p:spPr>
            <a:xfrm>
              <a:off x="7796160" y="269496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课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扩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39"/>
            <p:cNvSpPr/>
            <p:nvPr/>
          </p:nvSpPr>
          <p:spPr>
            <a:xfrm>
              <a:off x="10216800" y="268164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其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汉仪菱心体简"/>
                  <a:ea typeface="汉仪菱心体简"/>
                </a:rPr>
                <a:t>延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42"/>
          <p:cNvSpPr/>
          <p:nvPr/>
        </p:nvSpPr>
        <p:spPr>
          <a:xfrm>
            <a:off x="2411280" y="5227560"/>
            <a:ext cx="802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除了看似枯燥的理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还有精彩的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1"/>
          <p:cNvSpPr/>
          <p:nvPr/>
        </p:nvSpPr>
        <p:spPr>
          <a:xfrm>
            <a:off x="876240" y="7450200"/>
            <a:ext cx="1058760" cy="82440"/>
          </a:xfrm>
          <a:custGeom>
            <a:avLst/>
            <a:gdLst>
              <a:gd name="textAreaLeft" fmla="*/ 0 w 1058760"/>
              <a:gd name="textAreaRight" fmla="*/ 1059120 w 105876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79" h="29">
                <a:moveTo>
                  <a:pt x="279" y="0"/>
                </a:moveTo>
                <a:cubicBezTo>
                  <a:pt x="259" y="13"/>
                  <a:pt x="213" y="29"/>
                  <a:pt x="189" y="28"/>
                </a:cubicBezTo>
                <a:cubicBezTo>
                  <a:pt x="161" y="27"/>
                  <a:pt x="38" y="26"/>
                  <a:pt x="27" y="17"/>
                </a:cubicBezTo>
                <a:cubicBezTo>
                  <a:pt x="16" y="8"/>
                  <a:pt x="0" y="6"/>
                  <a:pt x="0" y="6"/>
                </a:cubicBezTo>
                <a:cubicBezTo>
                  <a:pt x="5" y="16"/>
                  <a:pt x="5" y="16"/>
                  <a:pt x="5" y="16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2"/>
          <p:cNvSpPr/>
          <p:nvPr/>
        </p:nvSpPr>
        <p:spPr>
          <a:xfrm>
            <a:off x="1454040" y="5910120"/>
            <a:ext cx="527040" cy="1540080"/>
          </a:xfrm>
          <a:custGeom>
            <a:avLst/>
            <a:gdLst/>
            <a:ahLst/>
            <a:rect l="l" t="t" r="r" b="b"/>
            <a:pathLst>
              <a:path w="10000" h="9736">
                <a:moveTo>
                  <a:pt x="2334" y="0"/>
                </a:moveTo>
                <a:cubicBezTo>
                  <a:pt x="1870" y="74"/>
                  <a:pt x="18" y="150"/>
                  <a:pt x="1" y="185"/>
                </a:cubicBezTo>
                <a:cubicBezTo>
                  <a:pt x="-16" y="220"/>
                  <a:pt x="2016" y="189"/>
                  <a:pt x="2232" y="210"/>
                </a:cubicBezTo>
                <a:cubicBezTo>
                  <a:pt x="2447" y="231"/>
                  <a:pt x="1112" y="271"/>
                  <a:pt x="1296" y="311"/>
                </a:cubicBezTo>
                <a:cubicBezTo>
                  <a:pt x="1512" y="311"/>
                  <a:pt x="1730" y="456"/>
                  <a:pt x="1730" y="456"/>
                </a:cubicBezTo>
                <a:lnTo>
                  <a:pt x="2953" y="653"/>
                </a:lnTo>
                <a:cubicBezTo>
                  <a:pt x="2953" y="653"/>
                  <a:pt x="4250" y="1103"/>
                  <a:pt x="4393" y="1319"/>
                </a:cubicBezTo>
                <a:cubicBezTo>
                  <a:pt x="4610" y="1535"/>
                  <a:pt x="4610" y="1984"/>
                  <a:pt x="4465" y="2164"/>
                </a:cubicBezTo>
                <a:cubicBezTo>
                  <a:pt x="4322" y="2325"/>
                  <a:pt x="4827" y="2416"/>
                  <a:pt x="4827" y="2416"/>
                </a:cubicBezTo>
                <a:cubicBezTo>
                  <a:pt x="4827" y="2416"/>
                  <a:pt x="5690" y="2505"/>
                  <a:pt x="5835" y="2667"/>
                </a:cubicBezTo>
                <a:cubicBezTo>
                  <a:pt x="5979" y="2847"/>
                  <a:pt x="6195" y="4341"/>
                  <a:pt x="6411" y="4250"/>
                </a:cubicBezTo>
                <a:cubicBezTo>
                  <a:pt x="6628" y="4143"/>
                  <a:pt x="7923" y="4610"/>
                  <a:pt x="7779" y="4682"/>
                </a:cubicBezTo>
                <a:cubicBezTo>
                  <a:pt x="7708" y="4755"/>
                  <a:pt x="7853" y="5366"/>
                  <a:pt x="7997" y="5492"/>
                </a:cubicBezTo>
                <a:cubicBezTo>
                  <a:pt x="8069" y="5617"/>
                  <a:pt x="9294" y="6805"/>
                  <a:pt x="9509" y="7127"/>
                </a:cubicBezTo>
                <a:cubicBezTo>
                  <a:pt x="9653" y="7452"/>
                  <a:pt x="10447" y="9376"/>
                  <a:pt x="9653" y="9627"/>
                </a:cubicBezTo>
                <a:cubicBezTo>
                  <a:pt x="9509" y="9664"/>
                  <a:pt x="9365" y="9700"/>
                  <a:pt x="9149" y="9736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3"/>
          <p:cNvSpPr/>
          <p:nvPr/>
        </p:nvSpPr>
        <p:spPr>
          <a:xfrm rot="1269600">
            <a:off x="1485720" y="5756400"/>
            <a:ext cx="1031760" cy="312480"/>
          </a:xfrm>
          <a:custGeom>
            <a:avLst/>
            <a:gdLst/>
            <a:ahLst/>
            <a:rect l="l" t="t" r="r" b="b"/>
            <a:pathLst>
              <a:path w="10253" h="9408">
                <a:moveTo>
                  <a:pt x="10253" y="1086"/>
                </a:moveTo>
                <a:cubicBezTo>
                  <a:pt x="9951" y="744"/>
                  <a:pt x="10054" y="301"/>
                  <a:pt x="9358" y="263"/>
                </a:cubicBezTo>
                <a:cubicBezTo>
                  <a:pt x="8662" y="226"/>
                  <a:pt x="7396" y="-592"/>
                  <a:pt x="6075" y="861"/>
                </a:cubicBezTo>
                <a:cubicBezTo>
                  <a:pt x="4755" y="2399"/>
                  <a:pt x="2717" y="4536"/>
                  <a:pt x="1811" y="6075"/>
                </a:cubicBezTo>
                <a:cubicBezTo>
                  <a:pt x="906" y="7528"/>
                  <a:pt x="0" y="9237"/>
                  <a:pt x="0" y="9237"/>
                </a:cubicBezTo>
                <a:lnTo>
                  <a:pt x="340" y="9408"/>
                </a:ln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"/>
          <p:cNvSpPr/>
          <p:nvPr/>
        </p:nvSpPr>
        <p:spPr>
          <a:xfrm rot="1672800">
            <a:off x="993240" y="4728960"/>
            <a:ext cx="1206720" cy="1074600"/>
          </a:xfrm>
          <a:custGeom>
            <a:avLst/>
            <a:gdLst/>
            <a:ahLst/>
            <a:rect l="l" t="t" r="r" b="b"/>
            <a:pathLst>
              <a:path w="9957" h="10436">
                <a:moveTo>
                  <a:pt x="0" y="10436"/>
                </a:moveTo>
                <a:cubicBezTo>
                  <a:pt x="752" y="9884"/>
                  <a:pt x="4251" y="7146"/>
                  <a:pt x="4878" y="6731"/>
                </a:cubicBezTo>
                <a:cubicBezTo>
                  <a:pt x="5568" y="6262"/>
                  <a:pt x="7668" y="4853"/>
                  <a:pt x="8483" y="3610"/>
                </a:cubicBezTo>
                <a:cubicBezTo>
                  <a:pt x="9298" y="2367"/>
                  <a:pt x="10207" y="1427"/>
                  <a:pt x="9894" y="958"/>
                </a:cubicBezTo>
                <a:cubicBezTo>
                  <a:pt x="9611" y="461"/>
                  <a:pt x="9392" y="157"/>
                  <a:pt x="9643" y="19"/>
                </a:cubicBezTo>
                <a:cubicBezTo>
                  <a:pt x="9674" y="-9"/>
                  <a:pt x="9737" y="-9"/>
                  <a:pt x="9799" y="46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6"/>
          <p:cNvSpPr/>
          <p:nvPr/>
        </p:nvSpPr>
        <p:spPr>
          <a:xfrm rot="1158000">
            <a:off x="390600" y="5526000"/>
            <a:ext cx="635040" cy="658800"/>
          </a:xfrm>
          <a:custGeom>
            <a:avLst/>
            <a:gdLst/>
            <a:ahLst/>
            <a:rect l="l" t="t" r="r" b="b"/>
            <a:pathLst>
              <a:path w="11853" h="10007">
                <a:moveTo>
                  <a:pt x="11853" y="7119"/>
                </a:moveTo>
                <a:cubicBezTo>
                  <a:pt x="10554" y="7754"/>
                  <a:pt x="9138" y="9887"/>
                  <a:pt x="7681" y="10000"/>
                </a:cubicBezTo>
                <a:cubicBezTo>
                  <a:pt x="6224" y="10113"/>
                  <a:pt x="4390" y="8887"/>
                  <a:pt x="3110" y="7798"/>
                </a:cubicBezTo>
                <a:cubicBezTo>
                  <a:pt x="1830" y="6709"/>
                  <a:pt x="0" y="3466"/>
                  <a:pt x="0" y="3466"/>
                </a:cubicBezTo>
                <a:cubicBezTo>
                  <a:pt x="0" y="3466"/>
                  <a:pt x="3608" y="86"/>
                  <a:pt x="3891" y="0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7"/>
          <p:cNvSpPr/>
          <p:nvPr/>
        </p:nvSpPr>
        <p:spPr>
          <a:xfrm>
            <a:off x="938160" y="6041880"/>
            <a:ext cx="515880" cy="951120"/>
          </a:xfrm>
          <a:custGeom>
            <a:avLst/>
            <a:gdLst>
              <a:gd name="textAreaLeft" fmla="*/ 0 w 515880"/>
              <a:gd name="textAreaRight" fmla="*/ 516240 w 515880"/>
              <a:gd name="textAreaTop" fmla="*/ 0 h 951120"/>
              <a:gd name="textAreaBottom" fmla="*/ 951480 h 951120"/>
            </a:gdLst>
            <a:ahLst/>
            <a:rect l="textAreaLeft" t="textAreaTop" r="textAreaRight" b="textAreaBottom"/>
            <a:pathLst>
              <a:path w="136" h="334">
                <a:moveTo>
                  <a:pt x="135" y="334"/>
                </a:moveTo>
                <a:cubicBezTo>
                  <a:pt x="134" y="324"/>
                  <a:pt x="133" y="306"/>
                  <a:pt x="132" y="301"/>
                </a:cubicBezTo>
                <a:cubicBezTo>
                  <a:pt x="130" y="293"/>
                  <a:pt x="131" y="266"/>
                  <a:pt x="134" y="256"/>
                </a:cubicBezTo>
                <a:cubicBezTo>
                  <a:pt x="136" y="245"/>
                  <a:pt x="130" y="229"/>
                  <a:pt x="129" y="223"/>
                </a:cubicBezTo>
                <a:cubicBezTo>
                  <a:pt x="128" y="217"/>
                  <a:pt x="135" y="201"/>
                  <a:pt x="135" y="201"/>
                </a:cubicBezTo>
                <a:cubicBezTo>
                  <a:pt x="123" y="195"/>
                  <a:pt x="123" y="195"/>
                  <a:pt x="123" y="195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5" y="108"/>
                  <a:pt x="105" y="108"/>
                  <a:pt x="105" y="108"/>
                </a:cubicBezTo>
                <a:cubicBezTo>
                  <a:pt x="105" y="108"/>
                  <a:pt x="58" y="75"/>
                  <a:pt x="50" y="67"/>
                </a:cubicBezTo>
                <a:cubicBezTo>
                  <a:pt x="42" y="58"/>
                  <a:pt x="43" y="35"/>
                  <a:pt x="42" y="30"/>
                </a:cubicBezTo>
                <a:cubicBezTo>
                  <a:pt x="41" y="25"/>
                  <a:pt x="38" y="19"/>
                  <a:pt x="38" y="19"/>
                </a:cubicBezTo>
                <a:cubicBezTo>
                  <a:pt x="28" y="21"/>
                  <a:pt x="28" y="21"/>
                  <a:pt x="28" y="21"/>
                </a:cubicBezTo>
                <a:cubicBezTo>
                  <a:pt x="7" y="0"/>
                  <a:pt x="7" y="0"/>
                  <a:pt x="7" y="0"/>
                </a:cubicBezTo>
                <a:cubicBezTo>
                  <a:pt x="0" y="5"/>
                  <a:pt x="0" y="5"/>
                  <a:pt x="0" y="5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8"/>
          <p:cNvSpPr/>
          <p:nvPr/>
        </p:nvSpPr>
        <p:spPr>
          <a:xfrm>
            <a:off x="-47520" y="6756480"/>
            <a:ext cx="1496880" cy="27612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395" h="97">
                <a:moveTo>
                  <a:pt x="0" y="13"/>
                </a:moveTo>
                <a:cubicBezTo>
                  <a:pt x="22" y="12"/>
                  <a:pt x="76" y="8"/>
                  <a:pt x="86" y="4"/>
                </a:cubicBezTo>
                <a:cubicBezTo>
                  <a:pt x="98" y="0"/>
                  <a:pt x="140" y="6"/>
                  <a:pt x="147" y="7"/>
                </a:cubicBezTo>
                <a:cubicBezTo>
                  <a:pt x="154" y="8"/>
                  <a:pt x="199" y="6"/>
                  <a:pt x="204" y="6"/>
                </a:cubicBezTo>
                <a:cubicBezTo>
                  <a:pt x="209" y="6"/>
                  <a:pt x="274" y="49"/>
                  <a:pt x="283" y="53"/>
                </a:cubicBezTo>
                <a:cubicBezTo>
                  <a:pt x="292" y="57"/>
                  <a:pt x="372" y="97"/>
                  <a:pt x="375" y="96"/>
                </a:cubicBezTo>
                <a:cubicBezTo>
                  <a:pt x="378" y="96"/>
                  <a:pt x="395" y="91"/>
                  <a:pt x="395" y="91"/>
                </a:cubicBezTo>
                <a:cubicBezTo>
                  <a:pt x="395" y="91"/>
                  <a:pt x="395" y="88"/>
                  <a:pt x="395" y="83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4"/>
          <p:cNvSpPr/>
          <p:nvPr/>
        </p:nvSpPr>
        <p:spPr>
          <a:xfrm rot="1818600">
            <a:off x="2144880" y="5076720"/>
            <a:ext cx="739440" cy="790560"/>
          </a:xfrm>
          <a:custGeom>
            <a:avLst/>
            <a:gdLst>
              <a:gd name="textAreaLeft" fmla="*/ 0 w 739440"/>
              <a:gd name="textAreaRight" fmla="*/ 739800 w 7394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195" h="278">
                <a:moveTo>
                  <a:pt x="0" y="0"/>
                </a:moveTo>
                <a:cubicBezTo>
                  <a:pt x="19" y="13"/>
                  <a:pt x="91" y="102"/>
                  <a:pt x="101" y="118"/>
                </a:cubicBezTo>
                <a:cubicBezTo>
                  <a:pt x="112" y="135"/>
                  <a:pt x="187" y="242"/>
                  <a:pt x="191" y="256"/>
                </a:cubicBezTo>
                <a:cubicBezTo>
                  <a:pt x="195" y="271"/>
                  <a:pt x="195" y="278"/>
                  <a:pt x="186" y="276"/>
                </a:cubicBezTo>
                <a:cubicBezTo>
                  <a:pt x="185" y="276"/>
                  <a:pt x="184" y="276"/>
                  <a:pt x="183" y="276"/>
                </a:cubicBezTo>
              </a:path>
            </a:pathLst>
          </a:custGeom>
          <a:noFill/>
          <a:ln w="33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62"/>
          <p:cNvSpPr/>
          <p:nvPr/>
        </p:nvSpPr>
        <p:spPr>
          <a:xfrm flipV="1">
            <a:off x="2533680" y="4221000"/>
            <a:ext cx="1353960" cy="68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63"/>
          <p:cNvSpPr/>
          <p:nvPr/>
        </p:nvSpPr>
        <p:spPr>
          <a:xfrm flipV="1">
            <a:off x="2679840" y="4855680"/>
            <a:ext cx="876240" cy="2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64"/>
          <p:cNvSpPr/>
          <p:nvPr/>
        </p:nvSpPr>
        <p:spPr>
          <a:xfrm>
            <a:off x="2690640" y="5729400"/>
            <a:ext cx="876600" cy="24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65"/>
          <p:cNvSpPr/>
          <p:nvPr/>
        </p:nvSpPr>
        <p:spPr>
          <a:xfrm>
            <a:off x="2660760" y="5952960"/>
            <a:ext cx="135252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2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8" presetSubtype="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1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3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5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2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45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7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950"/>
                            </p:stCondLst>
                            <p:childTnLst>
                              <p:par>
                                <p:cTn id="6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L 0.05573 -0.0037 E">
                                      <p:cBhvr>
                                        <p:cTn id="606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-109440" y="2463840"/>
            <a:ext cx="12598200" cy="360"/>
          </a:xfrm>
          <a:custGeom>
            <a:avLst/>
            <a:gdLst/>
            <a:ahLst/>
            <a:rect l="l" t="t" r="r" b="b"/>
            <a:pathLst>
              <a:path w="1844565" h="0">
                <a:moveTo>
                  <a:pt x="0" y="0"/>
                </a:moveTo>
                <a:lnTo>
                  <a:pt x="1844565" y="0"/>
                </a:ln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"/>
          <p:cNvSpPr/>
          <p:nvPr/>
        </p:nvSpPr>
        <p:spPr>
          <a:xfrm>
            <a:off x="0" y="-295200"/>
            <a:ext cx="290340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3"/>
          <p:cNvSpPr/>
          <p:nvPr/>
        </p:nvSpPr>
        <p:spPr>
          <a:xfrm>
            <a:off x="3727440" y="1692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探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4"/>
          <p:cNvSpPr/>
          <p:nvPr/>
        </p:nvSpPr>
        <p:spPr>
          <a:xfrm>
            <a:off x="5011920" y="1689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未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5"/>
          <p:cNvSpPr/>
          <p:nvPr/>
        </p:nvSpPr>
        <p:spPr>
          <a:xfrm>
            <a:off x="6780240" y="1682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6"/>
          <p:cNvSpPr/>
          <p:nvPr/>
        </p:nvSpPr>
        <p:spPr>
          <a:xfrm>
            <a:off x="8085240" y="1662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渴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7"/>
          <p:cNvSpPr/>
          <p:nvPr/>
        </p:nvSpPr>
        <p:spPr>
          <a:xfrm>
            <a:off x="2914560" y="2519280"/>
            <a:ext cx="353700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8"/>
          <p:cNvSpPr/>
          <p:nvPr/>
        </p:nvSpPr>
        <p:spPr>
          <a:xfrm>
            <a:off x="5217120" y="2549520"/>
            <a:ext cx="28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为你提供的不只是兴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更是知识与梦想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燕尾形 9"/>
          <p:cNvSpPr/>
          <p:nvPr/>
        </p:nvSpPr>
        <p:spPr>
          <a:xfrm>
            <a:off x="386712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燕尾形 10"/>
          <p:cNvSpPr/>
          <p:nvPr/>
        </p:nvSpPr>
        <p:spPr>
          <a:xfrm>
            <a:off x="377028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燕尾形 11"/>
          <p:cNvSpPr/>
          <p:nvPr/>
        </p:nvSpPr>
        <p:spPr>
          <a:xfrm>
            <a:off x="367200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燕尾形 12"/>
          <p:cNvSpPr/>
          <p:nvPr/>
        </p:nvSpPr>
        <p:spPr>
          <a:xfrm>
            <a:off x="357336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燕尾形 13"/>
          <p:cNvSpPr/>
          <p:nvPr/>
        </p:nvSpPr>
        <p:spPr>
          <a:xfrm>
            <a:off x="347508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燕尾形 14"/>
          <p:cNvSpPr/>
          <p:nvPr/>
        </p:nvSpPr>
        <p:spPr>
          <a:xfrm>
            <a:off x="963612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燕尾形 15"/>
          <p:cNvSpPr/>
          <p:nvPr/>
        </p:nvSpPr>
        <p:spPr>
          <a:xfrm>
            <a:off x="9537840" y="2835360"/>
            <a:ext cx="88920" cy="90360"/>
          </a:xfrm>
          <a:custGeom>
            <a:avLst/>
            <a:gdLst>
              <a:gd name="textAreaLeft" fmla="*/ 0 w 88920"/>
              <a:gd name="textAreaRight" fmla="*/ 89280 w 88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燕尾形 16"/>
          <p:cNvSpPr/>
          <p:nvPr/>
        </p:nvSpPr>
        <p:spPr>
          <a:xfrm>
            <a:off x="943920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燕尾形 17"/>
          <p:cNvSpPr/>
          <p:nvPr/>
        </p:nvSpPr>
        <p:spPr>
          <a:xfrm>
            <a:off x="9340920" y="2835360"/>
            <a:ext cx="90360" cy="90360"/>
          </a:xfrm>
          <a:custGeom>
            <a:avLst/>
            <a:gdLst>
              <a:gd name="textAreaLeft" fmla="*/ 0 w 90360"/>
              <a:gd name="textAreaRight" fmla="*/ 90720 w 903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燕尾形 18"/>
          <p:cNvSpPr/>
          <p:nvPr/>
        </p:nvSpPr>
        <p:spPr>
          <a:xfrm>
            <a:off x="9242280" y="2835360"/>
            <a:ext cx="90720" cy="90360"/>
          </a:xfrm>
          <a:custGeom>
            <a:avLst/>
            <a:gdLst>
              <a:gd name="textAreaLeft" fmla="*/ 0 w 90720"/>
              <a:gd name="textAreaRight" fmla="*/ 91080 w 90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43" y="0"/>
                </a:lnTo>
                <a:lnTo>
                  <a:pt x="21600" y="10800"/>
                </a:lnTo>
                <a:lnTo>
                  <a:pt x="10843" y="21600"/>
                </a:lnTo>
                <a:lnTo>
                  <a:pt x="0" y="21600"/>
                </a:lnTo>
                <a:lnTo>
                  <a:pt x="10757" y="108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2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35">
                                  <p:stCondLst>
                                    <p:cond delay="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54167E-006 4.07407E-006 L -0.02356 -0.00047 E">
                                      <p:cBhvr>
                                        <p:cTn id="621" dur="325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3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95833E-006 4.07407E-006 L -0.02356 -0.00047 E">
                                      <p:cBhvr>
                                        <p:cTn id="628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2">
                                  <p:stCondLst>
                                    <p:cond delay="75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35">
                                  <p:stCondLst>
                                    <p:cond delay="1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58333E-006 4.07407E-006 L -0.02356 -0.00047 E">
                                      <p:cBhvr>
                                        <p:cTn id="635" dur="275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3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9167E-006 4.07407E-006 L -0.02357 -0.00047 E">
                                      <p:cBhvr>
                                        <p:cTn id="642" dur="2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91667E-006 1.48148E-006 L 0.02044 0.00046 E">
                                      <p:cBhvr>
                                        <p:cTn id="64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33333E-006 2.59259E-006 L 0.01328 2.59259E-006 E">
                                      <p:cBhvr>
                                        <p:cTn id="652" dur="25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654" dur="3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2.59259E-006 L 0.01328 2.59259E-006 E">
                                      <p:cBhvr>
                                        <p:cTn id="662" dur="25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63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664" dur="3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29167E-006 2.59259E-006 L 0.01328 2.59259E-006 E">
                                      <p:cBhvr>
                                        <p:cTn id="672" dur="25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674" dur="3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79167E-006 2.59259E-006 L 0.01329 2.59259E-006 E">
                                      <p:cBhvr>
                                        <p:cTn id="682" dur="25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9 2.59259E-006 L 0.03034 2.59259E-006 E">
                                      <p:cBhvr>
                                        <p:cTn id="684" dur="3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875E-006 2.59259E-006 L 0.01328 2.59259E-006 E">
                                      <p:cBhvr>
                                        <p:cTn id="692" dur="25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694" dur="3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16667E-007 2.59259E-006 L 0.01328 2.59259E-006 E">
                                      <p:cBhvr>
                                        <p:cTn id="702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04" dur="3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5E-006 2.59259E-006 L 0.01328 2.59259E-006 E">
                                      <p:cBhvr>
                                        <p:cTn id="712" dur="25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14" dur="3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5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58333E-006 2.59259E-006 L 0.01329 2.59259E-006 E">
                                      <p:cBhvr>
                                        <p:cTn id="722" dur="25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1329 2.59259E-006 L 0.03034 2.59259E-006 E">
                                      <p:cBhvr>
                                        <p:cTn id="724" dur="3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1.66667E-006 2.59259E-006 L 0.01328 2.59259E-006 E">
                                      <p:cBhvr>
                                        <p:cTn id="732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34" dur="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1.25E-006 2.59259E-006 L 0.01328 2.59259E-006 E">
                                      <p:cBhvr>
                                        <p:cTn id="742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63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1328 2.59259E-006 L 0.03034 2.59259E-006 E">
                                      <p:cBhvr>
                                        <p:cTn id="744" dur="3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2"/>
          <p:cNvGrpSpPr/>
          <p:nvPr/>
        </p:nvGrpSpPr>
        <p:grpSpPr>
          <a:xfrm>
            <a:off x="7426440" y="3036960"/>
            <a:ext cx="1741320" cy="1210680"/>
            <a:chOff x="7426440" y="3036960"/>
            <a:chExt cx="1741320" cy="1210680"/>
          </a:xfrm>
        </p:grpSpPr>
        <p:sp>
          <p:nvSpPr>
            <p:cNvPr id="362" name="文本框 131"/>
            <p:cNvSpPr/>
            <p:nvPr/>
          </p:nvSpPr>
          <p:spPr>
            <a:xfrm>
              <a:off x="7795800" y="333072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好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36"/>
            <p:cNvSpPr/>
            <p:nvPr/>
          </p:nvSpPr>
          <p:spPr>
            <a:xfrm>
              <a:off x="7426440" y="30369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inter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5"/>
          <p:cNvGrpSpPr/>
          <p:nvPr/>
        </p:nvGrpSpPr>
        <p:grpSpPr>
          <a:xfrm>
            <a:off x="6108120" y="4037040"/>
            <a:ext cx="2004840" cy="1012320"/>
            <a:chOff x="6108120" y="4037040"/>
            <a:chExt cx="2004840" cy="1012320"/>
          </a:xfrm>
        </p:grpSpPr>
        <p:sp>
          <p:nvSpPr>
            <p:cNvPr id="365" name="文本框 132"/>
            <p:cNvSpPr/>
            <p:nvPr/>
          </p:nvSpPr>
          <p:spPr>
            <a:xfrm>
              <a:off x="6588000" y="403704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有追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37"/>
            <p:cNvSpPr/>
            <p:nvPr/>
          </p:nvSpPr>
          <p:spPr>
            <a:xfrm>
              <a:off x="6108120" y="4589640"/>
              <a:ext cx="20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and pursu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8"/>
          <p:cNvGrpSpPr/>
          <p:nvPr/>
        </p:nvGrpSpPr>
        <p:grpSpPr>
          <a:xfrm>
            <a:off x="9506880" y="2984400"/>
            <a:ext cx="1895400" cy="795960"/>
            <a:chOff x="9506880" y="2984400"/>
            <a:chExt cx="1895400" cy="795960"/>
          </a:xfrm>
        </p:grpSpPr>
        <p:sp>
          <p:nvSpPr>
            <p:cNvPr id="368" name="文本框 134"/>
            <p:cNvSpPr/>
            <p:nvPr/>
          </p:nvSpPr>
          <p:spPr>
            <a:xfrm>
              <a:off x="9581400" y="33814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的兴趣组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138"/>
            <p:cNvSpPr/>
            <p:nvPr/>
          </p:nvSpPr>
          <p:spPr>
            <a:xfrm>
              <a:off x="9506880" y="298440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interest grou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5531040" y="2873520"/>
            <a:ext cx="1462320" cy="1243800"/>
            <a:chOff x="5531040" y="2873520"/>
            <a:chExt cx="1462320" cy="1243800"/>
          </a:xfrm>
        </p:grpSpPr>
        <p:sp>
          <p:nvSpPr>
            <p:cNvPr id="371" name="文本框 130"/>
            <p:cNvSpPr/>
            <p:nvPr/>
          </p:nvSpPr>
          <p:spPr>
            <a:xfrm>
              <a:off x="5772600" y="3200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专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135"/>
            <p:cNvSpPr/>
            <p:nvPr/>
          </p:nvSpPr>
          <p:spPr>
            <a:xfrm>
              <a:off x="5531040" y="287352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techn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4"/>
          <p:cNvGrpSpPr/>
          <p:nvPr/>
        </p:nvGrpSpPr>
        <p:grpSpPr>
          <a:xfrm>
            <a:off x="4404240" y="3586320"/>
            <a:ext cx="662760" cy="692640"/>
            <a:chOff x="4404240" y="3586320"/>
            <a:chExt cx="662760" cy="692640"/>
          </a:xfrm>
        </p:grpSpPr>
        <p:sp>
          <p:nvSpPr>
            <p:cNvPr id="374" name="文本框 127"/>
            <p:cNvSpPr/>
            <p:nvPr/>
          </p:nvSpPr>
          <p:spPr>
            <a:xfrm>
              <a:off x="4549680" y="38800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一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组合 16"/>
            <p:cNvGrpSpPr/>
            <p:nvPr/>
          </p:nvGrpSpPr>
          <p:grpSpPr>
            <a:xfrm>
              <a:off x="4404240" y="3586320"/>
              <a:ext cx="662760" cy="398880"/>
              <a:chOff x="4404240" y="3586320"/>
              <a:chExt cx="662760" cy="398880"/>
            </a:xfrm>
          </p:grpSpPr>
          <p:sp>
            <p:nvSpPr>
              <p:cNvPr id="376" name="文本框 129"/>
              <p:cNvSpPr/>
              <p:nvPr/>
            </p:nvSpPr>
            <p:spPr>
              <a:xfrm>
                <a:off x="4404240" y="3586320"/>
                <a:ext cx="418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It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宋体"/>
                  </a:rPr>
                  <a:t>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文本框 139"/>
              <p:cNvSpPr/>
              <p:nvPr/>
            </p:nvSpPr>
            <p:spPr>
              <a:xfrm>
                <a:off x="4555440" y="3586320"/>
                <a:ext cx="5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s 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任意多边形 19"/>
          <p:cNvSpPr/>
          <p:nvPr/>
        </p:nvSpPr>
        <p:spPr>
          <a:xfrm>
            <a:off x="-61920" y="5027760"/>
            <a:ext cx="12598560" cy="360"/>
          </a:xfrm>
          <a:custGeom>
            <a:avLst/>
            <a:gdLst/>
            <a:ahLst/>
            <a:rect l="l" t="t" r="r" b="b"/>
            <a:pathLst>
              <a:path w="1844565" h="0">
                <a:moveTo>
                  <a:pt x="0" y="0"/>
                </a:moveTo>
                <a:lnTo>
                  <a:pt x="1844565" y="0"/>
                </a:lnTo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43"/>
          <p:cNvGrpSpPr/>
          <p:nvPr/>
        </p:nvGrpSpPr>
        <p:grpSpPr>
          <a:xfrm>
            <a:off x="7180200" y="8962920"/>
            <a:ext cx="998640" cy="1654200"/>
            <a:chOff x="7180200" y="8962920"/>
            <a:chExt cx="998640" cy="1654200"/>
          </a:xfrm>
        </p:grpSpPr>
        <p:grpSp>
          <p:nvGrpSpPr>
            <p:cNvPr id="380" name="任意多边形 44"/>
            <p:cNvGrpSpPr/>
            <p:nvPr/>
          </p:nvGrpSpPr>
          <p:grpSpPr>
            <a:xfrm>
              <a:off x="7180200" y="8962920"/>
              <a:ext cx="998640" cy="1654200"/>
              <a:chOff x="7180200" y="8962920"/>
              <a:chExt cx="998640" cy="1654200"/>
            </a:xfrm>
          </p:grpSpPr>
          <p:pic>
            <p:nvPicPr>
              <p:cNvPr id="381" name="任意多边形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7180200" y="896292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7218720" y="9005040"/>
                <a:ext cx="91908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任意多边形 45"/>
            <p:cNvGrpSpPr/>
            <p:nvPr/>
          </p:nvGrpSpPr>
          <p:grpSpPr>
            <a:xfrm>
              <a:off x="7696440" y="9084240"/>
              <a:ext cx="319680" cy="323640"/>
              <a:chOff x="7696440" y="9084240"/>
              <a:chExt cx="319680" cy="323640"/>
            </a:xfrm>
          </p:grpSpPr>
          <p:pic>
            <p:nvPicPr>
              <p:cNvPr id="384" name="任意多边形 45" descr=""/>
              <p:cNvPicPr/>
              <p:nvPr/>
            </p:nvPicPr>
            <p:blipFill>
              <a:blip r:embed="rId2"/>
              <a:stretch/>
            </p:blipFill>
            <p:spPr>
              <a:xfrm>
                <a:off x="7696440" y="9084240"/>
                <a:ext cx="31968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"/>
              <p:cNvSpPr/>
              <p:nvPr/>
            </p:nvSpPr>
            <p:spPr>
              <a:xfrm>
                <a:off x="7746840" y="9134280"/>
                <a:ext cx="21960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组合 52"/>
          <p:cNvGrpSpPr/>
          <p:nvPr/>
        </p:nvGrpSpPr>
        <p:grpSpPr>
          <a:xfrm>
            <a:off x="2851200" y="8510760"/>
            <a:ext cx="998640" cy="1653840"/>
            <a:chOff x="2851200" y="8510760"/>
            <a:chExt cx="998640" cy="1653840"/>
          </a:xfrm>
        </p:grpSpPr>
        <p:grpSp>
          <p:nvGrpSpPr>
            <p:cNvPr id="387" name="任意多边形 53"/>
            <p:cNvGrpSpPr/>
            <p:nvPr/>
          </p:nvGrpSpPr>
          <p:grpSpPr>
            <a:xfrm>
              <a:off x="2851200" y="8510760"/>
              <a:ext cx="998640" cy="1653840"/>
              <a:chOff x="2851200" y="8510760"/>
              <a:chExt cx="998640" cy="1653840"/>
            </a:xfrm>
          </p:grpSpPr>
          <p:pic>
            <p:nvPicPr>
              <p:cNvPr id="388" name="任意多边形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1200" y="8510760"/>
                <a:ext cx="998640" cy="165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2888640" y="8551800"/>
                <a:ext cx="919080" cy="15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任意多边形 54"/>
            <p:cNvGrpSpPr/>
            <p:nvPr/>
          </p:nvGrpSpPr>
          <p:grpSpPr>
            <a:xfrm>
              <a:off x="3367440" y="8626680"/>
              <a:ext cx="319680" cy="330840"/>
              <a:chOff x="3367440" y="8626680"/>
              <a:chExt cx="319680" cy="330840"/>
            </a:xfrm>
          </p:grpSpPr>
          <p:pic>
            <p:nvPicPr>
              <p:cNvPr id="391" name="任意多边形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7440" y="8626680"/>
                <a:ext cx="3196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3416760" y="868140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组合 61"/>
          <p:cNvGrpSpPr/>
          <p:nvPr/>
        </p:nvGrpSpPr>
        <p:grpSpPr>
          <a:xfrm>
            <a:off x="6234120" y="7842240"/>
            <a:ext cx="998640" cy="1654200"/>
            <a:chOff x="6234120" y="7842240"/>
            <a:chExt cx="998640" cy="1654200"/>
          </a:xfrm>
        </p:grpSpPr>
        <p:grpSp>
          <p:nvGrpSpPr>
            <p:cNvPr id="394" name="任意多边形 62"/>
            <p:cNvGrpSpPr/>
            <p:nvPr/>
          </p:nvGrpSpPr>
          <p:grpSpPr>
            <a:xfrm>
              <a:off x="6234120" y="7842240"/>
              <a:ext cx="998640" cy="1654200"/>
              <a:chOff x="6234120" y="7842240"/>
              <a:chExt cx="998640" cy="1654200"/>
            </a:xfrm>
          </p:grpSpPr>
          <p:pic>
            <p:nvPicPr>
              <p:cNvPr id="395" name="任意多边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6234120" y="784224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271560" y="7885080"/>
                <a:ext cx="92448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任意多边形 63"/>
            <p:cNvGrpSpPr/>
            <p:nvPr/>
          </p:nvGrpSpPr>
          <p:grpSpPr>
            <a:xfrm>
              <a:off x="6753240" y="7963560"/>
              <a:ext cx="321480" cy="323640"/>
              <a:chOff x="6753240" y="7963560"/>
              <a:chExt cx="321480" cy="323640"/>
            </a:xfrm>
          </p:grpSpPr>
          <p:pic>
            <p:nvPicPr>
              <p:cNvPr id="398" name="任意多边形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3240" y="7963560"/>
                <a:ext cx="32148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6802560" y="8014320"/>
                <a:ext cx="2206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组合 64"/>
          <p:cNvGrpSpPr/>
          <p:nvPr/>
        </p:nvGrpSpPr>
        <p:grpSpPr>
          <a:xfrm>
            <a:off x="1077840" y="8858160"/>
            <a:ext cx="998640" cy="1654200"/>
            <a:chOff x="1077840" y="8858160"/>
            <a:chExt cx="998640" cy="1654200"/>
          </a:xfrm>
        </p:grpSpPr>
        <p:grpSp>
          <p:nvGrpSpPr>
            <p:cNvPr id="401" name="任意多边形 65"/>
            <p:cNvGrpSpPr/>
            <p:nvPr/>
          </p:nvGrpSpPr>
          <p:grpSpPr>
            <a:xfrm>
              <a:off x="1077840" y="8858160"/>
              <a:ext cx="998640" cy="1654200"/>
              <a:chOff x="1077840" y="8858160"/>
              <a:chExt cx="998640" cy="1654200"/>
            </a:xfrm>
          </p:grpSpPr>
          <p:pic>
            <p:nvPicPr>
              <p:cNvPr id="402" name="任意多边形 65" descr=""/>
              <p:cNvPicPr/>
              <p:nvPr/>
            </p:nvPicPr>
            <p:blipFill>
              <a:blip r:embed="rId7"/>
              <a:stretch/>
            </p:blipFill>
            <p:spPr>
              <a:xfrm>
                <a:off x="1077840" y="885816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116000" y="889920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任意多边形 66"/>
            <p:cNvGrpSpPr/>
            <p:nvPr/>
          </p:nvGrpSpPr>
          <p:grpSpPr>
            <a:xfrm>
              <a:off x="1594080" y="8979840"/>
              <a:ext cx="319680" cy="325080"/>
              <a:chOff x="1594080" y="8979840"/>
              <a:chExt cx="319680" cy="325080"/>
            </a:xfrm>
          </p:grpSpPr>
          <p:pic>
            <p:nvPicPr>
              <p:cNvPr id="405" name="任意多边形 66" descr=""/>
              <p:cNvPicPr/>
              <p:nvPr/>
            </p:nvPicPr>
            <p:blipFill>
              <a:blip r:embed="rId8"/>
              <a:stretch/>
            </p:blipFill>
            <p:spPr>
              <a:xfrm>
                <a:off x="1594080" y="8979840"/>
                <a:ext cx="3196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644120" y="902916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组合 67"/>
          <p:cNvGrpSpPr/>
          <p:nvPr/>
        </p:nvGrpSpPr>
        <p:grpSpPr>
          <a:xfrm>
            <a:off x="4267080" y="8356680"/>
            <a:ext cx="998640" cy="1654200"/>
            <a:chOff x="4267080" y="8356680"/>
            <a:chExt cx="998640" cy="1654200"/>
          </a:xfrm>
        </p:grpSpPr>
        <p:grpSp>
          <p:nvGrpSpPr>
            <p:cNvPr id="408" name="任意多边形 68"/>
            <p:cNvGrpSpPr/>
            <p:nvPr/>
          </p:nvGrpSpPr>
          <p:grpSpPr>
            <a:xfrm>
              <a:off x="4267080" y="8356680"/>
              <a:ext cx="998640" cy="1654200"/>
              <a:chOff x="4267080" y="8356680"/>
              <a:chExt cx="998640" cy="1654200"/>
            </a:xfrm>
          </p:grpSpPr>
          <p:pic>
            <p:nvPicPr>
              <p:cNvPr id="409" name="任意多边形 68" descr=""/>
              <p:cNvPicPr/>
              <p:nvPr/>
            </p:nvPicPr>
            <p:blipFill>
              <a:blip r:embed="rId9"/>
              <a:stretch/>
            </p:blipFill>
            <p:spPr>
              <a:xfrm>
                <a:off x="4267080" y="835668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306320" y="839628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任意多边形 69"/>
            <p:cNvGrpSpPr/>
            <p:nvPr/>
          </p:nvGrpSpPr>
          <p:grpSpPr>
            <a:xfrm>
              <a:off x="4783320" y="8472600"/>
              <a:ext cx="319680" cy="330840"/>
              <a:chOff x="4783320" y="8472600"/>
              <a:chExt cx="319680" cy="330840"/>
            </a:xfrm>
          </p:grpSpPr>
          <p:pic>
            <p:nvPicPr>
              <p:cNvPr id="412" name="任意多边形 6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83320" y="8472600"/>
                <a:ext cx="3196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834440" y="852588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组合 70"/>
          <p:cNvGrpSpPr/>
          <p:nvPr/>
        </p:nvGrpSpPr>
        <p:grpSpPr>
          <a:xfrm>
            <a:off x="4570560" y="8709120"/>
            <a:ext cx="998280" cy="1654200"/>
            <a:chOff x="4570560" y="8709120"/>
            <a:chExt cx="998280" cy="1654200"/>
          </a:xfrm>
        </p:grpSpPr>
        <p:grpSp>
          <p:nvGrpSpPr>
            <p:cNvPr id="415" name="任意多边形 71"/>
            <p:cNvGrpSpPr/>
            <p:nvPr/>
          </p:nvGrpSpPr>
          <p:grpSpPr>
            <a:xfrm>
              <a:off x="4570560" y="8709120"/>
              <a:ext cx="998280" cy="1654200"/>
              <a:chOff x="4570560" y="8709120"/>
              <a:chExt cx="998280" cy="1654200"/>
            </a:xfrm>
          </p:grpSpPr>
          <p:pic>
            <p:nvPicPr>
              <p:cNvPr id="416" name="任意多边形 71" descr=""/>
              <p:cNvPicPr/>
              <p:nvPr/>
            </p:nvPicPr>
            <p:blipFill>
              <a:blip r:embed="rId11"/>
              <a:stretch/>
            </p:blipFill>
            <p:spPr>
              <a:xfrm>
                <a:off x="4570560" y="870912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4608360" y="8747640"/>
                <a:ext cx="91872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任意多边形 72"/>
            <p:cNvGrpSpPr/>
            <p:nvPr/>
          </p:nvGrpSpPr>
          <p:grpSpPr>
            <a:xfrm>
              <a:off x="5086440" y="8825040"/>
              <a:ext cx="319680" cy="325080"/>
              <a:chOff x="5086440" y="8825040"/>
              <a:chExt cx="319680" cy="325080"/>
            </a:xfrm>
          </p:grpSpPr>
          <p:pic>
            <p:nvPicPr>
              <p:cNvPr id="419" name="任意多边形 7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86440" y="8825040"/>
                <a:ext cx="3196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5136120" y="887724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组合 73"/>
          <p:cNvGrpSpPr/>
          <p:nvPr/>
        </p:nvGrpSpPr>
        <p:grpSpPr>
          <a:xfrm>
            <a:off x="9126360" y="8489880"/>
            <a:ext cx="998640" cy="1654200"/>
            <a:chOff x="9126360" y="8489880"/>
            <a:chExt cx="998640" cy="1654200"/>
          </a:xfrm>
        </p:grpSpPr>
        <p:grpSp>
          <p:nvGrpSpPr>
            <p:cNvPr id="422" name="任意多边形 74"/>
            <p:cNvGrpSpPr/>
            <p:nvPr/>
          </p:nvGrpSpPr>
          <p:grpSpPr>
            <a:xfrm>
              <a:off x="9126360" y="8489880"/>
              <a:ext cx="998640" cy="1654200"/>
              <a:chOff x="9126360" y="8489880"/>
              <a:chExt cx="998640" cy="1654200"/>
            </a:xfrm>
          </p:grpSpPr>
          <p:pic>
            <p:nvPicPr>
              <p:cNvPr id="423" name="任意多边形 74" descr=""/>
              <p:cNvPicPr/>
              <p:nvPr/>
            </p:nvPicPr>
            <p:blipFill>
              <a:blip r:embed="rId13"/>
              <a:stretch/>
            </p:blipFill>
            <p:spPr>
              <a:xfrm>
                <a:off x="9126360" y="848988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9166320" y="852876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任意多边形 75"/>
            <p:cNvGrpSpPr/>
            <p:nvPr/>
          </p:nvGrpSpPr>
          <p:grpSpPr>
            <a:xfrm>
              <a:off x="9642600" y="8605800"/>
              <a:ext cx="319680" cy="325080"/>
              <a:chOff x="9642600" y="8605800"/>
              <a:chExt cx="319680" cy="325080"/>
            </a:xfrm>
          </p:grpSpPr>
          <p:pic>
            <p:nvPicPr>
              <p:cNvPr id="426" name="任意多边形 75" descr=""/>
              <p:cNvPicPr/>
              <p:nvPr/>
            </p:nvPicPr>
            <p:blipFill>
              <a:blip r:embed="rId14"/>
              <a:stretch/>
            </p:blipFill>
            <p:spPr>
              <a:xfrm>
                <a:off x="9642600" y="8605800"/>
                <a:ext cx="3196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9694440" y="865836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组合 79"/>
          <p:cNvGrpSpPr/>
          <p:nvPr/>
        </p:nvGrpSpPr>
        <p:grpSpPr>
          <a:xfrm>
            <a:off x="6927840" y="7122960"/>
            <a:ext cx="996840" cy="1654200"/>
            <a:chOff x="6927840" y="7122960"/>
            <a:chExt cx="996840" cy="1654200"/>
          </a:xfrm>
        </p:grpSpPr>
        <p:grpSp>
          <p:nvGrpSpPr>
            <p:cNvPr id="429" name="任意多边形 80"/>
            <p:cNvGrpSpPr/>
            <p:nvPr/>
          </p:nvGrpSpPr>
          <p:grpSpPr>
            <a:xfrm>
              <a:off x="6927840" y="7122960"/>
              <a:ext cx="996840" cy="1654200"/>
              <a:chOff x="6927840" y="7122960"/>
              <a:chExt cx="996840" cy="1654200"/>
            </a:xfrm>
          </p:grpSpPr>
          <p:pic>
            <p:nvPicPr>
              <p:cNvPr id="430" name="任意多边形 8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27840" y="7122960"/>
                <a:ext cx="9968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6969600" y="7166160"/>
                <a:ext cx="91620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任意多边形 81"/>
            <p:cNvGrpSpPr/>
            <p:nvPr/>
          </p:nvGrpSpPr>
          <p:grpSpPr>
            <a:xfrm>
              <a:off x="7443000" y="7244280"/>
              <a:ext cx="324720" cy="323640"/>
              <a:chOff x="7443000" y="7244280"/>
              <a:chExt cx="324720" cy="323640"/>
            </a:xfrm>
          </p:grpSpPr>
          <p:pic>
            <p:nvPicPr>
              <p:cNvPr id="433" name="任意多边形 81" descr=""/>
              <p:cNvPicPr/>
              <p:nvPr/>
            </p:nvPicPr>
            <p:blipFill>
              <a:blip r:embed="rId16"/>
              <a:stretch/>
            </p:blipFill>
            <p:spPr>
              <a:xfrm>
                <a:off x="7443000" y="7244280"/>
                <a:ext cx="32472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7495560" y="7295400"/>
                <a:ext cx="2188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组合 82"/>
          <p:cNvGrpSpPr/>
          <p:nvPr/>
        </p:nvGrpSpPr>
        <p:grpSpPr>
          <a:xfrm>
            <a:off x="9053640" y="7034040"/>
            <a:ext cx="998280" cy="1654200"/>
            <a:chOff x="9053640" y="7034040"/>
            <a:chExt cx="998280" cy="1654200"/>
          </a:xfrm>
        </p:grpSpPr>
        <p:grpSp>
          <p:nvGrpSpPr>
            <p:cNvPr id="436" name="任意多边形 83"/>
            <p:cNvGrpSpPr/>
            <p:nvPr/>
          </p:nvGrpSpPr>
          <p:grpSpPr>
            <a:xfrm>
              <a:off x="9053640" y="7034040"/>
              <a:ext cx="998280" cy="1654200"/>
              <a:chOff x="9053640" y="7034040"/>
              <a:chExt cx="998280" cy="1654200"/>
            </a:xfrm>
          </p:grpSpPr>
          <p:pic>
            <p:nvPicPr>
              <p:cNvPr id="437" name="任意多边形 83" descr=""/>
              <p:cNvPicPr/>
              <p:nvPr/>
            </p:nvPicPr>
            <p:blipFill>
              <a:blip r:embed="rId17"/>
              <a:stretch/>
            </p:blipFill>
            <p:spPr>
              <a:xfrm>
                <a:off x="9053640" y="703404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9093600" y="7074000"/>
                <a:ext cx="91872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任意多边形 84"/>
            <p:cNvGrpSpPr/>
            <p:nvPr/>
          </p:nvGrpSpPr>
          <p:grpSpPr>
            <a:xfrm>
              <a:off x="9569520" y="7149960"/>
              <a:ext cx="319680" cy="330840"/>
              <a:chOff x="9569520" y="7149960"/>
              <a:chExt cx="319680" cy="330840"/>
            </a:xfrm>
          </p:grpSpPr>
          <p:pic>
            <p:nvPicPr>
              <p:cNvPr id="440" name="任意多边形 84" descr=""/>
              <p:cNvPicPr/>
              <p:nvPr/>
            </p:nvPicPr>
            <p:blipFill>
              <a:blip r:embed="rId18"/>
              <a:stretch/>
            </p:blipFill>
            <p:spPr>
              <a:xfrm>
                <a:off x="9569520" y="7149960"/>
                <a:ext cx="3196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9621360" y="720360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组合 85"/>
          <p:cNvGrpSpPr/>
          <p:nvPr/>
        </p:nvGrpSpPr>
        <p:grpSpPr>
          <a:xfrm>
            <a:off x="3425760" y="8516880"/>
            <a:ext cx="998640" cy="1654200"/>
            <a:chOff x="3425760" y="8516880"/>
            <a:chExt cx="998640" cy="1654200"/>
          </a:xfrm>
        </p:grpSpPr>
        <p:grpSp>
          <p:nvGrpSpPr>
            <p:cNvPr id="443" name="任意多边形 86"/>
            <p:cNvGrpSpPr/>
            <p:nvPr/>
          </p:nvGrpSpPr>
          <p:grpSpPr>
            <a:xfrm>
              <a:off x="3425760" y="8516880"/>
              <a:ext cx="998640" cy="1654200"/>
              <a:chOff x="3425760" y="8516880"/>
              <a:chExt cx="998640" cy="1654200"/>
            </a:xfrm>
          </p:grpSpPr>
          <p:pic>
            <p:nvPicPr>
              <p:cNvPr id="444" name="任意多边形 86" descr=""/>
              <p:cNvPicPr/>
              <p:nvPr/>
            </p:nvPicPr>
            <p:blipFill>
              <a:blip r:embed="rId19"/>
              <a:stretch/>
            </p:blipFill>
            <p:spPr>
              <a:xfrm>
                <a:off x="3425760" y="851688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3464640" y="855828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任意多边形 87"/>
            <p:cNvGrpSpPr/>
            <p:nvPr/>
          </p:nvGrpSpPr>
          <p:grpSpPr>
            <a:xfrm>
              <a:off x="3942000" y="8638560"/>
              <a:ext cx="319680" cy="325080"/>
              <a:chOff x="3942000" y="8638560"/>
              <a:chExt cx="319680" cy="325080"/>
            </a:xfrm>
          </p:grpSpPr>
          <p:pic>
            <p:nvPicPr>
              <p:cNvPr id="447" name="任意多边形 87" descr=""/>
              <p:cNvPicPr/>
              <p:nvPr/>
            </p:nvPicPr>
            <p:blipFill>
              <a:blip r:embed="rId20"/>
              <a:stretch/>
            </p:blipFill>
            <p:spPr>
              <a:xfrm>
                <a:off x="3942000" y="8638560"/>
                <a:ext cx="3196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3993120" y="868788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组合 88"/>
          <p:cNvGrpSpPr/>
          <p:nvPr/>
        </p:nvGrpSpPr>
        <p:grpSpPr>
          <a:xfrm>
            <a:off x="5591160" y="9358200"/>
            <a:ext cx="996840" cy="1654200"/>
            <a:chOff x="5591160" y="9358200"/>
            <a:chExt cx="996840" cy="1654200"/>
          </a:xfrm>
        </p:grpSpPr>
        <p:grpSp>
          <p:nvGrpSpPr>
            <p:cNvPr id="450" name="任意多边形 89"/>
            <p:cNvGrpSpPr/>
            <p:nvPr/>
          </p:nvGrpSpPr>
          <p:grpSpPr>
            <a:xfrm>
              <a:off x="5591160" y="9358200"/>
              <a:ext cx="996840" cy="1654200"/>
              <a:chOff x="5591160" y="9358200"/>
              <a:chExt cx="996840" cy="1654200"/>
            </a:xfrm>
          </p:grpSpPr>
          <p:pic>
            <p:nvPicPr>
              <p:cNvPr id="451" name="任意多边形 8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591160" y="9358200"/>
                <a:ext cx="9968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5631120" y="9399600"/>
                <a:ext cx="91620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任意多边形 90"/>
            <p:cNvGrpSpPr/>
            <p:nvPr/>
          </p:nvGrpSpPr>
          <p:grpSpPr>
            <a:xfrm>
              <a:off x="6106320" y="9479520"/>
              <a:ext cx="319320" cy="323640"/>
              <a:chOff x="6106320" y="9479520"/>
              <a:chExt cx="319320" cy="323640"/>
            </a:xfrm>
          </p:grpSpPr>
          <p:pic>
            <p:nvPicPr>
              <p:cNvPr id="454" name="任意多边形 90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06320" y="9479520"/>
                <a:ext cx="31932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6157440" y="9528840"/>
                <a:ext cx="2188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组合 94"/>
          <p:cNvGrpSpPr/>
          <p:nvPr/>
        </p:nvGrpSpPr>
        <p:grpSpPr>
          <a:xfrm>
            <a:off x="10109160" y="6983280"/>
            <a:ext cx="998640" cy="1654200"/>
            <a:chOff x="10109160" y="6983280"/>
            <a:chExt cx="998640" cy="1654200"/>
          </a:xfrm>
        </p:grpSpPr>
        <p:grpSp>
          <p:nvGrpSpPr>
            <p:cNvPr id="457" name="任意多边形 95"/>
            <p:cNvGrpSpPr/>
            <p:nvPr/>
          </p:nvGrpSpPr>
          <p:grpSpPr>
            <a:xfrm>
              <a:off x="10109160" y="6983280"/>
              <a:ext cx="998640" cy="1654200"/>
              <a:chOff x="10109160" y="6983280"/>
              <a:chExt cx="998640" cy="1654200"/>
            </a:xfrm>
          </p:grpSpPr>
          <p:pic>
            <p:nvPicPr>
              <p:cNvPr id="458" name="任意多边形 95" descr=""/>
              <p:cNvPicPr/>
              <p:nvPr/>
            </p:nvPicPr>
            <p:blipFill>
              <a:blip r:embed="rId23"/>
              <a:stretch/>
            </p:blipFill>
            <p:spPr>
              <a:xfrm>
                <a:off x="10109160" y="698328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>
                <a:off x="10150200" y="702108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任意多边形 96"/>
            <p:cNvGrpSpPr/>
            <p:nvPr/>
          </p:nvGrpSpPr>
          <p:grpSpPr>
            <a:xfrm>
              <a:off x="10625400" y="7099200"/>
              <a:ext cx="325440" cy="325080"/>
              <a:chOff x="10625400" y="7099200"/>
              <a:chExt cx="325440" cy="325080"/>
            </a:xfrm>
          </p:grpSpPr>
          <p:pic>
            <p:nvPicPr>
              <p:cNvPr id="461" name="任意多边形 96" descr=""/>
              <p:cNvPicPr/>
              <p:nvPr/>
            </p:nvPicPr>
            <p:blipFill>
              <a:blip r:embed="rId24"/>
              <a:stretch/>
            </p:blipFill>
            <p:spPr>
              <a:xfrm>
                <a:off x="10625400" y="7099200"/>
                <a:ext cx="32544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10678320" y="715104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组合 97"/>
          <p:cNvGrpSpPr/>
          <p:nvPr/>
        </p:nvGrpSpPr>
        <p:grpSpPr>
          <a:xfrm>
            <a:off x="3716280" y="9180360"/>
            <a:ext cx="998640" cy="1654200"/>
            <a:chOff x="3716280" y="9180360"/>
            <a:chExt cx="998640" cy="1654200"/>
          </a:xfrm>
        </p:grpSpPr>
        <p:grpSp>
          <p:nvGrpSpPr>
            <p:cNvPr id="464" name="任意多边形 98"/>
            <p:cNvGrpSpPr/>
            <p:nvPr/>
          </p:nvGrpSpPr>
          <p:grpSpPr>
            <a:xfrm>
              <a:off x="3716280" y="9180360"/>
              <a:ext cx="998640" cy="1654200"/>
              <a:chOff x="3716280" y="9180360"/>
              <a:chExt cx="998640" cy="1654200"/>
            </a:xfrm>
          </p:grpSpPr>
          <p:pic>
            <p:nvPicPr>
              <p:cNvPr id="465" name="任意多边形 98" descr=""/>
              <p:cNvPicPr/>
              <p:nvPr/>
            </p:nvPicPr>
            <p:blipFill>
              <a:blip r:embed="rId25"/>
              <a:stretch/>
            </p:blipFill>
            <p:spPr>
              <a:xfrm>
                <a:off x="3716280" y="918036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"/>
              <p:cNvSpPr/>
              <p:nvPr/>
            </p:nvSpPr>
            <p:spPr>
              <a:xfrm>
                <a:off x="3753720" y="9220680"/>
                <a:ext cx="9244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任意多边形 99"/>
            <p:cNvGrpSpPr/>
            <p:nvPr/>
          </p:nvGrpSpPr>
          <p:grpSpPr>
            <a:xfrm>
              <a:off x="4235400" y="9296280"/>
              <a:ext cx="321480" cy="330840"/>
              <a:chOff x="4235400" y="9296280"/>
              <a:chExt cx="321480" cy="330840"/>
            </a:xfrm>
          </p:grpSpPr>
          <p:pic>
            <p:nvPicPr>
              <p:cNvPr id="468" name="任意多边形 99" descr=""/>
              <p:cNvPicPr/>
              <p:nvPr/>
            </p:nvPicPr>
            <p:blipFill>
              <a:blip r:embed="rId26"/>
              <a:stretch/>
            </p:blipFill>
            <p:spPr>
              <a:xfrm>
                <a:off x="4235400" y="9296280"/>
                <a:ext cx="3214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4284720" y="9350640"/>
                <a:ext cx="22068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组合 100"/>
          <p:cNvGrpSpPr/>
          <p:nvPr/>
        </p:nvGrpSpPr>
        <p:grpSpPr>
          <a:xfrm>
            <a:off x="3522600" y="6978600"/>
            <a:ext cx="998640" cy="1654200"/>
            <a:chOff x="3522600" y="6978600"/>
            <a:chExt cx="998640" cy="1654200"/>
          </a:xfrm>
        </p:grpSpPr>
        <p:grpSp>
          <p:nvGrpSpPr>
            <p:cNvPr id="471" name="任意多边形 101"/>
            <p:cNvGrpSpPr/>
            <p:nvPr/>
          </p:nvGrpSpPr>
          <p:grpSpPr>
            <a:xfrm>
              <a:off x="3522600" y="6978600"/>
              <a:ext cx="998640" cy="1654200"/>
              <a:chOff x="3522600" y="6978600"/>
              <a:chExt cx="998640" cy="1654200"/>
            </a:xfrm>
          </p:grpSpPr>
          <p:pic>
            <p:nvPicPr>
              <p:cNvPr id="472" name="任意多边形 1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522600" y="697860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3561120" y="701784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任意多边形 102"/>
            <p:cNvGrpSpPr/>
            <p:nvPr/>
          </p:nvGrpSpPr>
          <p:grpSpPr>
            <a:xfrm>
              <a:off x="4038840" y="7094520"/>
              <a:ext cx="319680" cy="330840"/>
              <a:chOff x="4038840" y="7094520"/>
              <a:chExt cx="319680" cy="330840"/>
            </a:xfrm>
          </p:grpSpPr>
          <p:pic>
            <p:nvPicPr>
              <p:cNvPr id="475" name="任意多边形 1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4038840" y="7094520"/>
                <a:ext cx="3196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4089240" y="714744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组合 103"/>
          <p:cNvGrpSpPr/>
          <p:nvPr/>
        </p:nvGrpSpPr>
        <p:grpSpPr>
          <a:xfrm>
            <a:off x="646200" y="6835680"/>
            <a:ext cx="998280" cy="1654200"/>
            <a:chOff x="646200" y="6835680"/>
            <a:chExt cx="998280" cy="1654200"/>
          </a:xfrm>
        </p:grpSpPr>
        <p:grpSp>
          <p:nvGrpSpPr>
            <p:cNvPr id="478" name="任意多边形 104"/>
            <p:cNvGrpSpPr/>
            <p:nvPr/>
          </p:nvGrpSpPr>
          <p:grpSpPr>
            <a:xfrm>
              <a:off x="646200" y="6835680"/>
              <a:ext cx="998280" cy="1654200"/>
              <a:chOff x="646200" y="6835680"/>
              <a:chExt cx="998280" cy="1654200"/>
            </a:xfrm>
          </p:grpSpPr>
          <p:pic>
            <p:nvPicPr>
              <p:cNvPr id="479" name="任意多边形 104" descr=""/>
              <p:cNvPicPr/>
              <p:nvPr/>
            </p:nvPicPr>
            <p:blipFill>
              <a:blip r:embed="rId29"/>
              <a:stretch/>
            </p:blipFill>
            <p:spPr>
              <a:xfrm>
                <a:off x="646200" y="683568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685080" y="6878160"/>
                <a:ext cx="91872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任意多边形 105"/>
            <p:cNvGrpSpPr/>
            <p:nvPr/>
          </p:nvGrpSpPr>
          <p:grpSpPr>
            <a:xfrm>
              <a:off x="1162080" y="6957000"/>
              <a:ext cx="319680" cy="323640"/>
              <a:chOff x="1162080" y="6957000"/>
              <a:chExt cx="319680" cy="323640"/>
            </a:xfrm>
          </p:grpSpPr>
          <p:pic>
            <p:nvPicPr>
              <p:cNvPr id="482" name="任意多边形 105" descr=""/>
              <p:cNvPicPr/>
              <p:nvPr/>
            </p:nvPicPr>
            <p:blipFill>
              <a:blip r:embed="rId30"/>
              <a:stretch/>
            </p:blipFill>
            <p:spPr>
              <a:xfrm>
                <a:off x="1162080" y="6957000"/>
                <a:ext cx="31968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1213200" y="7007400"/>
                <a:ext cx="21960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组合 106"/>
          <p:cNvGrpSpPr/>
          <p:nvPr/>
        </p:nvGrpSpPr>
        <p:grpSpPr>
          <a:xfrm>
            <a:off x="2116080" y="6815160"/>
            <a:ext cx="998640" cy="1654200"/>
            <a:chOff x="2116080" y="6815160"/>
            <a:chExt cx="998640" cy="1654200"/>
          </a:xfrm>
        </p:grpSpPr>
        <p:grpSp>
          <p:nvGrpSpPr>
            <p:cNvPr id="485" name="任意多边形 107"/>
            <p:cNvGrpSpPr/>
            <p:nvPr/>
          </p:nvGrpSpPr>
          <p:grpSpPr>
            <a:xfrm>
              <a:off x="2116080" y="6815160"/>
              <a:ext cx="998640" cy="1654200"/>
              <a:chOff x="2116080" y="6815160"/>
              <a:chExt cx="998640" cy="1654200"/>
            </a:xfrm>
          </p:grpSpPr>
          <p:pic>
            <p:nvPicPr>
              <p:cNvPr id="486" name="任意多边形 107" descr=""/>
              <p:cNvPicPr/>
              <p:nvPr/>
            </p:nvPicPr>
            <p:blipFill>
              <a:blip r:embed="rId31"/>
              <a:stretch/>
            </p:blipFill>
            <p:spPr>
              <a:xfrm>
                <a:off x="2116080" y="681516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2156040" y="685548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任意多边形 108"/>
            <p:cNvGrpSpPr/>
            <p:nvPr/>
          </p:nvGrpSpPr>
          <p:grpSpPr>
            <a:xfrm>
              <a:off x="2632320" y="6931080"/>
              <a:ext cx="319680" cy="330840"/>
              <a:chOff x="2632320" y="6931080"/>
              <a:chExt cx="319680" cy="330840"/>
            </a:xfrm>
          </p:grpSpPr>
          <p:pic>
            <p:nvPicPr>
              <p:cNvPr id="489" name="任意多边形 108" descr=""/>
              <p:cNvPicPr/>
              <p:nvPr/>
            </p:nvPicPr>
            <p:blipFill>
              <a:blip r:embed="rId32"/>
              <a:stretch/>
            </p:blipFill>
            <p:spPr>
              <a:xfrm>
                <a:off x="2632320" y="6931080"/>
                <a:ext cx="3196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684160" y="698508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组合 112"/>
          <p:cNvGrpSpPr/>
          <p:nvPr/>
        </p:nvGrpSpPr>
        <p:grpSpPr>
          <a:xfrm>
            <a:off x="5070600" y="7151760"/>
            <a:ext cx="998280" cy="1654200"/>
            <a:chOff x="5070600" y="7151760"/>
            <a:chExt cx="998280" cy="1654200"/>
          </a:xfrm>
        </p:grpSpPr>
        <p:grpSp>
          <p:nvGrpSpPr>
            <p:cNvPr id="492" name="任意多边形 113"/>
            <p:cNvGrpSpPr/>
            <p:nvPr/>
          </p:nvGrpSpPr>
          <p:grpSpPr>
            <a:xfrm>
              <a:off x="5070600" y="7151760"/>
              <a:ext cx="998280" cy="1654200"/>
              <a:chOff x="5070600" y="7151760"/>
              <a:chExt cx="998280" cy="1654200"/>
            </a:xfrm>
          </p:grpSpPr>
          <p:pic>
            <p:nvPicPr>
              <p:cNvPr id="493" name="任意多边形 113" descr=""/>
              <p:cNvPicPr/>
              <p:nvPr/>
            </p:nvPicPr>
            <p:blipFill>
              <a:blip r:embed="rId33"/>
              <a:stretch/>
            </p:blipFill>
            <p:spPr>
              <a:xfrm>
                <a:off x="5070600" y="715176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5108400" y="7193160"/>
                <a:ext cx="91872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任意多边形 114"/>
            <p:cNvGrpSpPr/>
            <p:nvPr/>
          </p:nvGrpSpPr>
          <p:grpSpPr>
            <a:xfrm>
              <a:off x="5586480" y="7273080"/>
              <a:ext cx="319680" cy="323640"/>
              <a:chOff x="5586480" y="7273080"/>
              <a:chExt cx="319680" cy="323640"/>
            </a:xfrm>
          </p:grpSpPr>
          <p:pic>
            <p:nvPicPr>
              <p:cNvPr id="496" name="任意多边形 114" descr=""/>
              <p:cNvPicPr/>
              <p:nvPr/>
            </p:nvPicPr>
            <p:blipFill>
              <a:blip r:embed="rId34"/>
              <a:stretch/>
            </p:blipFill>
            <p:spPr>
              <a:xfrm>
                <a:off x="5586480" y="7273080"/>
                <a:ext cx="31968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5636160" y="7322400"/>
                <a:ext cx="21960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组合 115"/>
          <p:cNvGrpSpPr/>
          <p:nvPr/>
        </p:nvGrpSpPr>
        <p:grpSpPr>
          <a:xfrm>
            <a:off x="-3871800" y="8531280"/>
            <a:ext cx="998280" cy="1654200"/>
            <a:chOff x="-3871800" y="8531280"/>
            <a:chExt cx="998280" cy="1654200"/>
          </a:xfrm>
        </p:grpSpPr>
        <p:grpSp>
          <p:nvGrpSpPr>
            <p:cNvPr id="499" name="任意多边形 116"/>
            <p:cNvGrpSpPr/>
            <p:nvPr/>
          </p:nvGrpSpPr>
          <p:grpSpPr>
            <a:xfrm>
              <a:off x="-3871800" y="8531280"/>
              <a:ext cx="998280" cy="1654200"/>
              <a:chOff x="-3871800" y="8531280"/>
              <a:chExt cx="998280" cy="1654200"/>
            </a:xfrm>
          </p:grpSpPr>
          <p:pic>
            <p:nvPicPr>
              <p:cNvPr id="500" name="任意多边形 116" descr=""/>
              <p:cNvPicPr/>
              <p:nvPr/>
            </p:nvPicPr>
            <p:blipFill>
              <a:blip r:embed="rId35"/>
              <a:stretch/>
            </p:blipFill>
            <p:spPr>
              <a:xfrm>
                <a:off x="-3871800" y="853128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-3834360" y="8574480"/>
                <a:ext cx="924120" cy="15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任意多边形 117"/>
            <p:cNvGrpSpPr/>
            <p:nvPr/>
          </p:nvGrpSpPr>
          <p:grpSpPr>
            <a:xfrm>
              <a:off x="-3352680" y="8652600"/>
              <a:ext cx="321480" cy="323640"/>
              <a:chOff x="-3352680" y="8652600"/>
              <a:chExt cx="321480" cy="323640"/>
            </a:xfrm>
          </p:grpSpPr>
          <p:pic>
            <p:nvPicPr>
              <p:cNvPr id="503" name="任意多边形 117" descr=""/>
              <p:cNvPicPr/>
              <p:nvPr/>
            </p:nvPicPr>
            <p:blipFill>
              <a:blip r:embed="rId36"/>
              <a:stretch/>
            </p:blipFill>
            <p:spPr>
              <a:xfrm>
                <a:off x="-3352680" y="8652600"/>
                <a:ext cx="321480" cy="3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-3303360" y="8703720"/>
                <a:ext cx="2206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组合 124"/>
          <p:cNvGrpSpPr/>
          <p:nvPr/>
        </p:nvGrpSpPr>
        <p:grpSpPr>
          <a:xfrm>
            <a:off x="-2066760" y="8577360"/>
            <a:ext cx="998280" cy="1654200"/>
            <a:chOff x="-2066760" y="8577360"/>
            <a:chExt cx="998280" cy="1654200"/>
          </a:xfrm>
        </p:grpSpPr>
        <p:grpSp>
          <p:nvGrpSpPr>
            <p:cNvPr id="506" name="任意多边形 125"/>
            <p:cNvGrpSpPr/>
            <p:nvPr/>
          </p:nvGrpSpPr>
          <p:grpSpPr>
            <a:xfrm>
              <a:off x="-2066760" y="8577360"/>
              <a:ext cx="998280" cy="1654200"/>
              <a:chOff x="-2066760" y="8577360"/>
              <a:chExt cx="998280" cy="1654200"/>
            </a:xfrm>
          </p:grpSpPr>
          <p:pic>
            <p:nvPicPr>
              <p:cNvPr id="507" name="任意多边形 125" descr=""/>
              <p:cNvPicPr/>
              <p:nvPr/>
            </p:nvPicPr>
            <p:blipFill>
              <a:blip r:embed="rId37"/>
              <a:stretch/>
            </p:blipFill>
            <p:spPr>
              <a:xfrm>
                <a:off x="-2066760" y="8577360"/>
                <a:ext cx="99828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-2028960" y="8618040"/>
                <a:ext cx="92412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任意多边形 126"/>
            <p:cNvGrpSpPr/>
            <p:nvPr/>
          </p:nvGrpSpPr>
          <p:grpSpPr>
            <a:xfrm>
              <a:off x="-1547640" y="8693280"/>
              <a:ext cx="321480" cy="330840"/>
              <a:chOff x="-1547640" y="8693280"/>
              <a:chExt cx="321480" cy="330840"/>
            </a:xfrm>
          </p:grpSpPr>
          <p:pic>
            <p:nvPicPr>
              <p:cNvPr id="510" name="任意多边形 126" descr=""/>
              <p:cNvPicPr/>
              <p:nvPr/>
            </p:nvPicPr>
            <p:blipFill>
              <a:blip r:embed="rId38"/>
              <a:stretch/>
            </p:blipFill>
            <p:spPr>
              <a:xfrm>
                <a:off x="-1547640" y="8693280"/>
                <a:ext cx="32148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-1497600" y="8747640"/>
                <a:ext cx="22068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组合 127"/>
          <p:cNvGrpSpPr/>
          <p:nvPr/>
        </p:nvGrpSpPr>
        <p:grpSpPr>
          <a:xfrm>
            <a:off x="1120680" y="8075520"/>
            <a:ext cx="998640" cy="1654200"/>
            <a:chOff x="1120680" y="8075520"/>
            <a:chExt cx="998640" cy="1654200"/>
          </a:xfrm>
        </p:grpSpPr>
        <p:grpSp>
          <p:nvGrpSpPr>
            <p:cNvPr id="513" name="任意多边形 128"/>
            <p:cNvGrpSpPr/>
            <p:nvPr/>
          </p:nvGrpSpPr>
          <p:grpSpPr>
            <a:xfrm>
              <a:off x="1120680" y="8075520"/>
              <a:ext cx="998640" cy="1654200"/>
              <a:chOff x="1120680" y="8075520"/>
              <a:chExt cx="998640" cy="1654200"/>
            </a:xfrm>
          </p:grpSpPr>
          <p:pic>
            <p:nvPicPr>
              <p:cNvPr id="514" name="任意多边形 128" descr=""/>
              <p:cNvPicPr/>
              <p:nvPr/>
            </p:nvPicPr>
            <p:blipFill>
              <a:blip r:embed="rId39"/>
              <a:stretch/>
            </p:blipFill>
            <p:spPr>
              <a:xfrm>
                <a:off x="1120680" y="8075520"/>
                <a:ext cx="998640" cy="165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1158840" y="8114400"/>
                <a:ext cx="919080" cy="157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任意多边形 129"/>
            <p:cNvGrpSpPr/>
            <p:nvPr/>
          </p:nvGrpSpPr>
          <p:grpSpPr>
            <a:xfrm>
              <a:off x="1636920" y="8191440"/>
              <a:ext cx="319680" cy="325080"/>
              <a:chOff x="1636920" y="8191440"/>
              <a:chExt cx="319680" cy="325080"/>
            </a:xfrm>
          </p:grpSpPr>
          <p:pic>
            <p:nvPicPr>
              <p:cNvPr id="517" name="任意多边形 129" descr=""/>
              <p:cNvPicPr/>
              <p:nvPr/>
            </p:nvPicPr>
            <p:blipFill>
              <a:blip r:embed="rId40"/>
              <a:stretch/>
            </p:blipFill>
            <p:spPr>
              <a:xfrm>
                <a:off x="1636920" y="8191440"/>
                <a:ext cx="3196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1687320" y="8244360"/>
                <a:ext cx="2196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0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4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75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8" dur="75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75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2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6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7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2" dur="75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75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6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75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" presetSubtype="1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0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4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7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2" presetSubtype="1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2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2" presetSubtype="1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6" dur="75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75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1:42:19Z</dcterms:created>
  <dc:creator>iwenping</dc:creator>
  <dc:description/>
  <cp:keywords/>
  <dc:language>en-US</dc:language>
  <cp:lastModifiedBy>DELL</cp:lastModifiedBy>
  <dcterms:modified xsi:type="dcterms:W3CDTF">2014-12-26T02:34:25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3</vt:lpwstr>
  </property>
  <property fmtid="{D5CDD505-2E9C-101B-9397-08002B2CF9AE}" pid="3" name="NXTAG2">
    <vt:lpwstr>000800fe3b0000000000010261100207f7000400038000</vt:lpwstr>
  </property>
  <property fmtid="{D5CDD505-2E9C-101B-9397-08002B2CF9AE}" pid="4" name="fileid">
    <vt:lpwstr>515190</vt:lpwstr>
  </property>
  <property fmtid="{D5CDD505-2E9C-101B-9397-08002B2CF9AE}" pid="5" name="name">
    <vt:lpwstr>A000120140912B65KOFW.ppt</vt:lpwstr>
  </property>
  <property fmtid="{D5CDD505-2E9C-101B-9397-08002B2CF9AE}" pid="6" name="关键字">
    <vt:lpwstr>PPT PowerPoint 范文 策划宣传 公司介绍 宣传 社团 形象介绍 多色 宽屏 v2003 #P13</vt:lpwstr>
  </property>
  <property fmtid="{D5CDD505-2E9C-101B-9397-08002B2CF9AE}" pid="7" name="标题">
    <vt:lpwstr>终极理论梦之社_A000120140912B65KOFW</vt:lpwstr>
  </property>
  <property fmtid="{D5CDD505-2E9C-101B-9397-08002B2CF9AE}" pid="8" name="模板文件">
    <vt:lpwstr>A000120140912B65KOFW.ppt</vt:lpwstr>
  </property>
</Properties>
</file>