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8999538" cy="6011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835E-E34E-443A-953B-C190D0963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D634-333C-422D-B24D-C3AD2DF2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A4AB-051D-4200-B8FC-A525143E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888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77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03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888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77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3B78-1886-4010-94E8-156D8BAE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32EE-D115-486E-93AB-310B653B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79FF-274E-4C05-B570-7FD726F3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AFCF-DD88-48FD-ACF6-72ADECA3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2498-A0D1-4467-9ACB-51C31873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0360" y="240840"/>
            <a:ext cx="809964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9573-B132-4C5B-9B5E-5D8577DC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C859-9956-4A07-9367-991882CD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CC58-73AE-43E2-AD0D-7BAE0893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97E2-4C64-41CD-A4EE-00C7AD13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66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127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88960" indent="-212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4DDC-A807-483A-B45B-873151DB74B3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7257-011C-48B2-B2AF-F911E01A6025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4280" y="1866600"/>
            <a:ext cx="7650360" cy="1289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妩媚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49280" y="3406320"/>
            <a:ext cx="6300720" cy="15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0360" y="1402920"/>
            <a:ext cx="8099640" cy="32590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微软雅黑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Rectangle 3" descr=""/>
          <p:cNvPicPr/>
          <p:nvPr/>
        </p:nvPicPr>
        <p:blipFill>
          <a:blip r:embed="rId1"/>
          <a:srcRect l="0" t="0" r="0" b="79489"/>
          <a:stretch/>
        </p:blipFill>
        <p:spPr>
          <a:xfrm>
            <a:off x="0" y="4778280"/>
            <a:ext cx="899964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63640" y="240840"/>
            <a:ext cx="678672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63640" y="1403280"/>
            <a:ext cx="678672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微软雅黑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文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Rectangle 3" descr=""/>
          <p:cNvPicPr/>
          <p:nvPr/>
        </p:nvPicPr>
        <p:blipFill>
          <a:blip r:embed="rId1"/>
          <a:srcRect l="52658" t="0" r="29522" b="0"/>
          <a:stretch/>
        </p:blipFill>
        <p:spPr>
          <a:xfrm>
            <a:off x="0" y="3240"/>
            <a:ext cx="160344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20960" y="1362240"/>
            <a:ext cx="2965320" cy="2965320"/>
          </a:xfrm>
          <a:prstGeom prst="pie">
            <a:avLst/>
          </a:prstGeom>
          <a:solidFill>
            <a:srgbClr val="c893b8">
              <a:alpha val="9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84800" y="1990800"/>
            <a:ext cx="105876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60840" anchor="ctr">
            <a:noAutofit/>
          </a:bodyPr>
          <a:p>
            <a:pPr algn="ctr">
              <a:lnSpc>
                <a:spcPct val="9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60840" y="1468440"/>
            <a:ext cx="2963520" cy="2965320"/>
          </a:xfrm>
          <a:prstGeom prst="pie">
            <a:avLst/>
          </a:prstGeom>
          <a:solidFill>
            <a:srgbClr val="c893b8">
              <a:alpha val="9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67160" y="3392640"/>
            <a:ext cx="1587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60840" anchor="ctr">
            <a:noAutofit/>
          </a:bodyPr>
          <a:p>
            <a:pPr algn="ctr">
              <a:lnSpc>
                <a:spcPct val="9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98920" y="1362240"/>
            <a:ext cx="2965320" cy="2965320"/>
          </a:xfrm>
          <a:prstGeom prst="pie">
            <a:avLst/>
          </a:prstGeom>
          <a:solidFill>
            <a:srgbClr val="c893b8">
              <a:alpha val="9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1640" y="1990800"/>
            <a:ext cx="106056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60840" bIns="60840" anchor="ctr">
            <a:noAutofit/>
          </a:bodyPr>
          <a:p>
            <a:pPr algn="ctr">
              <a:lnSpc>
                <a:spcPct val="9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38440" y="1179360"/>
            <a:ext cx="3332160" cy="3332160"/>
          </a:xfrm>
          <a:custGeom>
            <a:avLst/>
            <a:gdLst>
              <a:gd name="textAreaLeft" fmla="*/ 0 w 3332160"/>
              <a:gd name="textAreaRight" fmla="*/ 3332520 w 3332160"/>
              <a:gd name="textAreaTop" fmla="*/ 0 h 3332160"/>
              <a:gd name="textAreaBottom" fmla="*/ 3332520 h 3332160"/>
            </a:gdLst>
            <a:ahLst/>
            <a:rect l="textAreaLeft" t="textAreaTop" r="textAreaRight" b="textAreaBottom"/>
            <a:pathLst>
              <a:path w="21600" h="21600">
                <a:moveTo>
                  <a:pt x="1974" y="6770"/>
                </a:moveTo>
                <a:arcTo wR="-9702" hR="-9702" stAng="-9327528" swAng="-6873040"/>
                <a:lnTo>
                  <a:pt x="10798" y="0"/>
                </a:lnTo>
                <a:arcTo wR="10800" hR="10800" stAng="-5400569" swAng="6873040"/>
                <a:lnTo>
                  <a:pt x="23080" y="16407"/>
                </a:lnTo>
                <a:lnTo>
                  <a:pt x="18775" y="18013"/>
                </a:lnTo>
                <a:lnTo>
                  <a:pt x="17169" y="13708"/>
                </a:lnTo>
                <a:close/>
              </a:path>
            </a:pathLst>
          </a:custGeom>
          <a:solidFill>
            <a:srgbClr val="9250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76520" y="1284120"/>
            <a:ext cx="3332160" cy="3332160"/>
          </a:xfrm>
          <a:custGeom>
            <a:avLst/>
            <a:gdLst>
              <a:gd name="textAreaLeft" fmla="*/ 0 w 3332160"/>
              <a:gd name="textAreaRight" fmla="*/ 3332520 w 3332160"/>
              <a:gd name="textAreaTop" fmla="*/ 0 h 3332160"/>
              <a:gd name="textAreaBottom" fmla="*/ 3332520 h 3332160"/>
            </a:gdLst>
            <a:ahLst/>
            <a:rect l="textAreaLeft" t="textAreaTop" r="textAreaRight" b="textAreaBottom"/>
            <a:pathLst>
              <a:path w="21600" h="21600">
                <a:moveTo>
                  <a:pt x="18702" y="5171"/>
                </a:moveTo>
                <a:arcTo wR="-9702" hR="-9702" stAng="-2128031" swAng="-6871468"/>
                <a:lnTo>
                  <a:pt x="20152" y="16201"/>
                </a:lnTo>
                <a:arcTo wR="10800" hR="10800" stAng="1800502" swAng="6871468"/>
                <a:lnTo>
                  <a:pt x="-195" y="18633"/>
                </a:lnTo>
                <a:lnTo>
                  <a:pt x="566" y="14102"/>
                </a:lnTo>
                <a:lnTo>
                  <a:pt x="5097" y="14863"/>
                </a:lnTo>
                <a:close/>
              </a:path>
            </a:pathLst>
          </a:custGeom>
          <a:solidFill>
            <a:srgbClr val="9250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1179360"/>
            <a:ext cx="3333600" cy="3332160"/>
          </a:xfrm>
          <a:custGeom>
            <a:avLst/>
            <a:gdLst>
              <a:gd name="textAreaLeft" fmla="*/ 0 w 3333600"/>
              <a:gd name="textAreaRight" fmla="*/ 3333960 w 3333600"/>
              <a:gd name="textAreaTop" fmla="*/ 0 h 3332160"/>
              <a:gd name="textAreaBottom" fmla="*/ 3332520 h 3332160"/>
            </a:gdLst>
            <a:ahLst/>
            <a:rect l="textAreaLeft" t="textAreaTop" r="textAreaRight" b="textAreaBottom"/>
            <a:pathLst>
              <a:path w="21600" h="21600">
                <a:moveTo>
                  <a:pt x="11721" y="20458"/>
                </a:moveTo>
                <a:arcTo wR="-9702" hR="-9702" stAng="5073039" swAng="-6873039"/>
                <a:lnTo>
                  <a:pt x="1447" y="16200"/>
                </a:lnTo>
                <a:arcTo wR="10800" hR="10800" stAng="9000000" swAng="6873039"/>
                <a:lnTo>
                  <a:pt x="9518" y="-2639"/>
                </a:lnTo>
                <a:lnTo>
                  <a:pt x="13061" y="287"/>
                </a:lnTo>
                <a:lnTo>
                  <a:pt x="10135" y="3830"/>
                </a:lnTo>
                <a:close/>
              </a:path>
            </a:pathLst>
          </a:custGeom>
          <a:solidFill>
            <a:srgbClr val="9250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rot="5400000">
            <a:off x="910440" y="1479600"/>
            <a:ext cx="1359000" cy="952200"/>
          </a:xfrm>
          <a:custGeom>
            <a:avLst/>
            <a:gdLst>
              <a:gd name="textAreaLeft" fmla="*/ 0 w 1359000"/>
              <a:gd name="textAreaRight" fmla="*/ 1359360 w 1359000"/>
              <a:gd name="textAreaTop" fmla="*/ 0 h 952200"/>
              <a:gd name="textAreaBottom" fmla="*/ 952560 h 95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040" y="0"/>
                </a:lnTo>
                <a:lnTo>
                  <a:pt x="21600" y="10800"/>
                </a:lnTo>
                <a:lnTo>
                  <a:pt x="14040" y="21600"/>
                </a:lnTo>
                <a:lnTo>
                  <a:pt x="0" y="21600"/>
                </a:lnTo>
                <a:lnTo>
                  <a:pt x="7560" y="10800"/>
                </a:lnTo>
                <a:close/>
              </a:path>
            </a:pathLst>
          </a:custGeom>
          <a:solidFill>
            <a:srgbClr val="925074"/>
          </a:solidFill>
          <a:ln w="25560">
            <a:solidFill>
              <a:srgbClr val="c893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16000" y="1752480"/>
            <a:ext cx="9507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19080" bIns="19080" anchor="ctr">
            <a:noAutofit/>
          </a:bodyPr>
          <a:p>
            <a:pPr algn="ctr">
              <a:lnSpc>
                <a:spcPct val="900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4564080" y="-1219320"/>
            <a:ext cx="884160" cy="5878800"/>
          </a:xfrm>
          <a:prstGeom prst="pie">
            <a:avLst/>
          </a:prstGeom>
          <a:solidFill>
            <a:srgbClr val="ffffff">
              <a:alpha val="89000"/>
            </a:srgbClr>
          </a:solidFill>
          <a:ln w="25560">
            <a:solidFill>
              <a:srgbClr val="c893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66760" y="1320840"/>
            <a:ext cx="58374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9080" rIns="17640" tIns="17640" bIns="17640" anchor="ctr">
            <a:noAutofit/>
          </a:bodyPr>
          <a:p>
            <a:pPr lvl="1" marL="285840" indent="-28584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911160" y="2680560"/>
            <a:ext cx="1359000" cy="950760"/>
          </a:xfrm>
          <a:custGeom>
            <a:avLst/>
            <a:gdLst>
              <a:gd name="textAreaLeft" fmla="*/ 0 w 1359000"/>
              <a:gd name="textAreaRight" fmla="*/ 1359360 w 1359000"/>
              <a:gd name="textAreaTop" fmla="*/ 0 h 950760"/>
              <a:gd name="textAreaBottom" fmla="*/ 951120 h 95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040" y="0"/>
                </a:lnTo>
                <a:lnTo>
                  <a:pt x="21600" y="10800"/>
                </a:lnTo>
                <a:lnTo>
                  <a:pt x="14040" y="21600"/>
                </a:lnTo>
                <a:lnTo>
                  <a:pt x="0" y="21600"/>
                </a:lnTo>
                <a:lnTo>
                  <a:pt x="7560" y="10800"/>
                </a:lnTo>
                <a:close/>
              </a:path>
            </a:pathLst>
          </a:custGeom>
          <a:solidFill>
            <a:srgbClr val="925074"/>
          </a:solidFill>
          <a:ln w="25560">
            <a:solidFill>
              <a:srgbClr val="c893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2952720"/>
            <a:ext cx="950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19080" bIns="19080" anchor="ctr">
            <a:noAutofit/>
          </a:bodyPr>
          <a:p>
            <a:pPr algn="ctr">
              <a:lnSpc>
                <a:spcPct val="900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4564080" y="-20880"/>
            <a:ext cx="884160" cy="5878800"/>
          </a:xfrm>
          <a:prstGeom prst="pie">
            <a:avLst/>
          </a:prstGeom>
          <a:solidFill>
            <a:srgbClr val="ffffff">
              <a:alpha val="89000"/>
            </a:srgbClr>
          </a:solidFill>
          <a:ln w="25560">
            <a:solidFill>
              <a:srgbClr val="c893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66760" y="2519280"/>
            <a:ext cx="58374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9080" rIns="17640" tIns="17640" bIns="17640" anchor="ctr">
            <a:noAutofit/>
          </a:bodyPr>
          <a:p>
            <a:pPr lvl="1" marL="285840" indent="-28584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910440" y="3876840"/>
            <a:ext cx="1359000" cy="952200"/>
          </a:xfrm>
          <a:custGeom>
            <a:avLst/>
            <a:gdLst>
              <a:gd name="textAreaLeft" fmla="*/ 0 w 1359000"/>
              <a:gd name="textAreaRight" fmla="*/ 1359360 w 1359000"/>
              <a:gd name="textAreaTop" fmla="*/ 0 h 952200"/>
              <a:gd name="textAreaBottom" fmla="*/ 952560 h 95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040" y="0"/>
                </a:lnTo>
                <a:lnTo>
                  <a:pt x="21600" y="10800"/>
                </a:lnTo>
                <a:lnTo>
                  <a:pt x="14040" y="21600"/>
                </a:lnTo>
                <a:lnTo>
                  <a:pt x="0" y="21600"/>
                </a:lnTo>
                <a:lnTo>
                  <a:pt x="7560" y="10800"/>
                </a:lnTo>
                <a:close/>
              </a:path>
            </a:pathLst>
          </a:custGeom>
          <a:solidFill>
            <a:srgbClr val="925074"/>
          </a:solidFill>
          <a:ln w="25560">
            <a:solidFill>
              <a:srgbClr val="c893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16000" y="4149720"/>
            <a:ext cx="9507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19080" bIns="19080" anchor="ctr">
            <a:noAutofit/>
          </a:bodyPr>
          <a:p>
            <a:pPr algn="ctr">
              <a:lnSpc>
                <a:spcPct val="90000"/>
              </a:lnSpc>
              <a:spcAft>
                <a:spcPts val="1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4564080" y="1175760"/>
            <a:ext cx="884160" cy="5878800"/>
          </a:xfrm>
          <a:prstGeom prst="pie">
            <a:avLst/>
          </a:prstGeom>
          <a:solidFill>
            <a:srgbClr val="ffffff">
              <a:alpha val="89000"/>
            </a:srgbClr>
          </a:solidFill>
          <a:ln w="25560">
            <a:solidFill>
              <a:srgbClr val="c893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66760" y="3718080"/>
            <a:ext cx="5837400" cy="7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9080" rIns="17640" tIns="17640" bIns="17640" anchor="ctr">
            <a:noAutofit/>
          </a:bodyPr>
          <a:p>
            <a:pPr lvl="1" marL="285840" indent="-28584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4280" y="1866600"/>
            <a:ext cx="7650360" cy="1289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49280" y="3406320"/>
            <a:ext cx="6300720" cy="15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dc:language>en-US</dc:language>
  <cp:lastModifiedBy>xiang</cp:lastModifiedBy>
  <dcterms:modified xsi:type="dcterms:W3CDTF">2015-07-20T10:00:21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