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76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荣盛集团新绩效管理制度实施讲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13"/>
          </p:nvPr>
        </p:nvSpPr>
        <p:spPr>
          <a:xfrm>
            <a:off x="382896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14"/>
          </p:nvPr>
        </p:nvSpPr>
        <p:spPr>
          <a:xfrm>
            <a:off x="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房地产人力资源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15"/>
          </p:nvPr>
        </p:nvSpPr>
        <p:spPr>
          <a:xfrm>
            <a:off x="3828960" y="937224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8D5D-1328-473A-8026-0A27D3E425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荣盛集团新绩效管理制度实施讲义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房地产人力资源部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3828960" y="937260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89D0-6DBD-4D9E-A705-9CAE17AC02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068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推行绩效考核制度，分公司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元月开始实施，要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完成绩效考核内容及权重设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总公司已经试行两个月，把实施经验介绍给分公司，同时，针对总公司实施过程中遇到的问题，员工经常不清楚的地方，做个有针对性的辅导和解答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0A13-86BA-4712-8F60-E2CF4F872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D31C-34C6-4E93-8F4F-85AC0C68374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E7A4-7D70-41D2-B83B-B93B4451F0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1CF0-DA8E-4A17-9D83-95A6D4B245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12E3-3BF4-4C71-A890-1F58E18740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0F6E-CE8A-475F-9711-7C56271676A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FF955-D96F-45E4-917D-B9BF55DE8F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8399-D33D-4FE8-82AC-E77FAC68A88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F5D1C-397C-4547-9522-1EBC2DD8B43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CFFD-4C47-4721-B40F-C697C119B2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236BB-E9E4-4C50-BDCF-EA4F61513B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6E2581-6690-40EA-A2F1-47C3981FB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6892-809C-4BC1-978A-D004B8F2FB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94328-255E-4128-B59A-D82A6A4F923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4A027-4C6F-401F-80EE-709E23A82A1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11E53-4370-497D-99ED-CDD504AF44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226AC-3620-44D0-A606-7E2D794143C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EF8E1-1AA4-4BF0-A797-B00AF18F1D5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B9BA0-2130-4923-94D2-790E67C1EAB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E5437-B95A-4CB2-BC63-FB6E65BB307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F61B0-6581-46B6-AFE2-79B160B4D55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C10608-BED7-4C92-B0A7-E4B45F38B9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AE3BD2-FDFD-47D9-8848-8395B601C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C649-BAD0-42B7-B8B6-DF3A1DB5887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A19D16-25FC-4B13-92ED-42ABD31DA8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8E718-0915-49B6-8B33-DF7478FD99A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B0FD2-2DF8-46E6-AE04-2C4210A2FE1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4BF12-AA34-4C78-88C2-62B11CDFECB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24A32-D7D3-4899-834C-79C2E0A5B32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5A992-90E5-404D-8398-C1D2F081F26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98EA2-A7A6-4C23-A36C-972A88D12A8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6FAC6-053A-4538-8052-BCAD420AE5D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539AD-73A1-4A88-A05F-D3482CDD331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39973-9CC3-4536-BED4-07539895A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FBB3-D14C-45DF-9E88-8D8EC0D4E0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8ED4C-758F-4CDC-A03B-0D27E91DBA7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2B3B2-3480-447D-B8DB-6C15C499961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05B1D-935B-45D1-B1C4-F429D43513E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AFA1-EA66-4908-AF27-C476A447284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7C659-B064-4BC0-93FC-DC3C097130D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103B-0C29-4C16-9007-7A0A8B44D93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5400-FB9A-4ADC-B028-64235E8DFE4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BD3D-F789-4B8E-A084-C9D0A15C8A4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9A7E0-1B5E-4DCA-BCCF-E1CDBAFF3A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643FF-4819-4357-B42A-A06E2D2BDC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F466-EC37-4791-AE6F-272C86B4CDD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D4BA-7D8C-49FC-A286-1CD79756B4F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3CDA-63D2-49A7-A679-896F20EF90E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5549D-C705-407B-A798-E25762532F7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A392-4AF9-408D-9BB3-468EDDCDB72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884D-0A58-45E9-97CF-E8B15ADFF5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6CC0-2C81-428C-96E3-837465B725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923E-F87C-4722-A3A7-BD4842811D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19B9-8C85-4E9B-876B-33C2A15E2D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FC17-69DE-48CC-8D32-9473AF2CD5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761AB-2875-41DB-86A7-DC130076F7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6DC9-9C92-478F-82BF-15CB96732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2C5E-122C-491F-8D48-E0AEDDCE8C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A75A-3694-4BC1-A2D4-8C638FF1B7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1168-8D0A-4C72-9E8C-BF3D18E357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B9CE-1461-4A20-9B18-641DB14D89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6D6C-1D0E-46F6-840B-3C523FB646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94F-498F-4EA1-9E7A-8353C3D82D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1A8-753C-4B70-93D1-A7FC8CA22C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3B0-24BD-40C5-A9A7-DCA08AA47B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6F4-C9A2-4122-9E52-5DB84FD6FF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6ED-14D0-4A91-95C9-34DFCD4A24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0B5C-B4E3-425B-9B70-360BEEFDF9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6A8-C718-42E6-8007-01742FA447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8DE-32BB-4066-BF21-DE381DA091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817-1815-4987-BE0E-277C640BBB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C92-E647-467E-8C3C-AA6AE96CFA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D40-5BC6-451A-9104-FF2C0E26DE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C96-DD14-48D5-9F5F-A7EC606A60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5BA-B3B5-4110-840C-1E946C2269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9C854-446F-44D6-960E-7CFFDCEAF8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BA259-D043-439D-BB3D-81D6923E2D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6110C-7DD0-4122-8F84-5987EEF73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FE91-68F0-4057-95AD-733E1785DF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94F99-9AA1-4A2A-9CF6-2274A3A34C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FA0B1-E16A-42AC-B914-9B762037A6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90FC6-7C27-4353-9F7C-5C82B23CCA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6E6E5-3D5C-4BB1-81BF-42C3D293E0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82624-AB04-44C0-A68E-AE5C18A4C6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1A249-4DF1-418E-9EE7-60FA92658B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060C3-AAC4-4104-AA09-073F26B57B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53981-CD11-40C1-81E9-33CD65C8BF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7C933-C1AD-474E-AD28-BDF0298DEF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BB7C3-DB43-48C5-B0DF-6CEC89F76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363F-8528-4271-ABEC-60A24DAB16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3806A-E944-4645-8329-A949864C0F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77071-E1B6-4EDD-ACAF-03176BB367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2D5A5-C870-4694-AB8E-3B53B0E53A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D8291-DB9F-4663-A1E9-4CAC3823C47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2C545-FD4C-454C-8163-1D9A20A91C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352C3-DF1D-4E47-815D-663532905F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0F686-DF28-4B3E-A747-0952E34243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F1983-0CD5-4445-9C02-D6F814C57D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95EB1-841E-4467-AACD-F9187DA4C37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14F2F-5B8E-4908-986D-8817DD4B8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999F-4A3A-46C3-AAA7-68500AE8A9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FBFF5-586C-4828-B6C6-2CB8DDB059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5E56-7D2E-4407-96BA-9F57EAF2403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7482-112E-41C2-B918-91BA02894A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21EB-A5C1-474B-8028-E89C6E8347B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5F2F-D8B6-4014-8389-B725963EF7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99F1-9AA9-47E3-BD11-AC6810AE4B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1F5B-B43A-4DAC-81E5-4B5A878C8C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84A4-A85C-48A9-A863-29DADE27B7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CA0B-18B5-40C3-897A-D3831695DA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F220-8605-49D1-98B6-63CF2F1B3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4DB6-3822-4A64-A187-7B910344F5A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1B60-10DF-4C1C-90EE-465F83FDAD8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198E-7BEF-4512-8C03-C5A935E437B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3485-552D-4C30-9618-59BA010DAB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820E3-75D5-4D23-9969-1624810956C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B69CE-1030-421A-BD01-B20B6A22C3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55BA0-D340-4138-8381-BC66F92E303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6890C-BBAB-4E42-AE01-85FC7147C9F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22C27-3539-4696-930D-2E4387D105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D73FD-189D-463F-AA92-9A0905A6A8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6770E7-EACB-4087-A37F-E20A2491B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A090-C201-40D3-B0A1-932066FA4E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D5C1F-A12D-422B-A68E-27B920E562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763F6-3068-4FB2-B35A-60505C61B1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CA7BFE-F7B2-47D2-A543-C02C290D60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E6B89-2A10-4D64-A001-06B1CAC532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0A217-6D3F-4466-A256-1A807276FF8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F305A-53CA-42EE-81FF-63CFE9815E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A0A82-8554-40B5-A43A-A443DD569FC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EA7DA-A83D-4AA5-A527-9CFFFC643E6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9D095-8366-4EE7-BC8B-6CFFA7347E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7B4EA-DEFF-4848-B6F4-64EDFD26B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3903-FDE7-469D-B4D2-AE35526538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533160" y="533160"/>
            <a:ext cx="635940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A22A3-936F-4281-9278-E819A86783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3E49F-1BB3-4F40-9495-79F10D5845F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43D70-892E-4B4A-A7E9-C945E6EF02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BBBB3-B7D1-4A58-8689-9AA3CB6E8B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3160" y="3600000"/>
            <a:ext cx="8001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A9EBB-1A42-40A9-9EF7-F30BDDE4BF0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316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32840" y="360000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7DE70-0EB3-474B-BDDD-68C729CAB50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85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43960" y="137124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331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85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43960" y="3600000"/>
            <a:ext cx="2576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888B5-A3B8-4A22-8946-5E4B60E2B65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1F42-4412-4776-B827-379132CE467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AD0F-2EDF-4E45-94E9-1F234E06D5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0F13-C6D6-4D8F-81E5-25DCA5A9E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1735B32F-5676-4E44-BE99-52048AB4420D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010280" y="68580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" name="Picture 10" descr="标志无r"/>
          <p:cNvPicPr/>
          <p:nvPr/>
        </p:nvPicPr>
        <p:blipFill>
          <a:blip r:embed="rId3"/>
          <a:stretch/>
        </p:blipFill>
        <p:spPr>
          <a:xfrm>
            <a:off x="7467480" y="228600"/>
            <a:ext cx="1371600" cy="468360"/>
          </a:xfrm>
          <a:prstGeom prst="rect">
            <a:avLst/>
          </a:prstGeom>
          <a:ln w="0">
            <a:noFill/>
          </a:ln>
        </p:spPr>
      </p:pic>
      <p:sp>
        <p:nvSpPr>
          <p:cNvPr id="6" name="Text Box 12"/>
          <p:cNvSpPr/>
          <p:nvPr/>
        </p:nvSpPr>
        <p:spPr>
          <a:xfrm>
            <a:off x="685800" y="62485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廊坊荣盛物业管理有限公司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" name="Line 13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0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A8CFAD2E-06A9-4B84-8D9A-242416F4FF91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B9AB3D4F-6837-42D8-843A-896594A3A6BC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2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DD93B604-C034-4B1C-870C-4F2F3DF92E19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9954C95A-8226-4323-9015-E1CDE3444558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AD73D22B-7049-4052-A9F2-67681AC0B229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4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C2B79FF2-25C6-4755-B9AD-BB6936BFB566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BDFC1A79-8A15-44A9-A96B-A41F8973622C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6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E8E51651-D39D-4F49-841B-7E42BD9CF53D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233E18F5-BDD3-4FEB-A87E-0B890F25EDE7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8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A5901C50-B558-42CF-873A-14D12D515DA8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9"/>
          </p:nvPr>
        </p:nvSpPr>
        <p:spPr>
          <a:xfrm>
            <a:off x="723852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0012608E-8FB8-4025-9754-A65358820612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8F1C3E02-F670-4A33-9865-74EF762C4163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</a:rPr>
              <a:t>物业管理公司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</a:rPr>
              <a:t>如何提高员工的服务意识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220CB713-31AB-4EA9-9735-1AF111FCDB28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四）、 什么是优质服务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Rectangle 5"/>
          <p:cNvSpPr/>
          <p:nvPr/>
        </p:nvSpPr>
        <p:spPr>
          <a:xfrm rot="3418800">
            <a:off x="1132200" y="3286800"/>
            <a:ext cx="1177920" cy="10047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356840" y="346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规范服务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1" name="Rectangle 8"/>
          <p:cNvSpPr/>
          <p:nvPr/>
        </p:nvSpPr>
        <p:spPr>
          <a:xfrm rot="3418800">
            <a:off x="3480120" y="3328200"/>
            <a:ext cx="1177920" cy="10047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371880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超常服务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3" name="WordArt 10"/>
          <p:cNvSpPr txBox="1"/>
          <p:nvPr/>
        </p:nvSpPr>
        <p:spPr>
          <a:xfrm>
            <a:off x="2819520" y="3581280"/>
            <a:ext cx="46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＋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14" name="WordArt 11"/>
          <p:cNvSpPr txBox="1"/>
          <p:nvPr/>
        </p:nvSpPr>
        <p:spPr>
          <a:xfrm>
            <a:off x="5410080" y="3581280"/>
            <a:ext cx="466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15" name="Oval 13"/>
          <p:cNvSpPr/>
          <p:nvPr/>
        </p:nvSpPr>
        <p:spPr>
          <a:xfrm rot="20876400">
            <a:off x="6392880" y="42670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6" name="Oval 14"/>
          <p:cNvSpPr/>
          <p:nvPr/>
        </p:nvSpPr>
        <p:spPr>
          <a:xfrm>
            <a:off x="6324480" y="30481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7" name="Oval 15"/>
          <p:cNvSpPr/>
          <p:nvPr/>
        </p:nvSpPr>
        <p:spPr>
          <a:xfrm>
            <a:off x="6345360" y="30574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8" name="Oval 16"/>
          <p:cNvSpPr/>
          <p:nvPr/>
        </p:nvSpPr>
        <p:spPr>
          <a:xfrm>
            <a:off x="6362640" y="30733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19" name="Oval 17"/>
          <p:cNvSpPr/>
          <p:nvPr/>
        </p:nvSpPr>
        <p:spPr>
          <a:xfrm>
            <a:off x="6429240" y="31050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6324480" y="3505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66cc"/>
                </a:solidFill>
                <a:latin typeface="楷体_GB2312"/>
              </a:rPr>
              <a:t>优质服务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F94545F1-B183-4766-9315-396AB46A0291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五）、对待投诉的态度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Picture 4" descr="C:\Program Files\Common Files\Microsoft Shared\Clipart\cagcat50\PE02002_.wmf"/>
          <p:cNvPicPr/>
          <p:nvPr/>
        </p:nvPicPr>
        <p:blipFill>
          <a:blip r:embed="rId1"/>
          <a:stretch/>
        </p:blipFill>
        <p:spPr>
          <a:xfrm>
            <a:off x="533520" y="3657600"/>
            <a:ext cx="2282760" cy="228600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5"/>
          <p:cNvSpPr/>
          <p:nvPr/>
        </p:nvSpPr>
        <p:spPr>
          <a:xfrm>
            <a:off x="2057400" y="2286000"/>
            <a:ext cx="4114800" cy="1523880"/>
          </a:xfrm>
          <a:prstGeom prst="cloudCallout">
            <a:avLst>
              <a:gd name="adj1" fmla="val -44328"/>
              <a:gd name="adj2" fmla="val 70000"/>
            </a:avLst>
          </a:prstGeom>
          <a:gradFill rotWithShape="0">
            <a:gsLst>
              <a:gs pos="0">
                <a:srgbClr val="336699"/>
              </a:gs>
              <a:gs pos="100000">
                <a:srgbClr val="a3b2c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投诉没什么可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4267080" y="4038480"/>
            <a:ext cx="4419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不要害怕投诉，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要积极主动寻找投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8E32605E-338C-4EF9-871B-974E9414B1B8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六）、如何处理投诉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认真听取意见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保持冷静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表示同情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给予关心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不转移目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记录要点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把将要采取的措施告诉客人并征得客人的同意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把解决问题所需要的时间告诉客人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388A0287-F519-43EA-9D55-F6286C8BB0DD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七）、服务不满意的计算公式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6×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×33%×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＝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26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914400" y="3429000"/>
            <a:ext cx="6934320" cy="182880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意义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当一名顾客口头或书面投诉某一企业时，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（即对企业不满意），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就会间接导致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26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人对该企业的不满意。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BB26AEEA-BCE0-404F-B8DA-2A0685500E0E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在客人活动场所禁止干私人事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上班前、工作中不允许喝酒，吃有刺激性气味的食物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工作时不扎堆闲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在客人活动场所不得跑步，坚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说话轻，行走轻，操作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任何时候在客人活动场所禁止不雅行为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工作中做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眼勤、嘴勤、手勤、腿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笑容永驻脸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保持服装整洁，仪表大方，头脑清醒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态度温和有礼，做事有始有终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 接听电话用语规范，语气柔和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4D8F43A4-39BF-444B-81C5-AFFD24F78500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三、基本服务规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不与客人乱开玩笑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善于观察客人的需求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当客人投诉时，不可好胜争辩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不要边操作边和客人说话，心不在焉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不要旁听和加入客人谈话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不与客人抢道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尽量记住客人姓名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遵守公司规定，爱护公物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不要围观意外或其他特别事件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5D4A945F-ADB1-41EA-99F8-8A2D4AE6383F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四、服务十要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礼节多一点；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作快一点；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脑筋活一点；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做事勤一点；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微笑甜一点；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效率高一点；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说话轻一点；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嘴巴亲一点；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9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肚量大一点；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0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争执让一点。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240DB3AD-67C5-4CBC-A0E8-DCC1E128F6AD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五、基本的服务礼仪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993366"/>
                </a:solidFill>
                <a:latin typeface="Verdana"/>
                <a:ea typeface="华文行楷"/>
              </a:rPr>
              <a:t>＊</a:t>
            </a:r>
            <a:r>
              <a:rPr b="0" lang="zh-CN" sz="39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衣饰打扮    </a:t>
            </a:r>
            <a:r>
              <a:rPr b="0" lang="zh-CN" sz="3900" spc="-1" strike="noStrike">
                <a:solidFill>
                  <a:srgbClr val="993366"/>
                </a:solidFill>
                <a:latin typeface="华文行楷"/>
                <a:ea typeface="华文行楷"/>
              </a:rPr>
              <a:t>＊</a:t>
            </a:r>
            <a:r>
              <a:rPr b="0" lang="zh-CN" sz="3900" spc="-1" strike="noStrike">
                <a:solidFill>
                  <a:srgbClr val="000000"/>
                </a:solidFill>
                <a:latin typeface="华文行楷"/>
                <a:ea typeface="华文行楷"/>
              </a:rPr>
              <a:t>言谈举止</a:t>
            </a:r>
            <a:endParaRPr b="1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着装              态度         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化妆             言语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个人卫生          行为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6E629FB5-A38C-46B8-8F1F-F3EC073BBC6E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3366"/>
                </a:solidFill>
                <a:latin typeface="Verdana"/>
              </a:rPr>
              <a:t>＊</a:t>
            </a:r>
            <a:r>
              <a:rPr b="1" lang="zh-CN" sz="2600" spc="-1" strike="noStrike">
                <a:solidFill>
                  <a:srgbClr val="993366"/>
                </a:solidFill>
                <a:latin typeface="Verdana"/>
              </a:rPr>
              <a:t>着装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职业装是职业人首选的装束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PO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原则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注意面料、色彩和款式三个方面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3366"/>
                </a:solidFill>
                <a:latin typeface="Verdana"/>
              </a:rPr>
              <a:t>＊头发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整齐清洁，大方端庄，不宜过分前卫与时尚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3366"/>
                </a:solidFill>
                <a:latin typeface="Verdana"/>
              </a:rPr>
              <a:t>＊脸部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干净，表情自然，女性化淡妆，以清新自然为宜。男性不留胡须，无鼻毛外露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62F70D83-1749-4DDC-8441-410042C7E64C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3366"/>
                </a:solidFill>
                <a:latin typeface="Verdana"/>
              </a:rPr>
              <a:t>＊</a:t>
            </a:r>
            <a:r>
              <a:rPr b="1" lang="zh-CN" sz="2600" spc="-1" strike="noStrike">
                <a:solidFill>
                  <a:srgbClr val="993366"/>
                </a:solidFill>
                <a:latin typeface="Verdana"/>
              </a:rPr>
              <a:t>眼睛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充足睡眠，避免眼睛疲惫不堪，目光柔和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3366"/>
                </a:solidFill>
                <a:latin typeface="Verdana"/>
              </a:rPr>
              <a:t>＊</a:t>
            </a:r>
            <a:r>
              <a:rPr b="1" lang="zh-CN" sz="2600" spc="-1" strike="noStrike">
                <a:solidFill>
                  <a:srgbClr val="993366"/>
                </a:solidFill>
                <a:latin typeface="Verdana"/>
              </a:rPr>
              <a:t>口腔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口气清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牙齿清洁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3366"/>
                </a:solidFill>
                <a:latin typeface="Verdana"/>
              </a:rPr>
              <a:t>＊</a:t>
            </a:r>
            <a:r>
              <a:rPr b="1" lang="zh-CN" sz="2600" spc="-1" strike="noStrike">
                <a:solidFill>
                  <a:srgbClr val="993366"/>
                </a:solidFill>
                <a:latin typeface="Verdana"/>
              </a:rPr>
              <a:t>手和指甲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干净，指甲修剪整齐，不留长指甲及涂颜色鲜亮、刺眼的指甲油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993366"/>
                </a:solidFill>
                <a:latin typeface="Verdana"/>
              </a:rPr>
              <a:t>＊</a:t>
            </a:r>
            <a:r>
              <a:rPr b="1" lang="zh-CN" sz="2600" spc="-1" strike="noStrike">
                <a:solidFill>
                  <a:srgbClr val="993366"/>
                </a:solidFill>
                <a:latin typeface="Verdana"/>
              </a:rPr>
              <a:t>饰物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佩戴饰物宜符合仪表修饰原则。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34B6F557-5335-4F3B-9C64-1D1907C5BBA2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培训目的：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　　树立良好的服务意识，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　　从而使工作输出优质的服务。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600C9376-679D-4FEA-BD7F-1B655B80F25C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3366"/>
                </a:solidFill>
                <a:latin typeface="Verdana"/>
              </a:rPr>
              <a:t>＊</a:t>
            </a:r>
            <a:r>
              <a:rPr b="1" lang="zh-CN" sz="3000" spc="-1" strike="noStrike">
                <a:solidFill>
                  <a:srgbClr val="993366"/>
                </a:solidFill>
                <a:latin typeface="Verdana"/>
              </a:rPr>
              <a:t>微笑：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表情中最能赋予人好感，增加友善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和沟通，愉悦心情的表现方式。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3366"/>
                </a:solidFill>
                <a:latin typeface="Verdana"/>
              </a:rPr>
              <a:t>＊</a:t>
            </a:r>
            <a:r>
              <a:rPr b="1" lang="zh-CN" sz="3000" spc="-1" strike="noStrike">
                <a:solidFill>
                  <a:srgbClr val="993366"/>
                </a:solidFill>
                <a:latin typeface="Verdana"/>
              </a:rPr>
              <a:t>眼神：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眼睛是心灵的窗户，最得体的眼神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为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散点柔视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517E45E3-F24D-4380-8648-97C4E35D86AB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亲合力的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三笑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眼睛笑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嘴也笑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眼神也笑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2AA2F4F4-6FB6-4ECC-A27A-DD0DDD4D2B79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礼仪自检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从  头  到   脚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注  重  细  节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Picture 4" descr="C:\Program Files\Common Files\Microsoft Shared\Clipart\cagcat50\PE01496_.wmf"/>
          <p:cNvPicPr/>
          <p:nvPr/>
        </p:nvPicPr>
        <p:blipFill>
          <a:blip r:embed="rId1"/>
          <a:stretch/>
        </p:blipFill>
        <p:spPr>
          <a:xfrm>
            <a:off x="5029200" y="2514600"/>
            <a:ext cx="260208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52F95FB7-F86E-43EA-9B1F-3A0B22EEA57A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6553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特别提醒：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Verdana"/>
              </a:rPr>
              <a:t>　最后检查身上所有的扣子、拉链、带子是否妥当。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5" name="Group 7"/>
          <p:cNvGrpSpPr/>
          <p:nvPr/>
        </p:nvGrpSpPr>
        <p:grpSpPr>
          <a:xfrm>
            <a:off x="6705720" y="1371600"/>
            <a:ext cx="1676160" cy="1447920"/>
            <a:chOff x="6705720" y="1371600"/>
            <a:chExt cx="1676160" cy="1447920"/>
          </a:xfrm>
        </p:grpSpPr>
        <p:sp>
          <p:nvSpPr>
            <p:cNvPr id="566" name="AutoShape 5"/>
            <p:cNvSpPr/>
            <p:nvPr/>
          </p:nvSpPr>
          <p:spPr>
            <a:xfrm>
              <a:off x="6705720" y="1371600"/>
              <a:ext cx="1676160" cy="1447920"/>
            </a:xfrm>
            <a:prstGeom prst="flowChartExtra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67" name="WordArt 6"/>
            <p:cNvSpPr txBox="1"/>
            <p:nvPr/>
          </p:nvSpPr>
          <p:spPr>
            <a:xfrm>
              <a:off x="7410600" y="1676520"/>
              <a:ext cx="2286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spcBef>
                  <a:spcPts val="799"/>
                </a:spcBef>
                <a:buClr>
                  <a:srgbClr val="cc0000"/>
                </a:buClr>
                <a:buFont typeface="Wingding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！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8EAE5A6A-1EBE-4A7F-8902-B8BF78E75EB8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头发梳好了吗？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牙刷干净了吗？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衣服笔挺吗？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你看上去胸有成竹吗？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WordArt 4"/>
          <p:cNvSpPr txBox="1"/>
          <p:nvPr/>
        </p:nvSpPr>
        <p:spPr>
          <a:xfrm rot="2571600">
            <a:off x="6248160" y="2590920"/>
            <a:ext cx="1465200" cy="23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7796"/>
              </a:avLst>
            </a:prstTxWarp>
            <a:noAutofit/>
          </a:bodyPr>
          <a:p>
            <a:pPr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宋体"/>
              </a:rPr>
              <a:t>？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088EAEDF-D862-4C0C-9E5F-D901402AE716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培训重点：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　　七大服务意识 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DBFDAB16-490E-47EB-BB01-6D9B8CB82A9F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一、物业管理的性质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二、七大基本服务意识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三、基本服务规则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四、服务十要点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五、基本的服务礼仪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EF81598F-C7FA-4109-828F-73E0CD2FBE67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一、物业管理的性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　物业管理既不是农业，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　也不是工业，而是第三产业。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　更具体说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服务行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34D14227-6AC1-4212-8252-DA88D9236E41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职业的分类：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按产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行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职业分：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第一产业：农、林、牧、渔、和水利业；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第二产业：工业和建筑业；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第三产：第一、第二产业以外的流通业和服务业；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DBA70528-1621-4DAE-8BEE-32BFFA964894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二、七大基本服务意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一）、如何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顾客至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顾客是我们的衣食父母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顾客需要我们提供舒适完美的服务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服务基本依据是顾客的需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不要被社会上的陋习所同化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努力给顾客提供方便，创造欢乐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、 在任何情况下都不与顾客争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80CCCCAF-6D9E-4A16-932B-AF733DA3DDA4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二）、如何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顾客永远是对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 充分理解顾客的需求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 充分理解顾客的想法和心态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 充分理解顾客的误会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 充分理解顾客的过错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灯片编号占位符 3"/>
          <p:cNvSpPr/>
          <p:nvPr/>
        </p:nvSpPr>
        <p:spPr>
          <a:xfrm>
            <a:off x="7238880" y="6232680"/>
            <a:ext cx="1295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page</a:t>
            </a:r>
            <a:fld id="{E402055A-2196-4D4D-8EA5-1209816FF1C1}" type="slidenum"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6359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（三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0-1=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的服务质量公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其含义是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　　　顾客对服务质量评价是一种完整的总体评价，只要有一个细节或环节出现差错，就会导致顾客的不满。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9-11T03:32:49Z</dcterms:modified>
  <cp:revision>3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