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418-883E-4D52-8F91-75CEFF6D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6D9-FCF5-4682-BE07-0AA3871A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11F-F15F-4DFF-A013-D51687C5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534-CC69-435E-B09B-88D376D0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AF9-2687-4FCC-8D26-AD9EC60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0BE6-6522-4409-9092-EF103EE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D179-948A-45AD-9C62-E5FCEDC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5A2-0321-4A40-87CC-387B1B7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9AB1-644E-4041-B886-227D2C85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4113-8E44-418E-A548-B2CDC65B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EFCB-FBF0-4D19-8442-5728ABD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686-4BAE-42E8-9B83-4E480D2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395D-0DAA-46FD-A2D4-73AF9EF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2B71-F134-42ED-A579-932A38DF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7B4A-31F7-4773-85A6-F89FE8C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308-893A-4145-A17A-C5EDC1C6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B7F6-6898-40B6-BB7B-63F0D1CE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1A5-0A7C-4A6A-B4CC-2DC779B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CB2-074E-4E27-8EC9-45A53B04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B2F-803E-4617-B162-2DCA595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44A-1B5C-42BC-8855-5437C84A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FB9-4B0B-4867-8378-40A82A1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B3A-9EF9-4D9B-8FA2-9026179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6ED-2DDB-4F02-B34B-899FD93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E6B3-1297-4147-A031-9A5E92773D5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0E8-8202-4D43-9CB0-685BB4F11D8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1268280"/>
            <a:ext cx="727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烟的花季更美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3768120" y="333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97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亿少年“烟民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国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以上的初中生（男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2.5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女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3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尝试过吸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烟民”们开始吸烟的平均年龄仅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0.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近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92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被调查学生认为，吸烟肯定会损害健康，但仍有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2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男生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%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女生表示，可能或肯定会在今后吸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最近的一项调查显示，中国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以下的青少年吸烟人数已经超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亿。这个数字带来了“香烟成为校园杀手”的惊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寻找少年“烟民”并不困难。在一些网吧、游戏厅或在放学路上的某一些角落里，他们或独处或聚成一群，烟雾弥漫处的他们并不欢迎与他们毫不相干的成人们关注的目光。与他们嘴里的香烟一样引人注意的，是他们脸上的叛逆神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们在向成年世界证明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个真实的故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岁的叶晓峰（化名）是一名初中三年级学生，他已有一年“烟龄”。他说自己只在“不高兴的时候”才吸烟，但是不高兴的时候太多了，于是香烟就成了他的“朋友”。 叶晓峰并不在意自己是否因吸烟而给别人“不良少年”的印象，只是父母老师的干涉令他“烦恼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他知道吸烟对身体的危害，但他不感兴趣—“报纸上都说滥了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他说：“我家隔壁的赵大爷吸烟都几十年了，现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岁了，活得好好的；潘叔叔不吸烟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4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岁就没了，得癌死的”。而自己的父亲，除了有时会发出一阵阵干咳之外，也看不出吸烟给他带来了什么“严重的后果”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问：你为什么要吸烟？反问：你又为什么吸烟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怒问：你多大，我多大？反问：你大就许抽烟？我小就不许抽烟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语气稍缓：我这是为你好。你知道吸烟的坏处吗？答：知道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问：知道还吸？反问：你也知道为什么还吸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忍无可忍的暴怒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顿“暴打”结束了这一次的父子对话。看着咬着牙挨打的儿子，父亲有些心疼，但挥出的巴掌仍然停不住，嘴里嚷着：让你吸烟，让你以后还敢吸烟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一次因吸烟而导致的“家庭教育”详情是从这位做建材生意的父亲口中说出的。面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岁的儿子，父亲感到从未有过的无奈。无奈的父亲对记者说，“小小年纪不学好，拿他怎么办？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拒绝为什么这样难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学业负担、代沟、家庭矛盾、同学关系……造成少年们心理压力的原因是多方面的。专家指出“问题在于可供他们排解的机会却很少。父母工作忙或者疏忽，有些话又不敢对老师讲，同学又不敢相信……心理压力就这样一直积累。不良情绪的不断积累，而可以让他们发泄的渠道又是那样少。于是，这些郁闷的少年中的一些‘找’到了香烟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尽管一些少年的第一次吸烟经历看上去事出偶然：郁闷却倾诉无门，偶然“发现”香烟。但是，在这个充斥着香烟的世界里，这种“偶然”的发生又是多么容易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让少年拒绝香烟，或让香烟拒绝少年，为什么这样难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专家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寻找成熟的感觉？追求帅气的形象？表示叛逆的手段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这些都是吸烟的理由？除了这些，专家提醒说，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心理压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也会让他们向烟草“靠近”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项调查说：孩子们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开始吸烟的原因，以模仿、好奇心等回答比例最高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青少年心理辅导专家张丽珊看来，“一些孩子会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通过吸烟来寻找成熟的感觉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他们急切地盼望长大，因此，他们经常会有意识地模仿一些成人的习惯，即使是坏习惯。吸烟不幸成为其中一种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由于一些误导，少年中的一些也许会把吸烟看作“帅气”，这是审美教育应该解决的问题。另外，也有少年会因为屡屡因吸烟招致父母老师的责备，而由于成人的教育方法失当，反而使这些极容易产生逆反情绪的少年们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把吸烟当做表示叛逆的手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将少年“烟民”形成的原因简单地归于成人“榜样”，似乎有失公允。张丽珊认为，“青少年吸烟的另一个不可忽视的原因，就是他们所承受的心理压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劝阻青少年吸烟活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1999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年颁布的《中华人民共和国预防未成年人犯罪法》中第十五条规定：“任何经营场所不得向未成年人出售烟酒。”在成人世界中，这个为防止青少年吸烟而采取的做法受到了普遍欢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200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月，为进一步防止青少年吸烟，一项旨在劝阻青少年吸烟的系列活动正在全国范围内展开。其中，对各烟草零售点的要求是，将“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禁止中小学生吸烟、不向未成年人售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”的警世牌摆放在明显位置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7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7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7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正确认识吸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吸烟是一种消费行为，中学生不应有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培养良好的心理素质，正确对待生活烦恼和心理压力。采取倾诉、谈话宣泄压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培养正确的审美观念，不以叛逆为荣，不以吸烟作为吸引别人注意的手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确认识吸烟有害健康、祸国殃民，我们应该以吸烟为耻！！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6:58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5-05-19T01:39:18Z</dcterms:modified>
  <cp:revision>63</cp:revision>
  <dc:subject>主题班会课件(分28大类): http://shop62905894.taobao.com</dc:subject>
  <dc:title>主题班会课件(分28大类): http://shop62905894.taobao.com</dc:title>
</cp:coreProperties>
</file>