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09D-A72C-4EF8-B83D-F1D78F95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35F-9E9C-4EA5-A88D-CFB050CF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E3E-3C6E-4777-B86E-B0E52D1D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992-3E12-4F0F-BFAF-44DD2E90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2BAF-AC58-43A4-BA9E-4CD4A139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AAB7-56FE-4AAD-9496-3D017BAB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63C5-3D89-4D3E-953E-45410456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1443-C887-4605-8D03-558DAF50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FC7B-D4A2-4183-9FEA-2BA07456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FB29-2E7D-431C-8DF8-7D40B128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65B7-C5E8-4BEE-A08C-CFB4ECC3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674-EF6A-4D58-B45E-1695716C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EE9F-1180-49C6-AEA0-7F5FD91A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1793-A5BD-49E4-A94D-CF7B1100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65E0-F8DE-436C-A305-626BD5A2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2588-E7F6-45F5-A2E3-F2211839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3E84-3195-4866-8116-2226739F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67D-6602-437D-90D2-CCD7C1D9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BC7-A7B9-4658-9A67-8F80F11B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225-2F97-4889-BB18-EDB7A71D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858-B5A9-442E-B5C3-F82F59ED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5F3-1082-43BA-A932-8F04C7C6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34A-509D-4F77-8DD8-C0CD38C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508-B7C1-482E-9C15-DDEFA69A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查字典语文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uwen.chazidian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7CA5-ACA0-46B3-BE81-2E2A77A0C9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3024360" cy="105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19920" y="5715000"/>
            <a:ext cx="304776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查字典语文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uwen.chazidian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FC33-ECEB-4894-A9FC-03FF2994B2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5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9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05" name="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9" name="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3024360" cy="1054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19920" y="5715000"/>
            <a:ext cx="3047760" cy="1079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file:///tmp/home/.config/libreoffice/4/user/gallery/click.wav" TargetMode="External"/><Relationship Id="rId3" Type="http://schemas.microsoft.com/office/2007/relationships/media" Target="file:///tmp/home/.config/libreoffice/4/user/gallery/click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7400" y="2286000"/>
            <a:ext cx="4495680" cy="1650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omic Sans MS"/>
              </a:rPr>
              <a:t>夏感</a:t>
            </a:r>
            <a:endParaRPr b="0" lang="en-US" sz="9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05160" y="4419360"/>
            <a:ext cx="209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——</a:t>
            </a:r>
            <a:r>
              <a:rPr b="0" lang="zh-CN" sz="2800" spc="-1" strike="noStrike">
                <a:solidFill>
                  <a:srgbClr val="cc0000"/>
                </a:solidFill>
                <a:latin typeface="Comic Sans MS"/>
              </a:rPr>
              <a:t>梁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724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1.0)">
                                      <p:cBhvr>
                                        <p:cTn id="6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90560" y="151920"/>
            <a:ext cx="3276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、赏析本段中的修辞手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好象炉子上的一锅泠水在逐渐泛泡、冒气而终于沸腾一样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（比喻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山坡上的芊芊细草渐渐滋成一片密密的厚发              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（想象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林带上的淡淡绿烟也凝成了一堵黛色的长墙              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（比喻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轻飞曼舞的蜂蝶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（拟人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公路上的汽车，像海浪 涌着一艘艘的船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（比喻）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、那春天的灵秀之气经过半年的积蓄，这时已酿成一种</a:t>
            </a:r>
            <a:r>
              <a:rPr b="1" lang="zh-CN" sz="2000" spc="-1" strike="noStrike">
                <a:solidFill>
                  <a:srgbClr val="cc0000"/>
                </a:solidFill>
                <a:latin typeface="Comic Sans MS"/>
              </a:rPr>
              <a:t>磅礴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之势，在田 野上</a:t>
            </a:r>
            <a:r>
              <a:rPr b="1" lang="zh-CN" sz="2000" spc="-1" strike="noStrike">
                <a:solidFill>
                  <a:srgbClr val="cc0000"/>
                </a:solidFill>
                <a:latin typeface="Comic Sans MS"/>
              </a:rPr>
              <a:t>滚动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，在天地间</a:t>
            </a:r>
            <a:r>
              <a:rPr b="1" lang="zh-CN" sz="2000" spc="-1" strike="noStrike">
                <a:solidFill>
                  <a:srgbClr val="cc0000"/>
                </a:solidFill>
                <a:latin typeface="Comic Sans MS"/>
              </a:rPr>
              <a:t>升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整句倒装，强调夏天的磅礴气势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写景可从视觉、听觉、感受等角度去描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、本段选取了哪些富有代表性季节的自然景物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草、树、蝉、麦浪、热风…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仿照以下句式，结合课文或发挥想像，写一写“夏之色”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514600"/>
            <a:ext cx="49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161520"/>
            <a:ext cx="55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春之色为冷的绿，如碧波，如嫩竹，贮满希望之情；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3657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夏之色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41148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秋之色为热的赤，如夕阳，如红叶，标志着事物的终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5720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冬之色为清冷的白，如冰雪，如梨花，满含着纯净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518148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夏之色为热之白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如沙滩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如船帆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充满烈日豪情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夏之色是热的红，如雏菊，如艳阳，充满活力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3657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热之白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如沙滩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如船帆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,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充满烈日豪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5335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文章为什么把夏天和春天、秋天的色彩进行比较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17524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春：碧波、嫩竹——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27432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秋：夕阳、红叶——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90512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2096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抽象事物具体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35053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夏：夏之色处于春、秋季节间的一种过渡色，它标志着收获已有，而希望未尽。突出夏天是一个承前启后、生命交替的旺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文章是怎样表现夏天紧张、急促的旋律的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三段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挑、举、匍匐、冲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四段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弯着腰，流着汗、快割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快打、听听窗纸、看看窗外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又得赶去、“五月人倍忙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思考赞美哪些内容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———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景色、色彩、旋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———</a:t>
            </a: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希望、活力、劳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590560" y="456840"/>
            <a:ext cx="47019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有关夏天的古诗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14479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泉眼无声惜细流，树阴照水爱晴柔。小荷才露尖尖角，早有蜻蜓立上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　　            ——宋代杨万里《小池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明月别枝惊鹊，清风半夜鸣蝉。稻花香里说丰年，听取蛙声一片。七八个星天外，两三点雨山前。旧时茅店社林边，路转溪桥忽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                    ――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辛弃疾《西江月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赤日满天地，火云成山岳、草木尽焦卷，川泽皆竭涸。轻觉衣重，密树苦阴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                        ――</a:t>
            </a: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王维《苦行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447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Comic Sans MS"/>
              </a:rPr>
              <a:t>赞美夏天，其实是在赞美夏天里辛苦劳作的人们。记得小时候学过一首古诗，描绘的是烈日当空的正午时分，农民面朝黄土背朝天，挥汗如雨地劳作……是哪一首诗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044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800" spc="-1" strike="noStrike">
                <a:solidFill>
                  <a:srgbClr val="cc0000"/>
                </a:solidFill>
                <a:latin typeface="Comic Sans MS"/>
              </a:rPr>
              <a:t>结构美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总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:</a:t>
            </a:r>
            <a:r>
              <a:rPr b="0" lang="zh-CN" sz="2800" spc="-1" strike="noStrike">
                <a:solidFill>
                  <a:srgbClr val="cc0000"/>
                </a:solidFill>
                <a:latin typeface="Comic Sans MS"/>
              </a:rPr>
              <a:t>概述夏天的总特点，总领全文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分</a:t>
            </a:r>
            <a:r>
              <a:rPr b="0" lang="zh-CN" sz="2800" spc="-1" strike="noStrike">
                <a:solidFill>
                  <a:srgbClr val="cc0000"/>
                </a:solidFill>
                <a:latin typeface="Comic Sans MS"/>
              </a:rPr>
              <a:t>：自然风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</a:t>
            </a:r>
            <a:r>
              <a:rPr b="0" lang="zh-CN" sz="2800" spc="-1" strike="noStrike">
                <a:solidFill>
                  <a:srgbClr val="cc0000"/>
                </a:solidFill>
                <a:latin typeface="Comic Sans MS"/>
              </a:rPr>
              <a:t>色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</a:t>
            </a:r>
            <a:r>
              <a:rPr b="0" lang="zh-CN" sz="2800" spc="-1" strike="noStrike">
                <a:solidFill>
                  <a:srgbClr val="cc0000"/>
                </a:solidFill>
                <a:latin typeface="Comic Sans MS"/>
              </a:rPr>
              <a:t>旋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Comic Sans MS"/>
              </a:rPr>
              <a:t>总</a:t>
            </a:r>
            <a:r>
              <a:rPr b="0" lang="zh-CN" sz="2800" spc="-1" strike="noStrike">
                <a:solidFill>
                  <a:srgbClr val="cc0000"/>
                </a:solidFill>
                <a:latin typeface="Comic Sans MS"/>
              </a:rPr>
              <a:t>：由景生情，热爱夏天，   赞      美辛勤的劳动人民——直抒胸臆，总结全文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下面语句的顺序排列最恰当的一项是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       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濛濛的细雨飘起来了，我们前后左右的景物都发生了奇妙的变化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②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身后原本静谧的山林，若有若无地传来细细的声响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③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眼前的湖面刚才澄碧明丽，此时却是烟雨迷蒙了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④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左右两面的山峰，在细雨织成的轻纱中，远远地隐没了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①②③④    B.①③②④     C.③④①②      D.④③①②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4952880"/>
            <a:ext cx="7696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Comic Sans MS"/>
              </a:rPr>
              <a:t>分析：这是一道排序题，根据“①濛濛的细雨飘起来了，我们前后左   右的景物都发生了奇妙的变化。”这句话可以看出，这是一句总起句，后面的分写景物应该是从前、后、左、右四个方面来进行描述，应是一种总分关系，这样正确的顺序就不难确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62080" y="501120"/>
            <a:ext cx="37623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733560" y="19810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你喜欢夏天吗？请用你的笔描绘出你心中的夏日美图。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字左右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积累古诗词中有关夏天的诗句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踩着时间的脚步一路走来，我看到了你，你也看到了我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我看到你，从往日充满天真烂漫的儿童，成长为如今充满激情活力的青少年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我看到你，正从今时勃发的少年，走向坚强伟岸的成年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在你身上，我仿佛闻到了夏日涌动的麦香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在你身上，我触摸到了收获的喜悦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在你升上，我听到了生命成长那紧张的脚步声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在你身上，我才发现生命里的夏天到了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这正是一个“收获之已有而希望还未尽”的季节，这正是一个“承前启后、生命交替”的生命旺季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来吧，朋友，勇敢挑起肩上的两季，用我们的活力大声赞美这个生命里黄金的季节吧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</a:rPr>
              <a:t>寄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23880" y="129492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不知细叶谁裁出，二月春风似剪刀。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b200"/>
                </a:solidFill>
                <a:latin typeface="Comic Sans MS"/>
              </a:rPr>
              <a:t>春天，有春风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自古逢秋悲寂寥，我言秋日胜春朝。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b200"/>
                </a:solidFill>
                <a:latin typeface="Comic Sans MS"/>
              </a:rPr>
              <a:t>秋天，有秋日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燕山雪花大如席，片片吹落轩辕台。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400" spc="-1" strike="noStrike">
                <a:solidFill>
                  <a:srgbClr val="00b200"/>
                </a:solidFill>
                <a:latin typeface="Comic Sans MS"/>
              </a:rPr>
              <a:t>冬天，雪花大如草席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8120" y="2209320"/>
            <a:ext cx="4572000" cy="1575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omic Sans MS"/>
              </a:rPr>
              <a:t>再 见 ！</a:t>
            </a:r>
            <a:endParaRPr b="0" lang="en-US" sz="9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3962160" cy="2971800"/>
          </a:xfrm>
          <a:prstGeom prst="rect">
            <a:avLst/>
          </a:prstGeom>
          <a:ln w="76320">
            <a:solidFill>
              <a:srgbClr val="00b2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038480" y="1981080"/>
            <a:ext cx="4221360" cy="26384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85800" y="4191120"/>
            <a:ext cx="3505320" cy="2361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4572000" y="6858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60199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ec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609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瓜  冷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44792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44a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6019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冰激凌…还有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10240" cy="2674800"/>
          </a:xfrm>
          <a:prstGeom prst="rect">
            <a:avLst/>
          </a:prstGeom>
          <a:ln w="76320">
            <a:solidFill>
              <a:srgbClr val="703dff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112760" y="1152360"/>
            <a:ext cx="3635280" cy="2778120"/>
          </a:xfrm>
          <a:prstGeom prst="rect">
            <a:avLst/>
          </a:prstGeom>
          <a:ln w="76320">
            <a:solidFill>
              <a:srgbClr val="703dff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3809880" cy="3028680"/>
          </a:xfrm>
          <a:prstGeom prst="rect">
            <a:avLst/>
          </a:prstGeom>
          <a:ln w="76320">
            <a:solidFill>
              <a:srgbClr val="703dff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2666880" y="304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雪 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5181480"/>
            <a:ext cx="163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沙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5715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森 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457200"/>
            <a:ext cx="838440" cy="457200"/>
          </a:xfrm>
          <a:prstGeom prst="leftArrow">
            <a:avLst>
              <a:gd name="adj1" fmla="val 50000"/>
              <a:gd name="adj2" fmla="val 4584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548640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44956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 rot="5400000">
            <a:off x="-1447920" y="2361960"/>
            <a:ext cx="35812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还有呢……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66720" y="151920"/>
            <a:ext cx="4629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《晓出净慈寺送林子方》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——杨万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2520" y="21337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毕竟西湖六月中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风光不与四时同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接天莲叶无穷碧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映日荷花别样红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58672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或者是一首诗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419360" y="761760"/>
            <a:ext cx="3492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梁衡，山西霍县人。主要从事散文创作、散文理论研究。作品曾获青年文学奖、赵树理文学奖、全国优秀科普作品奖；有散文《晋祠》、《觅渡，觅渡，渡何处》和《夏》入选中学教材。主要著作有《新闻三步曲》（三卷）《数理化通俗演义》（两卷），散文集《名山大川》《人杰鬼雄》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3657600" cy="3886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981080" y="16002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梁 衡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520" y="83808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作者——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字 词 掌 握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芊芊细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: q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n qiān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草木茂盛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轻飞曼舞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春华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huá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秋实：春天开花，秋天结果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春花秋月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闲情逸致：闲适的情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灵秀：灵活、美丽      终极：最后的终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黛色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: dài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青黑色       融融：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róng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暖和的样子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磅礴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: páng bó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气势盛大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贮满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: zhù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储存满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积蓄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匍匐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: pú fú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爬行       迸发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(bèng)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澹澹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: dàn dàn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水波荡漾的样子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3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默读课文，回答下列问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、作者的眼中，夏天有何特点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            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紧张、热烈、急促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、作者从哪几个方面描写夏季景致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           </a:t>
            </a:r>
            <a:r>
              <a:rPr b="1" lang="zh-CN" sz="2400" spc="-1" strike="noStrike">
                <a:solidFill>
                  <a:srgbClr val="cc0000"/>
                </a:solidFill>
                <a:latin typeface="Comic Sans MS"/>
              </a:rPr>
              <a:t>景色、色彩、旋律（人们劳作的旋律）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2:46:56Z</dcterms:created>
  <dc:creator/>
  <dc:description/>
  <dc:language>en-US</dc:language>
  <cp:lastModifiedBy>微软用户</cp:lastModifiedBy>
  <dcterms:modified xsi:type="dcterms:W3CDTF">2014-10-23T02:51:08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  <property fmtid="{D5CDD505-2E9C-101B-9397-08002B2CF9AE}" pid="3" name="Version">
    <vt:r8>1</vt:r8>
  </property>
</Properties>
</file>