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2.jpeg" ContentType="image/jpeg"/>
  <Override PartName="/ppt/media/image7.jpeg" ContentType="image/jpeg"/>
  <Override PartName="/ppt/media/voltage.wav" ContentType="audio/x-wav"/>
  <Override PartName="/ppt/media/image18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CFC-2903-4D15-9AD2-E9D0A1F3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5CD-1886-439B-A5F1-61DDEB4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388-FD1E-46D6-90D6-1EDB61B9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575-2C7E-46B2-BC75-0F7280BD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3E0-05A6-4DCF-B435-28C15220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AC4C-2714-418B-8A5F-BE37D34D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5F3-4566-4256-89C9-7A17FF32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6A7B-F949-4937-91EE-BE997D40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AD9-D572-4380-B670-12B7AD77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B9B3-4D6D-406C-8097-1A447EB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494B-863E-4EB4-88AB-45FE6422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529-72F4-4DF4-B7E5-00EE74B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27C-0C15-43EF-A753-149BD7E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1C73-187C-4C02-A094-C60E473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957-0B71-4060-A5B9-0D30A81D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8248-5A5F-4269-BDA4-7C13E5D4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D54E-6B72-4920-9A81-68098A64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C58-32F5-4029-A340-3A6CAEB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4F4-6C7E-4A66-B9AF-6B617E5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7D3-EC1C-4364-8FAF-348F80C3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9C4-FEB2-4733-AA9B-41112B15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F51-D8E2-407E-ACAA-91BFFC4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B2C-2FEF-40CF-90E1-A2DCE9B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E52-7FF8-459F-A6F1-6D9BB083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00D-91FD-4B19-87AE-4A740B88CF7D}" type="datetime">
              <a:rPr b="0" lang="zh-CN" sz="1200" spc="-1" strike="noStrike">
                <a:solidFill>
                  <a:srgbClr val="002060"/>
                </a:solidFill>
                <a:latin typeface="Franklin Gothic Boo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67C-B997-4806-8EB6-CA1CD4DF9C85}" type="slidenum">
              <a:rPr b="0" lang="zh-CN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3226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ECA3-9875-4B3B-8DD2-6C2BEB49BF06}" type="datetime">
              <a:rPr b="0" lang="zh-CN" sz="1200" spc="-1" strike="noStrike">
                <a:solidFill>
                  <a:srgbClr val="002060"/>
                </a:solidFill>
                <a:latin typeface="Franklin Gothic Book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12C-B682-4423-8BE0-9CBB6209B33C}" type="slidenum">
              <a:rPr b="0" lang="zh-CN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4.xml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895400" y="1155600"/>
            <a:ext cx="614700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沿着榜样的足迹向上向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75 0.596482 C -0.762431 0.560185 -0.745139 0.448611 -0.679097 0.416944 C -0.613056 0.385278 -0.515486 0.485278 -0.447431 0.438148 C -0.379375 0.391019 -0.399375 0.223056 -0.338819 0.181389 C -0.278264 0.139722 -0.220347 0.268333 -0.144792 0.229722 C -0.069236 0.191111 0.000556000000000001 0.043148 0.039097 -0.011667 C 0.077639 -0.066481 0.045486 -0.029815 0.047778 -0.044444 C 0.050069 -0.059074 0.049444 -0.088056 0.050625 -0.085 C 0.051806 -0.081944 0.063681 -0.046019 0.053542 -0.028981 C 0.043403 -0.011944 0.010764 -0.004722 0 0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437e612ec6b12aceef214[1]"/>
          <p:cNvPicPr/>
          <p:nvPr/>
        </p:nvPicPr>
        <p:blipFill>
          <a:blip r:embed="rId1"/>
          <a:stretch/>
        </p:blipFill>
        <p:spPr>
          <a:xfrm>
            <a:off x="-36360" y="-34920"/>
            <a:ext cx="9183600" cy="6880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157400" y="455940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a800"/>
                </a:solidFill>
                <a:latin typeface="Arial"/>
              </a:rPr>
              <a:t>人当如蝶，是不能缺少正能量的。每个人身上都有正能量，发挥其价 值，我们会感到生活幸福，舒服，有趣。因为正能量，让我们展翅飞翔，蓬勃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_523731[1]"/>
          <p:cNvPicPr/>
          <p:nvPr/>
        </p:nvPicPr>
        <p:blipFill>
          <a:blip r:embed="rId2"/>
          <a:stretch/>
        </p:blipFill>
        <p:spPr>
          <a:xfrm>
            <a:off x="3699000" y="4559400"/>
            <a:ext cx="207648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5680" y="151920"/>
            <a:ext cx="7243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a"/>
                </a:solidFill>
                <a:latin typeface="Adobe Heiti Std R"/>
                <a:ea typeface="Adobe Heiti Std R"/>
              </a:rPr>
              <a:t>总结陈词</a:t>
            </a:r>
            <a:endParaRPr b="0" lang="en-US" sz="40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13200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、来自内在自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843280" y="422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来自外在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1280" y="1268280"/>
            <a:ext cx="7775640" cy="181800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8c1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8c19"/>
                </a:solidFill>
                <a:latin typeface="Arial"/>
              </a:rPr>
              <a:t>党的十八大，从国家、社会和公众三个层面提出了社会主义核心价值观。浙江省第十三次党代会也提出了要建设物质富裕、精神富有的现代化新浙江的构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8c1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8c19"/>
                </a:solidFill>
                <a:latin typeface="Arial"/>
              </a:rPr>
              <a:t>这就对每一个社会个体提出了正能量储备的要求。一个人的正能量可以让我们变得善良乐观向上，一个社会的正能量可以形成免疫气场，让道德保持健康。让我们唤醒每个人内心向善向上的正能量，用我们的正能量去滋养生命、感染他人，实现个人价值，推动社会和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8c1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8c19"/>
                </a:solidFill>
                <a:latin typeface="Arial"/>
              </a:rPr>
              <a:t>正能量，有力量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_b91ml53916499736739[1]"/>
          <p:cNvPicPr/>
          <p:nvPr/>
        </p:nvPicPr>
        <p:blipFill>
          <a:blip r:embed="rId2"/>
          <a:stretch/>
        </p:blipFill>
        <p:spPr>
          <a:xfrm>
            <a:off x="-23760" y="-9360"/>
            <a:ext cx="9117000" cy="687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436840" y="53496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83226"/>
                </a:solidFill>
                <a:latin typeface="微软雅黑"/>
              </a:rPr>
              <a:t>     </a:t>
            </a:r>
            <a:r>
              <a:rPr b="1" lang="zh-CN" sz="5400" spc="-1" strike="noStrike">
                <a:solidFill>
                  <a:srgbClr val="483226"/>
                </a:solidFill>
                <a:latin typeface="微软雅黑"/>
              </a:rPr>
              <a:t>感谢您的聆听！</a:t>
            </a:r>
            <a:endParaRPr b="0" lang="en-US" sz="5400" spc="-1" strike="noStrike">
              <a:solidFill>
                <a:srgbClr val="483226"/>
              </a:solidFill>
              <a:latin typeface="微软雅黑"/>
            </a:endParaRPr>
          </a:p>
        </p:txBody>
      </p:sp>
      <p:pic>
        <p:nvPicPr>
          <p:cNvPr id="119" name="Picture 2" descr="E:\工作夹\PPT模版\s1040妇女节\原图片\3.png"/>
          <p:cNvPicPr/>
          <p:nvPr/>
        </p:nvPicPr>
        <p:blipFill>
          <a:blip r:embed="rId3"/>
          <a:stretch/>
        </p:blipFill>
        <p:spPr>
          <a:xfrm>
            <a:off x="-23760" y="5397480"/>
            <a:ext cx="4967280" cy="1468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9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551771807921271479[1]"/>
          <p:cNvPicPr/>
          <p:nvPr/>
        </p:nvPicPr>
        <p:blipFill>
          <a:blip r:embed="rId1"/>
          <a:stretch/>
        </p:blipFill>
        <p:spPr>
          <a:xfrm>
            <a:off x="6880320" y="3882960"/>
            <a:ext cx="2252520" cy="31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54701293040757562"/>
          <p:cNvPicPr/>
          <p:nvPr/>
        </p:nvPicPr>
        <p:blipFill>
          <a:blip r:embed="rId2"/>
          <a:stretch/>
        </p:blipFill>
        <p:spPr>
          <a:xfrm>
            <a:off x="7920" y="-3240"/>
            <a:ext cx="2903400" cy="3422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a"/>
                </a:solidFill>
                <a:latin typeface="微软雅黑"/>
              </a:rPr>
              <a:t>向上向善进行时</a:t>
            </a:r>
            <a:endParaRPr b="0" lang="en-US" sz="32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旨在围绕立德树人根本任务，通过致敬道德榜样、感悟道德内涵、践行道德规范，凝聚高校校园奋发向上、崇德向善力量，提高大学生道德实践能力，推动社会主义核心价值观培育践行。</a:t>
            </a:r>
            <a:endParaRPr b="0" lang="en-US" sz="3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680" y="151920"/>
            <a:ext cx="7243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a"/>
                </a:solidFill>
                <a:latin typeface="Adobe Heiti Std R"/>
                <a:ea typeface="Adobe Heiti Std R"/>
              </a:rPr>
              <a:t>呼唤正能量</a:t>
            </a:r>
            <a:r>
              <a:rPr b="1" lang="en-US" sz="4000" spc="-1" strike="noStrike">
                <a:solidFill>
                  <a:srgbClr val="00339a"/>
                </a:solidFill>
                <a:latin typeface="Adobe Heiti Std R"/>
                <a:ea typeface="Adobe Heiti Std R"/>
              </a:rPr>
              <a:t>!</a:t>
            </a:r>
            <a:endParaRPr b="0" lang="en-US" sz="4000" spc="-1" strike="noStrike">
              <a:solidFill>
                <a:srgbClr val="00339a"/>
              </a:solidFill>
              <a:latin typeface="微软雅黑"/>
            </a:endParaRPr>
          </a:p>
        </p:txBody>
      </p:sp>
      <p:pic>
        <p:nvPicPr>
          <p:cNvPr id="88" name="Picture 3" descr="1"/>
          <p:cNvPicPr/>
          <p:nvPr/>
        </p:nvPicPr>
        <p:blipFill>
          <a:blip r:embed="rId1"/>
          <a:stretch/>
        </p:blipFill>
        <p:spPr>
          <a:xfrm>
            <a:off x="1182600" y="7297560"/>
            <a:ext cx="2878200" cy="22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4"/>
          <p:cNvPicPr/>
          <p:nvPr/>
        </p:nvPicPr>
        <p:blipFill>
          <a:blip r:embed="rId2"/>
          <a:stretch/>
        </p:blipFill>
        <p:spPr>
          <a:xfrm>
            <a:off x="4572000" y="7175520"/>
            <a:ext cx="2879640" cy="502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"/>
          <p:cNvPicPr/>
          <p:nvPr/>
        </p:nvPicPr>
        <p:blipFill>
          <a:blip r:embed="rId3"/>
          <a:stretch/>
        </p:blipFill>
        <p:spPr>
          <a:xfrm>
            <a:off x="-2803680" y="3173400"/>
            <a:ext cx="2635560" cy="4124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01cc43562f80b8ecd2434"/>
          <p:cNvPicPr/>
          <p:nvPr/>
        </p:nvPicPr>
        <p:blipFill>
          <a:blip r:embed="rId4"/>
          <a:stretch/>
        </p:blipFill>
        <p:spPr>
          <a:xfrm>
            <a:off x="441360" y="-337968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116000" y="40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稚艺简体"/>
              </a:rPr>
              <a:t>奥特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45320" y="4869000"/>
            <a:ext cx="454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稚艺简体"/>
              </a:rPr>
              <a:t>蜘蛛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716360" y="5516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稚艺简体"/>
              </a:rPr>
              <a:t>蝙蝠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451640" y="21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稚艺简体"/>
              </a:rPr>
              <a:t>钢铁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Motion origin="layout" path="M -0.003056 0.140278 L 0 0.130278 L 0.002986 0.116204 L 0.002986 0.104167 L 0.005972 0.090185 L 0.0075 0.074167 L 0.0075 0.054074 L 0.0075 0.044074 L 0.0075 0.034074 L 0.0075 0.02 L 0.0075 0.006019 L 0.0075 -0.006018 L 0.0075 -0.016018 L 0.0075 -0.026111 L 0.005972 -0.044074 L 0.002986 -0.056111 L 0.002986 -0.068148 L -0.001528 -0.086203 L -0.009028 -0.104259 L -0.010556 -0.116296 L -0.013542 -0.126296 L -0.013542 -0.136296 L -0.016528 -0.146296 L -0.016528 -0.156296 L -0.016528 -0.166389 L -0.018056 -0.178333 L -0.019584 -0.188426 L -0.024098 -0.206389 L -0.024098 -0.216481 L -0.024098 -0.230463 L -0.024098 -0.240463 L -0.027084 -0.2525 L -0.028612 -0.262592 L -0.028612 -0.274538 L -0.031598 -0.286574 L -0.033056 -0.300648 L -0.033056 -0.312685 L -0.033056 -0.322686 L -0.033056 -0.332685 L -0.033056 -0.342685 L -0.034584 -0.352686 L -0.034584 -0.362778 L -0.03007 -0.372778 L -0.028612 -0.382778 L -0.028612 -0.392778 E">
                                      <p:cBhvr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Motion origin="layout" path="M -0.004514 -0.136204 L 0.003055 -0.136204 L 0.016528 -0.136204 L 0.027083 -0.126204 L 0.040625 -0.116111 L 0.048125 -0.110093 L 0.060139 -0.10213 L 0.067639 -0.090093 L 0.072153 -0.080093 L 0.075139 -0.068056 L 0.075139 -0.058056 L 0.075139 -0.042037 L 0.075139 -0.03 L 0.075139 -0.009908 L 0.075139 0.006111 L 0.075139 0.020092 L 0.072153 0.036203 L 0.067639 0.048148 L 0.063125 0.064259 L 0.055625 0.076203 L 0.045139 0.096296 L 0.039097 0.106296 L 0.033055 0.116296 L 0.025555 0.128333 L 0.019583 0.138333 L 0.013542 0.15037 L 0.010555 0.16037 L 0.009028 0.170463 L 0.009028 0.186481 L 0.006042 0.196481 L 0.006042 0.216481 L 0.006042 0.242592 L 0.006042 0.256575 L 0.006042 0.272592 L 0.006042 0.294722 L 0.006042 0.318703 L 0.006042 0.346759 L 0.006042 0.37287 L 0.006042 0.400927 L 0.006042 0.41889 L 0.006042 0.436944 L 0.010555 0.458981 L 0.010555 0.477037 L 0.012014 0.497129 L 0.015069 0.519166 L 0.015069 0.533149 L 0.015069 0.547223 L 0.015069 0.559166 L 0.015069 0.569259 L 0.015069 0.57926 L 0.015069 0.58926 L 0.012014 0.599259 L 0.012014 0.609352 L 0.010555 0.619352 L 0.010555 0.631389 L 0.010555 0.641389 L 0.010555 0.651389 L 0.010555 0.661389 E">
                                      <p:cBhvr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Motion origin="layout" path="M -0.025625 -0.316574 L -0.031597 -0.326574 L -0.040625 -0.34463 L -0.045139 -0.35463 L -0.049653 -0.36463 L -0.054167 -0.376667 L -0.058681 -0.388704 L -0.064722 -0.404722 L -0.069236 -0.418796 L -0.073681 -0.430741 L -0.076736 -0.444815 L -0.084236 -0.46287 L -0.08875 -0.478889 L -0.091736 -0.490926 L -0.093264 -0.506944 L -0.099236 -0.526944 L -0.10375 -0.543055 L -0.105278 -0.555 L -0.108264 -0.567037 L -0.108264 -0.591111 L -0.112778 -0.61713 L -0.112778 -0.637222 L -0.112778 -0.657222 L -0.112778 -0.673241 L -0.112778 -0.687315 L -0.112778 -0.697315 L -0.109792 -0.71139 L -0.106806 -0.723334 L -0.102292 -0.74139 L -0.097778 -0.75139 L -0.097778 -0.763426 L -0.091736 -0.773426 L -0.082708 -0.793518 L -0.076736 -0.8075 L -0.073681 -0.817593 L -0.069236 -0.829537 L -0.060208 -0.847592 L -0.052639 -0.857685 L -0.046667 -0.867685 L -0.039167 -0.877685 L -0.031597 -0.889722 L -0.022639 -0.907778 L -0.018125 -0.919722 L -0.012083 -0.933796 L -0.006111 -0.947778 L -0.006111 -0.95787 L -0.004583 -0.96787 L -0.004583 -0.979907 L -0.001597 -0.989907 L -0.001597 -0.999907 L -0.001597 -1.009907 L -0.001597 -1.023981 L -0.004583 -1.037964 L -0.007569 -1.048055 L -0.010556 -1.058055 L -0.010556 -1.068055 L -0.010556 -1.078055 L -0.010556 -1.090093 L -0.010556 -1.100092 L -0.010556 -1.114167 L -0.010556 -1.124167 E">
                                      <p:cBhvr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Motion origin="layout" path="M 0.078194 0.018056 L 0.087222 0.007963 L 0.087222 -0.004074 L 0.087222 -0.014074 L 0.087222 -0.032129 L 0.090208 -0.044074 L 0.094722 -0.056111 L 0.099236 -0.074166 L 0.10375 -0.084166 L 0.109791 -0.102222 L 0.112777 -0.112222 L 0.120277 -0.130277 L 0.126319 -0.142314 L 0.132291 -0.152314 L 0.142847 -0.166388 L 0.151875 -0.178425 L 0.159375 -0.192407 L 0.168402 -0.204444 L 0.180416 -0.216481 L 0.187916 -0.2225 L 0.202986 -0.230463 L 0.225486 -0.240463 L 0.232986 -0.244537 L 0.242013 -0.248518 L 0.261597 -0.254537 L 0.276597 -0.260555 L 0.284097 -0.260555 L 0.291597 -0.262592 L 0.299166 -0.262592 L 0.308194 -0.264537 L 0.315694 -0.266574 L 0.324722 -0.268518 L 0.33375 -0.270555 L 0.342708 -0.270555 L 0.350277 -0.272592 L 0.360763 -0.274537 L 0.368263 -0.274537 L 0.377291 -0.274537 L 0.386319 -0.274537 L 0.395347 -0.274537 L 0.402847 -0.274537 L 0.413402 -0.274537 L 0.420902 -0.274537 L 0.428402 -0.274537 L 0.435902 -0.274537 L 0.443402 -0.274537 L 0.450972 -0.274537 L 0.458472 -0.272592 L 0.465972 -0.268518 L 0.473472 -0.264537 L 0.481041 -0.262592 L 0.488541 -0.260555 L 0.497569 -0.254537 L 0.505069 -0.254537 L 0.514097 -0.250555 L 0.521597 -0.250555 L 0.529097 -0.246481 L 0.536597 -0.244537 L 0.545625 -0.2425 L 0.553125 -0.238518 L 0.560694 -0.234537 L 0.568194 -0.2325 L 0.575694 -0.230463 L 0.583194 -0.228518 L 0.590763 -0.224444 L 0.598263 -0.2225 L 0.607291 -0.220463 L 0.614791 -0.220463 L 0.622291 -0.216481 L 0.631319 -0.214444 L 0.641805 -0.212407 L 0.650833 -0.210463 L 0.659861 -0.210463 L 0.670416 -0.206481 L 0.679375 -0.206481 L 0.691458 -0.206481 L 0.700416 -0.206481 L 0.709444 -0.206481 L 0.718472 -0.206481 L 0.725972 -0.206481 L 0.733541 -0.206481 L 0.744027 -0.206481 L 0.753055 -0.206481 L 0.763541 -0.206481 L 0.777083 -0.206481 L 0.787638 -0.204444 L 0.80118 -0.200463 L 0.811666 -0.200463 L 0.826736 -0.200463 L 0.843263 -0.200463 L 0.850763 -0.200463 L 0.859791 -0.200463 L 0.867291 -0.200463 L 0.874791 -0.200463 L 0.882291 -0.200463 L 0.891319 -0.198425 L 0.900347 -0.192407 L 0.907847 -0.186388 L 0.915347 -0.184351 L 0.924375 -0.182407 L 0.931944 -0.176388 L 0.946944 -0.17037 L 0.954444 -0.164351 L 0.963472 -0.16037 L 0.970972 -0.154351 L 0.978472 -0.146296 L 0.986041 -0.134259 L 0.993541 -0.124259 L 0.999513 -0.114259 L 1.005555 -0.104259 L 1.010069 -0.094166 E">
                                      <p:cBhvr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036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a"/>
                </a:solidFill>
                <a:latin typeface="Adobe Caslon Pro"/>
                <a:ea typeface="Adobe Heiti Std R"/>
              </a:rPr>
              <a:t>                                     </a:t>
            </a:r>
            <a:endParaRPr b="0" lang="en-US" sz="3600" spc="-1" strike="noStrike">
              <a:solidFill>
                <a:srgbClr val="00339a"/>
              </a:solidFill>
              <a:latin typeface="微软雅黑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3068640"/>
            <a:ext cx="83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>
            <a:hlinkClick r:id="rId2" action="ppaction://hlinksldjump"/>
          </p:cNvPr>
          <p:cNvSpPr/>
          <p:nvPr/>
        </p:nvSpPr>
        <p:spPr>
          <a:xfrm>
            <a:off x="0" y="2492280"/>
            <a:ext cx="9144000" cy="1630440"/>
          </a:xfrm>
          <a:prstGeom prst="rect">
            <a:avLst/>
          </a:prstGeom>
          <a:solidFill>
            <a:srgbClr val="f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Caslon Pro"/>
                <a:ea typeface="Adobe Heiti Std R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dobe Caslon Pro"/>
                <a:ea typeface="Adobe Heiti Std R"/>
              </a:rPr>
              <a:t>正能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328464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"/>
                <a:ea typeface="Adobe Heiti Std R"/>
              </a:rPr>
              <a:t>          ——</a:t>
            </a:r>
            <a:r>
              <a:rPr b="1" lang="zh-CN" sz="3600" spc="-1" strike="noStrike">
                <a:solidFill>
                  <a:srgbClr val="000000"/>
                </a:solidFill>
                <a:latin typeface="Adobe Caslon Pro"/>
                <a:ea typeface="Adobe Heiti Std R"/>
              </a:rPr>
              <a:t>唤醒每个人内心向善向上的力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6309570ajw1e278bc08syj[1]"/>
          <p:cNvPicPr/>
          <p:nvPr/>
        </p:nvPicPr>
        <p:blipFill>
          <a:blip r:embed="rId3"/>
          <a:stretch/>
        </p:blipFill>
        <p:spPr>
          <a:xfrm>
            <a:off x="5343480" y="4581360"/>
            <a:ext cx="380052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1403270739224131"/>
          <p:cNvPicPr/>
          <p:nvPr/>
        </p:nvPicPr>
        <p:blipFill>
          <a:blip r:embed="rId1"/>
          <a:stretch/>
        </p:blipFill>
        <p:spPr>
          <a:xfrm>
            <a:off x="5129280" y="1192320"/>
            <a:ext cx="3984480" cy="5494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8640" y="1601280"/>
            <a:ext cx="3927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向上向善进行时——全国大学生道德实践优秀事迹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姓       名： 朱明静 学校： 天津理工大学 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事迹名称： 无声世界自强不息 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类别： 自强创新 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简       介： </a:t>
            </a: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2008</a:t>
            </a: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年出版长篇小说《珍惜爱》并加入了天津作家协会。在新浪网举办的“迎奥运我记录”获得第三期活动冠军。多年以来一直积极参加公益活动，在大学期间将奖学金捐给困难同学。在各所院校、高校展开“手语为桥，听人为岸，共建和谐校园”日常手语推广巡讲活动，传播手语文化，让更多人了解聋人世界。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83226"/>
                </a:solidFill>
                <a:latin typeface="微软雅黑"/>
              </a:rPr>
              <a:t> </a:t>
            </a: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微软雅黑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501920" y="290520"/>
            <a:ext cx="40100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榜样人物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385592635_xAt3tR[1]"/>
          <p:cNvPicPr/>
          <p:nvPr/>
        </p:nvPicPr>
        <p:blipFill>
          <a:blip r:embed="rId1"/>
          <a:stretch/>
        </p:blipFill>
        <p:spPr>
          <a:xfrm>
            <a:off x="12600" y="1168560"/>
            <a:ext cx="9056880" cy="288288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3" descr=""/>
          <p:cNvPicPr/>
          <p:nvPr/>
        </p:nvPicPr>
        <p:blipFill>
          <a:blip r:embed="rId2"/>
          <a:stretch/>
        </p:blipFill>
        <p:spPr>
          <a:xfrm>
            <a:off x="1030320" y="420840"/>
            <a:ext cx="7223040" cy="755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01680" y="405144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“正在成长为发挥正能量的主力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“以前老认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是小孩儿，现在已经是他们的时代啦。”生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市民刘静如此感慨。是的，救人、搀扶老人、创业、做公益、当志愿者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已经不是人们印象中的孩子，而已成为有担当、有个性的“小大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为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传递正能量的现象在突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聪明、有胆识、勇敢。”河南省慈善总会常务副会长杨德恭如此评价。“这群年轻人正在成长为发挥正能量的主力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3760"/>
            <a:ext cx="822960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广泛声音认为，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是一个个性张扬、活力四射的群体。富有创造力和激情，富有行动力。当然，不排除也有部分人有一点颓废，有一些迷茫，但是只要积极引导，相信，我们终将不辱这个时代。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评论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让社会多了一道温暖的色彩     东方今报评论员 路治欧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　　这组报道对我们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给予了不吝笔墨的赞美：阳光，自信，时尚，聪明，激情，有朝气，有想法，有担当，富有行动力，一部分颓废和迷茫的人也能在积极引导下释放光芒。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这群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青年人给出了答案：社会从来不缺探寻未知的热情和力量，从来不缺向上向善的梦想。你接触不到好人，是因为你没有让自己更真更善更美；你接触不到有朝气的人，是因为你自己首先缺少了青春和朝气。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　　透过这群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，你会发现正气浩荡，更可以发现里面有自己的影子。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我们作为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90</a:t>
            </a:r>
            <a:r>
              <a:rPr b="0" lang="zh-CN" sz="1800" spc="-1" strike="noStrike">
                <a:solidFill>
                  <a:srgbClr val="483226"/>
                </a:solidFill>
                <a:latin typeface="微软雅黑"/>
              </a:rPr>
              <a:t>后群体的一员，我们可以朝气蓬勃，我们也能厚积薄发，我们更可以张扬，但请相信我们绝不会是脑残，绝不是非主流，我们也能做到向上向善。</a:t>
            </a: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微软雅黑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11b8c708645d[1]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43-130F91546320-50[1]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279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5-10-19T05:48:3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