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653-BFA2-4DED-A2EB-A3FCFC577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44956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43400" y="5394240"/>
            <a:ext cx="44956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3A9-778F-42C0-8060-8145AE7F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43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244-AEAB-4B5F-933B-CE78D1044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63320" y="487656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383240" y="487656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43400" y="539424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863320" y="539424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383240" y="539424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017F-5B56-4B3C-BF45-2CDA2AA8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DBDF-4EAF-48DD-B80A-4E716614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343400" y="4876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CF57-43BA-44C7-B651-95F5792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D19-2522-4A01-B66D-C0AA042B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C8A4-5537-452E-95D2-1D58ED55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B9A65-6CFB-424C-8CE4-0C389661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343400" y="4114440"/>
            <a:ext cx="4495680" cy="32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6691-6DFE-4E9E-91FB-C71A4DB2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343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7684-FB8D-4AD9-B6F8-79974B5D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43400" y="4876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2F4-6C17-4068-AD34-6D2743C5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647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7D0B-5AB8-46D0-A190-FB7810C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43400" y="5394240"/>
            <a:ext cx="44956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C23D0-6AFA-41A7-8C1C-370C3829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44956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43400" y="5394240"/>
            <a:ext cx="44956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96C8-75E1-4834-BE5D-BA546181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43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647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E1578-413E-4F41-8F8C-404A9198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63320" y="487656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383240" y="487656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43400" y="539424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5863320" y="539424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383240" y="5394240"/>
            <a:ext cx="144720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CE7A-2F5F-4E3A-9F2B-D56A7D7D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A193-C680-447A-A1D1-6676CE1B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7C14-0A1C-49A2-BB9B-5C8BD7AD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72F-5C82-4231-A888-25324FF2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43400" y="4114440"/>
            <a:ext cx="4495680" cy="328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1C28-27E0-45F5-870B-05F002A4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43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915E-85B7-47B8-85C7-1F80949C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39424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35C2-64BA-4CA5-948F-D8F86B2A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43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4876560"/>
            <a:ext cx="219384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43400" y="5394240"/>
            <a:ext cx="4495680" cy="4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534-601A-44A2-BAC5-4802C511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4de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3000" y="990360"/>
            <a:ext cx="7315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7136-0DE7-4C9F-9454-4BD22B7F5E3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4deba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6160"/>
            <a:ext cx="289584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2616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C2D6-0E4C-4B8B-9991-45A849AF30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43400" y="4114440"/>
            <a:ext cx="449568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deba"/>
                </a:solidFill>
                <a:latin typeface="Garamond"/>
                <a:ea typeface="宋体"/>
              </a:rPr>
              <a:t>BON LIBRE</a:t>
            </a:r>
            <a:endParaRPr b="1" lang="en-US" sz="48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343400" y="4876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32280" y="3247920"/>
            <a:ext cx="30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deba"/>
                </a:solidFill>
                <a:latin typeface="Garamond"/>
                <a:ea typeface="宋体"/>
              </a:rPr>
              <a:t>YOUR TOPIC GOES HERE</a:t>
            </a:r>
            <a:endParaRPr b="1" lang="en-US" sz="40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315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4deba"/>
                </a:solidFill>
                <a:latin typeface="Garamond"/>
                <a:ea typeface="宋体"/>
              </a:rPr>
              <a:t>YOUR TOPIC GOES HERE</a:t>
            </a:r>
            <a:endParaRPr b="1" lang="en-US" sz="40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990360"/>
            <a:ext cx="7315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 goes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505320"/>
            <a:ext cx="914400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4deba"/>
                </a:solidFill>
                <a:latin typeface="Garamond"/>
                <a:ea typeface="宋体"/>
              </a:rPr>
              <a:t>TRANSITIONAL PAGE</a:t>
            </a:r>
            <a:endParaRPr b="1" lang="en-US" sz="4800" spc="-1" strike="noStrike">
              <a:solidFill>
                <a:srgbClr val="d4deba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43400" y="4876560"/>
            <a:ext cx="4495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2187360" cy="25527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0" y="1066680"/>
            <a:ext cx="21495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8:27:25Z</dcterms:created>
  <dc:creator>craig</dc:creator>
  <dc:description/>
  <dc:language>en-US</dc:language>
  <cp:lastModifiedBy>微软用户</cp:lastModifiedBy>
  <dcterms:modified xsi:type="dcterms:W3CDTF">2015-07-29T10:04:14Z</dcterms:modified>
  <cp:revision>2</cp:revision>
  <dc:subject/>
  <dc:title>BON LIB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