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59FB-54E9-4A7E-BC6E-2C3686C4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E0B8-B3BB-4E7A-9464-A8A7708D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9776-AADE-41A1-A8BB-14F9DBB0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B0DD-C14F-4BC5-B2F3-8D514674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B933-8432-4B77-B46F-2EB6547B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FC25-525E-4A0E-964A-534F661E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A896-0674-4FE3-A28F-64D1FDEA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3E9D-CBF4-4336-8476-C5EDA7FA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1026-3466-4239-9FBB-A4C37576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68AB-467A-4BB6-A903-E82521D5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A879-A25C-4314-B9AB-A41946B50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3585-C544-46B9-AEF1-8A5790D08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E2CA-6AB2-467A-9C64-C872E43775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66680" y="4572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造字工房悦圆演示版常规体"/>
              </a:rPr>
              <a:t>小柳树和小枣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15238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教版小学二年级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228600"/>
            <a:ext cx="3048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迷你简胖娃"/>
              </a:rPr>
              <a:t>读一读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迷你简胖娃"/>
              <a:ea typeface="迷你简胖娃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29718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浅绿色    意思      呗            光秃秃         虽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22096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qǐan         yì         bēi         gu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ā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ng           su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50292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乘凉     忍不住      漂亮         枣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418320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chéng    rěn          piào         z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15228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院子里有一棵小柳树和一棵小枣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柳树的腰细细的，树枝绿绿的，真好看。小柳树看看小枣树，树枝弯弯曲曲的，一点儿也不好看。小柳树说：“喂，小枣树，你的树枝多难看哪！你看我，多漂亮！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春天，小柳树发芽儿了。过了几天，小柳树的芽儿变成小叶子，她穿上一身浅绿色的衣服，真美！她看看小枣树，小枣树还是光秃秃的。小柳树说：“喂，小枣树，你怎么不长叶子呀？你看我，多漂亮！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又过了好些日子，小枣树才长出了小小的叶子。这时候，小柳树的叶子已经长得又细又长了。她在微风里得意地跳起舞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1447920"/>
            <a:ext cx="624852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772400" y="1447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905120"/>
            <a:ext cx="7467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22860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3124080"/>
            <a:ext cx="160020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3657600"/>
            <a:ext cx="693396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62520" y="4038480"/>
            <a:ext cx="3124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5715000"/>
            <a:ext cx="502920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1952280"/>
            <a:ext cx="815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到了秋天，小枣树结了许多又大又红的枣子。大家把枣子打下来，坐在院子里，高高兴兴地吃起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柳树看看自己，什么也没结。她想：从前我总是说枣树不好看，这回她该说我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是过了一天又一天，小枣树什么也没说。小柳树实在忍不住了，她问小枣树：“你怎么不说我呀？”小枣树不明白，问道：“说你什么呀？”小柳树低下头，说：“说我不会结枣子呗……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枣树温和地说：“你虽然不会结枣子，可是一到春天，你就发芽长叶，比我绿得早；到了秋天，你比我落叶晚。再说，你长得也比我快，等你长大了，人们在树阴下乘凉，那有多好啊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柳树听了，觉得非常不好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066680" y="1676520"/>
            <a:ext cx="723924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迷你简胖头鱼"/>
              </a:rPr>
              <a:t>谢谢大家</a:t>
            </a:r>
            <a:endParaRPr b="1" lang="en-US" sz="7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迷你简胖头鱼"/>
              <a:ea typeface="迷你简胖头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4T07:06:22Z</dcterms:created>
  <dc:creator>Administrator</dc:creator>
  <dc:description/>
  <dc:language>en-US</dc:language>
  <cp:lastModifiedBy>Sky123.Org</cp:lastModifiedBy>
  <dcterms:modified xsi:type="dcterms:W3CDTF">2014-04-24T09:29:0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