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262-3362-459C-AAEE-C450D71D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B3D-9E61-44BC-B0B9-B1D08F0F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76E-4ABB-483A-99D4-E1403D0C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690-C5E9-4AFB-91DE-61958DE0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348-CDB6-45B6-AC43-D02F4613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9AC-992B-461A-B897-04A67953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E28-F95B-43C6-977B-6826FC41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D88-8197-427C-9EC2-EE3E6D54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9A8-428B-4A1F-85CE-D082EB92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1C6-73AB-42B3-A4E3-E9400674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626-F69A-4E5E-B98E-FBF491D6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909-413C-4C2F-A242-697F8FDC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9BF9-3BD0-4836-96B6-1EA5CFE41D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aokejian.com/soft/177/list177_1.html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-577440" y="2456640"/>
            <a:ext cx="5257800" cy="172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琥珀"/>
              </a:rPr>
              <a:t>小木偶的故事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6165720"/>
            <a:ext cx="504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学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00400" y="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淘课件网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ww.taokejian.com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8840" y="1797120"/>
            <a:ext cx="515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木偶委屈极了！可是有什么办法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木匠只给了他一种表情，那就是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305080" y="1797120"/>
            <a:ext cx="4257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脑袋疼。”小木偶抬起头，笑嘻嘻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342960" y="1797120"/>
            <a:ext cx="218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脑袋很疼。”小木偶还是一副笑嘻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表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77120" y="1797120"/>
            <a:ext cx="491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笑是很重要的，谁要是不会笑，谁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办法过快乐的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80080" y="20145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78200" y="1727280"/>
            <a:ext cx="5511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琥珀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琥珀"/>
              </a:rPr>
              <a:t>因为我们的生活不仅有快乐的日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琥珀"/>
              </a:rPr>
              <a:t>还有（            ）的日子，所以只会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琥珀"/>
              </a:rPr>
              <a:t>那可是远远不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8000" y="28526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伤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0080" y="20145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74120" y="1727280"/>
            <a:ext cx="134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琥珀"/>
              </a:rPr>
              <a:t>  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琥珀"/>
              </a:rPr>
              <a:t>老木匠说得没错，笑是很重要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琥珀"/>
              </a:rPr>
              <a:t>不过，要是只会笑，那可是远远不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916360" y="4508640"/>
            <a:ext cx="1623960" cy="2349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-181080" y="189000"/>
            <a:ext cx="838224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华文彩云"/>
              </a:rPr>
              <a:t>在小木偶身上，</a:t>
            </a:r>
            <a:endParaRPr b="1" lang="en-US" sz="6000" spc="1" strike="noStrike">
              <a:ln w="255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华文彩云"/>
              <a:ea typeface="华文彩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华文彩云"/>
              </a:rPr>
              <a:t>后来又会发生什么事呢？</a:t>
            </a:r>
            <a:endParaRPr b="1" lang="en-US" sz="6000" spc="1" strike="noStrike">
              <a:ln w="255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华文彩云"/>
              <a:ea typeface="华文彩云"/>
            </a:endParaRPr>
          </a:p>
        </p:txBody>
      </p:sp>
      <p:sp>
        <p:nvSpPr>
          <p:cNvPr id="129" name=""/>
          <p:cNvSpPr/>
          <p:nvPr/>
        </p:nvSpPr>
        <p:spPr>
          <a:xfrm>
            <a:off x="1440720" y="278136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木偶拥有了所有的表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向警察局走去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00400" y="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淘课件网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ww.taokejian.com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24000" y="5300640"/>
            <a:ext cx="3384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推荐你阅读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95640" y="1557360"/>
            <a:ext cx="2197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58920" y="1341360"/>
            <a:ext cx="5905440" cy="23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淘课件网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476360" y="3716280"/>
            <a:ext cx="619128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ww.taokejian.co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501336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淘课件网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免费提供课件、教案、试题、论文、计划、总结、说课、反思、手抄报、等资源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并且所有资料无须注册免费下载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淘课件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您永远的学习伴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/>
          </p:cNvPr>
          <p:cNvSpPr/>
          <p:nvPr/>
        </p:nvSpPr>
        <p:spPr>
          <a:xfrm>
            <a:off x="946080" y="314172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ttp://www.taokejian.com/soft/177/list177_1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58920" y="1052640"/>
            <a:ext cx="64008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学四年级语文全册课件下载地址：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"/>
          <p:cNvSpPr/>
          <p:nvPr/>
        </p:nvSpPr>
        <p:spPr>
          <a:xfrm>
            <a:off x="4242960" y="450864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一课的都有好几个课件供您选，快用上面的地址去下载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57760" y="1327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学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242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拽  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234936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毛 茸 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220500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 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2000" y="3789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 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3716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魔  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3645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龇牙咧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19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zhua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1916280"/>
            <a:ext cx="19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r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1773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19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f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184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03280" y="335772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l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3284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213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z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306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88000" y="3213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l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77080" y="31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22400" y="765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读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15440" y="1628640"/>
            <a:ext cx="4263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板着脸   笑嘻嘻  亲热  愤怒   委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柔   龇牙咧嘴  痛苦  嘟嘟囔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声大哭  伤心  生气  着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436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02800" y="765000"/>
            <a:ext cx="59796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先写了老木匠做了一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在它的脸上添上了（          ）的表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木匠以为从此小木偶就会永远（       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着写了小木偶在生活中遇到了一系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，最后在（             ）的帮助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（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72360" y="981000"/>
            <a:ext cx="20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小木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773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笑嘻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2565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422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遭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6360" y="4149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小巫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5013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所有的表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00400" y="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淘课件网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ww.taokejian.com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88720" y="1604880"/>
            <a:ext cx="40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268280"/>
            <a:ext cx="8424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木匠拿起他的神奇雕刻刀，在小木偶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脸上添了一个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笑嘻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表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436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8720" y="1604880"/>
            <a:ext cx="40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1125360"/>
            <a:ext cx="7791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木匠拿起他的神奇雕刻刀，在小木偶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脸上添了一个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笑嘻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表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穿警服的熊看看小红狐，小红狐满脸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愤怒；再看看小木偶，小木偶一副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笑嘻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表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00400" y="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淘课件网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www.taokejian.com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436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8720" y="1604880"/>
            <a:ext cx="40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05200" y="236520"/>
            <a:ext cx="497952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木匠拿起他的神奇雕刻刀，在小木偶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脸上添了一个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笑嘻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表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穿警服的熊看看小红狐，小红狐满脸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愤怒；再看看小木偶，小木偶一副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笑嘻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表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脑袋疼。”小木偶抬起头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笑嘻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回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8720" y="1604880"/>
            <a:ext cx="40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05200" y="236520"/>
            <a:ext cx="49795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木匠拿起他的神奇雕刻刀，在小木偶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脸上添了一个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笑嘻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表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穿警服的熊看看小红狐，小红狐满脸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愤怒；再看看小木偶，小木偶一副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笑嘻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表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脑袋疼。”小木偶抬起头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笑嘻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回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脑袋很疼。”小木偶还是一副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笑嘻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17971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2760" y="1844640"/>
            <a:ext cx="5159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穿警服的熊看看小红狐，小红狐满脸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愤怒；再看看小木偶，小木偶（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09:01:22Z</dcterms:created>
  <dc:creator>ZZHXX</dc:creator>
  <dc:description>淘课件网 http://www.taokejian.com</dc:description>
  <dc:language>en-US</dc:language>
  <cp:lastModifiedBy>530La</cp:lastModifiedBy>
  <dcterms:modified xsi:type="dcterms:W3CDTF">2011-10-20T01:56:39Z</dcterms:modified>
  <cp:revision>55</cp:revision>
  <dc:subject/>
  <dc:title>淘课件网 http://www.taokejian.com</dc:title>
</cp:coreProperties>
</file>