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24.jpeg" ContentType="image/jpeg"/>
  <Override PartName="/ppt/media/image7.gif" ContentType="image/gif"/>
  <Override PartName="/ppt/media/image26.jpeg" ContentType="image/jpeg"/>
  <Override PartName="/ppt/media/image10.gif" ContentType="image/gif"/>
  <Override PartName="/ppt/media/image5.gif" ContentType="image/gif"/>
  <Override PartName="/ppt/media/image6.jpeg" ContentType="image/jpeg"/>
  <Override PartName="/ppt/media/image27.png" ContentType="image/png"/>
  <Override PartName="/ppt/media/image25.png" ContentType="image/png"/>
  <Override PartName="/ppt/media/image23.jpeg" ContentType="image/jpeg"/>
  <Override PartName="/ppt/media/image3.gif" ContentType="image/gif"/>
  <Override PartName="/ppt/media/image20.png" ContentType="image/png"/>
  <Override PartName="/ppt/media/image19.jpeg" ContentType="image/jpeg"/>
  <Override PartName="/ppt/media/image17.gif" ContentType="image/gif"/>
  <Override PartName="/ppt/media/image21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2.gif" ContentType="image/gif"/>
  <Override PartName="/ppt/media/image4.gif" ContentType="image/gif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1E2-70FA-4B77-9787-5DC9BA86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37D-E119-43B1-90DA-D677E936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2AF-0FEC-4D8E-AECD-14740649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CF3-3AB1-411E-BF9B-81FCEBBD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073-C634-4570-83B3-42771801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337-F294-46CC-89CA-2C1C5461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2FE-72AC-4A40-9D7D-16D58825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45F-F12A-41BD-86FE-9293328B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5A3-1AEA-42AB-8FF2-C9886968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02C-D1DA-4087-91F6-4D12E08A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F86-02F1-42AA-8BED-75FA05B4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0C3-22DA-4598-B409-91AAA1E7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C0ED-830B-42EA-AB6C-389B5FD3E3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我      会      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笑嘻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8730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59054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Arial"/>
                <a:ea typeface="黑体"/>
              </a:rPr>
              <a:t>根据课文情节填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课文先写了老木匠做了一个（      ），并在它的脸上添上了（      ）的表情。接着写了小木偶在生活中遇到了一系列（    ），最后在（     ）的帮助下，拥有了所有的（    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91628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小木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565360"/>
            <a:ext cx="304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笑嘻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350028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3933720"/>
            <a:ext cx="15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遭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933720"/>
            <a:ext cx="29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小女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465300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表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8101080" y="6021360"/>
            <a:ext cx="647640" cy="43344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10800"/>
                </a:moveTo>
                <a:lnTo>
                  <a:pt x="23139" y="3794"/>
                </a:lnTo>
                <a:lnTo>
                  <a:pt x="23139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26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23800" y="2708280"/>
            <a:ext cx="4204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拽  茸  副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怜  魔  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94120" y="2060640"/>
            <a:ext cx="40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zhuài  róng   f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78936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lián    mó   zh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189000"/>
            <a:ext cx="3097080" cy="1395360"/>
          </a:xfrm>
          <a:prstGeom prst="cloudCallout">
            <a:avLst>
              <a:gd name="adj1" fmla="val 89930"/>
              <a:gd name="adj2" fmla="val 100967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57760" y="1327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学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拽  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360" y="23493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毛 茸 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360" y="220500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 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3789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 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魔  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645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龇牙咧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9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zhua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91628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1773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19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f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33577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l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3640" y="328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3213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z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306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3213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l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31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8720" y="1604880"/>
            <a:ext cx="40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170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木偶为什么总是笑嘻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2781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木偶遇到了什么麻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860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木偶的心情又是怎样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476280"/>
            <a:ext cx="89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笑是很重要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谁要是不会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谁就没办法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过快乐的日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19280" y="6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我          会        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84464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片名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木偶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集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小红狐抢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然段）角色：小红狐、小木偶、熊警察、旁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集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头疼没有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然段）角色：小木偶、小兔子、老婆婆、旁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292720" y="105264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11280" y="549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小红狐抢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663640" cy="2606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2448000" cy="2592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373200" y="1052640"/>
            <a:ext cx="9115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头疼没人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19333" t="0" r="8260" b="8977"/>
          <a:stretch/>
        </p:blipFill>
        <p:spPr>
          <a:xfrm>
            <a:off x="1547640" y="1557360"/>
            <a:ext cx="3495960" cy="4896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00720" y="189000"/>
            <a:ext cx="3960720" cy="2736720"/>
          </a:xfrm>
          <a:prstGeom prst="wedgeEllipseCallout">
            <a:avLst>
              <a:gd name="adj1" fmla="val -43745"/>
              <a:gd name="adj2" fmla="val 66185"/>
            </a:avLst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是因为你很伤心，却不会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19333" t="0" r="8260" b="8977"/>
          <a:stretch/>
        </p:blipFill>
        <p:spPr>
          <a:xfrm>
            <a:off x="1547640" y="1557360"/>
            <a:ext cx="215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219640" y="2852640"/>
            <a:ext cx="3348000" cy="3657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476280"/>
            <a:ext cx="3095640" cy="1617480"/>
          </a:xfrm>
          <a:prstGeom prst="wedgeEllipseCallout">
            <a:avLst>
              <a:gd name="adj1" fmla="val -30254"/>
              <a:gd name="adj2" fmla="val 91611"/>
            </a:avLst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头疼，是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620640"/>
            <a:ext cx="2520720" cy="2952720"/>
          </a:xfrm>
          <a:prstGeom prst="wedgeEllipseCallout">
            <a:avLst>
              <a:gd name="adj1" fmla="val -25564"/>
              <a:gd name="adj2" fmla="val 67310"/>
            </a:avLst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，而且越来越疼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生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25923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6868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现在，小木偶会哭，会笑，会生气，会着急，也会向别人表示同情和关心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628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老木匠说得没错，笑是很重要的。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不过，要是只会笑，那可是远远不够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59280" y="4221000"/>
            <a:ext cx="1623960" cy="2349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684360" y="765000"/>
            <a:ext cx="6912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华文彩云"/>
              </a:rPr>
              <a:t>在小木偶身上，</a:t>
            </a:r>
            <a:endParaRPr b="1" lang="en-US" sz="6000" spc="1" strike="noStrike">
              <a:ln w="255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华文彩云"/>
              </a:rPr>
              <a:t>后来又会发生什么事呢？</a:t>
            </a:r>
            <a:endParaRPr b="1" lang="en-US" sz="6000" spc="1" strike="noStrike">
              <a:ln w="255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华文彩云"/>
              <a:ea typeface="华文彩云"/>
            </a:endParaRPr>
          </a:p>
        </p:txBody>
      </p:sp>
      <p:sp>
        <p:nvSpPr>
          <p:cNvPr id="140" name=""/>
          <p:cNvSpPr/>
          <p:nvPr/>
        </p:nvSpPr>
        <p:spPr>
          <a:xfrm>
            <a:off x="1440720" y="278136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木偶拥有了所有的表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向警察局走去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236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板着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诧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1731960" cy="2017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508720" y="2421000"/>
            <a:ext cx="19126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委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痛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64000" y="2565360"/>
            <a:ext cx="22654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龇牙咧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92360" y="2637000"/>
            <a:ext cx="1834920" cy="194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43280" y="2421000"/>
            <a:ext cx="22338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伤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356000" y="270828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16000" y="2924280"/>
            <a:ext cx="201600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00000" y="981000"/>
            <a:ext cx="698508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ffff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12.</a:t>
            </a: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ffff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小木偶的故事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ffff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6" name=""/>
          <p:cNvSpPr/>
          <p:nvPr/>
        </p:nvSpPr>
        <p:spPr>
          <a:xfrm>
            <a:off x="2730600" y="4776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7:45:22Z</dcterms:created>
  <dc:creator>daishu</dc:creator>
  <dc:description/>
  <dc:language>en-US</dc:language>
  <cp:lastModifiedBy>微软用户</cp:lastModifiedBy>
  <dcterms:modified xsi:type="dcterms:W3CDTF">2012-10-15T23:40:13Z</dcterms:modified>
  <cp:revision>23</cp:revision>
  <dc:subject/>
  <dc:title>幻灯片 1</dc:title>
</cp:coreProperties>
</file>