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7.jpeg" ContentType="image/jpeg"/>
  <Override PartName="/ppt/media/image3.png" ContentType="image/png"/>
  <Override PartName="/ppt/media/image4.jpeg" ContentType="image/jpeg"/>
  <Override PartName="/ppt/media/image5.gif" ContentType="image/gif"/>
  <Override PartName="/ppt/media/image6.jpeg" ContentType="image/jpeg"/>
  <Override PartName="/ppt/media/image11.jpeg" ContentType="image/jpeg"/>
  <Override PartName="/ppt/media/arrow.wav" ContentType="audio/x-wav"/>
  <Override PartName="/ppt/media/image8.jpeg" ContentType="image/jpeg"/>
  <Override PartName="/ppt/media/image9.jpeg" ContentType="image/jpeg"/>
  <Override PartName="/ppt/media/image10.jpeg" ContentType="image/jpeg"/>
  <Override PartName="/ppt/media/image1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2D42-DACB-4F92-89A2-703C90B84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2C9C-5BE3-448B-8694-7EA9D5037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1DF8-AA7A-4DC3-843A-ABBC783C7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D8FE-AA03-4E82-BAE1-8B44B8413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50D2E-7872-41E3-80D3-F15659F88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85C81-E02E-4E26-9381-091F1C237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8D3C6-53C2-46D1-994E-5CF8A93E1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F97BD-BE53-401C-BD0E-22CDAC71A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C4CD9-1D9B-428D-A09E-9FE750B72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F6E16-F423-4F22-B68A-F4CA4363E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C1504-B546-41E9-A2E4-22FBA41D5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9EF6-5623-4672-85B2-A0FDD96BE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78A38-62CE-4842-9748-1E1DBE095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54048-03DD-42CC-8532-B714B54D9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7AA23-3FCB-47CA-8FBE-A5961551F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12F3F-A20D-44A4-AFF6-BF7D67B5E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792AB-71C5-41FD-BB64-491F83D2A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DB75-7689-43E4-B886-7602EA8EC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28C4-2816-4B27-9D51-7122253E7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7E2B-42FB-4136-9363-A1A5896CA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DE7F-4BA8-478B-A948-DFEA30C5B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CE94-7B10-4737-AC2C-6BC62E868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8416-F105-48A6-AEEB-521D80E59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AA85-38AC-4796-9460-938ED6AE7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DD53B-652F-4778-84B3-A08577D5B2A4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F4B1F-5E83-4B6C-94E9-F5221A838317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6.jpeg"/><Relationship Id="rId3" Type="http://schemas.openxmlformats.org/officeDocument/2006/relationships/slide" Target="slide23.xm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886200" y="4419720"/>
            <a:ext cx="36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Times New Roman"/>
                <a:ea typeface="华文行楷"/>
              </a:rPr>
              <a:t>备课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  <a:ea typeface="华文行楷"/>
              </a:rPr>
              <a:t>9.15   </a:t>
            </a:r>
            <a:r>
              <a:rPr b="1" lang="zh-CN" sz="2800" spc="-1" strike="noStrike">
                <a:solidFill>
                  <a:srgbClr val="a50021"/>
                </a:solidFill>
                <a:latin typeface="Times New Roman"/>
                <a:ea typeface="华文行楷"/>
              </a:rPr>
              <a:t>上课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  <a:ea typeface="华文行楷"/>
              </a:rPr>
              <a:t>9.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304920"/>
            <a:ext cx="838188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33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小摄影师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33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53" name="" descr="gif001.gif"/>
          <p:cNvPicPr/>
          <p:nvPr/>
        </p:nvPicPr>
        <p:blipFill>
          <a:blip r:embed="rId2"/>
          <a:stretch/>
        </p:blipFill>
        <p:spPr>
          <a:xfrm>
            <a:off x="228600" y="3505320"/>
            <a:ext cx="2590920" cy="19429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1905120" y="1816200"/>
            <a:ext cx="739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过了一会儿，小男孩站在高尔基面前了。他仔细打量着高尔基，咧开嘴笑了，然后手指了指沙发，说：“请您坐在这儿看报纸。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1828800" y="1676520"/>
            <a:ext cx="7391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高尔基拿了张报纸，按小男孩的吩咐坐下。小男孩摆弄了很久很久，说：“一切准备停当。”高尔基侧过脸，对着他微笑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1599840" y="18288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高尔基赶紧站起来，小男孩已经提着照相机跑出去了。高尔基走到窗口，大声喊到：“孩子，回来！我给你胶卷，我这儿有很多胶卷。”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914400" y="2496240"/>
            <a:ext cx="78645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晚上，秘书告诉高尔基：“外面来了一位摄影师。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“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是个小男孩吗？”高尔基问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“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不是。是一家杂志社的记者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“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请转告他，我很忙。不过，来的如果是个小男孩，就一定让他进来。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1467000" cy="14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5800" y="533520"/>
            <a:ext cx="1366920" cy="132876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162920" y="4952880"/>
            <a:ext cx="1290600" cy="12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1366920" cy="132876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7162920" y="4952880"/>
            <a:ext cx="1290600" cy="125424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1905120" y="1447920"/>
            <a:ext cx="678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高尔基拿了张报纸，按小男孩的吩咐坐下。小男孩摆弄了很久很久，说：“一切准备停当。”高尔基侧过脸，对着他微笑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5800" y="533520"/>
            <a:ext cx="1366920" cy="132876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7162920" y="4952880"/>
            <a:ext cx="1290600" cy="125424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1600200" y="1600200"/>
            <a:ext cx="678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　高尔基赶紧站起来，小男孩已经提着照相机跑出去了。高尔基走到窗口，大声喊道：“孩子，回来！我给你胶卷，我这儿有很多胶卷。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914400" y="2496240"/>
            <a:ext cx="78645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晚上，秘书告诉高尔基：“外面来了一位摄影师。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“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是个小男孩吗？”高尔基问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“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不是。是一家杂志社的记者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“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请转告他，我很忙。不过，来的如果是个小男孩，就一定让他进来。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1467000" cy="14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-227160" y="0"/>
            <a:ext cx="962820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 txBox="1"/>
          <p:nvPr/>
        </p:nvSpPr>
        <p:spPr>
          <a:xfrm>
            <a:off x="685800" y="685800"/>
            <a:ext cx="365760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作业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2743200"/>
            <a:ext cx="762012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3333ff"/>
                </a:solidFill>
                <a:latin typeface="Arial"/>
                <a:ea typeface="华文行楷"/>
              </a:rPr>
              <a:t>       </a:t>
            </a:r>
            <a:r>
              <a:rPr b="0" lang="zh-CN" sz="5400" spc="-1" strike="noStrike">
                <a:solidFill>
                  <a:srgbClr val="3333ff"/>
                </a:solidFill>
                <a:latin typeface="Arial"/>
                <a:ea typeface="华文行楷"/>
              </a:rPr>
              <a:t>请发挥想象力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3333ff"/>
                </a:solidFill>
                <a:latin typeface="Arial"/>
                <a:ea typeface="华文行楷"/>
              </a:rPr>
              <a:t>续写故事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  <p:sndAc>
      <p:stSnd>
        <p:snd r:embed="rId2" name="arrow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第二课时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范读或朗读课文　　１、播放媒体资源范读课文，学生思考：课文提到了哪些人，写了一件什么事？　　　２、学生生自读课文，边读边领悟课文如何通过人物言语和神态来表现人物的心理活动。　　３、师：这篇课文讲述了什么人、什么事情？ 　　　　提示：这篇课文讲述了一位少先队员为苏联著名文学家高尔基照相，没带胶卷没照成相的故事。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【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教学目的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】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　　１、会认８个生字，会写１４个生字。正确读写“突然、立刻、人行道、照相机、打量、摆弄、准备、胶卷、秘书、杂志社、记者、转告”等词语。　　２、分角色有感情地朗读课文。　　３、了解课文的主要内容。读好对话，并从中体会人物的心理活动。　　４、感受高尔基对男孩的关怀爱护和男孩对高尔基的崇敬与热爱。　　５、续写这个故事。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三、学习课文第一部分（第１～６自然段）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　　１、师：小男孩想给高尔基照张相，很难吗？　　　　提示：高尔基很忙，而且门口有人不让小男孩进去。</a:t>
            </a:r>
            <a:br>
              <a:rPr sz="1400"/>
            </a:b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　　２、师：小男孩是如何办到的？</a:t>
            </a:r>
            <a:br>
              <a:rPr sz="1400"/>
            </a:b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　　　　提示：扔纸团。</a:t>
            </a:r>
            <a:br>
              <a:rPr sz="1400"/>
            </a:b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　　３、师：这说明小男孩是怎样一个人？</a:t>
            </a:r>
            <a:br>
              <a:rPr sz="1400"/>
            </a:b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　　　　提示：很聪明、大胆。</a:t>
            </a:r>
            <a:br>
              <a:rPr sz="1400"/>
            </a:b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　　４、师：小男孩在纸团里怎么称呼高尔基？说明了什么？　　　　提示：他称高尔基为“亲爱的高尔基同志”，说明他很懂礼貌，同时也很尊敬、崇敬高尔基。</a:t>
            </a:r>
            <a:br>
              <a:rPr sz="1400"/>
            </a:b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　　５、师：小男孩说：“我照完相，立刻就走”，这又说明小男孩很怎么样？</a:t>
            </a:r>
            <a:br>
              <a:rPr sz="1400"/>
            </a:br>
            <a:br>
              <a:rPr sz="1400"/>
            </a:b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照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⑴</a:t>
            </a: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　小男孩请高尔基坐在沙发看报纸──说明小男孩很熟悉怎样摆姿势，他照相应该不是第一回。而且他敢于提出给高尔基照相，说明他肯定有过照相的经验。</a:t>
            </a:r>
            <a:br>
              <a:rPr sz="1600"/>
            </a:b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　　　⑵　他给高尔基照的相是要放在班级的墙报上，说明他是带着班级的任务来的，他照得好，大家才信任他。</a:t>
            </a:r>
            <a:br>
              <a:rPr sz="1600"/>
            </a:b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　　　⑶　小男孩摆弄了很久很久，才准备停当──说明他很紧张。</a:t>
            </a:r>
            <a:br>
              <a:rPr sz="1600"/>
            </a:b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　　　⑷　他要来给高尔基照相，却把最关键的东西──胶卷忘在家里了──说明他非常紧张，而且事前可能也没想到高尔基这么爽快就答应了他。</a:t>
            </a:r>
            <a:br>
              <a:rPr sz="1600"/>
            </a:b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　　４、师：小男孩就要给高尔基照相了，但是，最关键的事情他忘了，他没带胶卷。那他怎么办？</a:t>
            </a:r>
            <a:br>
              <a:rPr sz="1600"/>
            </a:b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　　　　提示：他往地上一坐，哭了起来。</a:t>
            </a:r>
            <a:br>
              <a:rPr sz="1600"/>
            </a:br>
            <a:br>
              <a:rPr sz="1600"/>
            </a:b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高尔基的表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　　　⑴　高尔基拿了张报纸，按小男孩的吩咐坐下──说明高尔基尊重小男孩。</a:t>
            </a:r>
            <a:br>
              <a:rPr sz="1600"/>
            </a:b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　　　⑵　高尔基听任小男孩摆弄了很久很久──说明他对小男孩很耐心。</a:t>
            </a:r>
            <a:br>
              <a:rPr sz="1600"/>
            </a:b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　　　⑶　小男孩说一切准备停当后，高尔基侧过脸，对他微笑──说明他尊重小男孩，并且态度亲切。</a:t>
            </a:r>
            <a:br>
              <a:rPr sz="1600"/>
            </a:b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　　　⑷　高尔基赶紧站起来──说明他很关心、爱护小男孩。</a:t>
            </a:r>
            <a:br>
              <a:rPr sz="1600"/>
            </a:b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　　　⑸　小男孩跑出去后，他走到窗口大声喊──他关心、爱护小男孩。</a:t>
            </a:r>
            <a:br>
              <a:rPr sz="1600"/>
            </a:br>
            <a:br>
              <a:rPr sz="1600"/>
            </a:b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5800" y="533520"/>
            <a:ext cx="1366920" cy="13287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>
            <a:off x="7162920" y="4952880"/>
            <a:ext cx="1290600" cy="125424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1600200" y="1600200"/>
            <a:ext cx="678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　高尔基赶紧站起来，小男孩已经提着照相机跑出去了。高尔基走到窗口，大声喊道：“孩子，回来！我给你胶卷，我这儿有很多胶卷。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1366920" cy="13287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7162920" y="4952880"/>
            <a:ext cx="1290600" cy="125424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1905120" y="1447920"/>
            <a:ext cx="678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高尔基拿了张报纸，按小男孩的吩咐坐下。小男孩摆弄了很久很久，说：“一切准备停当。”高尔基侧过脸，对着他微笑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914400" y="2496240"/>
            <a:ext cx="78645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晚上，秘书告诉高尔基：“外面来了一位摄影师。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“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是个小男孩吗？”高尔基问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“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不是。是一家杂志社的记者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“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请转告他，我很忙。不过，来的如果是个小男孩，就一定让他进来。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1467000" cy="14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0" y="-25560"/>
            <a:ext cx="9144000" cy="575820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900000" y="5067360"/>
            <a:ext cx="619308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dff"/>
                </a:solidFill>
                <a:latin typeface="Tahoma"/>
              </a:rPr>
              <a:t>          </a:t>
            </a:r>
            <a:r>
              <a:rPr b="1" lang="zh-CN" sz="2400" spc="-1" strike="noStrike">
                <a:solidFill>
                  <a:srgbClr val="703dff"/>
                </a:solidFill>
                <a:latin typeface="Tahoma"/>
              </a:rPr>
              <a:t>这件事发生在什么时间，什么地方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dff"/>
                </a:solidFill>
                <a:latin typeface="Tahoma"/>
              </a:rPr>
              <a:t>          </a:t>
            </a:r>
            <a:r>
              <a:rPr b="1" lang="zh-CN" sz="2400" spc="-1" strike="noStrike">
                <a:solidFill>
                  <a:srgbClr val="703dff"/>
                </a:solidFill>
                <a:latin typeface="Tahoma"/>
              </a:rPr>
              <a:t>小男孩为什么要给高尔基照相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067280" y="1916280"/>
            <a:ext cx="1511280" cy="0"/>
          </a:xfrm>
          <a:prstGeom prst="line">
            <a:avLst/>
          </a:prstGeom>
          <a:ln w="381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20000" y="178596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b200"/>
                </a:solidFill>
                <a:latin typeface="宋体"/>
              </a:rPr>
              <a:t>▲  ▲  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511440" y="2205000"/>
            <a:ext cx="29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b200"/>
                </a:solidFill>
                <a:latin typeface="宋体"/>
              </a:rPr>
              <a:t>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564000" y="4581360"/>
            <a:ext cx="4321080" cy="0"/>
          </a:xfrm>
          <a:prstGeom prst="line">
            <a:avLst/>
          </a:prstGeom>
          <a:ln w="3816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072440" y="5154480"/>
            <a:ext cx="91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思考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0" y="-25560"/>
            <a:ext cx="9144000" cy="561528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611280" y="5013360"/>
            <a:ext cx="828180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dff"/>
                </a:solidFill>
                <a:latin typeface="Tahoma"/>
              </a:rPr>
              <a:t>        </a:t>
            </a:r>
            <a:r>
              <a:rPr b="1" lang="zh-CN" sz="2400" spc="-1" strike="noStrike">
                <a:solidFill>
                  <a:srgbClr val="703dff"/>
                </a:solidFill>
                <a:latin typeface="Tahoma"/>
              </a:rPr>
              <a:t>小男孩是怎么吩咐的？高尔基是怎么做的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dff"/>
                </a:solidFill>
                <a:latin typeface="Tahoma"/>
              </a:rPr>
              <a:t>        </a:t>
            </a:r>
            <a:r>
              <a:rPr b="1" lang="zh-CN" sz="2400" spc="-1" strike="noStrike">
                <a:solidFill>
                  <a:srgbClr val="703dff"/>
                </a:solidFill>
                <a:latin typeface="Tahoma"/>
              </a:rPr>
              <a:t>高尔基这样听小男孩的指挥，你有什么想法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40360" y="1989000"/>
            <a:ext cx="13683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b200"/>
                </a:solidFill>
                <a:latin typeface="宋体"/>
              </a:rPr>
              <a:t>▲ ▲ ▲ 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576760" y="1979640"/>
            <a:ext cx="29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b200"/>
                </a:solidFill>
                <a:latin typeface="宋体"/>
              </a:rPr>
              <a:t>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460836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b200"/>
                </a:solidFill>
                <a:latin typeface="宋体"/>
              </a:rPr>
              <a:t>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022720" y="4149720"/>
            <a:ext cx="29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b200"/>
                </a:solidFill>
                <a:latin typeface="Tahoma"/>
              </a:rPr>
              <a:t>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13880" y="4941720"/>
            <a:ext cx="91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思考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0" y="0"/>
            <a:ext cx="9144000" cy="5543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0" y="4923000"/>
            <a:ext cx="914400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dff"/>
                </a:solidFill>
                <a:latin typeface="Tahoma"/>
              </a:rPr>
              <a:t>         </a:t>
            </a:r>
            <a:r>
              <a:rPr b="1" lang="zh-CN" sz="2400" spc="-1" strike="noStrike">
                <a:solidFill>
                  <a:srgbClr val="703dff"/>
                </a:solidFill>
                <a:latin typeface="Tahoma"/>
              </a:rPr>
              <a:t>小男孩为什么哭了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dff"/>
                </a:solidFill>
                <a:latin typeface="Tahoma"/>
              </a:rPr>
              <a:t>         </a:t>
            </a:r>
            <a:r>
              <a:rPr b="1" lang="zh-CN" sz="2400" spc="-1" strike="noStrike">
                <a:solidFill>
                  <a:srgbClr val="703dff"/>
                </a:solidFill>
                <a:latin typeface="Tahoma"/>
              </a:rPr>
              <a:t>为什么 高尔基答应给他胶卷，结果他还是跳上电车走了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443640" y="3429000"/>
            <a:ext cx="122400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067280" y="3716280"/>
            <a:ext cx="1368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768320" y="4005360"/>
            <a:ext cx="115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b200"/>
                </a:solidFill>
                <a:latin typeface="宋体"/>
              </a:rPr>
              <a:t>▲  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708360" y="437832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b200"/>
                </a:solidFill>
                <a:latin typeface="宋体"/>
              </a:rPr>
              <a:t>▲  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53520" y="4941720"/>
            <a:ext cx="91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思考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0" y="0"/>
            <a:ext cx="9144000" cy="573408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324000" y="5084640"/>
            <a:ext cx="8388360" cy="225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dff"/>
                </a:solidFill>
                <a:latin typeface="Tahoma"/>
              </a:rPr>
              <a:t>         </a:t>
            </a:r>
            <a:r>
              <a:rPr b="1" lang="zh-CN" sz="2400" spc="-1" strike="noStrike">
                <a:solidFill>
                  <a:srgbClr val="703dff"/>
                </a:solidFill>
                <a:latin typeface="Tahoma"/>
              </a:rPr>
              <a:t>高尔基为什么不见记者，却希望来的是个小男孩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dff"/>
                </a:solidFill>
                <a:latin typeface="Tahoma"/>
              </a:rPr>
              <a:t>         </a:t>
            </a:r>
            <a:r>
              <a:rPr b="1" lang="zh-CN" sz="2400" spc="-1" strike="noStrike">
                <a:solidFill>
                  <a:srgbClr val="703dff"/>
                </a:solidFill>
                <a:latin typeface="Tahoma"/>
              </a:rPr>
              <a:t>小男孩伤心地跑回家去还会再来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949320" y="3544920"/>
            <a:ext cx="35290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79360" y="3956040"/>
            <a:ext cx="4248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79360" y="4343400"/>
            <a:ext cx="100800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40800" y="5154480"/>
            <a:ext cx="91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思考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"/>
                            </p:stCondLst>
                            <p:childTnLst>
                              <p:par>
                                <p:cTn id="1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"/>
                            </p:stCondLst>
                            <p:childTnLst>
                              <p:par>
                                <p:cTn id="1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教材分析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本文是按事情发展顺序写的，在表述上的主要特点是通过 对话和细节描写展示人物丰富的内心世界。结尾的补叙，独具匠心，进一步突出了中心。高乐基对少年儿童的关心和爱护青少年感染了孩子们的神经，大家上课时都听得比较认真，预习也做得很好。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通过二节课的教授，我抓住了教学目标而展开教学，认真保仔细地教授词语，运用词语，采用多读的方式表演高尔基和小男孩的对话，并指导了读书语气和需要表达的感情。孩子们的读书水平这学期读书水平所提高，所以在我的指导下，孩子们很快地进入了角色。在朗读方面我和孩子们都在教与学中都很快完成了任务。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900000" y="1052640"/>
            <a:ext cx="7488360" cy="19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b200"/>
                </a:solidFill>
                <a:latin typeface="Tahoma"/>
              </a:rPr>
              <a:t>思考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dff"/>
                </a:solidFill>
                <a:latin typeface="Tahoma"/>
              </a:rPr>
              <a:t>       </a:t>
            </a:r>
            <a:r>
              <a:rPr b="1" lang="zh-CN" sz="2400" spc="-1" strike="noStrike">
                <a:solidFill>
                  <a:srgbClr val="703dff"/>
                </a:solidFill>
                <a:latin typeface="Tahoma"/>
              </a:rPr>
              <a:t>读了这篇课文，你对高尔基有那些了解？你有哪些体会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dff"/>
                </a:solidFill>
                <a:latin typeface="Tahoma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900000" y="2925720"/>
            <a:ext cx="7704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dff"/>
                </a:solidFill>
                <a:latin typeface="Tahoma"/>
              </a:rPr>
              <a:t>       </a:t>
            </a:r>
            <a:r>
              <a:rPr b="1" lang="zh-CN" sz="2400" spc="-1" strike="noStrike">
                <a:solidFill>
                  <a:srgbClr val="703dff"/>
                </a:solidFill>
                <a:latin typeface="Tahoma"/>
              </a:rPr>
              <a:t>这种对少年儿童的关心、爱护，从课文的哪些地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dff"/>
                </a:solidFill>
                <a:latin typeface="Tahoma"/>
              </a:rPr>
              <a:t>可以看出来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833400" y="4149720"/>
            <a:ext cx="755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ahoma"/>
              </a:rPr>
              <a:t>       </a:t>
            </a:r>
            <a:r>
              <a:rPr b="1" lang="zh-CN" sz="2400" spc="-1" strike="noStrike">
                <a:solidFill>
                  <a:srgbClr val="ff0066"/>
                </a:solidFill>
                <a:latin typeface="Tahoma"/>
              </a:rPr>
              <a:t>高尔基热爱少年儿童，关怀少年儿童，把对未来的希望寄托在下一代身上，相信小男孩一定回再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"/>
                            </p:stCondLst>
                            <p:childTnLst>
                              <p:par>
                                <p:cTn id="13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2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cf90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2666880" y="533520"/>
            <a:ext cx="49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板书   小摄影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143000" y="1752480"/>
            <a:ext cx="6781680" cy="4329360"/>
          </a:xfrm>
          <a:custGeom>
            <a:avLst/>
            <a:gdLst>
              <a:gd name="textAreaLeft" fmla="*/ 1593720 w 6781680"/>
              <a:gd name="textAreaRight" fmla="*/ 5183280 w 6781680"/>
              <a:gd name="textAreaTop" fmla="*/ 509040 h 4329360"/>
              <a:gd name="textAreaBottom" fmla="*/ 2715840 h 43293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noFill/>
          <a:ln w="381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95640" y="2971800"/>
            <a:ext cx="3076560" cy="3193920"/>
          </a:xfrm>
          <a:custGeom>
            <a:avLst/>
            <a:gdLst>
              <a:gd name="textAreaLeft" fmla="*/ 722880 w 3076560"/>
              <a:gd name="textAreaRight" fmla="*/ 2351520 w 3076560"/>
              <a:gd name="textAreaTop" fmla="*/ 375480 h 3193920"/>
              <a:gd name="textAreaBottom" fmla="*/ 2003400 h 31939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noFill/>
          <a:ln w="381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86200" y="2286000"/>
            <a:ext cx="15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ahoma"/>
              </a:rPr>
              <a:t>高尔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063680" y="35053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小摄影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809880" y="4267080"/>
            <a:ext cx="187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(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有礼貌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981080" y="3200400"/>
            <a:ext cx="10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关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248520" y="3124080"/>
            <a:ext cx="107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爱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7238880" y="5410080"/>
            <a:ext cx="1228680" cy="10670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9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"/>
                            </p:stCondLst>
                            <p:childTnLst>
                              <p:par>
                                <p:cTn id="14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2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1"/>
                            </p:stCondLst>
                            <p:childTnLst>
                              <p:par>
                                <p:cTn id="172" nodeType="afterEffect" fill="hold" presetClass="emph" presetID="3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7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1,-49,-1)"/>
                                      </p:to>
                                    </p:set>
                                    <p:set>
                                      <p:cBhvr>
                                        <p:cTn id="17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italic"/>
                                      </p:to>
                                    </p:set>
                                    <p:set>
                                      <p:cBhvr>
                                        <p:cTn id="17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7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反思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教授完了教学知识点，我进步了小练笔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知识拓展了练习。这个环节锻练孩子们的写作能力，于是我就专门用了一个练习课的时间进行口语训练，小组讨论表达感情，个人发表看法和感受。很多人都能体验也高尔基与小男孩的感情和关系，都写了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回话。有些更长。但他们定的内容很空，看不到好词好句，想象力也是反限于课文中，走不出死板的思维。我巡视看了下，又讲解了一番，但孩子们还是沉浸于自己的世界中。从这一点我感到了学习让他们积累，想象的重要性，让他们多说多写多练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课后作业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. </a:t>
            </a: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看拼音，写词语。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      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ǎi nònɡ       jiāo juǎn       zhǔn bèi       cè  mià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     </a:t>
            </a: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（        ）   （         ）   （        ）   （        ）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   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．把下面的字去掉偏旁后，再组词。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      例：摄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——</a:t>
            </a: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（聂） （姓聂）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      格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——</a:t>
            </a: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（  ）（    ）        按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——</a:t>
            </a: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（  ）（    ）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      切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——</a:t>
            </a: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（  ）（    ）        贴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——</a:t>
            </a: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（  ）（    ）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      胶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——</a:t>
            </a: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（  ）（    ）        社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——</a:t>
            </a: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（  ）（    ）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  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．给多音字组词。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          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ānɡ(     )                    juǎn(     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      </a:t>
            </a: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当                              卷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          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ànɡ(     )                    juàn(     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句段集锦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】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   </a:t>
            </a: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选字填空。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         侧         坐         哭          摆         拿   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     高尔基（  ）了张报纸，按小男孩的吩咐（  ）下，小男孩（  ）弄了很久很久，说：“一切准备停当。”高尔基（  ）过脸，对着他微笑。突然，小男孩往地上一坐，（  ）了起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学情分析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小摄影师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写了高尔基欣然答应一个孩子给他拍照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最后孩子发现忘了带胶卷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拍照未能完成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孩子哭着离开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最后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高尔基还是准备要接待那个少先队员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这个故事体现了文学家高尔基对少先队员的关怀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爱护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也表现了小摄影师所代表的少先队员所具有的诚信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聪明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有礼貌的品格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本文在表达上的主要特点是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通过对话和细节描写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展示人物丰富的内心世界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【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教学重点、难点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】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　　高尔基接受少先队员照相的经过。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　　通过对话和细节描写来体会人物的心理活动。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【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教学过程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】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第一课时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一、导入新课</a:t>
            </a:r>
            <a:br>
              <a:rPr sz="2000"/>
            </a:b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　　出示高尔基图片：　　　师：大家看，这张图片上的人是谁？是高尔基。高尔基是什么人？高尔基是苏联著名的作家。上次课，我们学习了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《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灰雀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》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《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灰雀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》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讲述了列宁和一个小男孩的故事，今天要学习的课文讲述的是高尔基和一个小男孩的故事。（板书：小摄影师。）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二、学生自读课文，学习生字词　　１、学生自读课文，找出课文中要求认读的生字，自读。　　２、出示生字卡片，学生认读：　　　　⑴　教师范读、学生跟读、小组轮流读。</a:t>
            </a:r>
            <a:br>
              <a:rPr sz="2000"/>
            </a:b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898560" y="1046160"/>
            <a:ext cx="7921440" cy="20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Times New Roman"/>
              </a:rPr>
              <a:t>高尔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868--1936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前苏联伟大的无产阶级文学家。发表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童年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在人间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》《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我的大学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》《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母亲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等多部小说以及著名的散文诗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海燕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和一系列剧本。他的作品在我国广为流传，得到人们的喜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0" y="-1903320"/>
            <a:ext cx="9144000" cy="876132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457200" y="1828800"/>
            <a:ext cx="720108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333ff"/>
                </a:solidFill>
                <a:latin typeface="Arial"/>
              </a:rPr>
              <a:t>摄    基    媚   鞠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09480" y="137160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sh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362320" y="137160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j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057560" y="140184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mè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784840" y="1401840"/>
            <a:ext cx="86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j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41920" y="342900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sh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057560" y="350028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m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185920" y="342900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jiā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57200" y="350028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gō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3962520"/>
            <a:ext cx="640080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333ff"/>
                </a:solidFill>
                <a:latin typeface="Arial"/>
              </a:rPr>
              <a:t>躬    胶    秘   社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-2284560"/>
            <a:ext cx="9144000" cy="876168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457200" y="990720"/>
            <a:ext cx="6553080" cy="48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摄影师  明媚  鞠躬  打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咧开嘴  吩咐  摆弄   停当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胶卷  秘书  杂志社  照相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记者  人行道  转告  突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33520" y="205740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li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334120" y="205740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dà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33520" y="335268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jiā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aa</cp:lastModifiedBy>
  <dcterms:modified xsi:type="dcterms:W3CDTF">2014-09-18T01:37:24Z</dcterms:modified>
  <cp:revision>4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61</vt:lpwstr>
  </property>
  <property fmtid="{D5CDD505-2E9C-101B-9397-08002B2CF9AE}" pid="3" name="Version">
    <vt:r8>1</vt:r8>
  </property>
</Properties>
</file>