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wmf" ContentType="image/x-wmf"/>
  <Override PartName="/ppt/media/image3.png" ContentType="image/png"/>
  <Override PartName="/ppt/media/image17.jpeg" ContentType="image/jpeg"/>
  <Override PartName="/ppt/media/image25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1.gif" ContentType="image/gif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12CA-3E3A-414C-B665-3C72A0434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E425-0462-46D3-8A23-85581C74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AFBF-CB51-4B4E-9EA9-1A0DB5A5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35A4-A5EE-4CCC-9EF0-F2433938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883F-842B-44AD-A6C3-E516CB1A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6788-0814-4778-AB4B-56F7F96C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07C1-424C-4405-92E1-45547331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C10C-42E3-4F20-B0CA-DAA8A5D8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7BB7-015C-4B89-841F-E47FDFF3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0CB7-02DC-44D8-90C9-A9B66B70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DDA5-1FD4-4E7D-B91F-1EEA1454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3029-92D2-4D2F-9BD9-88CAD0F8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A16E-046B-4624-91C8-1C9C66840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hyperlink" Target="file:///&#21315;&#25163;&#35266;&#38899;.rm" TargetMode="External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724280" y="380880"/>
            <a:ext cx="480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006600"/>
                </a:solidFill>
                <a:latin typeface="华文行楷"/>
                <a:ea typeface="华文行楷"/>
              </a:rPr>
              <a:t>我爱我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0" y="981000"/>
            <a:ext cx="5148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F:\实习教案及课件\主题班会  我爱我家\2.jpg"/>
          <p:cNvPicPr/>
          <p:nvPr/>
        </p:nvPicPr>
        <p:blipFill>
          <a:blip r:embed="rId1"/>
          <a:stretch/>
        </p:blipFill>
        <p:spPr>
          <a:xfrm>
            <a:off x="0" y="0"/>
            <a:ext cx="45576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F:\实习教案及课件\主题班会  我爱我家\3.jpg"/>
          <p:cNvPicPr/>
          <p:nvPr/>
        </p:nvPicPr>
        <p:blipFill>
          <a:blip r:embed="rId2"/>
          <a:stretch/>
        </p:blipFill>
        <p:spPr>
          <a:xfrm>
            <a:off x="4578480" y="0"/>
            <a:ext cx="456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F:\实习教案及课件\主题班会  我爱我家\4.jpg"/>
          <p:cNvPicPr/>
          <p:nvPr/>
        </p:nvPicPr>
        <p:blipFill>
          <a:blip r:embed="rId1"/>
          <a:stretch/>
        </p:blipFill>
        <p:spPr>
          <a:xfrm>
            <a:off x="1500120" y="214200"/>
            <a:ext cx="611208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F:\实习教案及课件\主题班会  我爱我家\5.jpg"/>
          <p:cNvPicPr/>
          <p:nvPr/>
        </p:nvPicPr>
        <p:blipFill>
          <a:blip r:embed="rId1"/>
          <a:stretch/>
        </p:blipFill>
        <p:spPr>
          <a:xfrm>
            <a:off x="857160" y="0"/>
            <a:ext cx="692964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F:\实习教案及课件\主题班会  我爱我家\6.jpg"/>
          <p:cNvPicPr/>
          <p:nvPr/>
        </p:nvPicPr>
        <p:blipFill>
          <a:blip r:embed="rId1"/>
          <a:stretch/>
        </p:blipFill>
        <p:spPr>
          <a:xfrm>
            <a:off x="0" y="357120"/>
            <a:ext cx="9109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0" y="5157720"/>
            <a:ext cx="9144000" cy="1700280"/>
          </a:xfrm>
          <a:prstGeom prst="rect">
            <a:avLst/>
          </a:prstGeom>
          <a:ln w="0">
            <a:noFill/>
          </a:ln>
        </p:spPr>
      </p:pic>
      <p:sp>
        <p:nvSpPr>
          <p:cNvPr id="78" name="WordArt 6"/>
          <p:cNvSpPr txBox="1"/>
          <p:nvPr/>
        </p:nvSpPr>
        <p:spPr>
          <a:xfrm>
            <a:off x="611280" y="476280"/>
            <a:ext cx="3456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爱的奉献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332000" y="542592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  <a:ea typeface="方正北魏楷书简体"/>
              </a:rPr>
              <a:t>说说在生活中父母对你点点滴滴的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竹子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1108030291"/>
          <p:cNvPicPr/>
          <p:nvPr/>
        </p:nvPicPr>
        <p:blipFill>
          <a:blip r:embed="rId2"/>
          <a:stretch/>
        </p:blipFill>
        <p:spPr>
          <a:xfrm>
            <a:off x="0" y="-819000"/>
            <a:ext cx="5715000" cy="34938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7224120" y="63849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runner3"/>
          <p:cNvPicPr/>
          <p:nvPr/>
        </p:nvPicPr>
        <p:blipFill>
          <a:blip r:embed="rId4"/>
          <a:stretch/>
        </p:blipFill>
        <p:spPr>
          <a:xfrm>
            <a:off x="1547640" y="5775480"/>
            <a:ext cx="1905120" cy="1082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runner3"/>
          <p:cNvPicPr/>
          <p:nvPr/>
        </p:nvPicPr>
        <p:blipFill>
          <a:blip r:embed="rId5"/>
          <a:stretch/>
        </p:blipFill>
        <p:spPr>
          <a:xfrm>
            <a:off x="0" y="5775480"/>
            <a:ext cx="1905120" cy="1082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runner3"/>
          <p:cNvPicPr/>
          <p:nvPr/>
        </p:nvPicPr>
        <p:blipFill>
          <a:blip r:embed="rId6"/>
          <a:stretch/>
        </p:blipFill>
        <p:spPr>
          <a:xfrm>
            <a:off x="5292720" y="5775480"/>
            <a:ext cx="1905120" cy="1082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runner3"/>
          <p:cNvPicPr/>
          <p:nvPr/>
        </p:nvPicPr>
        <p:blipFill>
          <a:blip r:embed="rId7"/>
          <a:stretch/>
        </p:blipFill>
        <p:spPr>
          <a:xfrm>
            <a:off x="3419640" y="5775480"/>
            <a:ext cx="1904760" cy="1082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runner3"/>
          <p:cNvPicPr/>
          <p:nvPr/>
        </p:nvPicPr>
        <p:blipFill>
          <a:blip r:embed="rId8"/>
          <a:stretch/>
        </p:blipFill>
        <p:spPr>
          <a:xfrm>
            <a:off x="7238880" y="5775480"/>
            <a:ext cx="1905120" cy="10825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0"/>
          <p:cNvSpPr/>
          <p:nvPr/>
        </p:nvSpPr>
        <p:spPr>
          <a:xfrm>
            <a:off x="539640" y="2492280"/>
            <a:ext cx="86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父母不仅赋予我们生命，并且在我们生命中的每一步里，都倾注着父母无私的爱。正是这份爱，使我们走在健康成长的道路上。有的父母之爱惊天动地，更多的父母之爱默默无闻。天底下的父母之爱，尽管方式有别，但爱的本意都一样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2"/>
          <p:cNvPicPr/>
          <p:nvPr/>
        </p:nvPicPr>
        <p:blipFill>
          <a:blip r:embed="rId9"/>
          <a:stretch/>
        </p:blipFill>
        <p:spPr>
          <a:xfrm>
            <a:off x="6300720" y="404640"/>
            <a:ext cx="24116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对全体同学提出几条倡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：多关心自己的长辈，尤其在他们不舒服的时候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：早上走时对长辈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再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回到家是主动打招呼，尤其是不对自己的长辈乱发脾气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：每天给自己设立一个劳动岗，帮助家长分担家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亲爱的爸爸、妈妈、爷爷、奶奶、姥姥、姥爷，您们放心吧，感谢您们对我们的爱，我们也一定把爱回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200704141816499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PHOTO"/>
          <p:cNvPicPr/>
          <p:nvPr/>
        </p:nvPicPr>
        <p:blipFill>
          <a:blip r:embed="rId2"/>
          <a:stretch/>
        </p:blipFill>
        <p:spPr>
          <a:xfrm>
            <a:off x="5867280" y="2895480"/>
            <a:ext cx="3019680" cy="3019680"/>
          </a:xfrm>
          <a:prstGeom prst="rect">
            <a:avLst/>
          </a:prstGeom>
          <a:ln w="0">
            <a:noFill/>
          </a:ln>
        </p:spPr>
      </p:pic>
      <p:sp>
        <p:nvSpPr>
          <p:cNvPr id="98" name="WordArt 6"/>
          <p:cNvSpPr txBox="1"/>
          <p:nvPr/>
        </p:nvSpPr>
        <p:spPr>
          <a:xfrm>
            <a:off x="1000080" y="1714680"/>
            <a:ext cx="2286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爱的告白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826920" y="2565360"/>
            <a:ext cx="367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爸爸妈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想对你们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838080" y="365760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838080" y="403848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838080" y="449568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838080" y="495288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58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游子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孟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714680" y="2428560"/>
            <a:ext cx="611496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慈母手中线，游子身上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临行密密缝，意恐迟迟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谁言寸草心，报得三春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我们还在妈妈肚子里的时候，爱我们的爸爸、妈妈、爷爷、奶奶就开始为我们绘制宏伟的蓝图，编制美丽的理想甚至为我们早早起好名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们谁知道自己名字的含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line062"/>
          <p:cNvPicPr/>
          <p:nvPr/>
        </p:nvPicPr>
        <p:blipFill>
          <a:blip r:embed="rId1"/>
          <a:stretch/>
        </p:blipFill>
        <p:spPr>
          <a:xfrm>
            <a:off x="250920" y="404640"/>
            <a:ext cx="3971880" cy="333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line062"/>
          <p:cNvPicPr/>
          <p:nvPr/>
        </p:nvPicPr>
        <p:blipFill>
          <a:blip r:embed="rId2"/>
          <a:stretch/>
        </p:blipFill>
        <p:spPr>
          <a:xfrm>
            <a:off x="4500720" y="476280"/>
            <a:ext cx="3971880" cy="333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0" y="5794200"/>
            <a:ext cx="9144000" cy="1057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MCj03445130000[1]"/>
          <p:cNvPicPr/>
          <p:nvPr/>
        </p:nvPicPr>
        <p:blipFill>
          <a:blip r:embed="rId4"/>
          <a:stretch/>
        </p:blipFill>
        <p:spPr>
          <a:xfrm>
            <a:off x="4788000" y="4581360"/>
            <a:ext cx="4176720" cy="20466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395280" y="1268280"/>
            <a:ext cx="8424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汉仪雪君体简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汉仪雪君体简"/>
              </a:rPr>
              <a:t>      在世界上多种爱中，至深至纯的爱是母爱和父爱。这种爱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汉仪雪君体简"/>
              </a:rPr>
              <a:t>无私的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汉仪雪君体简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汉仪雪君体简"/>
              </a:rPr>
              <a:t>永恒的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汉仪雪君体简"/>
              </a:rPr>
              <a:t>、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汉仪雪君体简"/>
              </a:rPr>
              <a:t>无微不至的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汉仪雪君体简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汉仪雪君体简"/>
              </a:rPr>
              <a:t>不求回报的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汉仪雪君体简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汉仪雪君体简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汉仪雪君体简"/>
              </a:rPr>
              <a:t>母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汉仪雪君体简"/>
              </a:rPr>
              <a:t>如水，往往温柔细腻；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汉仪雪君体简"/>
              </a:rPr>
              <a:t>父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汉仪雪君体简"/>
              </a:rPr>
              <a:t>如山，往往深沉严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汉仪雪君体简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汉仪雪君体简"/>
              </a:rPr>
              <a:t>只要我们留心，我们随时可以体验到这种爱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汉仪雪君体简"/>
              </a:rPr>
              <a:t>学会感受爱、奉献爱，是一切美德的生长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图片5"/>
          <p:cNvPicPr/>
          <p:nvPr/>
        </p:nvPicPr>
        <p:blipFill>
          <a:blip r:embed="rId1"/>
          <a:stretch/>
        </p:blipFill>
        <p:spPr>
          <a:xfrm>
            <a:off x="4788000" y="189000"/>
            <a:ext cx="4356000" cy="6021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图片9"/>
          <p:cNvPicPr/>
          <p:nvPr/>
        </p:nvPicPr>
        <p:blipFill>
          <a:blip r:embed="rId2"/>
          <a:stretch/>
        </p:blipFill>
        <p:spPr>
          <a:xfrm>
            <a:off x="0" y="189000"/>
            <a:ext cx="4716360" cy="583236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7"/>
          <p:cNvSpPr/>
          <p:nvPr/>
        </p:nvSpPr>
        <p:spPr>
          <a:xfrm>
            <a:off x="324000" y="476280"/>
            <a:ext cx="360360" cy="404640"/>
          </a:xfrm>
          <a:prstGeom prst="pie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图片8"/>
          <p:cNvPicPr/>
          <p:nvPr/>
        </p:nvPicPr>
        <p:blipFill>
          <a:blip r:embed="rId1"/>
          <a:stretch/>
        </p:blipFill>
        <p:spPr>
          <a:xfrm>
            <a:off x="530280" y="442800"/>
            <a:ext cx="8083440" cy="59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图片11"/>
          <p:cNvPicPr/>
          <p:nvPr/>
        </p:nvPicPr>
        <p:blipFill>
          <a:blip r:embed="rId1"/>
          <a:stretch/>
        </p:blipFill>
        <p:spPr>
          <a:xfrm>
            <a:off x="0" y="476280"/>
            <a:ext cx="4284720" cy="5832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图片10"/>
          <p:cNvPicPr/>
          <p:nvPr/>
        </p:nvPicPr>
        <p:blipFill>
          <a:blip r:embed="rId2"/>
          <a:stretch/>
        </p:blipFill>
        <p:spPr>
          <a:xfrm>
            <a:off x="5003640" y="476280"/>
            <a:ext cx="4140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图片4"/>
          <p:cNvPicPr/>
          <p:nvPr/>
        </p:nvPicPr>
        <p:blipFill>
          <a:blip r:embed="rId1"/>
          <a:stretch/>
        </p:blipFill>
        <p:spPr>
          <a:xfrm>
            <a:off x="0" y="0"/>
            <a:ext cx="9252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F:\实习教案及课件\主题班会  我爱我家\1.jpg"/>
          <p:cNvPicPr/>
          <p:nvPr/>
        </p:nvPicPr>
        <p:blipFill>
          <a:blip r:embed="rId1"/>
          <a:stretch/>
        </p:blipFill>
        <p:spPr>
          <a:xfrm>
            <a:off x="0" y="-142920"/>
            <a:ext cx="910908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12:03:59Z</dcterms:created>
  <dc:creator>Lenovo User</dc:creator>
  <dc:description/>
  <dc:language>en-US</dc:language>
  <cp:lastModifiedBy>微软用户</cp:lastModifiedBy>
  <dcterms:modified xsi:type="dcterms:W3CDTF">2011-10-26T14:45:56Z</dcterms:modified>
  <cp:revision>71</cp:revision>
  <dc:subject/>
  <dc:title>幻灯片 1</dc:title>
</cp:coreProperties>
</file>