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6F6-20CB-441A-B126-186BC0D4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732-6683-4332-9DC7-90077758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793-D004-4B01-8C05-23970C13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A7F-7E80-4F84-83B6-B8DE7559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DE5-D253-4FBE-BCBB-034DB2F1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334-A67D-4E08-BAA9-87B6860D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8C2-8E94-4214-A00B-7EB2AB8D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C91-87BC-4B7B-B266-353DEC0D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C66-29F8-4348-9F82-EEAEE19F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5DA-55A1-4EFB-BBA9-A6593E01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98B-3F4A-4F7B-A0C0-564580BC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70D-F375-47D3-AFB8-B8DE6379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CB7E-6423-4843-9F4B-1C9EE5CD24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7"/>
          <p:cNvGrpSpPr/>
          <p:nvPr/>
        </p:nvGrpSpPr>
        <p:grpSpPr>
          <a:xfrm>
            <a:off x="-324000" y="3427560"/>
            <a:ext cx="9720360" cy="1585080"/>
            <a:chOff x="-324000" y="3427560"/>
            <a:chExt cx="972036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4000" y="342756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3640" y="458100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43"/>
          <p:cNvGrpSpPr/>
          <p:nvPr/>
        </p:nvGrpSpPr>
        <p:grpSpPr>
          <a:xfrm>
            <a:off x="-324000" y="1765440"/>
            <a:ext cx="9720360" cy="2815560"/>
            <a:chOff x="-324000" y="1765440"/>
            <a:chExt cx="972036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4000" y="1765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3640" y="347472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1"/>
          <p:cNvGrpSpPr/>
          <p:nvPr/>
        </p:nvGrpSpPr>
        <p:grpSpPr>
          <a:xfrm>
            <a:off x="-357120" y="1916280"/>
            <a:ext cx="30996000" cy="1874520"/>
            <a:chOff x="-357120" y="1916280"/>
            <a:chExt cx="3099600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78440" y="1916280"/>
              <a:ext cx="304956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Group 50"/>
            <p:cNvGrpSpPr/>
            <p:nvPr/>
          </p:nvGrpSpPr>
          <p:grpSpPr>
            <a:xfrm>
              <a:off x="-357120" y="2565360"/>
              <a:ext cx="30996000" cy="862920"/>
              <a:chOff x="-357120" y="2565360"/>
              <a:chExt cx="3099600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3440" y="2565360"/>
                <a:ext cx="152654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7120" y="2781000"/>
                <a:ext cx="53611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30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×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xx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3"/>
          <p:cNvGrpSpPr/>
          <p:nvPr/>
        </p:nvGrpSpPr>
        <p:grpSpPr>
          <a:xfrm>
            <a:off x="-214200" y="1959120"/>
            <a:ext cx="30853080" cy="1901520"/>
            <a:chOff x="-214200" y="1959120"/>
            <a:chExt cx="30853080" cy="1901520"/>
          </a:xfrm>
        </p:grpSpPr>
        <p:pic>
          <p:nvPicPr>
            <p:cNvPr id="77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1040" y="1959120"/>
              <a:ext cx="311004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40"/>
            <p:cNvGrpSpPr/>
            <p:nvPr/>
          </p:nvGrpSpPr>
          <p:grpSpPr>
            <a:xfrm>
              <a:off x="-214200" y="2565360"/>
              <a:ext cx="30853080" cy="862920"/>
              <a:chOff x="-214200" y="2565360"/>
              <a:chExt cx="30853080" cy="862920"/>
            </a:xfrm>
          </p:grpSpPr>
          <p:sp>
            <p:nvSpPr>
              <p:cNvPr id="79" name="Rectangle 41"/>
              <p:cNvSpPr/>
              <p:nvPr/>
            </p:nvSpPr>
            <p:spPr>
              <a:xfrm flipH="1">
                <a:off x="15373440" y="2565360"/>
                <a:ext cx="152654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2"/>
              <p:cNvSpPr/>
              <p:nvPr/>
            </p:nvSpPr>
            <p:spPr>
              <a:xfrm>
                <a:off x="-214200" y="2781000"/>
                <a:ext cx="52182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Picture 2" descr="彩虹1"/>
          <p:cNvPicPr/>
          <p:nvPr/>
        </p:nvPicPr>
        <p:blipFill>
          <a:blip r:embed="rId3"/>
          <a:stretch/>
        </p:blipFill>
        <p:spPr>
          <a:xfrm>
            <a:off x="-914400" y="215280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86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4" descr="波浪前1.png"/>
          <p:cNvPicPr/>
          <p:nvPr/>
        </p:nvPicPr>
        <p:blipFill>
          <a:blip r:embed="rId8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89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96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33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0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4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XX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keke</cp:lastModifiedBy>
  <dcterms:modified xsi:type="dcterms:W3CDTF">2015-07-07T08:12:32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