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suction.wav" ContentType="audio/x-wav"/>
  <Override PartName="/ppt/media/image4.jpeg" ContentType="image/jpeg"/>
  <Override PartName="/ppt/media/image7.jpeg" ContentType="image/jpe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114-191D-45BC-AE66-6CC0BF70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BD0-D2AF-4F54-904A-341B16B8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389-D910-4A5B-AC9A-479BB0CD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596-A3FC-42EF-A2ED-88E34A69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D51A4-B9F3-433B-A912-29221338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F1283-F029-404E-9978-63985CE0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1515F-0BB9-45FD-B6CF-7C4D620A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D482E-4171-4400-A6B5-D36D1362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6DB7A-1E70-4A05-8671-1ECFE8A7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41F80-0939-416C-B4BE-08AEBAED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DC363-FFBF-458E-A0CC-F799B77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C86-E3F4-4796-8C58-0BECB4F2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652F9-4B1E-4B97-AFF2-A2F4001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B3840-345E-49D5-BC73-9B292C26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54C75-DF74-4915-AE0D-099669C2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43482-EFFF-4298-81E8-A7043DBD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3C7A4-E8E1-4978-B313-0577AD0F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670E-56DF-45B4-9549-90A6D952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4595-532C-479E-9A78-403D4659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1F22-3D03-4533-BB34-4921075D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AF51-B3D7-480C-8C9A-DDC23716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CEE5C-921A-46C0-B781-B4D607E4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64F-7210-4E14-9225-D74ED37D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CCC3-3952-46E4-AA0B-07107C7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65C6-EEBF-4572-B341-68F86376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9EB1-9D7E-4E1E-99C1-3C55543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6BB8-900D-43A9-AA77-24F2F62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A6DC-14EF-48A3-8D59-33A2A71F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428B-CCCB-4E86-AEAB-E438A00B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E630-D08D-41FE-8901-99F00452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A602-01BC-4CA3-B0F4-7017398A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9006-720A-4017-9ECE-3009E032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598AF-9646-472B-86F4-345CC24E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328-A096-4553-A239-C5D960C9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01BC3-C718-444F-9C3F-9620BDBF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B576-B0D1-44E7-9F9D-B93A4E25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BFF0-1E8A-4DEB-8FDD-2E9ED3FB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75F42-730B-4E0B-9D10-A9FE8DDE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7198D-DB09-458E-B84F-6C4552B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2553-16A9-4238-84EC-39AEE4B5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F6A72-FA4C-434C-A8EA-26F8196C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9DDDA-9DBD-42B4-B78E-7240D077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2AA1-B661-432A-A45A-41190994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85895-2072-446B-8BCD-0BE838B7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2FE-E626-4684-9CF9-2A646D8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81006-A4B9-4875-9646-83E953DA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F3A9-4864-4A9D-ACA8-404287FA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237F-C7D6-4199-A45A-96F7ED85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2B10-39B0-4572-8AD7-C1F861CA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86564-FB6E-409C-8E42-68762E27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20561-107F-484B-96EA-2C08469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AAA1-CAB0-4996-957D-601D2087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93998-28B4-4330-94AB-D07C8FC9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B2B3A-D36C-4504-956D-E66969F5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8A9B-BE49-4039-A5C2-63C27322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3BC-8C5A-4482-97C4-DA11CD37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7F69-9BFB-4397-BEF9-01762F7B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16A8-FF8C-4B42-93A3-5334D495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CE11D-A4EA-4E5F-9A07-60BA0A6E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86DD6-095E-4DE0-ACFB-B9598F77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14E5C-1782-4841-981B-B7E5C078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CAA15-0FE5-4A43-9EB4-0B2484C2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016A4-50EE-4E7D-81B6-38D28768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1C274-71F7-4D1C-A2F5-1BD10196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D19D6-6269-4D04-B3FE-E18B243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4B426-1448-43C1-866A-4319A3A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57F-1497-4589-868B-8B8C98E6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86B9C-E800-48D9-B5CD-B6C7570F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08E1-B076-48AD-9E15-130B3B3F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ABE84-919A-4204-9235-DCC2E464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9DC66-5F0E-4BEE-90E1-9CEECB8E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ADDF3-A49E-4518-9E90-1E3A7839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BC3B8-7DD3-4238-8BED-C4420C6F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C1135-ADFD-4B8C-A3FD-495CB682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7C55-79F1-4933-BE40-BCAEF4D0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41C3A-C8B5-4F39-9C56-E1F030F3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1EB2A-F5CF-4C1D-B28F-5D7AB9F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AE4-9F5A-46A8-96C1-0E9D74F7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AE2EB-6740-441A-9094-817A6AE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E353D-DD49-4C3A-AEC2-042DE25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69ADD-EB67-49BF-B530-7AC951F7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18D60-BB89-40A0-A48F-38552299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9226-FD46-471D-AE31-3D0860C7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350F3-7739-4CEF-B82A-AC7E27F3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3161-989D-44E3-BE19-31D3FDC1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11AC6-EE5D-4A1B-A044-3CE55F38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FAE50-F090-4353-96BA-23FB285E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CE01E-7D1D-43D8-90F5-85909441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E66-D42F-4DFC-9579-CE364C42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921FC-AB1D-4CDD-9AF5-196B82EA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D6425-68BE-48F1-85E4-F9C70DE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57FC7-5424-482B-A89A-CA71F282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ED782-DA1A-420F-A6CE-0152615E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2A28-E9A3-4C97-8FB3-909EAABB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DEDB-0F93-4F5C-8601-FDDD82E4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E77E6-47B5-4A6E-AAFB-794F21CE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16AC-7F17-42F3-9F5A-6FA6C688BA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3992-A0F9-4C0B-8FB9-666714CA02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37CA-E7D3-45F5-9275-CBADB7615BF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0D66-7FCC-455F-9A07-EF758730B63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92EE-FE88-4FDF-B3CE-ED03E8F4ED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8A81-BB73-411D-9AC1-868FE9478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B438-6D17-4834-AAA5-72F1F6F9851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5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8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8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0E2F-0997-472A-B5A3-8304B11ACA4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4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4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5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5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hoto.renren.com/photo/236696324/photo-4971520914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jpeg"/><Relationship Id="rId3" Type="http://schemas.openxmlformats.org/officeDocument/2006/relationships/slide" Target="slide12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69228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0348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5076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348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67120" y="16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08000" y="9360"/>
            <a:ext cx="7416720" cy="6848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7599600" y="2622240"/>
            <a:ext cx="12776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</a:t>
            </a:r>
            <a:r>
              <a:rPr b="1" lang="zh-CN" sz="72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幸福是什么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95280" y="476280"/>
            <a:ext cx="797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我勤勤恳恳地工作，我的工作对别人都是有用的。我的劳动没有白费，所以我是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幸福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的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68360" y="33336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我耕地。地上长出麦子来。麦子养活了许多人。我的劳动也没有白费。我也感到很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幸福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1773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cc"/>
                </a:solidFill>
                <a:latin typeface="Arial"/>
                <a:ea typeface="华文行楷"/>
              </a:rPr>
              <a:t>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549360"/>
            <a:ext cx="914400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你能想象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第一个青年是怎样给病人治病的，病人恢复健康后会说什么？他会有什么样的感受？</a:t>
            </a:r>
            <a:r>
              <a:rPr b="0" lang="zh-CN" sz="4000" spc="-1" strike="noStrike" u="sng">
                <a:solidFill>
                  <a:srgbClr val="66ffff"/>
                </a:solidFill>
                <a:uFillTx/>
                <a:latin typeface="Arial"/>
                <a:ea typeface="华文行楷"/>
                <a:hlinkClick r:id="rId2" action="ppaction://hlinksldjump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第二个青年当花匠的时候会做些什么，人们会对他说什么？他又有什么样的感受？</a:t>
            </a:r>
            <a:r>
              <a:rPr b="0" lang="zh-CN" sz="4000" spc="-1" strike="noStrike" u="sng">
                <a:solidFill>
                  <a:srgbClr val="66ffff"/>
                </a:solidFill>
                <a:uFillTx/>
                <a:latin typeface="Arial"/>
                <a:ea typeface="华文行楷"/>
                <a:hlinkClick r:id="rId3" action="ppaction://hlinksldjump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你能想象第三个青年种的“麦子养活了很多人”的情景吗？</a:t>
            </a:r>
            <a:r>
              <a:rPr b="0" lang="zh-CN" sz="4000" spc="-1" strike="noStrike" u="sng">
                <a:solidFill>
                  <a:srgbClr val="66ffff"/>
                </a:solidFill>
                <a:uFillTx/>
                <a:latin typeface="Arial"/>
                <a:ea typeface="华文行楷"/>
                <a:hlinkClick r:id="rId4" action="ppaction://hlinksldjump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683160" y="2762280"/>
            <a:ext cx="5460840" cy="4095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042920" y="69228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说一说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1280" y="1773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智慧的女儿对三个青年说：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  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所以我是幸福的。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683160" y="2762280"/>
            <a:ext cx="5460840" cy="4095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79280" y="404640"/>
            <a:ext cx="91440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我想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　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妈妈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下班回到家，我赶紧给她端去一杯热水，妈妈笑了。我觉得幸福是（              ）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开始发卷子了，小红却发现自己的笔没水了。看着她那焦急的样子，我（              ），小红笑了。我觉得幸福是（      ）。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lang="zh-CN" sz="5400" spc="-1" strike="noStrike" u="sng">
                <a:solidFill>
                  <a:srgbClr val="cc0066"/>
                </a:solidFill>
                <a:uFillTx/>
                <a:latin typeface="Arial"/>
                <a:ea typeface="华文行楷"/>
              </a:rPr>
              <a:t>                    </a:t>
            </a:r>
            <a:r>
              <a:rPr b="0" lang="zh-CN" sz="5400" spc="-1" strike="noStrike" u="sng">
                <a:solidFill>
                  <a:srgbClr val="703dff"/>
                </a:solidFill>
                <a:uFillTx/>
                <a:latin typeface="Arial"/>
                <a:ea typeface="华文行楷"/>
              </a:rPr>
              <a:t>   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rId2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你幸福吗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困难的时候别人的帮助让我们感到幸福；别人对我们的关心爱护让我们感觉到幸福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别人遇到困难时我们伸出双手后是否也会感到幸福？我们去关心爱护别人是否会感到幸福呢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826920" y="4076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其实，给予比得到更幸福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别人幸福所以自己幸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妈妈说：“幸福是——————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农民伯伯说：“幸福是——————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医生说 ：“幸福是——————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老师说 ：“幸福是——————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27120" y="1268280"/>
            <a:ext cx="851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共同奋斗，共同受苦，共同建造便是幸福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——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罗曼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.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罗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247840" y="692280"/>
            <a:ext cx="4518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下去找有关“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幸福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”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名人名言或语句，把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它们收集起来，与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学交流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95280" y="119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我会演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让我们小组合作，把这个童话故事演一演吧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125000" y="11318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想想说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4000" y="2852640"/>
            <a:ext cx="84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你觉得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幸 福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什么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-379440"/>
            <a:ext cx="8964720" cy="72374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971640" y="1052640"/>
            <a:ext cx="7315200" cy="40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祝大家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生幸福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认识生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9640" y="1981080"/>
            <a:ext cx="83534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彼  锹  杈  诧  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务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9280" y="1844640"/>
            <a:ext cx="8839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彼此  枯枝败叶  尘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铁锹  树杈      诧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遇  枝叶茂盛   清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谦虚  善良  耕地  麦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-13644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894680" y="1406520"/>
            <a:ext cx="459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针对问题读课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划出智慧的女儿两次说的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个牧童分手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各自都做了什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-13644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166760" y="148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39840" y="148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315520" y="1217520"/>
            <a:ext cx="499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们应当自己去弄个明白。十年以后让我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在这个地方，在这个地方，在这口小井旁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相会吧。假如到时候你们还不知道幸福是什么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就告诉你们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很高兴，你们都依照我的话又来和我见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了。”她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们说的话我全听到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们三个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都明白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幸福要靠劳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要靠很好的尽自己的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做出对人们有益的事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755640" y="1700280"/>
            <a:ext cx="7904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幸福要靠劳动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要靠很好地尽自己的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义务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做出对人们有益的事情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①    </a:t>
            </a:r>
            <a:r>
              <a:rPr b="0" lang="zh-CN" sz="24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◆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zh-CN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-13644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68360" y="1341360"/>
            <a:ext cx="86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再通读课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提出问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决问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十年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个牧童对幸福各有怎样的体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些体会是怎样得来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怎样才能幸福呢，最后智慧的女儿是怎样回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个牧童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24000" y="62064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我给病人治病。他们恢复了健康，多么幸福。我能帮助别人，因而感到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幸福</a:t>
            </a:r>
            <a:r>
              <a:rPr b="0" lang="zh-CN" sz="6000" spc="-1" strike="noStrike">
                <a:solidFill>
                  <a:srgbClr val="006633"/>
                </a:solidFill>
                <a:latin typeface="Arial"/>
                <a:ea typeface="华文行楷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8:27:51Z</dcterms:created>
  <dc:creator>为您服务教育网http://www.wsbedu.com</dc:creator>
  <dc:description/>
  <dc:language>en-US</dc:language>
  <cp:lastModifiedBy>PC</cp:lastModifiedBy>
  <dcterms:modified xsi:type="dcterms:W3CDTF">2012-07-14T05:33:08Z</dcterms:modified>
  <cp:revision>65</cp:revision>
  <dc:subject/>
  <dc:title>PowerPoint 演示文稿</dc:title>
</cp:coreProperties>
</file>