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762-6C56-42C2-B85B-42417EA6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81F-C81A-461E-BA89-2C4E70C5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00E-2A54-445C-8160-6D9D458E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EAF-A895-4101-9E0D-4732FAE5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247-E0F1-4B8A-A9A1-7FE0E58F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87F-E8A0-4C99-A862-F130E78C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29F-2735-4033-A68E-5B4F992F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189F-4C3B-43B1-B9F6-8D716AA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04F-38DF-4256-8CF7-14A7E5FC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148-EEDA-4BB8-8813-306DF943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A9C-FB0D-497D-A495-5BC9580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613-D0D1-46EE-BC98-B609DA9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DA6-1915-4023-B287-E143BCB450B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4"/>
          <p:cNvSpPr/>
          <p:nvPr/>
        </p:nvSpPr>
        <p:spPr>
          <a:xfrm>
            <a:off x="428760" y="2357280"/>
            <a:ext cx="72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Happy Teacher’s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6"/>
          <p:cNvSpPr/>
          <p:nvPr/>
        </p:nvSpPr>
        <p:spPr>
          <a:xfrm>
            <a:off x="428760" y="3571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Thank you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500040" y="4714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I love yo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圖片 8" descr="j0446310.wmf"/>
          <p:cNvPicPr/>
          <p:nvPr/>
        </p:nvPicPr>
        <p:blipFill>
          <a:blip r:embed="rId1"/>
          <a:stretch/>
        </p:blipFill>
        <p:spPr>
          <a:xfrm>
            <a:off x="5784840" y="3645000"/>
            <a:ext cx="23526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字方塊 4"/>
          <p:cNvSpPr/>
          <p:nvPr/>
        </p:nvSpPr>
        <p:spPr>
          <a:xfrm>
            <a:off x="826920" y="206064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September 2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5"/>
          <p:cNvSpPr/>
          <p:nvPr/>
        </p:nvSpPr>
        <p:spPr>
          <a:xfrm>
            <a:off x="1285920" y="32860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0000"/>
                </a:solidFill>
                <a:latin typeface="Comic Sans MS"/>
                <a:ea typeface="文鼎中楷"/>
              </a:rPr>
              <a:t>九月二十八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字方塊 6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omic Sans MS"/>
                <a:ea typeface="文鼎中楷"/>
              </a:rPr>
              <a:t>Happy  Teac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7" descr="AG00399_.gif"/>
          <p:cNvPicPr/>
          <p:nvPr/>
        </p:nvPicPr>
        <p:blipFill>
          <a:blip r:embed="rId1"/>
          <a:stretch/>
        </p:blipFill>
        <p:spPr>
          <a:xfrm>
            <a:off x="7667640" y="5732640"/>
            <a:ext cx="1114560" cy="876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8" descr="j0446314.wmf"/>
          <p:cNvPicPr/>
          <p:nvPr/>
        </p:nvPicPr>
        <p:blipFill>
          <a:blip r:embed="rId2"/>
          <a:stretch/>
        </p:blipFill>
        <p:spPr>
          <a:xfrm>
            <a:off x="6804000" y="1341360"/>
            <a:ext cx="18003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07:00Z</dcterms:created>
  <dc:creator/>
  <dc:description/>
  <cp:keywords/>
  <dc:language>en-US</dc:language>
  <cp:lastModifiedBy>GZB</cp:lastModifiedBy>
  <dcterms:modified xsi:type="dcterms:W3CDTF">2012-09-06T14:36:45Z</dcterms:modified>
  <cp:revision>10</cp:revision>
  <dc:subject/>
  <dc:title>ppt.glzy8.com提供海量PPT模板免费下载！</dc:title>
</cp:coreProperties>
</file>