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6D58-14EA-4698-8C7F-33F588169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069F-F910-4928-BD2C-793206ECE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5AFC-7B27-4317-BFDA-B0FF122EE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5D9B-FCD9-49C6-BA2D-DDDD66734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E88F-291D-4783-92E7-2F616C13F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EDF7-72B6-44E6-BB75-FFC1262CD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7239-6F2A-4316-9F28-53EEF4CA1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2BEE-23B4-449E-9C07-5E6D11D41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A123-C8D8-4AC1-A68F-CAE011001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D4C9-3D2B-4988-AAD2-F12A08E1E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60BE-2227-44B6-8FE7-FD9B69429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7A0E-038B-48B2-AEFF-5A7553D6E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4680"/>
            <a:ext cx="9144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7a1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56840" y="6473880"/>
            <a:ext cx="609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ADD2-1884-434D-ABF4-B6729DC492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5661000"/>
            <a:ext cx="9144000" cy="1197000"/>
            <a:chOff x="0" y="5661000"/>
            <a:chExt cx="9144000" cy="1197000"/>
          </a:xfrm>
        </p:grpSpPr>
        <p:sp>
          <p:nvSpPr>
            <p:cNvPr id="42" name=""/>
            <p:cNvSpPr/>
            <p:nvPr/>
          </p:nvSpPr>
          <p:spPr>
            <a:xfrm>
              <a:off x="0" y="5805360"/>
              <a:ext cx="9144000" cy="1052640"/>
            </a:xfrm>
            <a:prstGeom prst="rect">
              <a:avLst/>
            </a:prstGeom>
            <a:solidFill>
              <a:srgbClr val="57a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5661000"/>
              <a:ext cx="9144000" cy="200160"/>
            </a:xfrm>
            <a:prstGeom prst="rect">
              <a:avLst/>
            </a:prstGeom>
            <a:gradFill rotWithShape="0">
              <a:gsLst>
                <a:gs pos="0">
                  <a:srgbClr val="284a46"/>
                </a:gs>
                <a:gs pos="100000">
                  <a:srgbClr val="57a1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5516640"/>
            <a:ext cx="914400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5562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6019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800"/>
            </a:br>
            <a:endParaRPr b="1" lang="en-US" sz="19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560" y="3733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宋体"/>
              </a:rPr>
              <a:t>辩论赛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评委提问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905200" y="2181240"/>
            <a:ext cx="47149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场休息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60020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6019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成绩揭晓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微软雅黑"/>
              </a:rPr>
              <a:t>本轮辩论赛胜出者是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5943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！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" y="4648320"/>
            <a:ext cx="8381880" cy="1752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038480" y="1371600"/>
            <a:ext cx="4445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阵容介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方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方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辩题：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正方观点：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反方观点：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环节：立论阶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场陈词阶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方一辩发言           时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方一辩发言           时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4120"/>
            <a:ext cx="81532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论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1" lang="zh-CN" sz="8800" spc="-1" strike="noStrike">
                <a:solidFill>
                  <a:srgbClr val="000000"/>
                </a:solidFill>
                <a:latin typeface="Verdana"/>
              </a:rPr>
              <a:t>立</a:t>
            </a:r>
            <a:endParaRPr b="1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19614000">
            <a:off x="1066680" y="2437920"/>
            <a:ext cx="3333960" cy="2495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1213800">
            <a:off x="5028840" y="2209680"/>
            <a:ext cx="3333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环节：攻辩阶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95280"/>
            <a:ext cx="830592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三阶段：攻辩小结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微软雅黑"/>
              </a:rPr>
              <a:t>时间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微软雅黑"/>
              </a:rPr>
              <a:t>分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四阶段：自由辩论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四分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2:58:49Z</dcterms:created>
  <dc:creator/>
  <dc:description/>
  <dc:language>en-US</dc:language>
  <cp:lastModifiedBy>njetxy</cp:lastModifiedBy>
  <dcterms:modified xsi:type="dcterms:W3CDTF">2015-07-08T01:02:5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