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E293-B1AA-46C7-92AA-E637CA794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DFEE-E045-4D13-9657-700F5846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294B-C313-44F2-95D2-970D83879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4DC4-E261-4453-9638-41ED52A66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951E-BEE5-49B4-86F7-44D72834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89AA-8C35-44AF-86FC-BFAE70A6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1FFC-C472-43CF-A73B-B8727099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3812-F40C-42B9-8FC4-ADE57FEB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8EDA-BE49-4C12-87C7-D13D90EB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2E03-DAE1-48C9-9F32-E372DD33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2C43-C2E1-4036-8D18-763D0190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8D6E-B54F-4352-8FDE-F0616AF8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5E89-2F8F-4367-BEC9-696990127A8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928960" y="1857240"/>
            <a:ext cx="528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214800" y="264312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Windows 用户</cp:lastModifiedBy>
  <dcterms:modified xsi:type="dcterms:W3CDTF">2015-07-17T08:14:31Z</dcterms:modified>
  <cp:revision>77</cp:revision>
  <dc:subject/>
  <dc:title>幻灯片 1</dc:title>
</cp:coreProperties>
</file>