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6.gif" ContentType="image/gif"/>
  <Override PartName="/ppt/media/image7.gif" ContentType="image/gif"/>
  <Override PartName="/ppt/media/image5.jpeg" ContentType="image/jpeg"/>
  <Override PartName="/ppt/media/image11.gif" ContentType="image/gif"/>
  <Override PartName="/ppt/media/image10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8.gif" ContentType="image/gif"/>
  <Override PartName="/ppt/media/image18.jpeg" ContentType="image/jpeg"/>
  <Override PartName="/ppt/media/image13.gif" ContentType="image/gif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1EF-51C7-42EC-ACC0-9F911649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0EF-97C7-4EBC-ACC6-0DD7470A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DCA-4AFF-410A-8FAD-9A9C06AC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B83-DA97-4BFC-AD14-3C9CCD80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D84B-1DDA-469F-BBB4-1859C84E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AD7D-3A99-4123-80A5-5030551C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81DF-D64E-4D3C-8620-737F6B5A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DA10-69F9-4C6A-A897-5B7E9D4C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ABC5-6C5B-459E-985C-1C6DCD51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3B84-E772-4567-954A-28EFBD20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A6A0-A5FE-49B9-9B64-3BF45AB7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E24-7663-4B92-9A33-C298BAF9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977A-DE11-4C15-B2B6-6C649088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BB83-B87A-4BF5-B206-BC76DE62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05BE-BC96-467F-9622-7530D3DE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9634-9C00-4C41-88B7-4F802820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9593-A811-4862-89E6-28E45904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651C-445A-4E35-86AB-506CE9F0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53F5-CF2E-4685-98B3-CE1EA5B0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44512-2B2A-4273-91B1-EC6CFF7D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F1CDE-3755-4775-994E-3E539307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9BDD-F4E9-495A-B58F-414F2517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5EC-BCA6-40B6-882E-FB969340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ED73-E2E9-4BE8-BF1A-1F47BA9D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16A04-0B22-45EB-893A-B2DFA77A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F20C-254C-45B4-8AC9-22C8B358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4E20-0730-463C-A7C4-54FF3C7A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D8FD5-7F80-4357-86E9-DE632C74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C9A9-37F0-4B7B-B2C4-5F2E011A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7CAAA-B8E9-4EB9-9521-C2BC3C99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9EE3C-004B-425F-930D-BE879D8F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51CF1-3F51-4F9C-A936-FC889793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05C3-27F6-401E-B211-910A9E00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686-33B0-43EE-95EB-EDAA7327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C21D6-2C13-45DD-A0D5-99F666B9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0D211-CE85-4DEB-A2F7-360E1A10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0BBF6-C698-4313-9060-BC00FB72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84ADE-EF14-4CD4-BFE3-79A86737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5BD2F-0833-46B5-99E5-E1A59567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E8956-9DFA-4AF0-9E7E-B8910CE6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415CC-C1F3-4BD2-A892-93918251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4168A-3081-4BBC-9B83-EE02D085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30CA2-58CF-4EC8-B2A1-16F50241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4A6E3-BEDF-4AA3-A894-A55CDECA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217-4386-4685-B1E6-6216E607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4220F-64A6-4EA7-93C1-57394D55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58D5E-A7C3-49BF-9F5D-BD429B54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E71F1-5065-42E9-90B5-36DEFE7D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3C430-2F8E-4E68-8FC5-5106810E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79680-C6DA-4D6F-8EB7-671D1285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06832-D07C-4CD0-8F0B-FECA44F0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51520-82DF-4A58-A1C3-582C2928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73C38-4D21-4C3F-AF74-E538E2E6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32FD8-7E03-406B-8ACC-4CB1ACF6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A6070-4F1A-4CB4-B4B2-1F85CC7C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ACB-2B80-4703-ABC1-2033A21F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09352-BB8A-4042-B2A2-2B04ED10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C56-3184-447F-96FF-1AFDE48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28F-AF91-4E22-9C09-227861B9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D0C-81D1-415B-8669-74A1904D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DDEF-F29A-45C1-AB59-3768AFE80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56C7-E390-4328-9EB2-A222125C7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A620-3DBF-4076-B75E-3593DA5B1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-86760" y="-93600"/>
            <a:ext cx="2772360" cy="6950160"/>
            <a:chOff x="-86760" y="-93600"/>
            <a:chExt cx="2772360" cy="6950160"/>
          </a:xfrm>
        </p:grpSpPr>
        <p:sp>
          <p:nvSpPr>
            <p:cNvPr id="124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7680" y="3922200"/>
              <a:ext cx="889200" cy="720360"/>
              <a:chOff x="67680" y="3922200"/>
              <a:chExt cx="889200" cy="720360"/>
            </a:xfrm>
          </p:grpSpPr>
          <p:sp>
            <p:nvSpPr>
              <p:cNvPr id="126" name=""/>
              <p:cNvSpPr/>
              <p:nvPr/>
            </p:nvSpPr>
            <p:spPr>
              <a:xfrm flipH="1" rot="14965200">
                <a:off x="117000" y="394344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rot="14965200">
                <a:off x="276840" y="431100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rot="14965200">
                <a:off x="63036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-1080" y="2601000"/>
              <a:ext cx="2686680" cy="3117600"/>
              <a:chOff x="-1080" y="2601000"/>
              <a:chExt cx="2686680" cy="3117600"/>
            </a:xfrm>
          </p:grpSpPr>
          <p:sp>
            <p:nvSpPr>
              <p:cNvPr id="131" name=""/>
              <p:cNvSpPr/>
              <p:nvPr/>
            </p:nvSpPr>
            <p:spPr>
              <a:xfrm flipH="1" rot="789600">
                <a:off x="386640" y="2698560"/>
                <a:ext cx="97560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789600">
                <a:off x="35748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rot="789600">
                <a:off x="80820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852120" y="4055400"/>
                <a:ext cx="1833480" cy="1663200"/>
                <a:chOff x="852120" y="4055400"/>
                <a:chExt cx="1833480" cy="1663200"/>
              </a:xfrm>
            </p:grpSpPr>
            <p:sp>
              <p:nvSpPr>
                <p:cNvPr id="137" name=""/>
                <p:cNvSpPr/>
                <p:nvPr/>
              </p:nvSpPr>
              <p:spPr>
                <a:xfrm flipH="1" rot="7102800">
                  <a:off x="1261440" y="3945240"/>
                  <a:ext cx="474480" cy="12146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 rot="7102800">
                  <a:off x="250236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468000" y="6174000"/>
              <a:ext cx="790200" cy="634680"/>
              <a:chOff x="468000" y="6174000"/>
              <a:chExt cx="790200" cy="634680"/>
            </a:xfrm>
          </p:grpSpPr>
          <p:sp>
            <p:nvSpPr>
              <p:cNvPr id="141" name=""/>
              <p:cNvSpPr/>
              <p:nvPr/>
            </p:nvSpPr>
            <p:spPr>
              <a:xfrm rot="6248400">
                <a:off x="1012680" y="617436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6248400">
                <a:off x="76068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6248400">
                <a:off x="38664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45" name=""/>
              <p:cNvSpPr/>
              <p:nvPr/>
            </p:nvSpPr>
            <p:spPr>
              <a:xfrm rot="5002800">
                <a:off x="838800" y="1747080"/>
                <a:ext cx="20736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002800">
                <a:off x="69264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5002800">
                <a:off x="216360" y="2205720"/>
                <a:ext cx="36936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293840" y="0"/>
              <a:ext cx="546840" cy="581400"/>
              <a:chOff x="1293840" y="0"/>
              <a:chExt cx="546840" cy="581400"/>
            </a:xfrm>
          </p:grpSpPr>
          <p:sp>
            <p:nvSpPr>
              <p:cNvPr id="149" name="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43680" y="103320"/>
                <a:ext cx="29700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8392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4C24-3F55-4387-BD3D-ABAEDB7B7D7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08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209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4138920" y="1037520"/>
              <a:ext cx="1017360" cy="1262520"/>
              <a:chOff x="4138920" y="1037520"/>
              <a:chExt cx="1017360" cy="1262520"/>
            </a:xfrm>
          </p:grpSpPr>
          <p:sp>
            <p:nvSpPr>
              <p:cNvPr id="223" name=""/>
              <p:cNvSpPr/>
              <p:nvPr/>
            </p:nvSpPr>
            <p:spPr>
              <a:xfrm rot="3220200">
                <a:off x="4554720" y="107568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220200">
                <a:off x="4638600" y="1608840"/>
                <a:ext cx="48996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220200">
                <a:off x="4099320" y="1966320"/>
                <a:ext cx="51048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643360" y="297360"/>
              <a:ext cx="889560" cy="832680"/>
              <a:chOff x="5643360" y="297360"/>
              <a:chExt cx="889560" cy="832680"/>
            </a:xfrm>
          </p:grpSpPr>
          <p:sp>
            <p:nvSpPr>
              <p:cNvPr id="227" name=""/>
              <p:cNvSpPr/>
              <p:nvPr/>
            </p:nvSpPr>
            <p:spPr>
              <a:xfrm rot="14908200">
                <a:off x="5754600" y="79956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4908200">
                <a:off x="5704920" y="47880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4908200">
                <a:off x="6243480" y="39708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231" name="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58920" y="431640"/>
              <a:ext cx="1692360" cy="1148040"/>
              <a:chOff x="358920" y="431640"/>
              <a:chExt cx="1692360" cy="1148040"/>
            </a:xfrm>
          </p:grpSpPr>
          <p:sp>
            <p:nvSpPr>
              <p:cNvPr id="235" name=""/>
              <p:cNvSpPr/>
              <p:nvPr/>
            </p:nvSpPr>
            <p:spPr>
              <a:xfrm flipH="1" rot="4107000">
                <a:off x="1559520" y="1050120"/>
                <a:ext cx="35748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4107000">
                <a:off x="1005480" y="57528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rot="4107000">
                <a:off x="261720" y="109080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239" name="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B82E-856F-41CF-B4D8-BBB26A3824B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307,17,&#24187;&#28783;&#29255; 17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24720" y="5877000"/>
            <a:ext cx="1152720" cy="576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3749760" cy="4969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4643280" y="333360"/>
            <a:ext cx="4232520" cy="47592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995640" y="5373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99"/>
                </a:solidFill>
                <a:latin typeface="Arial"/>
                <a:ea typeface="方正姚体"/>
              </a:rPr>
              <a:t>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58920" y="3602160"/>
            <a:ext cx="6840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  <a:ea typeface="华文新魏"/>
              </a:rPr>
              <a:t>你知道多少有关“鼎”的成语或典故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050920" y="132552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官员，庞大军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116000" y="549360"/>
            <a:ext cx="134460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商朝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79" name=""/>
          <p:cNvSpPr/>
          <p:nvPr/>
        </p:nvSpPr>
        <p:spPr>
          <a:xfrm>
            <a:off x="633960" y="1336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33960" y="2705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0880" y="414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80520" y="4149720"/>
            <a:ext cx="32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甲骨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国有文字可考的历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50920" y="2565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农业、畜牧业有了更大的发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青铜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创造了光辉灿烂的青铜文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03280" y="162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0328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24400" y="404640"/>
            <a:ext cx="58752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当时世界上最大的国家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rcRect l="11663" t="8893" r="8334" b="7783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179280" y="5229360"/>
            <a:ext cx="7796160" cy="14335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2435400" y="1197000"/>
            <a:ext cx="141588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348000" y="404640"/>
            <a:ext cx="3884760" cy="52768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403280" y="333360"/>
            <a:ext cx="12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商纣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59280" y="5877000"/>
            <a:ext cx="464328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《封神演义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7667640" y="333360"/>
            <a:ext cx="115236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854800" y="4513320"/>
            <a:ext cx="29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建筑业：建筑物上开始使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03280" y="3213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手工业：分工较细，原始瓷器制作比较普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80960" y="3860640"/>
            <a:ext cx="39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农业：农作物品种增多，已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工灌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6040" y="1557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16040" y="3137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32480" y="15764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强了专制统治，实行分封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564000" y="549360"/>
            <a:ext cx="134460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西周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596360" y="5661000"/>
            <a:ext cx="115236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7991640" y="6281640"/>
            <a:ext cx="115236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11280" y="1484280"/>
            <a:ext cx="7345440" cy="41767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1280" y="2060640"/>
            <a:ext cx="73454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2708280"/>
            <a:ext cx="73454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1280" y="3500280"/>
            <a:ext cx="73454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4437000"/>
            <a:ext cx="73454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132000" y="1484280"/>
            <a:ext cx="0" cy="4176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84720" y="1484280"/>
            <a:ext cx="0" cy="4176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0760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重要年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8440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重要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148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重要人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53640" y="2298600"/>
            <a:ext cx="16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约公元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7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732720" y="23288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53640" y="2924280"/>
            <a:ext cx="16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约公元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25800" y="2990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</a:rPr>
              <a:t>商王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26080" y="369108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</a:rPr>
              <a:t>公元前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1046</a:t>
            </a:r>
            <a:r>
              <a:rPr b="1" lang="zh-CN" sz="2400" spc="-1" strike="noStrike">
                <a:solidFill>
                  <a:srgbClr val="111111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95200" y="3743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周武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78560" y="4530600"/>
            <a:ext cx="13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公元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7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30480" y="4483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</a:rPr>
              <a:t>周幽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93480" y="2263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</a:rPr>
              <a:t>夏朝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06920" y="2924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汤灭夏，商朝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84640" y="3638520"/>
            <a:ext cx="28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牧野之战，商朝灭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西周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59360" y="45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西周灭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5013360"/>
            <a:ext cx="7345440" cy="1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03680" y="508464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</a:rPr>
              <a:t>公元前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770</a:t>
            </a:r>
            <a:r>
              <a:rPr b="1" lang="zh-CN" sz="2400" spc="-1" strike="noStrike">
                <a:solidFill>
                  <a:srgbClr val="111111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75960" y="51195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平王迁都洛邑，建立东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2960" y="51195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周平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476280"/>
            <a:ext cx="27352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总结：填一填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5640" y="26964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Arial"/>
                <a:ea typeface="华文行楷"/>
              </a:rPr>
              <a:t>推算公元纪年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79640" y="3573360"/>
            <a:ext cx="640872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公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00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世纪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代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3840" y="2276640"/>
            <a:ext cx="864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076720" y="1844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0" y="90792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元元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482920" y="1844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378560" y="1844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81840" y="13399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692360" y="98100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元前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7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675640" y="1989000"/>
            <a:ext cx="360360" cy="2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8675280" y="2276640"/>
            <a:ext cx="360360" cy="288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4752720" y="80280"/>
            <a:ext cx="360360" cy="4897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7440 h 4897440"/>
              <a:gd name="textAreaBottom" fmla="*/ 4770000 h 48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492360" y="2565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(2070+2007-1)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059280" y="993600"/>
            <a:ext cx="3024000" cy="1284120"/>
            <a:chOff x="3059280" y="993600"/>
            <a:chExt cx="3024000" cy="1284120"/>
          </a:xfrm>
        </p:grpSpPr>
        <p:sp>
          <p:nvSpPr>
            <p:cNvPr id="449" name=""/>
            <p:cNvSpPr/>
            <p:nvPr/>
          </p:nvSpPr>
          <p:spPr>
            <a:xfrm>
              <a:off x="3492360" y="1844640"/>
              <a:ext cx="0" cy="43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59280" y="993600"/>
              <a:ext cx="3024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公元前</a:t>
              </a:r>
              <a:br>
                <a:rPr sz="3200"/>
              </a:b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60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rot="16200000">
            <a:off x="2880360" y="1880280"/>
            <a:ext cx="71280" cy="115236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03280" y="2565360"/>
            <a:ext cx="31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(2070-1600)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00720" y="4365720"/>
            <a:ext cx="31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(+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716360" y="3641760"/>
            <a:ext cx="31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世纪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-85680"/>
            <a:ext cx="9325080" cy="6970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4000" y="1988640"/>
            <a:ext cx="8064360" cy="11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华文新魏"/>
                <a:ea typeface="华文新魏"/>
              </a:rPr>
              <a:t>第</a:t>
            </a:r>
            <a:r>
              <a:rPr b="1" lang="en-US" sz="5400" spc="-1" strike="noStrike">
                <a:solidFill>
                  <a:srgbClr val="800080"/>
                </a:solidFill>
                <a:latin typeface="华文新魏"/>
                <a:ea typeface="华文新魏"/>
              </a:rPr>
              <a:t>5</a:t>
            </a:r>
            <a:r>
              <a:rPr b="1" lang="zh-CN" sz="5400" spc="-1" strike="noStrike">
                <a:solidFill>
                  <a:srgbClr val="800080"/>
                </a:solidFill>
                <a:latin typeface="华文新魏"/>
                <a:ea typeface="华文新魏"/>
              </a:rPr>
              <a:t>课  夏商西周的更迭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4140360" y="4365720"/>
            <a:ext cx="677880" cy="1208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342120" y="4437000"/>
            <a:ext cx="647640" cy="11541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1835280" y="4437000"/>
            <a:ext cx="6458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0" y="6093000"/>
            <a:ext cx="4514760" cy="720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187280" y="23328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考一考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9280" y="982800"/>
            <a:ext cx="936144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、完成以下表格，概括夏商西周更迭的历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、说一说夏商西周灭亡的原因</a:t>
            </a:r>
            <a:r>
              <a:rPr b="1" lang="en-US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给我们什么启示？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374920" cy="96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4" name=""/>
          <p:cNvGraphicFramePr/>
          <p:nvPr/>
        </p:nvGraphicFramePr>
        <p:xfrm>
          <a:off x="539640" y="2205000"/>
          <a:ext cx="8209080" cy="3963600"/>
        </p:xfrm>
        <a:graphic>
          <a:graphicData uri="http://schemas.openxmlformats.org/drawingml/2006/table">
            <a:tbl>
              <a:tblPr/>
              <a:tblGrid>
                <a:gridCol w="996840"/>
                <a:gridCol w="3035520"/>
                <a:gridCol w="1439640"/>
                <a:gridCol w="1295640"/>
                <a:gridCol w="1441440"/>
              </a:tblGrid>
              <a:tr h="1103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国家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建立时间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建立者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都城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末代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君主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周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1547640" y="3500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约公元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7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　禹　   阳城　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47640" y="443700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约公元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　 汤　   亳　    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47640" y="526572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元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4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　　武王   镐京　  幽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 rot="5400000">
            <a:off x="4296600" y="2766960"/>
            <a:ext cx="659772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ffff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文鼎中特广告体"/>
              </a:rPr>
              <a:t>畅游历史长河</a:t>
            </a:r>
            <a:endParaRPr b="0" lang="en-US" sz="1800" spc="-1" strike="noStrike">
              <a:ln w="9360">
                <a:solidFill>
                  <a:srgbClr val="0033cc"/>
                </a:solidFill>
                <a:miter/>
              </a:ln>
              <a:solidFill>
                <a:srgbClr val="ffff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文鼎中特广告体"/>
              <a:ea typeface="文鼎中特广告体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195640" y="-963720"/>
            <a:ext cx="1152360" cy="895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708360" y="1413000"/>
            <a:ext cx="287280" cy="3603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3640" y="4221000"/>
            <a:ext cx="287280" cy="2890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11640" y="6381720"/>
            <a:ext cx="287280" cy="287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88000" y="6381720"/>
            <a:ext cx="287640" cy="28908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99200" y="450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11111"/>
                </a:solidFill>
                <a:latin typeface="Times New Roman"/>
              </a:rPr>
              <a:t>（殷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0.06659 C -0.00173 0.07329 -0.00833 0.0904 -0.01284 0.09618 C -0.0151 0.10589 -0.01962 0.1119 -0.02396 0.11953 C -0.02673 0.12439 -0.03177 0.13433 -0.03177 0.13433 C -0.03316 0.1415 -0.03489 0.1482 -0.03663 0.15537 C -0.03854 0.17595 -0.03871 0.19907 -0.02708 0.21456 C -0.02309 0.23144 -0.02916 0.21225 -0.02066 0.22312 C -0.01805 0.22635 -0.0184 0.2326 -0.01597 0.23583 C -0.01302 0.23976 -0.00955 0.243 -0.00642 0.24647 C -0.00382 0.24948 -0.00156 0.25271 0.00157 0.25479 C 0.00452 0.25664 0.01111 0.25896 0.01111 0.25896 C 0.01806 0.26867 0.00955 0.25826 0.02049 0.26543 C 0.02188 0.26635 0.0224 0.26867 0.02379 0.26959 C 0.02795 0.27283 0.03316 0.27098 0.03646 0.27606 E">
                                      <p:cBhvr>
                                        <p:cTn id="45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47 0.27607 C 0.03855 0.28023 0.04063 0.28462 0.04272 0.28879 C 0.04376 0.29087 0.04584 0.29503 0.04584 0.29503 C 0.04376 0.31214 0.04532 0.30358 0.04115 0.32046 C 0.04063 0.32277 0.03786 0.323 0.03647 0.32462 C 0.03195 0.32948 0.03022 0.33503 0.02536 0.33942 C 0.02431 0.3415 0.02293 0.34358 0.02206 0.3459 C 0.02136 0.34774 0.02136 0.35029 0.02049 0.35214 C 0.0198 0.35399 0.01824 0.35491 0.01737 0.35653 C 0.01615 0.35861 0.01511 0.36046 0.01424 0.36277 C 0.01355 0.36485 0.01372 0.3674 0.01251 0.36902 C 0.01129 0.37064 0.00938 0.37064 0.00782 0.37133 C 0.00522 0.38173 -0.00034 0.38613 -0.00641 0.39237 C -0.01719 0.4037 -0.02309 0.4222 -0.03663 0.42821 C -0.04028 0.43329 -0.0434 0.43699 -0.04774 0.44092 C -0.05452 0.45503 -0.04653 0.44139 -0.05573 0.44948 C -0.06771 0.45988 -0.05365 0.45272 -0.06528 0.4578 C -0.06875 0.46266 -0.07292 0.4659 -0.07639 0.47052 C -0.08715 0.48485 -0.07066 0.46312 -0.08264 0.48116 C -0.08507 0.48485 -0.09063 0.49179 -0.09063 0.49179 C -0.09323 0.50243 -0.09531 0.51237 -0.09688 0.52347 C -0.09618 0.55075 -0.10521 0.60786 -0.07639 0.62058 C -0.0724 0.6259 -0.07465 0.62497 -0.06997 0.62497 E">
                                      <p:cBhvr>
                                        <p:cTn id="4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97 0.62497 C -0.06737 0.63537 -0.06042 0.64462 -0.05261 0.64809 C -0.05157 0.65017 -0.05105 0.65295 -0.04949 0.65456 C -0.0481 0.65595 -0.04619 0.65572 -0.04463 0.65665 C -0.03577 0.66243 -0.04376 0.65873 -0.03664 0.66497 C -0.0323 0.66867 -0.02709 0.67098 -0.0224 0.67352 C -0.0165 0.68139 -0.01407 0.68046 -0.00659 0.68416 C 0.0007 0.69341 0.00955 0.69711 0.01719 0.7052 C 0.02136 0.70959 0.03004 0.71792 0.03004 0.71792 C 0.03438 0.7267 0.03924 0.73526 0.04584 0.74104 C 0.04861 0.75237 0.05504 0.76069 0.06007 0.77063 C 0.06111 0.77272 0.06337 0.77711 0.06337 0.77711 C 0.06771 0.79445 0.06163 0.77318 0.06806 0.78774 C 0.06893 0.78959 0.06875 0.79214 0.06962 0.79399 C 0.07153 0.79838 0.07604 0.8067 0.07604 0.8067 C 0.07882 0.8178 0.07674 0.8111 0.08386 0.82566 C 0.08594 0.83329 0.08959 0.8393 0.09184 0.84693 C 0.09531 0.85873 0.09497 0.85988 0.0967 0.87214 C 0.09497 0.8948 0.09358 0.90381 0.08716 0.923 C 0.08577 0.92717 0.08577 0.93202 0.08386 0.93572 C 0.08177 0.93988 0.07761 0.94821 0.07761 0.94821 C 0.07222 0.97017 0.05243 0.97896 0.04115 0.99491 C 0.04063 0.99699 0.04045 0.99954 0.03941 1.00115 C 0.0382 1.003 0.03577 1.00324 0.03472 1.00532 C 0.02344 1.02959 0.0375 1.01063 0.0283 1.02219 C 0.02778 1.02428 0.02778 1.02682 0.02674 1.02867 C 0.02552 1.03075 0.02309 1.03075 0.02205 1.03283 C 0.02031 1.03653 0.02136 1.04254 0.01893 1.04555 C 0.01042 1.05641 0.0066 1.07329 0.00295 1.08786 C 0.00209 1.0911 -0.00173 1.09803 -0.00173 1.10058 E">
                                      <p:cBhvr>
                                        <p:cTn id="53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55640" y="191628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9640" y="40464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夏、商、西周三代的灭亡有何相似之处？从中我们能得到什么启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2411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相似之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32846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启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14080" y="24177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</a:rPr>
              <a:t>都因统治残暴而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327672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</a:rPr>
              <a:t>、统治者要勤政事，爱护百姓，政策应该符合人民心愿；用人就做到唯才是举，广纳谏言。</a:t>
            </a:r>
            <a:r>
              <a:rPr b="1" lang="en-US" sz="3200" spc="-1" strike="noStrike">
                <a:solidFill>
                  <a:srgbClr val="111111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</a:rPr>
              <a:t>、荒淫无度，暴虐成性的国君必将被人民所抛弃</a:t>
            </a:r>
            <a:r>
              <a:rPr b="1" lang="en-US" sz="3200" spc="-1" strike="noStrike">
                <a:solidFill>
                  <a:srgbClr val="111111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27240" y="5516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得道多助，失道寡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33960" y="126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3960" y="242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13080" y="13017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城堡和大型的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Arial"/>
                <a:ea typeface="楷体_GB2312"/>
                <a:hlinkClick r:id="rId1"/>
              </a:rPr>
              <a:t>宫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军队，刑法，监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2276640"/>
            <a:ext cx="69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业（农耕，石制，蚌制、骨制工具）；手工业（青铜器，陶器，地下水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0880" y="414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77000" y="422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刻画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124000" y="620640"/>
            <a:ext cx="12733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夏朝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1628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47640" y="2781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47640" y="450864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5013360"/>
            <a:ext cx="8496360" cy="5814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楷体_GB2312"/>
              </a:rPr>
              <a:t>夏朝的建立，标志着我国历史跨入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文明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楷体_GB2312"/>
              </a:rPr>
              <a:t>时代。</a:t>
            </a:r>
            <a:r>
              <a:rPr b="1" lang="en-US" sz="3200" spc="-1" strike="noStrike">
                <a:solidFill>
                  <a:srgbClr val="111111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楷体_GB2312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原始社会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楷体_GB2312"/>
              </a:rPr>
              <a:t>进入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奴隶社会</a:t>
            </a:r>
            <a:r>
              <a:rPr b="1" lang="en-US" sz="3200" spc="-1" strike="noStrike">
                <a:solidFill>
                  <a:srgbClr val="111111"/>
                </a:solidFill>
                <a:latin typeface="Arial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06960" y="404640"/>
            <a:ext cx="58752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国历史上第一个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742680" y="25034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楷体"/>
                <a:ea typeface="华文楷体"/>
              </a:rPr>
              <a:t>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905120" y="2971800"/>
            <a:ext cx="990360" cy="366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819520" y="2590920"/>
            <a:ext cx="100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楷体"/>
                <a:ea typeface="华文楷体"/>
              </a:rPr>
              <a:t>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114800" y="2940120"/>
            <a:ext cx="1112760" cy="41256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990720" y="3321000"/>
            <a:ext cx="4572000" cy="1295280"/>
            <a:chOff x="990720" y="3321000"/>
            <a:chExt cx="4572000" cy="1295280"/>
          </a:xfrm>
        </p:grpSpPr>
        <p:sp>
          <p:nvSpPr>
            <p:cNvPr id="341" name=""/>
            <p:cNvSpPr/>
            <p:nvPr/>
          </p:nvSpPr>
          <p:spPr>
            <a:xfrm>
              <a:off x="990720" y="3321000"/>
              <a:ext cx="0" cy="129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90720" y="4616280"/>
              <a:ext cx="4572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62720" y="3321000"/>
              <a:ext cx="0" cy="129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187280" y="364500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楷体"/>
                <a:ea typeface="华文楷体"/>
              </a:rPr>
              <a:t>禅让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2590920"/>
            <a:ext cx="84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楷体"/>
                <a:ea typeface="华文楷体"/>
              </a:rPr>
              <a:t>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562720" y="3321000"/>
            <a:ext cx="2438280" cy="1295280"/>
            <a:chOff x="5562720" y="3321000"/>
            <a:chExt cx="2438280" cy="1295280"/>
          </a:xfrm>
        </p:grpSpPr>
        <p:sp>
          <p:nvSpPr>
            <p:cNvPr id="347" name=""/>
            <p:cNvSpPr/>
            <p:nvPr/>
          </p:nvSpPr>
          <p:spPr>
            <a:xfrm>
              <a:off x="5562720" y="3321000"/>
              <a:ext cx="0" cy="129528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62720" y="4616280"/>
              <a:ext cx="2438280" cy="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1000" y="3321000"/>
              <a:ext cx="0" cy="129528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354720" y="2895480"/>
            <a:ext cx="1112760" cy="4129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467480" y="2514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ccff"/>
                </a:solidFill>
                <a:latin typeface="华文楷体"/>
                <a:ea typeface="华文楷体"/>
              </a:rPr>
              <a:t>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34120" y="38242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世袭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4360" y="692280"/>
            <a:ext cx="787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家天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 rot="19150200">
            <a:off x="6227640" y="1988640"/>
            <a:ext cx="1113120" cy="412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7308720" y="1484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ccff"/>
                </a:solidFill>
                <a:latin typeface="华文楷体"/>
                <a:ea typeface="华文楷体"/>
              </a:rPr>
              <a:t>伯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2280" y="5013360"/>
            <a:ext cx="88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黑体"/>
              </a:rPr>
              <a:t>王位世袭制代替了禅让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765000"/>
            <a:ext cx="302580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007720" y="845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世袭制与禅让制的区别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50920" y="1484280"/>
          <a:ext cx="8642160" cy="5184720"/>
        </p:xfrm>
        <a:graphic>
          <a:graphicData uri="http://schemas.openxmlformats.org/drawingml/2006/table">
            <a:tbl>
              <a:tblPr/>
              <a:tblGrid>
                <a:gridCol w="1584000"/>
                <a:gridCol w="1584360"/>
                <a:gridCol w="1439640"/>
                <a:gridCol w="2160720"/>
                <a:gridCol w="187344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制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内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开始人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产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方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时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禅让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王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世袭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5056200" y="473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7984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1656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28520" y="4476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28520" y="3036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64000" y="314172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民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推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32360" y="4581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父死子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兄终弟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80360" y="465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07280" y="288612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63640" y="303696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部落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盟首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08000" y="44766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王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280" y="548640"/>
            <a:ext cx="1708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夏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08000" y="73080"/>
            <a:ext cx="4054320" cy="666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74" name=""/>
          <p:cNvSpPr/>
          <p:nvPr/>
        </p:nvSpPr>
        <p:spPr>
          <a:xfrm>
            <a:off x="4356000" y="1047600"/>
            <a:ext cx="4608720" cy="131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华文隶书"/>
              </a:rPr>
              <a:t>“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隶书"/>
              </a:rPr>
              <a:t>桀不务德而武伤百姓，百姓弗堪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华文隶书"/>
              </a:rPr>
              <a:t>—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隶书"/>
              </a:rPr>
              <a:t>《史记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华文隶书"/>
              </a:rPr>
              <a:t>·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隶书"/>
              </a:rPr>
              <a:t>夏本纪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56000" y="4076640"/>
            <a:ext cx="460872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华文隶书"/>
              </a:rPr>
              <a:t>“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隶书"/>
              </a:rPr>
              <a:t>时日曷丧，予及汝皆亡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7740720" y="6093000"/>
            <a:ext cx="1152360" cy="57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0:52:19Z</dcterms:created>
  <dc:creator>王邱丽</dc:creator>
  <dc:description/>
  <dc:language>en-US</dc:language>
  <cp:lastModifiedBy>微软用户</cp:lastModifiedBy>
  <dcterms:modified xsi:type="dcterms:W3CDTF">2015-09-02T06:44:43Z</dcterms:modified>
  <cp:revision>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