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3.jpeg" ContentType="image/jpeg"/>
  <Override PartName="/ppt/media/image34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  <p:sldId id="278" r:id="rId46"/>
    <p:sldId id="279" r:id="rId47"/>
    <p:sldId id="280" r:id="rId48"/>
    <p:sldId id="281" r:id="rId49"/>
    <p:sldId id="282" r:id="rId50"/>
    <p:sldId id="283" r:id="rId51"/>
    <p:sldId id="284" r:id="rId52"/>
    <p:sldId id="285" r:id="rId53"/>
    <p:sldId id="286" r:id="rId54"/>
    <p:sldId id="287" r:id="rId55"/>
    <p:sldId id="288" r:id="rId56"/>
    <p:sldId id="289" r:id="rId57"/>
    <p:sldId id="290" r:id="rId58"/>
    <p:sldId id="291" r:id="rId59"/>
    <p:sldId id="292" r:id="rId60"/>
    <p:sldId id="293" r:id="rId61"/>
    <p:sldId id="294" r:id="rId62"/>
    <p:sldId id="29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slide" Target="slides/slide23.xml"/><Relationship Id="rId47" Type="http://schemas.openxmlformats.org/officeDocument/2006/relationships/slide" Target="slides/slide24.xml"/><Relationship Id="rId48" Type="http://schemas.openxmlformats.org/officeDocument/2006/relationships/slide" Target="slides/slide25.xml"/><Relationship Id="rId49" Type="http://schemas.openxmlformats.org/officeDocument/2006/relationships/slide" Target="slides/slide26.xml"/><Relationship Id="rId50" Type="http://schemas.openxmlformats.org/officeDocument/2006/relationships/slide" Target="slides/slide27.xml"/><Relationship Id="rId51" Type="http://schemas.openxmlformats.org/officeDocument/2006/relationships/slide" Target="slides/slide28.xml"/><Relationship Id="rId52" Type="http://schemas.openxmlformats.org/officeDocument/2006/relationships/slide" Target="slides/slide29.xml"/><Relationship Id="rId53" Type="http://schemas.openxmlformats.org/officeDocument/2006/relationships/slide" Target="slides/slide30.xml"/><Relationship Id="rId54" Type="http://schemas.openxmlformats.org/officeDocument/2006/relationships/slide" Target="slides/slide31.xml"/><Relationship Id="rId55" Type="http://schemas.openxmlformats.org/officeDocument/2006/relationships/slide" Target="slides/slide32.xml"/><Relationship Id="rId56" Type="http://schemas.openxmlformats.org/officeDocument/2006/relationships/slide" Target="slides/slide33.xml"/><Relationship Id="rId57" Type="http://schemas.openxmlformats.org/officeDocument/2006/relationships/slide" Target="slides/slide34.xml"/><Relationship Id="rId58" Type="http://schemas.openxmlformats.org/officeDocument/2006/relationships/slide" Target="slides/slide35.xml"/><Relationship Id="rId59" Type="http://schemas.openxmlformats.org/officeDocument/2006/relationships/slide" Target="slides/slide36.xml"/><Relationship Id="rId60" Type="http://schemas.openxmlformats.org/officeDocument/2006/relationships/slide" Target="slides/slide37.xml"/><Relationship Id="rId61" Type="http://schemas.openxmlformats.org/officeDocument/2006/relationships/slide" Target="slides/slide38.xml"/><Relationship Id="rId62" Type="http://schemas.openxmlformats.org/officeDocument/2006/relationships/slide" Target="slides/slide39.xml"/><Relationship Id="rId63" Type="http://schemas.openxmlformats.org/officeDocument/2006/relationships/slide" Target="slides/slide4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8EB-5576-4D65-A856-29745D21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F6E-0166-49A3-9B13-EFFF81DB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399D3-1077-4DC8-99F4-201788FA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EDDA0-3FC0-4D23-A3CA-5184184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C7EDD-5C28-417C-8582-337B84A1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05C07-4CAA-4CA6-8135-1899FC84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0A6F1-1580-4803-803B-65E1CAF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D1354-358A-4711-BC88-5D671E3F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55893-B77E-419C-8B5C-B5421EC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F43F1-F1B9-4553-8C5F-5A1245BA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31908-B0C7-465D-A88A-A8C55D10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F6142-7024-469D-A380-7A946B64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5E2-B86A-4ABF-8A6A-8FF4F0B5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D6E4F-9D90-4056-9ABD-02AFF3AE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3EF7E-AFEC-4A02-9B24-20CAFC27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79248-FDF5-4033-8C29-4F4CF46D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4F809-D1B8-4CB3-B4A6-F09AD0DB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C801A-90E1-422B-B7B8-7164731E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CF888-594D-45C1-A9E4-C10C823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4945B-BA30-4AAF-9673-D838E552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9F350-0BFD-4FFF-9421-DE74ACF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3402C-C308-49AB-A72C-8BDAAF6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9C36B-591F-4DD5-8FE1-8B8CA1FF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A55-93A6-4EF6-9A9A-51F153AF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57F55-739E-4D28-85F1-C3310B0E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5AB0C-E38B-4AFE-8F19-EC468FF2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9EE0-3F8C-4041-BCF8-D1A9A06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C1756-DD7B-47B6-AA98-3CEF028D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141A9-C8FF-4003-BE24-2BFC665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BD29E-8397-445B-95AE-24B54C9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9E3ED-9271-48FA-AA55-F8A916A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2AEE3-DD5E-4DC6-95B1-DDFAD4C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C7C0D-2236-459B-92B2-ECFDEE8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10A46-0D5C-4701-92E0-A01D7D85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7305-79CB-4CBA-96C4-5C0D8B14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631BC-16B2-408F-B430-38048E0A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05D3B-63E4-46A8-B0CF-21CC2836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A3D0-B8CE-4B62-A14A-C3F9A8DB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85510-2A37-4C3E-9CFF-02EB269B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DF1C1-791E-4E11-9773-CD3E078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1F3DF-A05A-4C11-ACBF-7B4E53A0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5D045-361C-4652-8368-8CB365B9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3BB0C-1015-40FB-9C77-CA30A320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6E7BD-1722-4863-ABA7-0A335CFF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ABB5A-057D-482C-9770-FD416896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A007-4977-4377-9A00-401FBC8D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3CBE8-44E8-489E-A2DD-119C6BF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80F4F-D0CB-4A4B-A32F-BC4EB8A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D9CEF-1A80-47E7-B090-7E38102E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AFE77-6590-469C-901E-F8C0DCB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1E268-6734-4D3C-A3BE-EA40810D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CC7A1-E6EA-4C38-875B-7CF49250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927DB-25B5-4D6B-B711-BF0F5BC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3CEE08-36CD-4FB3-BC15-82582A86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8966C-0C21-4B02-A889-030CB135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FD2E8-DFE4-4F0F-9744-C88849F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C0A4-EF7E-4900-9339-8509AA60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4B497-C8FA-441B-B549-85B1BA4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D206D-3C76-492F-9318-BCB0DB7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38F01-A55A-4EBE-A248-6CD61B94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0325A-F535-41CE-892A-C374F732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A1B7E-229A-4EDC-95E3-08118B23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AA3B0-D1B3-403C-85B8-F26232F4A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69CDC-354D-4288-83B2-FFF7C394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ADF8D-4F15-44FC-AAF2-1918B1E4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623F4-4429-46C9-9385-FD54E8F3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1C606-A38E-47CD-8B4A-02E35EA8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A6A-2CED-4160-99FD-F64FA67B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469C98-F2CB-402C-9855-466E0F21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78134-628A-4CFC-B635-8F33C09E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F978D-FFE4-4AC5-B7C6-9C850DAD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97316-1AF7-4099-A5DB-24689FC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2CDC0-B779-4640-BC0F-5F2C1887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2705C-E716-44EF-A464-B2ACE98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BC602-B2FD-4885-8A09-2DF78371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C4EEB9-6327-4FE1-9997-BCE87D6F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AB64A-09A4-4134-862F-04CE47CD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7E3A2-708F-4439-9D31-A3654DB5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04A2-4AD0-4E22-966C-4977BAFA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7CE5D-70D8-481D-B980-2EA1466C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0C9B2-D225-4D40-822A-43B0B85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1CF11-A6BF-4BDC-A9B3-0FA1BCCE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40CC6-3C88-476C-9A70-67FB41BD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CB0DC6-23D8-4CE3-928C-B13C23A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62FE5-CAFC-412A-A826-026C47F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5E4B0-554F-4BAD-AA56-E05C42B5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A80F2-A517-41CD-BC6F-EF87E400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E975A-75F6-48CA-8BBC-AE2E84D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9E4D9-6AC4-44AC-AEB1-6F3424BB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919-A677-4E01-BCFF-C5BEAE65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6385BC-308F-4761-81B0-D36070DD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DE007A-0B43-43E2-91B8-126583ED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2A3E0-FA84-4CB6-A444-CB7ED3A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2ABFF-DD1F-435A-99DF-E52956F0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208A01-8275-409F-BDDB-2EE1E5A3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8201DE-CF8C-4B68-9B95-69D16912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F33BA-E0ED-4053-A3E4-583B899E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E758E-A968-4459-A02C-EBB21BC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DBBE96-8B38-4498-8661-1A71EEEF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0F523-E4B5-439C-A3EB-B040030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8F8D-B827-4A43-B538-27740E8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B5489-15AA-495C-BFBF-38B4EE49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BFF1B-B369-4C75-B73A-7A092B3D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8196C-923D-4C26-BB1B-3DAAD14E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7BC00-72BA-48BB-B9A3-CC9899E9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4806D-4B38-4C72-BAEB-A9DE990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A0C46-D489-47F5-B308-12878046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F5F75D-2C30-42E0-A222-487D684E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C1E13-0CB6-4BAC-AE1C-4A67CF5E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FC64A-231B-4F8B-86DA-041B63F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BC394-5878-4477-A558-4D7D5A8F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36E-F740-4769-988A-B26D12F8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3F31-E2FF-4D92-8340-9E8CD19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E5AD1-67E8-444F-A422-77AA4591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B4EE62-66CC-46C2-8714-5180A36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A34C9-93B4-4AEE-A3D3-35D7669D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B533D-EB36-4713-998B-69202741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9DB07-C860-4E81-AAF4-14F9DF02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F4791-1D09-43F0-AE7B-A5D23FA4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1C690-B502-41B7-9880-8F8F67F8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5C675-9A89-4A64-A832-DCC058DE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3D338-C3BD-43AC-BA37-0980FAEC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A32E8-ECB8-41FD-88D3-80BE88F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A90-9C07-41F8-A251-B2B03A0B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855D2-A381-4847-8813-217DFE43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0BDC2-28A4-41CA-A9D0-DA491C26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B740D2-3F1C-4641-B7E5-8008B20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621B8-1E89-48BC-8B37-1C8394D2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965EE-855A-4C15-A3F8-7C38373A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89A2FC-ABE9-4850-8B53-68A939DE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02CA9-AA99-41A7-A334-294607B1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2AB25-572A-4066-BD4D-9A284762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4E3293-79C4-4A8D-9991-D685DF48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207C2B-97D8-4855-AE03-ED9C44CE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D85E-23BE-4C74-AAAE-B55889CA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3BAED-7982-425E-BEA9-5576843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5E88B5-C9F4-4625-BB24-10616AF5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66627-BCCD-462D-A27B-6382C81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556614-EC44-480B-A4CD-A0CA80DC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34A05-CD02-47B0-9D7A-0FF663AB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CA36E2-82D4-4F40-B735-FCA37BE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24ECC-3710-4272-894D-B6CE6866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34DD3-CB72-4CF4-ACD5-ADD6B113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E4615-61C0-4E64-B80C-72240DBB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4CA99-8245-4759-8562-673A47BB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0B72-9AF6-4A68-B317-C7DDEE50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AD966-8A91-4B2A-A1C0-4D51982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E42749-B716-4DA6-9B7B-C161D57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F565CB-016B-4410-BB7D-B9EDD535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5EEF6-21F6-4833-A532-DEB3FCF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C953B-4F25-441C-A593-22F8450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9DCE32-1014-4BE1-8FB9-CA6E6290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0AC4F-7339-498B-A292-0EB4112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C8DB6-D440-46F8-98D0-7A11088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AA4EA0-4992-4A3A-AA95-9666621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CB34F-551A-4B0F-A5E4-913828AF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3A44-7935-459F-91C3-8D9832C2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075439-C391-4810-8A4A-54FA5115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1A657B-2815-49EF-9158-B8E1A5B8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E83CE-358C-40C4-AAA7-968DE85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8283E-C49E-48BA-9279-F7803529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B6B58-6185-413F-B979-DBBFC4A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4D630-E722-4FDA-A6E0-FB1A634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B7B6C-2612-464B-BDDD-17D67BDB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03F2E-E120-4AA2-A014-C237800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244BF0-64A5-484E-AFF4-BC8BC03E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0C873-C2D6-4A56-861C-3C226FF4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086C3-CB68-4476-AEFD-CE001BA9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6FE6BB-89B0-41FC-A098-5732B88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D20D9C-06A7-4057-B9BA-F964B820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DCAA5A-0D52-472E-AD61-D9AFEFF6B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39C94-62BE-4249-AA39-2951C2E6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80ED-4B35-4157-A39D-71B3435B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E59E1-C2E6-4EBA-8CA6-8402D37C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707BC-1AAA-42AC-AC63-5A4796DF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5C4-2FAF-4BBA-A187-A8504C5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E429-27FF-48D9-9422-CDDAFFA2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4CB27-A86C-4D76-8F14-BD2313A2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32F5B-692E-4612-A126-47CC28AF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5419-392B-42B3-A41A-2C61AA12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C77B-FBB6-423D-A1DF-7E60A535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BBE5-7994-4916-BCA3-4F28CA0F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F598-9F88-4215-A649-6D32084A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2F2A-FC83-422C-91D3-19C3C70C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9F632-A1E7-4BC2-8118-2E180FBC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A916-22AC-470D-9075-6EAF9DDF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C099-9979-4357-9121-88274E62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5DCB-F306-4704-ACD6-5F2A5AAC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59B4-8CA2-42D8-9429-723F4E6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F88C1-9C87-41F2-9852-0B340409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E8FCF-BEC5-4B40-AB24-1B3C384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2D8DD-6985-4B10-AEFA-FF6EA67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61BDB-CA3A-4098-B6BC-E07C8654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0B3D8-2C42-4E67-91EE-E79CEE1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BB50-381A-452B-97CF-4EE96AE4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81B89-49F6-4618-B304-CF946112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F622-9EE4-43EA-A8A8-D0B823DB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2FE-B941-49E4-849E-08CC1AD7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A644B-6B69-407B-AD3D-C07B5983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9FFB8-855D-44CD-902A-70A4DE25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ED3A9-FEB2-4DF7-AF78-40391B95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D9AC-B6DF-408C-8DFE-9A5E8AB5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4B2F-6A40-4438-865D-70144CAA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D9B4C-FA5B-4372-BE83-94818131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BEFDB-02B2-4602-890E-C4E9AD84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88DAE-77CB-4A2D-84E6-14890B1E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2767-0DF3-408B-B593-13C2E42F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73F91-9EA7-41C3-BCCE-AFE85F41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17E-BEEB-43BA-AE19-3A454008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9F68-DA6F-492E-80A9-754C33EA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713DA-31E1-4FE4-A1D6-82D94264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F3132-19E2-411A-BE05-5D3722F5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00FF-E371-4B27-8859-2D0A9952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0A2F8-9F78-4A04-B9BC-109FD82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6A15C-F42F-414C-B691-4D902FC3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28FDB-B4F2-4C78-B4FE-FE025162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9104E-4B1F-4773-B7E1-FA3D529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E42C-BF3E-4034-B34C-98C32EE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F7A3-525B-4702-BA92-D9196D5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FAF-FD8A-4654-ABAE-B126B1B3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5C426-695E-4FC3-AB04-B4CD0CA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81135-F46D-4230-93EB-9D715851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229CF-C99C-4A4D-9ABC-DC1A30E8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50641-7ACB-460E-824D-EC5DDCDD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F474-8724-4798-8770-FCCCAF05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29660-305C-4745-9BE1-6EEDB3D5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B802-C87C-4A09-9287-632E8B21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4E65-9490-4BC5-9D43-4C4803B1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DA473-D32F-4BBC-8CF5-ABEE3FB5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40B66-C1F1-4BB7-879B-9121B088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D7A5-6B06-4236-A124-A2DD46AE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BFA1A-73C4-4C7C-9249-C828E50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7DA46-AF66-436C-AB63-25B660C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EC41-471E-4670-857A-33A6EACE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6C36D-FFAC-4006-A8EB-47A3E577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4B81F-0FBE-4B90-936D-0E9B8D36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EE826-DAF8-4EA4-9DBD-604E3DA2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6CC68-4518-4D40-AF35-86482E3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8F6B8-99B6-4963-947A-453A0C5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322AF-9E38-4A99-8963-984EA67C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4B13-7454-4552-88A8-AECA7444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6B4-6BB6-4E18-8CB0-937D716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A4292-B0F4-4FDB-9773-415E1E8C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367DF-A48C-44F9-8D1C-E94A5E1F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21B62-45D7-4367-96CE-DD86A67E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4A707-2E9D-46EB-A63B-7E5B6A7E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7F7B-ABEB-43DD-A780-9026CB6C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4B71-91F5-44BB-B855-6C978508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06CD8-E00B-4FFD-A9B9-D67489FD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FDB95-D16E-46FB-AEFB-969E8CC4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D9819-30CE-4B58-9217-9B0CE688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A0D41-EF3B-4C3F-B601-988B23BB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A514-BD10-4411-92E3-986E057AD3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D716-F79D-4075-B328-FD3CE8A55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-223920" y="666720"/>
            <a:ext cx="8683200" cy="6191280"/>
            <a:chOff x="-223920" y="666720"/>
            <a:chExt cx="8683200" cy="6191280"/>
          </a:xfrm>
        </p:grpSpPr>
        <p:sp>
          <p:nvSpPr>
            <p:cNvPr id="496" name=""/>
            <p:cNvSpPr/>
            <p:nvPr/>
          </p:nvSpPr>
          <p:spPr>
            <a:xfrm>
              <a:off x="689760" y="666720"/>
              <a:ext cx="776952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497" name="" descr=""/>
            <p:cNvPicPr/>
            <p:nvPr/>
          </p:nvPicPr>
          <p:blipFill>
            <a:blip r:embed="rId3"/>
            <a:stretch/>
          </p:blipFill>
          <p:spPr>
            <a:xfrm>
              <a:off x="232920" y="3733920"/>
              <a:ext cx="12484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" descr=""/>
            <p:cNvPicPr/>
            <p:nvPr/>
          </p:nvPicPr>
          <p:blipFill>
            <a:blip r:embed="rId4"/>
            <a:stretch/>
          </p:blipFill>
          <p:spPr>
            <a:xfrm>
              <a:off x="-223920" y="4916520"/>
              <a:ext cx="378072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4086-8097-43C9-9CFE-C0C2BE62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54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C15B-5E19-431A-B11A-B648D0281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1000-5D46-4608-AC99-27B807850A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59A8-EC2A-4D26-A761-759F19B896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C749-B80F-4878-9571-5EE395146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83F-E056-4756-A424-03D02C6E2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40FC-EFEB-4452-9EA4-0E523C0CA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33B-6B96-4F20-B6D9-B57833729AB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9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81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1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1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81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1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1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1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2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829" name="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83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831" name="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832" name="未知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3" name="未知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4" name="未知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5" name="未知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6" name="未知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7" name="未知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8" name="未知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39" name="未知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0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0CB-C447-4C83-9B30-C404E8205D0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83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8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7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0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1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892" name="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893" name="未知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897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0" name="未知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1" name="未知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02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623E-7061-4657-A7BA-9FDAB6D9FDA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0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941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524A-5476-4CEE-8BF5-64546F5911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988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4C3-83CD-4B1A-9FC2-DAFF5A9114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0206-B409-402E-BE42-80F35F38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8120" y="228600"/>
            <a:ext cx="8823240" cy="6095880"/>
            <a:chOff x="168120" y="228600"/>
            <a:chExt cx="8823240" cy="6095880"/>
          </a:xfrm>
        </p:grpSpPr>
        <p:sp>
          <p:nvSpPr>
            <p:cNvPr id="101" name=""/>
            <p:cNvSpPr/>
            <p:nvPr/>
          </p:nvSpPr>
          <p:spPr>
            <a:xfrm>
              <a:off x="168120" y="228600"/>
              <a:ext cx="882324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1760" y="1709640"/>
              <a:ext cx="769644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FB67-9B83-4134-9A97-FA11C8EC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DF69-ED41-48B3-A6C5-C3E0E1B50A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89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1D3A-790C-4F0B-8C19-F70417B687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262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5ABE-D092-4BEB-9560-57FB5EA1D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CC45-7766-4C2E-B173-D019789A4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7807-AD1D-4A86-A7BA-CD3C8DE7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0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7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3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"/>
          <p:cNvGrpSpPr/>
          <p:nvPr/>
        </p:nvGrpSpPr>
        <p:grpSpPr>
          <a:xfrm>
            <a:off x="971640" y="816840"/>
            <a:ext cx="7774200" cy="2264760"/>
            <a:chOff x="971640" y="816840"/>
            <a:chExt cx="7774200" cy="2264760"/>
          </a:xfrm>
        </p:grpSpPr>
        <p:sp>
          <p:nvSpPr>
            <p:cNvPr id="1073" name=""/>
            <p:cNvSpPr txBox="1"/>
            <p:nvPr/>
          </p:nvSpPr>
          <p:spPr>
            <a:xfrm rot="267000">
              <a:off x="2541600" y="1052280"/>
              <a:ext cx="6143760" cy="179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78000"/>
                      </a:srgbClr>
                    </a:outerShdw>
                  </a:effectLst>
                  <a:latin typeface="宋体"/>
                </a:rPr>
                <a:t>幸福是什么</a:t>
              </a:r>
              <a:endParaRPr b="1" lang="en-US" sz="9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971640" y="1261080"/>
              <a:ext cx="15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ff"/>
                  </a:solidFill>
                  <a:latin typeface="Verdana"/>
                </a:rPr>
                <a:t>10</a:t>
              </a:r>
              <a:endParaRPr b="0" lang="en-US" sz="7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0" y="404640"/>
            <a:ext cx="914400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讨论，回答：     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003366"/>
                </a:solidFill>
                <a:latin typeface="Arial"/>
                <a:ea typeface="楷体_GB2312"/>
              </a:rPr>
              <a:t>对于什么是幸福这个问题，你原来是怎么想的，现在又是怎么想的？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0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2556000" y="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ff"/>
                </a:solidFill>
                <a:latin typeface="Arial"/>
                <a:ea typeface="华文彩云"/>
              </a:rPr>
              <a:t>名人名言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0" y="1052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Arial"/>
              </a:rPr>
              <a:t>　　</a:t>
            </a:r>
            <a:r>
              <a:rPr b="0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最大的幸福在于我们的缺点得到纠正，和我们的错误得到补救。　　——歌德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0" y="4005360"/>
            <a:ext cx="889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0" y="3573360"/>
            <a:ext cx="9144000" cy="3287160"/>
            <a:chOff x="0" y="3573360"/>
            <a:chExt cx="9144000" cy="3287160"/>
          </a:xfrm>
        </p:grpSpPr>
        <p:sp>
          <p:nvSpPr>
            <p:cNvPr id="1127" name=""/>
            <p:cNvSpPr/>
            <p:nvPr/>
          </p:nvSpPr>
          <p:spPr>
            <a:xfrm>
              <a:off x="0" y="3573360"/>
              <a:ext cx="9144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66ff"/>
                  </a:solidFill>
                  <a:latin typeface="Arial"/>
                </a:rPr>
                <a:t>　</a:t>
              </a:r>
              <a:r>
                <a:rPr b="1" lang="zh-CN" sz="5400" spc="-1" strike="noStrike">
                  <a:solidFill>
                    <a:srgbClr val="3333cc"/>
                  </a:solidFill>
                  <a:latin typeface="Arial"/>
                  <a:ea typeface="隶书"/>
                </a:rPr>
                <a:t>只有向自己提出伟大的目标并以自己的全部力量为之奋斗的人，才是幸福人。　　　　　　　　　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3280" y="5943600"/>
              <a:ext cx="450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66ff"/>
                  </a:solidFill>
                  <a:latin typeface="Arial"/>
                </a:rPr>
                <a:t>——</a:t>
              </a:r>
              <a:r>
                <a:rPr b="1" lang="zh-CN" sz="5400" spc="-1" strike="noStrike">
                  <a:solidFill>
                    <a:srgbClr val="3333cc"/>
                  </a:solidFill>
                  <a:latin typeface="Arial"/>
                </a:rPr>
                <a:t>加里宁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3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7" dur="2000" fill="hold"/>
                                        <p:tgtEl>
                                          <p:spTgt spid="1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7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2411280" y="2637000"/>
            <a:ext cx="622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0" y="0"/>
            <a:ext cx="9144000" cy="3176280"/>
            <a:chOff x="0" y="0"/>
            <a:chExt cx="9144000" cy="3176280"/>
          </a:xfrm>
        </p:grpSpPr>
        <p:sp>
          <p:nvSpPr>
            <p:cNvPr id="1131" name=""/>
            <p:cNvSpPr/>
            <p:nvPr/>
          </p:nvSpPr>
          <p:spPr>
            <a:xfrm>
              <a:off x="0" y="0"/>
              <a:ext cx="9144000" cy="28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ff"/>
                  </a:solidFill>
                  <a:latin typeface="Arial"/>
                  <a:ea typeface="华文中宋"/>
                </a:rPr>
                <a:t>　　在学习中，在劳动中，在科学中，在为人民的忘我服务中，你可以找到自己的幸福</a:t>
              </a:r>
              <a:r>
                <a:rPr b="1" lang="zh-CN" sz="5400" spc="-1" strike="noStrike">
                  <a:solidFill>
                    <a:srgbClr val="9900ff"/>
                  </a:solidFill>
                  <a:latin typeface="Arial"/>
                  <a:ea typeface="华文中宋"/>
                </a:rPr>
                <a:t>。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9900ff"/>
                  </a:solidFill>
                  <a:latin typeface="Arial"/>
                  <a:ea typeface="华文中宋"/>
                </a:rPr>
                <a:t>　　　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35240" y="2351160"/>
              <a:ext cx="5703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9900ff"/>
                  </a:solidFill>
                  <a:latin typeface="Arial"/>
                </a:rPr>
                <a:t>——</a:t>
              </a:r>
              <a:r>
                <a:rPr b="1" lang="zh-CN" sz="4800" spc="-1" strike="noStrike">
                  <a:solidFill>
                    <a:srgbClr val="9900ff"/>
                  </a:solidFill>
                  <a:latin typeface="Arial"/>
                </a:rPr>
                <a:t>捷连斯基（苏）</a:t>
              </a:r>
              <a:endParaRPr b="0" lang="en-US" sz="4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0" y="3448080"/>
            <a:ext cx="9901080" cy="3411000"/>
            <a:chOff x="0" y="3448080"/>
            <a:chExt cx="9901080" cy="3411000"/>
          </a:xfrm>
        </p:grpSpPr>
        <p:sp>
          <p:nvSpPr>
            <p:cNvPr id="1134" name=""/>
            <p:cNvSpPr/>
            <p:nvPr/>
          </p:nvSpPr>
          <p:spPr>
            <a:xfrm>
              <a:off x="0" y="3448080"/>
              <a:ext cx="91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　　</a:t>
              </a:r>
              <a:r>
                <a:rPr b="1" lang="zh-CN" sz="4800" spc="-1" strike="noStrike">
                  <a:solidFill>
                    <a:srgbClr val="800080"/>
                  </a:solidFill>
                  <a:latin typeface="Arial"/>
                  <a:ea typeface="楷体_GB2312"/>
                </a:rPr>
                <a:t>如果我们不能建筑幸福的生活，我们就没有任何权利享受幸福，这正如没有创造财富无权享受财富一样。　　　　　　　</a:t>
              </a:r>
              <a:r>
                <a:rPr b="1" lang="zh-CN" sz="4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　　　　　　　　　</a:t>
              </a:r>
              <a:endParaRPr b="0" lang="en-US" sz="4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348000" y="6033960"/>
              <a:ext cx="6553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——</a:t>
              </a:r>
              <a:r>
                <a:rPr b="1" lang="zh-CN" sz="4800" spc="-1" strike="noStrike">
                  <a:solidFill>
                    <a:srgbClr val="003366"/>
                  </a:solidFill>
                  <a:latin typeface="Arial"/>
                  <a:ea typeface="楷体_GB2312"/>
                </a:rPr>
                <a:t>肖伯纳（英）</a:t>
              </a:r>
              <a:endParaRPr b="0" lang="en-US" sz="4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71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250" autoRev="1" fill="hold"/>
                                        <p:tgtEl>
                                          <p:spTgt spid="1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0" y="305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  <a:ea typeface="华文中宋"/>
              </a:rPr>
              <a:t>●</a:t>
            </a:r>
            <a:r>
              <a:rPr b="0" lang="zh-CN" sz="7200" spc="-1" strike="noStrike">
                <a:solidFill>
                  <a:srgbClr val="003366"/>
                </a:solidFill>
                <a:latin typeface="Arial"/>
                <a:ea typeface="华文中宋"/>
              </a:rPr>
              <a:t>奋斗者的幸福是从痛苦起步的，享乐者的痛苦是从“幸福”开始的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3300"/>
                </a:solidFill>
                <a:latin typeface="Arial"/>
                <a:ea typeface="隶书"/>
              </a:rPr>
              <a:t>民间名言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1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c1c1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0" y="23961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●</a:t>
            </a:r>
            <a:r>
              <a:rPr b="1" lang="zh-CN" sz="8000" spc="-1" strike="noStrike">
                <a:solidFill>
                  <a:srgbClr val="cc0066"/>
                </a:solidFill>
                <a:latin typeface="Arial"/>
                <a:ea typeface="仿宋_GB2312"/>
              </a:rPr>
              <a:t>谁把安逸当成幸福的花朵，那么等到结果时节，他只能望着空枝叹息。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afdb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0" y="0"/>
            <a:ext cx="91440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Arial"/>
              </a:rPr>
              <a:t>认读下列词语：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Arial"/>
              </a:rPr>
              <a:t>彼此     铁锹      树杈       泡沫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Arial"/>
              </a:rPr>
              <a:t>砌成     清澈      填满       诧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Arial"/>
              </a:rPr>
              <a:t>耕地     谦虚      有益       善良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33"/>
                </a:solidFill>
                <a:latin typeface="Arial"/>
              </a:rPr>
              <a:t>强健有力      勤勤恳恳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" descr=""/>
          <p:cNvPicPr/>
          <p:nvPr/>
        </p:nvPicPr>
        <p:blipFill>
          <a:blip r:embed="rId2">
            <a:lum contrast="60000"/>
          </a:blip>
          <a:stretch/>
        </p:blipFill>
        <p:spPr>
          <a:xfrm>
            <a:off x="5435640" y="2852640"/>
            <a:ext cx="1295280" cy="150336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2771640" y="2852640"/>
            <a:ext cx="1295640" cy="1513080"/>
          </a:xfrm>
          <a:prstGeom prst="rect">
            <a:avLst/>
          </a:prstGeom>
          <a:ln w="0">
            <a:noFill/>
          </a:ln>
        </p:spPr>
      </p:pic>
      <p:pic>
        <p:nvPicPr>
          <p:cNvPr id="1142" name="" descr="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4140360" y="2852640"/>
            <a:ext cx="1296720" cy="151128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 flipH="1">
            <a:off x="1835280" y="4365720"/>
            <a:ext cx="3240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59280" y="4365720"/>
            <a:ext cx="28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04292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西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7956720" y="3938760"/>
            <a:ext cx="6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东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4572000" y="4005000"/>
            <a:ext cx="431640" cy="1152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635280" y="4941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留在村子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4" dur="5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6" dur="5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611280" y="907920"/>
            <a:ext cx="7056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十年后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7924680" cy="56163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324000" y="40464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Verdana"/>
              </a:rPr>
              <a:t>再次相遇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"/>
          <p:cNvGrpSpPr/>
          <p:nvPr/>
        </p:nvGrpSpPr>
        <p:grpSpPr>
          <a:xfrm>
            <a:off x="250920" y="333360"/>
            <a:ext cx="2663640" cy="2879640"/>
            <a:chOff x="250920" y="333360"/>
            <a:chExt cx="2663640" cy="2879640"/>
          </a:xfrm>
        </p:grpSpPr>
        <p:pic>
          <p:nvPicPr>
            <p:cNvPr id="1153" name="" descr=""/>
            <p:cNvPicPr/>
            <p:nvPr/>
          </p:nvPicPr>
          <p:blipFill>
            <a:blip r:embed="rId1">
              <a:lum contrast="66000"/>
            </a:blip>
            <a:stretch/>
          </p:blipFill>
          <p:spPr>
            <a:xfrm>
              <a:off x="250920" y="333360"/>
              <a:ext cx="2663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 flipH="1">
              <a:off x="1329840" y="2349360"/>
              <a:ext cx="1080" cy="863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348000" y="333360"/>
            <a:ext cx="2592360" cy="2751120"/>
            <a:chOff x="3348000" y="333360"/>
            <a:chExt cx="2592360" cy="2751120"/>
          </a:xfrm>
        </p:grpSpPr>
        <p:pic>
          <p:nvPicPr>
            <p:cNvPr id="1156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3348000" y="333360"/>
              <a:ext cx="2592360" cy="21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4716360" y="2421000"/>
              <a:ext cx="0" cy="663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6227640" y="333360"/>
            <a:ext cx="2665440" cy="2933640"/>
            <a:chOff x="6227640" y="333360"/>
            <a:chExt cx="2665440" cy="2933640"/>
          </a:xfrm>
        </p:grpSpPr>
        <p:pic>
          <p:nvPicPr>
            <p:cNvPr id="1159" name="" descr=""/>
            <p:cNvPicPr/>
            <p:nvPr/>
          </p:nvPicPr>
          <p:blipFill>
            <a:blip r:embed="rId3">
              <a:lum contrast="60000"/>
            </a:blip>
            <a:stretch/>
          </p:blipFill>
          <p:spPr>
            <a:xfrm>
              <a:off x="6227640" y="333360"/>
              <a:ext cx="266544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"/>
            <p:cNvSpPr/>
            <p:nvPr/>
          </p:nvSpPr>
          <p:spPr>
            <a:xfrm>
              <a:off x="7885080" y="2421000"/>
              <a:ext cx="1440" cy="84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1" name=""/>
          <p:cNvSpPr/>
          <p:nvPr/>
        </p:nvSpPr>
        <p:spPr>
          <a:xfrm>
            <a:off x="179280" y="3141720"/>
            <a:ext cx="180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医生</a:t>
            </a: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帮助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别人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564000" y="3213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做过许多事（对别人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有用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551640" y="32846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耕地种麦子（</a:t>
            </a:r>
            <a:r>
              <a:rPr b="1" lang="zh-CN" sz="4000" spc="-1" strike="noStrike">
                <a:solidFill>
                  <a:srgbClr val="0000ff"/>
                </a:solidFill>
                <a:latin typeface="Verdana"/>
              </a:rPr>
              <a:t>养活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许多人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16200000">
            <a:off x="4361400" y="795600"/>
            <a:ext cx="420840" cy="9144000"/>
          </a:xfrm>
          <a:custGeom>
            <a:avLst/>
            <a:gdLst>
              <a:gd name="textAreaLeft" fmla="*/ 268920 w 420840"/>
              <a:gd name="textAreaRight" fmla="*/ 421200 w 420840"/>
              <a:gd name="textAreaTop" fmla="*/ 238320 h 9144000"/>
              <a:gd name="textAreaBottom" fmla="*/ 8905680 h 914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3419640" y="587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Verdana"/>
              </a:rPr>
              <a:t>感到幸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684360" y="692280"/>
            <a:ext cx="381636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Verdana"/>
              </a:rPr>
              <a:t>想想说说：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684360" y="2781360"/>
            <a:ext cx="792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Verdana"/>
              </a:rPr>
              <a:t>你认为什么是</a:t>
            </a:r>
            <a:r>
              <a:rPr b="1" lang="zh-CN" sz="6000" spc="-1" strike="noStrike">
                <a:solidFill>
                  <a:srgbClr val="ff0000"/>
                </a:solidFill>
                <a:latin typeface="Verdana"/>
                <a:ea typeface="华文细黑"/>
              </a:rPr>
              <a:t>幸福</a:t>
            </a:r>
            <a:r>
              <a:rPr b="0" lang="zh-CN" sz="6000" spc="-1" strike="noStrike">
                <a:solidFill>
                  <a:srgbClr val="003366"/>
                </a:solidFill>
                <a:latin typeface="Verdana"/>
              </a:rPr>
              <a:t>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/>
          <p:nvPr/>
        </p:nvSpPr>
        <p:spPr>
          <a:xfrm>
            <a:off x="3276720" y="1557360"/>
            <a:ext cx="554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5280" y="1773360"/>
            <a:ext cx="79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三个青年最后明白的“</a:t>
            </a: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幸福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”是什么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8360" y="3068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</a:rPr>
              <a:t>请在课文中找出来，并划下来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95280" y="4365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他们是如何弄明白的，都做过些什么呢，结果怎样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611280" y="2781360"/>
            <a:ext cx="7777080" cy="367200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1042920" y="260280"/>
            <a:ext cx="7201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幸福要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靠劳动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要靠很好地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尽自己的义务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做出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对人们有益</a:t>
            </a:r>
            <a:r>
              <a:rPr b="1" lang="zh-CN" sz="3600" spc="-1" strike="noStrike">
                <a:solidFill>
                  <a:srgbClr val="3333ff"/>
                </a:solidFill>
                <a:latin typeface="Verdana"/>
              </a:rPr>
              <a:t>的事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755640" y="90792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ff"/>
                </a:solidFill>
                <a:latin typeface="Verdana"/>
              </a:rPr>
              <a:t>结合生活实际谈谈：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55640" y="2349360"/>
            <a:ext cx="70581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你遇到过哪些让你感到</a:t>
            </a:r>
            <a:r>
              <a:rPr b="1" lang="zh-CN" sz="6000" spc="-1" strike="noStrike">
                <a:solidFill>
                  <a:srgbClr val="cc0000"/>
                </a:solidFill>
                <a:latin typeface="Verdana"/>
              </a:rPr>
              <a:t>幸福</a:t>
            </a:r>
            <a:r>
              <a:rPr b="0" lang="zh-CN" sz="6000" spc="-1" strike="noStrike">
                <a:solidFill>
                  <a:srgbClr val="ff00ff"/>
                </a:solidFill>
                <a:latin typeface="Verdana"/>
              </a:rPr>
              <a:t>的事？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0" y="836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Verdana"/>
              </a:rPr>
              <a:t>下去找有关“</a:t>
            </a:r>
            <a:r>
              <a:rPr b="1" lang="zh-CN" sz="7200" spc="-1" strike="noStrike">
                <a:solidFill>
                  <a:srgbClr val="ff0000"/>
                </a:solidFill>
                <a:latin typeface="Verdana"/>
              </a:rPr>
              <a:t>幸福</a:t>
            </a:r>
            <a:r>
              <a:rPr b="1" lang="en-US" sz="7200" spc="-1" strike="noStrike">
                <a:solidFill>
                  <a:srgbClr val="0000cc"/>
                </a:solidFill>
                <a:latin typeface="Verdana"/>
              </a:rPr>
              <a:t>”的名人名言或语句，把它们收集起来，与同学交流。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11280" y="3068640"/>
            <a:ext cx="338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219640" y="3141720"/>
            <a:ext cx="1800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24000" y="981000"/>
            <a:ext cx="85690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祝大家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zh-CN" sz="9600" spc="-1" strike="noStrike">
                <a:solidFill>
                  <a:srgbClr val="ff0000"/>
                </a:solidFill>
                <a:latin typeface="Verdana"/>
              </a:rPr>
              <a:t>一生幸福！</a:t>
            </a:r>
            <a:endParaRPr b="0" lang="en-US" sz="9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838080" y="24382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母亲的关怀</a:t>
            </a:r>
            <a:r>
              <a:rPr b="0" lang="zh-CN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2895480" y="2209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华文细黑"/>
                <a:ea typeface="华文细黑"/>
              </a:rPr>
              <a:t>幸福是温馨的礼物</a:t>
            </a:r>
            <a:r>
              <a:rPr b="1" lang="zh-CN" sz="1800" spc="-1" strike="noStrike">
                <a:solidFill>
                  <a:srgbClr val="660033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>
            <a:off x="0" y="1612800"/>
            <a:ext cx="7010280" cy="524520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2819520" y="1371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华文细黑"/>
                <a:ea typeface="华文细黑"/>
              </a:rPr>
              <a:t>幸福是婴儿的笑脸</a:t>
            </a:r>
            <a:r>
              <a:rPr b="0" lang="zh-CN" sz="1800" spc="-1" strike="noStrike">
                <a:solidFill>
                  <a:srgbClr val="ffcc00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5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>
            <a:off x="3124080" y="58672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细黑"/>
                <a:ea typeface="华文细黑"/>
              </a:rPr>
              <a:t>幸福是收到的康乃馨</a:t>
            </a:r>
            <a:r>
              <a:rPr b="1" lang="zh-CN" sz="1800" spc="-1" strike="noStrike">
                <a:solidFill>
                  <a:srgbClr val="003366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5029200" y="4876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华文细黑"/>
                <a:ea typeface="华文细黑"/>
              </a:rPr>
              <a:t>幸福是绿色的生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"/>
          <p:cNvSpPr/>
          <p:nvPr/>
        </p:nvSpPr>
        <p:spPr>
          <a:xfrm>
            <a:off x="468360" y="1413000"/>
            <a:ext cx="7128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快速阅读课文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Verdana"/>
              </a:rPr>
              <a:t>思考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</a:rPr>
              <a:t>:</a:t>
            </a:r>
            <a:r>
              <a:rPr b="0" lang="zh-CN" sz="4800" spc="-1" strike="noStrike">
                <a:solidFill>
                  <a:srgbClr val="0000ff"/>
                </a:solidFill>
                <a:latin typeface="Verdana"/>
              </a:rPr>
              <a:t>本文讲了一个什么故事？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8360" y="46530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Verdana"/>
              </a:rPr>
              <a:t>小组合作交流，并派代表反馈，其他同学可以补充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8077320" y="152388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华文细黑"/>
                <a:ea typeface="华文细黑"/>
              </a:rPr>
              <a:t>幸福是林间的小路</a:t>
            </a:r>
            <a:r>
              <a:rPr b="1" lang="zh-CN" sz="2800" spc="-1" strike="noStrike">
                <a:solidFill>
                  <a:srgbClr val="ffcc00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4191120" y="99072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自由的跳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93" name=""/>
          <p:cNvSpPr/>
          <p:nvPr/>
        </p:nvSpPr>
        <p:spPr>
          <a:xfrm>
            <a:off x="8077320" y="175248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轻柔的抚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95" name=""/>
          <p:cNvSpPr/>
          <p:nvPr/>
        </p:nvSpPr>
        <p:spPr>
          <a:xfrm>
            <a:off x="7696080" y="1219320"/>
            <a:ext cx="609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不经意之间的感动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75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3048120" y="5334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6600"/>
                </a:solidFill>
                <a:latin typeface="华文细黑"/>
                <a:ea typeface="华文细黑"/>
              </a:rPr>
              <a:t>幸福是手中的希望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2061720" y="417960"/>
            <a:ext cx="60696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知识的启航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1" name=""/>
          <p:cNvSpPr/>
          <p:nvPr/>
        </p:nvSpPr>
        <p:spPr>
          <a:xfrm>
            <a:off x="3048120" y="13716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华文细黑"/>
              </a:rPr>
              <a:t>幸福是一生的信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3" name=""/>
          <p:cNvSpPr/>
          <p:nvPr/>
        </p:nvSpPr>
        <p:spPr>
          <a:xfrm>
            <a:off x="1600200" y="838080"/>
            <a:ext cx="60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华文细黑"/>
                <a:ea typeface="华文细黑"/>
              </a:rPr>
              <a:t>幸福是搏击险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3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5" name=""/>
          <p:cNvSpPr/>
          <p:nvPr/>
        </p:nvSpPr>
        <p:spPr>
          <a:xfrm>
            <a:off x="4423680" y="990720"/>
            <a:ext cx="60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华文细黑"/>
                <a:ea typeface="华文细黑"/>
              </a:rPr>
              <a:t>幸福是勇于攀登</a:t>
            </a:r>
            <a:r>
              <a:rPr b="0" lang="zh-CN" sz="2800" spc="-1" strike="noStrike">
                <a:solidFill>
                  <a:srgbClr val="990033"/>
                </a:solidFill>
                <a:latin typeface="华文细黑"/>
                <a:ea typeface="华文细黑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207" name=""/>
          <p:cNvSpPr/>
          <p:nvPr/>
        </p:nvSpPr>
        <p:spPr>
          <a:xfrm>
            <a:off x="1375920" y="838080"/>
            <a:ext cx="606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华文细黑"/>
              </a:rPr>
              <a:t>幸福是朋友的关怀</a:t>
            </a:r>
            <a:r>
              <a:rPr b="0" lang="zh-CN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8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 rot="16200000">
            <a:off x="3744000" y="-207000"/>
            <a:ext cx="1008000" cy="8137800"/>
          </a:xfrm>
          <a:custGeom>
            <a:avLst/>
            <a:gdLst>
              <a:gd name="textAreaLeft" fmla="*/ 644040 w 1008000"/>
              <a:gd name="textAreaRight" fmla="*/ 1008360 w 1008000"/>
              <a:gd name="textAreaTop" fmla="*/ 212040 h 8137800"/>
              <a:gd name="textAreaBottom" fmla="*/ 7925760 h 813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5"/>
                </a:lnTo>
                <a:cubicBezTo>
                  <a:pt x="10800" y="9905"/>
                  <a:pt x="5400" y="10805"/>
                  <a:pt x="0" y="10805"/>
                </a:cubicBezTo>
                <a:cubicBezTo>
                  <a:pt x="5400" y="10805"/>
                  <a:pt x="10800" y="11705"/>
                  <a:pt x="10800" y="1260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50920" y="1341360"/>
            <a:ext cx="8066160" cy="2226960"/>
            <a:chOff x="250920" y="1341360"/>
            <a:chExt cx="8066160" cy="2226960"/>
          </a:xfrm>
        </p:grpSpPr>
        <p:pic>
          <p:nvPicPr>
            <p:cNvPr id="1081" name="" descr=""/>
            <p:cNvPicPr/>
            <p:nvPr/>
          </p:nvPicPr>
          <p:blipFill>
            <a:blip r:embed="rId1">
              <a:lum contrast="60000"/>
            </a:blip>
            <a:stretch/>
          </p:blipFill>
          <p:spPr>
            <a:xfrm>
              <a:off x="250920" y="1341360"/>
              <a:ext cx="180036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" descr=""/>
            <p:cNvPicPr/>
            <p:nvPr/>
          </p:nvPicPr>
          <p:blipFill>
            <a:blip r:embed="rId2">
              <a:lum contrast="66000"/>
            </a:blip>
            <a:stretch/>
          </p:blipFill>
          <p:spPr>
            <a:xfrm>
              <a:off x="3059280" y="1341360"/>
              <a:ext cx="19447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3" name="" descr=""/>
            <p:cNvPicPr/>
            <p:nvPr/>
          </p:nvPicPr>
          <p:blipFill>
            <a:blip r:embed="rId3">
              <a:lum contrast="54000"/>
            </a:blip>
            <a:stretch/>
          </p:blipFill>
          <p:spPr>
            <a:xfrm>
              <a:off x="6300720" y="1414440"/>
              <a:ext cx="201636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"/>
            <p:cNvSpPr/>
            <p:nvPr/>
          </p:nvSpPr>
          <p:spPr>
            <a:xfrm>
              <a:off x="1258920" y="2925720"/>
              <a:ext cx="568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三        个        牧           童</a:t>
              </a:r>
              <a:endParaRPr b="0" lang="en-US" sz="3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4643280" y="443700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砌水 井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268360" y="44370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清理老泉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3276720" y="1341360"/>
            <a:ext cx="29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  <a:ea typeface="华文细黑"/>
              </a:rPr>
              <a:t>作业：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33"/>
                </a:solidFill>
                <a:latin typeface="Arial"/>
                <a:ea typeface="华文细黑"/>
              </a:rPr>
              <a:t>你幸福吗？写一写。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" descr=""/>
          <p:cNvPicPr/>
          <p:nvPr/>
        </p:nvPicPr>
        <p:blipFill>
          <a:blip r:embed="rId1">
            <a:lum contrast="46000"/>
          </a:blip>
          <a:stretch/>
        </p:blipFill>
        <p:spPr>
          <a:xfrm>
            <a:off x="755640" y="2349360"/>
            <a:ext cx="6840720" cy="367200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5292720" y="981000"/>
            <a:ext cx="3672000" cy="609840"/>
          </a:xfrm>
          <a:prstGeom prst="wedgeEllipseCallout">
            <a:avLst>
              <a:gd name="adj1" fmla="val -61930"/>
              <a:gd name="adj2" fmla="val 170574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祝你们幸福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84360" y="1484280"/>
            <a:ext cx="3240000" cy="576360"/>
          </a:xfrm>
          <a:prstGeom prst="wedgeEllipseCallout">
            <a:avLst>
              <a:gd name="adj1" fmla="val -14625"/>
              <a:gd name="adj2" fmla="val 3312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幸福”是什么？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5003640" y="2133720"/>
            <a:ext cx="3924360" cy="647640"/>
          </a:xfrm>
          <a:prstGeom prst="wedgeEllipseCallout">
            <a:avLst>
              <a:gd name="adj1" fmla="val -47814"/>
              <a:gd name="adj2" fmla="val 8039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己去弄明白吧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c1c1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"/>
          <p:cNvGrpSpPr/>
          <p:nvPr/>
        </p:nvGrpSpPr>
        <p:grpSpPr>
          <a:xfrm>
            <a:off x="0" y="404640"/>
            <a:ext cx="9144000" cy="3827160"/>
            <a:chOff x="0" y="404640"/>
            <a:chExt cx="9144000" cy="3827160"/>
          </a:xfrm>
        </p:grpSpPr>
        <p:sp>
          <p:nvSpPr>
            <p:cNvPr id="1092" name=""/>
            <p:cNvSpPr/>
            <p:nvPr/>
          </p:nvSpPr>
          <p:spPr>
            <a:xfrm>
              <a:off x="324000" y="404640"/>
              <a:ext cx="763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3366"/>
                  </a:solidFill>
                  <a:latin typeface="Arial"/>
                </a:rPr>
                <a:t>思考、讨论：</a:t>
              </a:r>
              <a:endParaRPr b="0" lang="en-US" sz="5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1699920"/>
              <a:ext cx="914400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3366"/>
                  </a:solidFill>
                  <a:latin typeface="Arial"/>
                </a:rPr>
                <a:t>       </a:t>
              </a:r>
              <a:r>
                <a:rPr b="1" lang="zh-CN" sz="8000" spc="-1" strike="noStrike">
                  <a:solidFill>
                    <a:srgbClr val="003366"/>
                  </a:solidFill>
                  <a:latin typeface="Arial"/>
                  <a:ea typeface="幼圆"/>
                </a:rPr>
                <a:t>三个牧童是怎样弄明白什么是幸福的？</a:t>
              </a:r>
              <a:endParaRPr b="0" lang="en-US" sz="8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6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  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 </a:t>
                      </a:r>
                      <a:r>
                        <a:rPr b="0" lang="zh-CN" sz="88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时间</a:t>
                      </a:r>
                      <a:endParaRPr b="0" lang="en-US" sz="8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88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人物</a:t>
                      </a:r>
                      <a:endParaRPr b="0" lang="en-US" sz="8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60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合作什么事</a:t>
                      </a:r>
                      <a:endParaRPr b="0" lang="en-US" sz="6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00"/>
                          </a:solidFill>
                          <a:latin typeface="Arial"/>
                          <a:ea typeface="方正姚体"/>
                        </a:rPr>
                        <a:t>智慧姑娘的话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5" name=""/>
          <p:cNvSpPr/>
          <p:nvPr/>
        </p:nvSpPr>
        <p:spPr>
          <a:xfrm>
            <a:off x="4572000" y="62064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  <a:ea typeface="隶书"/>
              </a:rPr>
              <a:t>    </a:t>
            </a:r>
            <a:r>
              <a:rPr b="0" lang="en-US" sz="6000" spc="-1" strike="noStrike">
                <a:solidFill>
                  <a:srgbClr val="ff3399"/>
                </a:solidFill>
                <a:latin typeface="Arial"/>
                <a:ea typeface="隶书"/>
              </a:rPr>
              <a:t>10</a:t>
            </a: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隶书"/>
              </a:rPr>
              <a:t>年前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4716360" y="2060640"/>
            <a:ext cx="41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  <a:ea typeface="隶书"/>
              </a:rPr>
              <a:t>   </a:t>
            </a:r>
            <a:r>
              <a:rPr b="0" lang="zh-CN" sz="6000" spc="-1" strike="noStrike">
                <a:solidFill>
                  <a:srgbClr val="ff3399"/>
                </a:solidFill>
                <a:latin typeface="Arial"/>
                <a:ea typeface="隶书"/>
              </a:rPr>
              <a:t>三个牧童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3280" y="3573360"/>
            <a:ext cx="45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Arial"/>
                <a:ea typeface="隶书"/>
              </a:rPr>
              <a:t>清理喷泉、砌井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643280" y="4581360"/>
            <a:ext cx="48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Arial"/>
                <a:ea typeface="隶书"/>
              </a:rPr>
              <a:t>你们做了一件好事，我感谢你们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9" name=""/>
          <p:cNvGraphicFramePr/>
          <p:nvPr/>
        </p:nvGraphicFramePr>
        <p:xfrm>
          <a:off x="0" y="0"/>
          <a:ext cx="9144000" cy="66945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2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时间</a:t>
                      </a:r>
                      <a:endParaRPr b="0" lang="en-US" sz="7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7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人物</a:t>
                      </a:r>
                      <a:endParaRPr b="0" lang="en-US" sz="7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第一人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第二人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54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第三人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各做什么事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各自的感受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智慧姑娘的话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0" name=""/>
          <p:cNvSpPr/>
          <p:nvPr/>
        </p:nvSpPr>
        <p:spPr>
          <a:xfrm>
            <a:off x="2771640" y="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方正姚体"/>
                <a:ea typeface="方正姚体"/>
              </a:rPr>
              <a:t>          </a:t>
            </a:r>
            <a:r>
              <a:rPr b="1" lang="en-US" sz="5400" spc="-1" strike="noStrike">
                <a:solidFill>
                  <a:srgbClr val="003366"/>
                </a:solidFill>
                <a:latin typeface="方正姚体"/>
                <a:ea typeface="方正姚体"/>
              </a:rPr>
              <a:t>10</a:t>
            </a:r>
            <a:r>
              <a:rPr b="1" lang="zh-CN" sz="5400" spc="-1" strike="noStrike">
                <a:solidFill>
                  <a:srgbClr val="003366"/>
                </a:solidFill>
                <a:latin typeface="方正姚体"/>
                <a:ea typeface="方正姚体"/>
              </a:rPr>
              <a:t>年后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411280" y="2349360"/>
            <a:ext cx="21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姚体"/>
              </a:rPr>
              <a:t>给病人治病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643280" y="2349360"/>
            <a:ext cx="21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方正姚体"/>
              </a:rPr>
              <a:t>对人有用的事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877080" y="2997360"/>
            <a:ext cx="226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020000" y="270828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方正姚体"/>
              </a:rPr>
              <a:t>耕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340000" y="4437000"/>
            <a:ext cx="216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427640" y="443700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感到幸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5640" y="443700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感到幸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32720" y="4437000"/>
            <a:ext cx="28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方正姚体"/>
              </a:rPr>
              <a:t>感到幸福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195640" y="537372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幸福要靠劳动，要靠很好地尽自己的义务，做出对人们有益的事情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800"/>
                            </p:stCondLst>
                            <p:childTnLst>
                              <p:par>
                                <p:cTn id="137" nodeType="afterEffect" fill="hold" presetClass="emph" presetID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新魏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0" y="836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幸福要靠劳动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要靠很好地尽自己的义务</a:t>
            </a: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隶书"/>
              </a:rPr>
              <a:t>,</a:t>
            </a: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做出对人们有益的事情。</a:t>
            </a:r>
            <a:endParaRPr b="0" lang="en-US" sz="8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427640" y="1916280"/>
            <a:ext cx="431640" cy="21564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508720" y="1916280"/>
            <a:ext cx="431640" cy="21564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48000" y="3141720"/>
            <a:ext cx="43200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24720" y="3213000"/>
            <a:ext cx="43200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4000" y="4437000"/>
            <a:ext cx="43164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1619280" y="4365720"/>
            <a:ext cx="431640" cy="21564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732720" y="4437000"/>
            <a:ext cx="43164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740720" y="4437000"/>
            <a:ext cx="43164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1332000" y="5734080"/>
            <a:ext cx="431640" cy="21600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95280" y="3213000"/>
            <a:ext cx="360360" cy="28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403280" y="3213000"/>
            <a:ext cx="360360" cy="2890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1:16:05Z</dcterms:created>
  <dc:creator>MC SYSTEM</dc:creator>
  <dc:description/>
  <dc:language>en-US</dc:language>
  <cp:lastModifiedBy>龙帝国技术社区</cp:lastModifiedBy>
  <cp:lastPrinted>1899-12-30T00:00:00Z</cp:lastPrinted>
  <dcterms:modified xsi:type="dcterms:W3CDTF">2013-09-25T04:51:54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