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E756A-AB4B-47C7-93FF-6530333072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6128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39400"/>
            <a:ext cx="826128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7C8AC-7F02-4226-849C-171D9C6C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3128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0440" y="1339560"/>
            <a:ext cx="403128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39400"/>
            <a:ext cx="403128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0440" y="3839400"/>
            <a:ext cx="403128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63B52-C43C-4531-8C12-DEA98673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26600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339560"/>
            <a:ext cx="26600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040" y="1339560"/>
            <a:ext cx="26600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39400"/>
            <a:ext cx="26600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839400"/>
            <a:ext cx="26600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040" y="3839400"/>
            <a:ext cx="26600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BB363-3639-4413-8323-6BE81AB0CD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39560"/>
            <a:ext cx="826128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2A71E-9DB9-4F32-8458-35C47CDB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612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761FB-EAC3-4822-947B-D6C6408D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312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0440" y="1339560"/>
            <a:ext cx="40312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E0123-B390-45CD-9C8C-9EEBDC6C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7715B-BE18-474E-BE16-8DD86D9F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76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BA243-B5A0-4083-9C49-C641598D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3128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0440" y="1339560"/>
            <a:ext cx="40312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39400"/>
            <a:ext cx="403128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684E5-80DA-4A5B-B6BA-5D7B6B92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312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0440" y="1339560"/>
            <a:ext cx="403128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0440" y="3839400"/>
            <a:ext cx="403128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05039-0F24-480A-9225-B504BA6F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3128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0440" y="1339560"/>
            <a:ext cx="403128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39400"/>
            <a:ext cx="826128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E8732-9F59-4975-8D37-E9EE3BC2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6"/>
          <p:cNvSpPr/>
          <p:nvPr/>
        </p:nvSpPr>
        <p:spPr>
          <a:xfrm rot="10800000">
            <a:off x="0" y="0"/>
            <a:ext cx="9144000" cy="685800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339560"/>
            <a:ext cx="82612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4572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4572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9144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82BC-8EB3-4388-A94B-AFEDE548E986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C547-8100-4EED-A3FB-2102591B821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353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3840" y="5695920"/>
            <a:ext cx="83563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612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8C81B-500A-45CC-B9C3-5833ACFA25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00Z</dcterms:created>
  <dc:creator/>
  <dc:description/>
  <dc:language>en-US</dc:language>
  <cp:lastModifiedBy>本本</cp:lastModifiedBy>
  <dcterms:modified xsi:type="dcterms:W3CDTF">2015-08-18T02:02:59Z</dcterms:modified>
  <cp:revision>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