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759-45BD-4CFA-8FC2-14A9AC11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BC5-A06B-4D71-A757-3E0B021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DFD-CD3B-44FF-9F39-95C8F107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DCF-81F0-477A-ACD6-8520C70E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688-F965-47F5-A13E-992D4AE4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1C5-B797-44DA-A578-AB3920A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B909-184A-41C4-9F7D-7FDD64A0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D70D-95FA-4C1A-9D1D-E58C886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D431-FB90-4B1D-B144-2CD6B1A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BF0C-CAA0-4E27-8786-53757B28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8BCB-0B66-4C3E-A030-C792FAA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E1D-B041-4404-9EBD-89162A4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B7E0-3BB1-41B0-939B-A26B1F0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50D1-866D-4976-AD1D-B0BE068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C311-9796-4837-8969-0F061E7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8FA-2E0C-44F0-9A75-49A2863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B352-7DE4-4566-A81B-B78DEA25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B97-FA46-400F-92A3-B3DA259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1EB-85F5-483B-907B-7AFF12B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1B1-925C-45F5-A4E5-7276F89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B18-DD9E-40CB-8B97-AA669DB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A0A-DD52-49CE-8983-A45BD63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E30-DDE4-4F74-921A-83FEAED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FD7-027B-4BB4-A00B-F1CFC9C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39DC-C7A7-45EA-ACBB-B748F707A87F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267680" y="539280"/>
            <a:ext cx="1704600" cy="5717520"/>
            <a:chOff x="7267680" y="539280"/>
            <a:chExt cx="1704600" cy="5717520"/>
          </a:xfrm>
        </p:grpSpPr>
        <p:sp>
          <p:nvSpPr>
            <p:cNvPr id="6" name="未知"/>
            <p:cNvSpPr/>
            <p:nvPr/>
          </p:nvSpPr>
          <p:spPr>
            <a:xfrm flipH="1" rot="48000">
              <a:off x="7278120" y="550800"/>
              <a:ext cx="1682640" cy="15649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 flipH="1" rot="48000">
              <a:off x="7278120" y="2614680"/>
              <a:ext cx="1682640" cy="15649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 flipH="1" rot="48000">
              <a:off x="7278120" y="4680000"/>
              <a:ext cx="1682640" cy="15649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18440" y="836640"/>
              <a:ext cx="160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hall I </a:t>
              </a:r>
              <a:br>
                <a:rPr sz="1600"/>
              </a:b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mpare you to a summers day?</a:t>
              </a:r>
              <a:endParaRPr b="0" lang="en-US" sz="16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18440" y="2900160"/>
              <a:ext cx="1602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hall I </a:t>
              </a:r>
              <a:br>
                <a:rPr sz="1600"/>
              </a:b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mpare you to a summers day?</a:t>
              </a:r>
              <a:endParaRPr b="0" lang="en-US" sz="16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18440" y="4965480"/>
              <a:ext cx="1602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hall I </a:t>
              </a:r>
              <a:br>
                <a:rPr sz="1600"/>
              </a:b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mpare you to a summers day?</a:t>
              </a:r>
              <a:endParaRPr b="0" lang="en-US" sz="16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未知"/>
          <p:cNvSpPr/>
          <p:nvPr/>
        </p:nvSpPr>
        <p:spPr>
          <a:xfrm flipH="1" rot="48000">
            <a:off x="2878920" y="2598480"/>
            <a:ext cx="3454560" cy="33494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54B1-1FE6-4174-91CD-69B8B7647B64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81440" y="2741760"/>
            <a:ext cx="367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ll I                          compar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thee to a                  summer's day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Thou art more lovely and mor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temperate: Rough winds do shake the darling buds of May, And summer's lease hath all too short a date: Sometime to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hot the eye of heaven  shines, An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often is his gold complex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dimmed, And every fair from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fair sometime declin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By chance, or nature's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ing course 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trimmed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微软雅黑"/>
              </a:rPr>
              <a:t>我和你的情人节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心跳七夕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情人节前夕，你的心跳是否加快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颜色卡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4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背景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12000" y="2560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字线条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79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阴影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46440" y="2560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标题正文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3768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填充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加粗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62400" y="256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59880" y="25588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已访问过的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照片前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照片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照片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相恋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X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天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1640" y="1916280"/>
          <a:ext cx="6229440" cy="32749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事件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心情测试表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2360" y="187308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宋体"/>
              </a:rPr>
              <a:t>我们间的甜言蜜语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8720" y="1417680"/>
            <a:ext cx="3409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你想对</a:t>
            </a: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a</a:t>
            </a: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说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417680"/>
            <a:ext cx="36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a</a:t>
            </a: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想对你说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20:24:40Z</dcterms:created>
  <dc:creator>Presentation Magazine</dc:creator>
  <dc:description/>
  <dc:language>en-US</dc:language>
  <cp:lastModifiedBy>Jonty Pearce</cp:lastModifiedBy>
  <dcterms:modified xsi:type="dcterms:W3CDTF">2015-08-24T01:36:47Z</dcterms:modified>
  <cp:revision>3</cp:revision>
  <dc:subject/>
  <dc:title>Hearts 5 Shall I compare you to a summer’s da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